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2CB1-A0E6-4D43-8FB2-D1249C3E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5615-E040-4ACC-BD9C-82EDBDF9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C617-4079-4DA2-B160-351315C7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7753-178B-4411-BDE6-F11626D1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11AF-3E62-4AA0-9CE3-B264F730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8CD8-A6AF-4EF8-A88D-BC74037B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1EB8-A135-4BB7-9184-60C1F883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ADCC-58BD-4090-AB25-FCCE84DA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E3EF-62AB-430A-8D32-7213F4D1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F9A9-C58B-4D77-9C25-5A50118D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FD0A-EAF1-4D91-A0E6-F8020D34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660F-030A-462B-B185-C1CC32A9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A116-D24A-4A02-8C83-D70FAA513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1 Prerequi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the set of real numbers in order from LEAST to GREAT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 What is two-thirds divided by one-fif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 Turn  into a mixed number and into a dec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4"/>
              <p:cNvSpPr txBox="1"/>
              <p:nvPr/>
            </p:nvSpPr>
            <p:spPr>
              <a:xfrm>
                <a:off x="1219320" y="2514600"/>
                <a:ext cx="16761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-Õ</m:t>
                    </m:r>
                    <m:r>
                      <m:t xml:space="preserve">,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5"/>
              <p:cNvSpPr txBox="1"/>
              <p:nvPr/>
            </p:nvSpPr>
            <p:spPr>
              <a:xfrm>
                <a:off x="1295280" y="3048120"/>
                <a:ext cx="12956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,</m:t>
                    </m:r>
                    <m:r>
                      <m:t xml:space="preserve">Õ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7.  Janice solved the expres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got 12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 Is her answer right?  EXPLA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457200" y="1066680"/>
                <a:ext cx="123984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1" name="Ink 5"/>
          <p:cNvSpPr/>
          <p:nvPr/>
        </p:nvSpPr>
        <p:spPr>
          <a:xfrm>
            <a:off x="868320" y="3132000"/>
            <a:ext cx="1542960" cy="2697480"/>
          </a:xfrm>
          <a:custGeom>
            <a:avLst/>
            <a:gdLst/>
            <a:ahLst/>
            <a:rect l="l" t="t" r="r" b="b"/>
            <a:pathLst>
              <a:path w="4287" h="7493">
                <a:moveTo>
                  <a:pt x="3207" y="8858"/>
                </a:moveTo>
                <a:cubicBezTo>
                  <a:pt x="3181" y="8903"/>
                  <a:pt x="3150" y="8971"/>
                  <a:pt x="3112" y="9017"/>
                </a:cubicBezTo>
                <a:cubicBezTo>
                  <a:pt x="3028" y="9119"/>
                  <a:pt x="2982" y="9213"/>
                  <a:pt x="2921" y="9334"/>
                </a:cubicBezTo>
                <a:cubicBezTo>
                  <a:pt x="2850" y="9476"/>
                  <a:pt x="2804" y="9626"/>
                  <a:pt x="2762" y="9779"/>
                </a:cubicBezTo>
                <a:cubicBezTo>
                  <a:pt x="2717" y="9941"/>
                  <a:pt x="2716" y="10095"/>
                  <a:pt x="2762" y="10255"/>
                </a:cubicBezTo>
                <a:cubicBezTo>
                  <a:pt x="2793" y="10361"/>
                  <a:pt x="2835" y="10502"/>
                  <a:pt x="2921" y="10573"/>
                </a:cubicBezTo>
                <a:cubicBezTo>
                  <a:pt x="2992" y="10632"/>
                  <a:pt x="3118" y="10657"/>
                  <a:pt x="3207" y="10636"/>
                </a:cubicBezTo>
                <a:cubicBezTo>
                  <a:pt x="3323" y="10608"/>
                  <a:pt x="3392" y="10479"/>
                  <a:pt x="3429" y="10382"/>
                </a:cubicBezTo>
                <a:cubicBezTo>
                  <a:pt x="3486" y="10234"/>
                  <a:pt x="3524" y="10163"/>
                  <a:pt x="3524" y="10001"/>
                </a:cubicBezTo>
                <a:cubicBezTo>
                  <a:pt x="3524" y="9951"/>
                  <a:pt x="3490" y="9860"/>
                  <a:pt x="3429" y="9842"/>
                </a:cubicBezTo>
                <a:cubicBezTo>
                  <a:pt x="3355" y="9821"/>
                  <a:pt x="3249" y="9919"/>
                  <a:pt x="3207" y="9970"/>
                </a:cubicBezTo>
                <a:cubicBezTo>
                  <a:pt x="3135" y="10058"/>
                  <a:pt x="3036" y="10171"/>
                  <a:pt x="3016" y="10287"/>
                </a:cubicBezTo>
                <a:cubicBezTo>
                  <a:pt x="2998" y="10395"/>
                  <a:pt x="3003" y="10547"/>
                  <a:pt x="3048" y="10636"/>
                </a:cubicBezTo>
              </a:path>
              <a:path w="4287" h="7493">
                <a:moveTo>
                  <a:pt x="3937" y="8954"/>
                </a:moveTo>
                <a:cubicBezTo>
                  <a:pt x="3955" y="9026"/>
                  <a:pt x="3962" y="9088"/>
                  <a:pt x="3937" y="9176"/>
                </a:cubicBezTo>
                <a:cubicBezTo>
                  <a:pt x="3903" y="9293"/>
                  <a:pt x="3903" y="9408"/>
                  <a:pt x="3874" y="9525"/>
                </a:cubicBezTo>
                <a:cubicBezTo>
                  <a:pt x="3855" y="9599"/>
                  <a:pt x="3818" y="9670"/>
                  <a:pt x="3810" y="9747"/>
                </a:cubicBezTo>
                <a:cubicBezTo>
                  <a:pt x="3799" y="9851"/>
                  <a:pt x="3797" y="9769"/>
                  <a:pt x="3842" y="9747"/>
                </a:cubicBezTo>
                <a:cubicBezTo>
                  <a:pt x="3883" y="9727"/>
                  <a:pt x="3875" y="9716"/>
                  <a:pt x="3937" y="9716"/>
                </a:cubicBezTo>
                <a:cubicBezTo>
                  <a:pt x="4006" y="9716"/>
                  <a:pt x="4066" y="9722"/>
                  <a:pt x="4128" y="9747"/>
                </a:cubicBezTo>
                <a:cubicBezTo>
                  <a:pt x="4217" y="9783"/>
                  <a:pt x="4285" y="9779"/>
                  <a:pt x="4382" y="9779"/>
                </a:cubicBezTo>
                <a:cubicBezTo>
                  <a:pt x="4477" y="9779"/>
                  <a:pt x="4530" y="9782"/>
                  <a:pt x="4604" y="9716"/>
                </a:cubicBezTo>
                <a:cubicBezTo>
                  <a:pt x="4648" y="9677"/>
                  <a:pt x="4652" y="9582"/>
                  <a:pt x="4667" y="9525"/>
                </a:cubicBezTo>
              </a:path>
              <a:path w="4287" h="7493">
                <a:moveTo>
                  <a:pt x="4636" y="8826"/>
                </a:moveTo>
                <a:cubicBezTo>
                  <a:pt x="4636" y="8954"/>
                  <a:pt x="4601" y="9051"/>
                  <a:pt x="4572" y="9176"/>
                </a:cubicBezTo>
                <a:cubicBezTo>
                  <a:pt x="4527" y="9375"/>
                  <a:pt x="4495" y="9607"/>
                  <a:pt x="4477" y="9811"/>
                </a:cubicBezTo>
                <a:cubicBezTo>
                  <a:pt x="4458" y="10032"/>
                  <a:pt x="4426" y="10257"/>
                  <a:pt x="4413" y="10478"/>
                </a:cubicBezTo>
                <a:cubicBezTo>
                  <a:pt x="4413" y="10658"/>
                  <a:pt x="4413" y="10711"/>
                  <a:pt x="4413" y="10827"/>
                </a:cubicBezTo>
              </a:path>
              <a:path w="4287" h="7493">
                <a:moveTo>
                  <a:pt x="5175" y="9271"/>
                </a:moveTo>
                <a:cubicBezTo>
                  <a:pt x="5233" y="9367"/>
                  <a:pt x="5209" y="9410"/>
                  <a:pt x="5239" y="9525"/>
                </a:cubicBezTo>
                <a:cubicBezTo>
                  <a:pt x="5274" y="9661"/>
                  <a:pt x="5330" y="9799"/>
                  <a:pt x="5366" y="9938"/>
                </a:cubicBezTo>
                <a:cubicBezTo>
                  <a:pt x="5409" y="10106"/>
                  <a:pt x="5449" y="10291"/>
                  <a:pt x="5524" y="10446"/>
                </a:cubicBezTo>
                <a:cubicBezTo>
                  <a:pt x="5589" y="10581"/>
                  <a:pt x="5683" y="10711"/>
                  <a:pt x="5778" y="10827"/>
                </a:cubicBezTo>
                <a:cubicBezTo>
                  <a:pt x="5834" y="10895"/>
                  <a:pt x="5832" y="10901"/>
                  <a:pt x="5906" y="10922"/>
                </a:cubicBezTo>
              </a:path>
              <a:path w="4287" h="7493">
                <a:moveTo>
                  <a:pt x="5906" y="9493"/>
                </a:moveTo>
                <a:cubicBezTo>
                  <a:pt x="5846" y="9567"/>
                  <a:pt x="5793" y="9663"/>
                  <a:pt x="5747" y="9747"/>
                </a:cubicBezTo>
                <a:cubicBezTo>
                  <a:pt x="5660" y="9905"/>
                  <a:pt x="5574" y="10062"/>
                  <a:pt x="5493" y="10224"/>
                </a:cubicBezTo>
                <a:cubicBezTo>
                  <a:pt x="5414" y="10381"/>
                  <a:pt x="5346" y="10547"/>
                  <a:pt x="5270" y="10700"/>
                </a:cubicBezTo>
                <a:cubicBezTo>
                  <a:pt x="5217" y="10805"/>
                  <a:pt x="5133" y="10879"/>
                  <a:pt x="5080" y="10986"/>
                </a:cubicBezTo>
              </a:path>
              <a:path w="4287" h="7493">
                <a:moveTo>
                  <a:pt x="6318" y="8700"/>
                </a:moveTo>
                <a:cubicBezTo>
                  <a:pt x="6292" y="8708"/>
                  <a:pt x="6263" y="8756"/>
                  <a:pt x="6255" y="8795"/>
                </a:cubicBezTo>
                <a:cubicBezTo>
                  <a:pt x="6236" y="8886"/>
                  <a:pt x="6245" y="8989"/>
                  <a:pt x="6223" y="9080"/>
                </a:cubicBezTo>
                <a:cubicBezTo>
                  <a:pt x="6200" y="9176"/>
                  <a:pt x="6163" y="9238"/>
                  <a:pt x="6223" y="9334"/>
                </a:cubicBezTo>
                <a:cubicBezTo>
                  <a:pt x="6249" y="9376"/>
                  <a:pt x="6313" y="9457"/>
                  <a:pt x="6350" y="9462"/>
                </a:cubicBezTo>
                <a:cubicBezTo>
                  <a:pt x="6483" y="9481"/>
                  <a:pt x="6472" y="9399"/>
                  <a:pt x="6572" y="9366"/>
                </a:cubicBezTo>
                <a:cubicBezTo>
                  <a:pt x="6660" y="9337"/>
                  <a:pt x="6672" y="9348"/>
                  <a:pt x="6699" y="9239"/>
                </a:cubicBezTo>
                <a:cubicBezTo>
                  <a:pt x="6714" y="9178"/>
                  <a:pt x="6664" y="9130"/>
                  <a:pt x="6636" y="9080"/>
                </a:cubicBezTo>
                <a:cubicBezTo>
                  <a:pt x="6565" y="9108"/>
                  <a:pt x="6505" y="9153"/>
                  <a:pt x="6445" y="9208"/>
                </a:cubicBezTo>
                <a:cubicBezTo>
                  <a:pt x="6363" y="9283"/>
                  <a:pt x="6328" y="9393"/>
                  <a:pt x="6318" y="9493"/>
                </a:cubicBezTo>
              </a:path>
              <a:path w="4287" h="7493">
                <a:moveTo>
                  <a:pt x="2413" y="11144"/>
                </a:moveTo>
                <a:cubicBezTo>
                  <a:pt x="2438" y="11159"/>
                  <a:pt x="2442" y="11188"/>
                  <a:pt x="2508" y="11176"/>
                </a:cubicBezTo>
                <a:cubicBezTo>
                  <a:pt x="2572" y="11164"/>
                  <a:pt x="2692" y="11132"/>
                  <a:pt x="2762" y="11112"/>
                </a:cubicBezTo>
                <a:cubicBezTo>
                  <a:pt x="2896" y="11074"/>
                  <a:pt x="3031" y="11053"/>
                  <a:pt x="3175" y="11049"/>
                </a:cubicBezTo>
                <a:cubicBezTo>
                  <a:pt x="3642" y="11036"/>
                  <a:pt x="4110" y="11053"/>
                  <a:pt x="4572" y="11081"/>
                </a:cubicBezTo>
                <a:cubicBezTo>
                  <a:pt x="4796" y="11095"/>
                  <a:pt x="5013" y="11112"/>
                  <a:pt x="5239" y="11112"/>
                </a:cubicBezTo>
                <a:cubicBezTo>
                  <a:pt x="5411" y="11112"/>
                  <a:pt x="5574" y="11144"/>
                  <a:pt x="5747" y="11144"/>
                </a:cubicBezTo>
                <a:cubicBezTo>
                  <a:pt x="5873" y="11144"/>
                  <a:pt x="6015" y="11171"/>
                  <a:pt x="6128" y="11112"/>
                </a:cubicBezTo>
                <a:cubicBezTo>
                  <a:pt x="6196" y="11076"/>
                  <a:pt x="6142" y="11094"/>
                  <a:pt x="6096" y="11112"/>
                </a:cubicBezTo>
              </a:path>
              <a:path w="4287" h="7493">
                <a:moveTo>
                  <a:pt x="3905" y="11557"/>
                </a:moveTo>
                <a:cubicBezTo>
                  <a:pt x="3922" y="11641"/>
                  <a:pt x="3950" y="11727"/>
                  <a:pt x="3969" y="11811"/>
                </a:cubicBezTo>
                <a:cubicBezTo>
                  <a:pt x="4001" y="11953"/>
                  <a:pt x="4066" y="12128"/>
                  <a:pt x="4128" y="12256"/>
                </a:cubicBezTo>
                <a:cubicBezTo>
                  <a:pt x="4198" y="12401"/>
                  <a:pt x="4275" y="12559"/>
                  <a:pt x="4350" y="12700"/>
                </a:cubicBezTo>
                <a:cubicBezTo>
                  <a:pt x="4354" y="12707"/>
                  <a:pt x="4473" y="12931"/>
                  <a:pt x="4508" y="12922"/>
                </a:cubicBezTo>
                <a:cubicBezTo>
                  <a:pt x="4508" y="12911"/>
                  <a:pt x="4508" y="12901"/>
                  <a:pt x="4508" y="12890"/>
                </a:cubicBezTo>
              </a:path>
              <a:path w="4287" h="7493">
                <a:moveTo>
                  <a:pt x="4508" y="11557"/>
                </a:moveTo>
                <a:cubicBezTo>
                  <a:pt x="4429" y="11614"/>
                  <a:pt x="4430" y="11643"/>
                  <a:pt x="4382" y="11748"/>
                </a:cubicBezTo>
                <a:cubicBezTo>
                  <a:pt x="4305" y="11919"/>
                  <a:pt x="4183" y="12059"/>
                  <a:pt x="4096" y="12224"/>
                </a:cubicBezTo>
                <a:cubicBezTo>
                  <a:pt x="4009" y="12389"/>
                  <a:pt x="3885" y="12528"/>
                  <a:pt x="3810" y="12700"/>
                </a:cubicBezTo>
                <a:cubicBezTo>
                  <a:pt x="3772" y="12787"/>
                  <a:pt x="3733" y="12842"/>
                  <a:pt x="3683" y="12922"/>
                </a:cubicBezTo>
              </a:path>
              <a:path w="4287" h="7493">
                <a:moveTo>
                  <a:pt x="4667" y="11557"/>
                </a:moveTo>
                <a:cubicBezTo>
                  <a:pt x="4688" y="11473"/>
                  <a:pt x="4707" y="11525"/>
                  <a:pt x="4762" y="11494"/>
                </a:cubicBezTo>
                <a:cubicBezTo>
                  <a:pt x="4815" y="11464"/>
                  <a:pt x="4825" y="11462"/>
                  <a:pt x="4890" y="11462"/>
                </a:cubicBezTo>
                <a:cubicBezTo>
                  <a:pt x="4890" y="11549"/>
                  <a:pt x="4905" y="11639"/>
                  <a:pt x="4858" y="11716"/>
                </a:cubicBezTo>
                <a:cubicBezTo>
                  <a:pt x="4823" y="11773"/>
                  <a:pt x="4779" y="11826"/>
                  <a:pt x="4731" y="11874"/>
                </a:cubicBezTo>
                <a:cubicBezTo>
                  <a:pt x="4739" y="11841"/>
                  <a:pt x="4757" y="11766"/>
                  <a:pt x="4794" y="11748"/>
                </a:cubicBezTo>
                <a:cubicBezTo>
                  <a:pt x="4852" y="11720"/>
                  <a:pt x="4906" y="11772"/>
                  <a:pt x="4921" y="11779"/>
                </a:cubicBezTo>
                <a:cubicBezTo>
                  <a:pt x="4960" y="11798"/>
                  <a:pt x="5005" y="11822"/>
                  <a:pt x="5016" y="11874"/>
                </a:cubicBezTo>
                <a:cubicBezTo>
                  <a:pt x="5027" y="11926"/>
                  <a:pt x="5010" y="11995"/>
                  <a:pt x="4985" y="12033"/>
                </a:cubicBezTo>
                <a:cubicBezTo>
                  <a:pt x="4954" y="12080"/>
                  <a:pt x="4907" y="12065"/>
                  <a:pt x="4858" y="12065"/>
                </a:cubicBezTo>
                <a:cubicBezTo>
                  <a:pt x="4773" y="12065"/>
                  <a:pt x="4689" y="12065"/>
                  <a:pt x="4604" y="12065"/>
                </a:cubicBezTo>
              </a:path>
              <a:path w="4287" h="7493">
                <a:moveTo>
                  <a:pt x="2953" y="13906"/>
                </a:moveTo>
                <a:cubicBezTo>
                  <a:pt x="2953" y="13853"/>
                  <a:pt x="2953" y="13843"/>
                  <a:pt x="2953" y="13811"/>
                </a:cubicBezTo>
                <a:cubicBezTo>
                  <a:pt x="2942" y="13886"/>
                  <a:pt x="2919" y="13895"/>
                  <a:pt x="2889" y="13970"/>
                </a:cubicBezTo>
                <a:cubicBezTo>
                  <a:pt x="2839" y="14094"/>
                  <a:pt x="2774" y="14186"/>
                  <a:pt x="2730" y="14319"/>
                </a:cubicBezTo>
                <a:cubicBezTo>
                  <a:pt x="2685" y="14456"/>
                  <a:pt x="2629" y="14598"/>
                  <a:pt x="2572" y="14732"/>
                </a:cubicBezTo>
                <a:cubicBezTo>
                  <a:pt x="2502" y="14896"/>
                  <a:pt x="2462" y="15028"/>
                  <a:pt x="2445" y="15208"/>
                </a:cubicBezTo>
                <a:cubicBezTo>
                  <a:pt x="2437" y="15293"/>
                  <a:pt x="2456" y="15455"/>
                  <a:pt x="2508" y="15526"/>
                </a:cubicBezTo>
                <a:cubicBezTo>
                  <a:pt x="2585" y="15632"/>
                  <a:pt x="2640" y="15653"/>
                  <a:pt x="2762" y="15653"/>
                </a:cubicBezTo>
                <a:cubicBezTo>
                  <a:pt x="2885" y="15653"/>
                  <a:pt x="2962" y="15607"/>
                  <a:pt x="3048" y="15526"/>
                </a:cubicBezTo>
                <a:cubicBezTo>
                  <a:pt x="3108" y="15469"/>
                  <a:pt x="3210" y="15327"/>
                  <a:pt x="3207" y="15240"/>
                </a:cubicBezTo>
                <a:cubicBezTo>
                  <a:pt x="3205" y="15171"/>
                  <a:pt x="3172" y="14977"/>
                  <a:pt x="3112" y="14922"/>
                </a:cubicBezTo>
                <a:cubicBezTo>
                  <a:pt x="3064" y="14878"/>
                  <a:pt x="3013" y="14863"/>
                  <a:pt x="2953" y="14859"/>
                </a:cubicBezTo>
                <a:cubicBezTo>
                  <a:pt x="2871" y="14854"/>
                  <a:pt x="2827" y="14914"/>
                  <a:pt x="2794" y="14986"/>
                </a:cubicBezTo>
                <a:cubicBezTo>
                  <a:pt x="2736" y="15114"/>
                  <a:pt x="2712" y="15265"/>
                  <a:pt x="2667" y="15399"/>
                </a:cubicBezTo>
                <a:cubicBezTo>
                  <a:pt x="2630" y="15510"/>
                  <a:pt x="2584" y="15646"/>
                  <a:pt x="2540" y="15748"/>
                </a:cubicBezTo>
                <a:cubicBezTo>
                  <a:pt x="2511" y="15777"/>
                  <a:pt x="2500" y="15792"/>
                  <a:pt x="2508" y="15748"/>
                </a:cubicBezTo>
              </a:path>
              <a:path w="4287" h="7493">
                <a:moveTo>
                  <a:pt x="3620" y="13875"/>
                </a:moveTo>
                <a:cubicBezTo>
                  <a:pt x="3620" y="13951"/>
                  <a:pt x="3600" y="13987"/>
                  <a:pt x="3588" y="14065"/>
                </a:cubicBezTo>
                <a:cubicBezTo>
                  <a:pt x="3572" y="14172"/>
                  <a:pt x="3539" y="14274"/>
                  <a:pt x="3524" y="14383"/>
                </a:cubicBezTo>
                <a:cubicBezTo>
                  <a:pt x="3512" y="14469"/>
                  <a:pt x="3492" y="14548"/>
                  <a:pt x="3492" y="14637"/>
                </a:cubicBezTo>
                <a:cubicBezTo>
                  <a:pt x="3492" y="14692"/>
                  <a:pt x="3502" y="14712"/>
                  <a:pt x="3524" y="14668"/>
                </a:cubicBezTo>
                <a:cubicBezTo>
                  <a:pt x="3541" y="14636"/>
                  <a:pt x="3565" y="14609"/>
                  <a:pt x="3620" y="14605"/>
                </a:cubicBezTo>
                <a:cubicBezTo>
                  <a:pt x="3704" y="14599"/>
                  <a:pt x="3742" y="14659"/>
                  <a:pt x="3810" y="14700"/>
                </a:cubicBezTo>
                <a:cubicBezTo>
                  <a:pt x="3841" y="14718"/>
                  <a:pt x="3967" y="14777"/>
                  <a:pt x="4000" y="14764"/>
                </a:cubicBezTo>
                <a:cubicBezTo>
                  <a:pt x="4102" y="14723"/>
                  <a:pt x="4124" y="14639"/>
                  <a:pt x="4159" y="14542"/>
                </a:cubicBezTo>
              </a:path>
              <a:path w="4287" h="7493">
                <a:moveTo>
                  <a:pt x="4191" y="13970"/>
                </a:moveTo>
                <a:cubicBezTo>
                  <a:pt x="4122" y="14028"/>
                  <a:pt x="4132" y="14045"/>
                  <a:pt x="4096" y="14160"/>
                </a:cubicBezTo>
                <a:cubicBezTo>
                  <a:pt x="4040" y="14340"/>
                  <a:pt x="3978" y="14516"/>
                  <a:pt x="3937" y="14700"/>
                </a:cubicBezTo>
                <a:cubicBezTo>
                  <a:pt x="3889" y="14914"/>
                  <a:pt x="3850" y="15127"/>
                  <a:pt x="3778" y="15335"/>
                </a:cubicBezTo>
                <a:cubicBezTo>
                  <a:pt x="3724" y="15492"/>
                  <a:pt x="3679" y="15704"/>
                  <a:pt x="3588" y="15843"/>
                </a:cubicBezTo>
                <a:cubicBezTo>
                  <a:pt x="3567" y="15864"/>
                  <a:pt x="3545" y="15886"/>
                  <a:pt x="3524" y="15907"/>
                </a:cubicBezTo>
              </a:path>
              <a:path w="4287" h="7493">
                <a:moveTo>
                  <a:pt x="4413" y="14414"/>
                </a:moveTo>
                <a:cubicBezTo>
                  <a:pt x="4455" y="14477"/>
                  <a:pt x="4458" y="14530"/>
                  <a:pt x="4477" y="14605"/>
                </a:cubicBezTo>
                <a:cubicBezTo>
                  <a:pt x="4515" y="14754"/>
                  <a:pt x="4570" y="14899"/>
                  <a:pt x="4604" y="15050"/>
                </a:cubicBezTo>
                <a:cubicBezTo>
                  <a:pt x="4644" y="15227"/>
                  <a:pt x="4690" y="15421"/>
                  <a:pt x="4762" y="15589"/>
                </a:cubicBezTo>
                <a:cubicBezTo>
                  <a:pt x="4808" y="15697"/>
                  <a:pt x="4853" y="15839"/>
                  <a:pt x="4921" y="15938"/>
                </a:cubicBezTo>
                <a:cubicBezTo>
                  <a:pt x="4976" y="16017"/>
                  <a:pt x="4991" y="15996"/>
                  <a:pt x="5048" y="15938"/>
                </a:cubicBezTo>
              </a:path>
              <a:path w="4287" h="7493">
                <a:moveTo>
                  <a:pt x="5144" y="14605"/>
                </a:moveTo>
                <a:cubicBezTo>
                  <a:pt x="5110" y="14664"/>
                  <a:pt x="5055" y="14730"/>
                  <a:pt x="5016" y="14796"/>
                </a:cubicBezTo>
                <a:cubicBezTo>
                  <a:pt x="4940" y="14923"/>
                  <a:pt x="4842" y="15021"/>
                  <a:pt x="4762" y="15145"/>
                </a:cubicBezTo>
                <a:cubicBezTo>
                  <a:pt x="4646" y="15324"/>
                  <a:pt x="4511" y="15482"/>
                  <a:pt x="4382" y="15653"/>
                </a:cubicBezTo>
                <a:cubicBezTo>
                  <a:pt x="4276" y="15794"/>
                  <a:pt x="4159" y="15921"/>
                  <a:pt x="4064" y="16066"/>
                </a:cubicBezTo>
                <a:cubicBezTo>
                  <a:pt x="4032" y="16129"/>
                  <a:pt x="4021" y="16150"/>
                  <a:pt x="4000" y="16192"/>
                </a:cubicBezTo>
              </a:path>
              <a:path w="4287" h="7493">
                <a:moveTo>
                  <a:pt x="5366" y="14097"/>
                </a:moveTo>
                <a:cubicBezTo>
                  <a:pt x="5415" y="14081"/>
                  <a:pt x="5392" y="14065"/>
                  <a:pt x="5461" y="14065"/>
                </a:cubicBezTo>
                <a:cubicBezTo>
                  <a:pt x="5556" y="14065"/>
                  <a:pt x="5625" y="14076"/>
                  <a:pt x="5715" y="14097"/>
                </a:cubicBezTo>
                <a:cubicBezTo>
                  <a:pt x="5769" y="14110"/>
                  <a:pt x="5818" y="14133"/>
                  <a:pt x="5842" y="14160"/>
                </a:cubicBezTo>
                <a:cubicBezTo>
                  <a:pt x="5889" y="14213"/>
                  <a:pt x="5884" y="14256"/>
                  <a:pt x="5842" y="14319"/>
                </a:cubicBezTo>
                <a:cubicBezTo>
                  <a:pt x="5802" y="14378"/>
                  <a:pt x="5686" y="14503"/>
                  <a:pt x="5620" y="14510"/>
                </a:cubicBezTo>
                <a:cubicBezTo>
                  <a:pt x="5533" y="14520"/>
                  <a:pt x="5614" y="14507"/>
                  <a:pt x="5620" y="14510"/>
                </a:cubicBezTo>
                <a:cubicBezTo>
                  <a:pt x="5673" y="14537"/>
                  <a:pt x="5731" y="14535"/>
                  <a:pt x="5778" y="14573"/>
                </a:cubicBezTo>
                <a:cubicBezTo>
                  <a:pt x="5825" y="14611"/>
                  <a:pt x="5837" y="14675"/>
                  <a:pt x="5842" y="14732"/>
                </a:cubicBezTo>
                <a:cubicBezTo>
                  <a:pt x="5848" y="14809"/>
                  <a:pt x="5857" y="14896"/>
                  <a:pt x="5810" y="14954"/>
                </a:cubicBezTo>
                <a:cubicBezTo>
                  <a:pt x="5784" y="14986"/>
                  <a:pt x="5733" y="15046"/>
                  <a:pt x="5683" y="15018"/>
                </a:cubicBezTo>
                <a:cubicBezTo>
                  <a:pt x="5661" y="15006"/>
                  <a:pt x="5589" y="14889"/>
                  <a:pt x="5556" y="14922"/>
                </a:cubicBezTo>
                <a:cubicBezTo>
                  <a:pt x="5556" y="14933"/>
                  <a:pt x="5556" y="14943"/>
                  <a:pt x="5556" y="14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Ink 6"/>
          <p:cNvSpPr/>
          <p:nvPr/>
        </p:nvSpPr>
        <p:spPr>
          <a:xfrm>
            <a:off x="3782880" y="3257640"/>
            <a:ext cx="617760" cy="1406520"/>
          </a:xfrm>
          <a:custGeom>
            <a:avLst/>
            <a:gdLst/>
            <a:ahLst/>
            <a:rect l="l" t="t" r="r" b="b"/>
            <a:pathLst>
              <a:path w="1716" h="3906">
                <a:moveTo>
                  <a:pt x="10668" y="9049"/>
                </a:moveTo>
                <a:cubicBezTo>
                  <a:pt x="10668" y="9577"/>
                  <a:pt x="10476" y="10516"/>
                  <a:pt x="10700" y="10986"/>
                </a:cubicBezTo>
                <a:cubicBezTo>
                  <a:pt x="10700" y="11017"/>
                  <a:pt x="10700" y="11028"/>
                  <a:pt x="10732" y="11017"/>
                </a:cubicBezTo>
                <a:cubicBezTo>
                  <a:pt x="10805" y="10922"/>
                  <a:pt x="10830" y="10858"/>
                  <a:pt x="10858" y="10732"/>
                </a:cubicBezTo>
                <a:cubicBezTo>
                  <a:pt x="10932" y="10404"/>
                  <a:pt x="10974" y="10078"/>
                  <a:pt x="11017" y="9747"/>
                </a:cubicBezTo>
                <a:cubicBezTo>
                  <a:pt x="11040" y="9569"/>
                  <a:pt x="11081" y="9420"/>
                  <a:pt x="11081" y="9239"/>
                </a:cubicBezTo>
                <a:cubicBezTo>
                  <a:pt x="11081" y="9104"/>
                  <a:pt x="11081" y="9157"/>
                  <a:pt x="11081" y="9271"/>
                </a:cubicBezTo>
                <a:cubicBezTo>
                  <a:pt x="11081" y="9486"/>
                  <a:pt x="11108" y="9692"/>
                  <a:pt x="11112" y="9906"/>
                </a:cubicBezTo>
                <a:cubicBezTo>
                  <a:pt x="11117" y="10203"/>
                  <a:pt x="11118" y="10499"/>
                  <a:pt x="11144" y="10795"/>
                </a:cubicBezTo>
                <a:cubicBezTo>
                  <a:pt x="11174" y="11134"/>
                  <a:pt x="11203" y="11471"/>
                  <a:pt x="11208" y="11811"/>
                </a:cubicBezTo>
                <a:cubicBezTo>
                  <a:pt x="11212" y="12062"/>
                  <a:pt x="11213" y="12325"/>
                  <a:pt x="11176" y="12573"/>
                </a:cubicBezTo>
                <a:cubicBezTo>
                  <a:pt x="11158" y="12696"/>
                  <a:pt x="11105" y="12868"/>
                  <a:pt x="10986" y="12922"/>
                </a:cubicBezTo>
                <a:cubicBezTo>
                  <a:pt x="10882" y="12969"/>
                  <a:pt x="10766" y="12925"/>
                  <a:pt x="10700" y="12827"/>
                </a:cubicBezTo>
                <a:cubicBezTo>
                  <a:pt x="10582" y="12651"/>
                  <a:pt x="10525" y="12433"/>
                  <a:pt x="10509" y="12224"/>
                </a:cubicBezTo>
                <a:cubicBezTo>
                  <a:pt x="10509" y="12023"/>
                  <a:pt x="10509" y="11949"/>
                  <a:pt x="10509" y="11811"/>
                </a:cubicBezTo>
              </a:path>
              <a:path w="1716" h="3906">
                <a:moveTo>
                  <a:pt x="11589" y="9938"/>
                </a:moveTo>
                <a:cubicBezTo>
                  <a:pt x="11559" y="9928"/>
                  <a:pt x="11529" y="9868"/>
                  <a:pt x="11494" y="9938"/>
                </a:cubicBezTo>
                <a:cubicBezTo>
                  <a:pt x="11451" y="10024"/>
                  <a:pt x="11434" y="10161"/>
                  <a:pt x="11430" y="10255"/>
                </a:cubicBezTo>
                <a:cubicBezTo>
                  <a:pt x="11424" y="10407"/>
                  <a:pt x="11420" y="10555"/>
                  <a:pt x="11462" y="10700"/>
                </a:cubicBezTo>
                <a:cubicBezTo>
                  <a:pt x="11486" y="10784"/>
                  <a:pt x="11473" y="10869"/>
                  <a:pt x="11557" y="10890"/>
                </a:cubicBezTo>
                <a:cubicBezTo>
                  <a:pt x="11588" y="10870"/>
                  <a:pt x="11644" y="10733"/>
                  <a:pt x="11652" y="10668"/>
                </a:cubicBezTo>
                <a:cubicBezTo>
                  <a:pt x="11668" y="10545"/>
                  <a:pt x="11579" y="9909"/>
                  <a:pt x="11684" y="9874"/>
                </a:cubicBezTo>
              </a:path>
              <a:path w="1716" h="3906">
                <a:moveTo>
                  <a:pt x="11779" y="9842"/>
                </a:moveTo>
                <a:cubicBezTo>
                  <a:pt x="11818" y="9908"/>
                  <a:pt x="11827" y="10012"/>
                  <a:pt x="11811" y="10096"/>
                </a:cubicBezTo>
                <a:cubicBezTo>
                  <a:pt x="11788" y="10213"/>
                  <a:pt x="11800" y="10330"/>
                  <a:pt x="11779" y="10446"/>
                </a:cubicBezTo>
                <a:cubicBezTo>
                  <a:pt x="11762" y="10539"/>
                  <a:pt x="11714" y="10666"/>
                  <a:pt x="11748" y="10763"/>
                </a:cubicBezTo>
                <a:cubicBezTo>
                  <a:pt x="11765" y="10810"/>
                  <a:pt x="11798" y="10839"/>
                  <a:pt x="11811" y="10890"/>
                </a:cubicBezTo>
                <a:cubicBezTo>
                  <a:pt x="11878" y="10890"/>
                  <a:pt x="11890" y="10875"/>
                  <a:pt x="11938" y="10827"/>
                </a:cubicBezTo>
                <a:cubicBezTo>
                  <a:pt x="12019" y="10747"/>
                  <a:pt x="12002" y="10645"/>
                  <a:pt x="12033" y="10541"/>
                </a:cubicBezTo>
                <a:cubicBezTo>
                  <a:pt x="12074" y="10403"/>
                  <a:pt x="12065" y="10273"/>
                  <a:pt x="12065" y="10128"/>
                </a:cubicBezTo>
                <a:cubicBezTo>
                  <a:pt x="12065" y="9958"/>
                  <a:pt x="12065" y="10019"/>
                  <a:pt x="12065" y="10160"/>
                </a:cubicBezTo>
                <a:cubicBezTo>
                  <a:pt x="12065" y="10346"/>
                  <a:pt x="12078" y="10520"/>
                  <a:pt x="12097" y="10700"/>
                </a:cubicBezTo>
                <a:cubicBezTo>
                  <a:pt x="12106" y="10782"/>
                  <a:pt x="12084" y="10881"/>
                  <a:pt x="12128" y="10954"/>
                </a:cubicBezTo>
                <a:cubicBezTo>
                  <a:pt x="12164" y="11014"/>
                  <a:pt x="12187" y="10982"/>
                  <a:pt x="12224" y="10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Ink 7"/>
          <p:cNvSpPr/>
          <p:nvPr/>
        </p:nvSpPr>
        <p:spPr>
          <a:xfrm>
            <a:off x="4789440" y="3006720"/>
            <a:ext cx="3703680" cy="1257480"/>
          </a:xfrm>
          <a:custGeom>
            <a:avLst/>
            <a:gdLst/>
            <a:ahLst/>
            <a:rect l="l" t="t" r="r" b="b"/>
            <a:pathLst>
              <a:path w="10288" h="3494">
                <a:moveTo>
                  <a:pt x="13780" y="9017"/>
                </a:moveTo>
                <a:cubicBezTo>
                  <a:pt x="13762" y="9089"/>
                  <a:pt x="13772" y="9095"/>
                  <a:pt x="13780" y="9176"/>
                </a:cubicBezTo>
                <a:cubicBezTo>
                  <a:pt x="13792" y="9293"/>
                  <a:pt x="13797" y="9414"/>
                  <a:pt x="13811" y="9525"/>
                </a:cubicBezTo>
                <a:cubicBezTo>
                  <a:pt x="13826" y="9650"/>
                  <a:pt x="13829" y="9783"/>
                  <a:pt x="13843" y="9906"/>
                </a:cubicBezTo>
                <a:cubicBezTo>
                  <a:pt x="13861" y="10064"/>
                  <a:pt x="13858" y="10227"/>
                  <a:pt x="13875" y="10382"/>
                </a:cubicBezTo>
                <a:cubicBezTo>
                  <a:pt x="13886" y="10482"/>
                  <a:pt x="13891" y="10589"/>
                  <a:pt x="13843" y="10668"/>
                </a:cubicBezTo>
                <a:cubicBezTo>
                  <a:pt x="13834" y="10606"/>
                  <a:pt x="13827" y="10569"/>
                  <a:pt x="13811" y="10509"/>
                </a:cubicBezTo>
                <a:cubicBezTo>
                  <a:pt x="13780" y="10393"/>
                  <a:pt x="13761" y="10266"/>
                  <a:pt x="13716" y="10160"/>
                </a:cubicBezTo>
                <a:cubicBezTo>
                  <a:pt x="13696" y="10112"/>
                  <a:pt x="13649" y="9987"/>
                  <a:pt x="13589" y="9970"/>
                </a:cubicBezTo>
                <a:cubicBezTo>
                  <a:pt x="13540" y="9956"/>
                  <a:pt x="13461" y="9961"/>
                  <a:pt x="13430" y="10001"/>
                </a:cubicBezTo>
                <a:cubicBezTo>
                  <a:pt x="13372" y="10076"/>
                  <a:pt x="13315" y="10228"/>
                  <a:pt x="13303" y="10319"/>
                </a:cubicBezTo>
                <a:cubicBezTo>
                  <a:pt x="13288" y="10438"/>
                  <a:pt x="13289" y="10591"/>
                  <a:pt x="13335" y="10700"/>
                </a:cubicBezTo>
                <a:cubicBezTo>
                  <a:pt x="13387" y="10823"/>
                  <a:pt x="13472" y="10848"/>
                  <a:pt x="13589" y="10795"/>
                </a:cubicBezTo>
                <a:cubicBezTo>
                  <a:pt x="13658" y="10760"/>
                  <a:pt x="13683" y="10745"/>
                  <a:pt x="13716" y="10700"/>
                </a:cubicBezTo>
              </a:path>
              <a:path w="10288" h="3494">
                <a:moveTo>
                  <a:pt x="14002" y="10033"/>
                </a:moveTo>
                <a:cubicBezTo>
                  <a:pt x="13969" y="10173"/>
                  <a:pt x="13970" y="10301"/>
                  <a:pt x="13970" y="10446"/>
                </a:cubicBezTo>
                <a:cubicBezTo>
                  <a:pt x="13970" y="10552"/>
                  <a:pt x="13976" y="10598"/>
                  <a:pt x="14065" y="10636"/>
                </a:cubicBezTo>
                <a:cubicBezTo>
                  <a:pt x="14158" y="10676"/>
                  <a:pt x="14203" y="10630"/>
                  <a:pt x="14256" y="10541"/>
                </a:cubicBezTo>
                <a:cubicBezTo>
                  <a:pt x="14323" y="10428"/>
                  <a:pt x="14328" y="10314"/>
                  <a:pt x="14351" y="10192"/>
                </a:cubicBezTo>
                <a:cubicBezTo>
                  <a:pt x="14372" y="10081"/>
                  <a:pt x="14391" y="9966"/>
                  <a:pt x="14319" y="9874"/>
                </a:cubicBezTo>
                <a:cubicBezTo>
                  <a:pt x="14291" y="9845"/>
                  <a:pt x="14285" y="9834"/>
                  <a:pt x="14256" y="9842"/>
                </a:cubicBezTo>
              </a:path>
              <a:path w="10288" h="3494">
                <a:moveTo>
                  <a:pt x="14859" y="10795"/>
                </a:moveTo>
                <a:cubicBezTo>
                  <a:pt x="14840" y="10776"/>
                  <a:pt x="14827" y="10827"/>
                  <a:pt x="14827" y="10700"/>
                </a:cubicBezTo>
                <a:cubicBezTo>
                  <a:pt x="14827" y="10520"/>
                  <a:pt x="14851" y="10368"/>
                  <a:pt x="14891" y="10192"/>
                </a:cubicBezTo>
                <a:cubicBezTo>
                  <a:pt x="14951" y="9929"/>
                  <a:pt x="14995" y="9662"/>
                  <a:pt x="15050" y="9398"/>
                </a:cubicBezTo>
                <a:cubicBezTo>
                  <a:pt x="15090" y="9207"/>
                  <a:pt x="15129" y="9016"/>
                  <a:pt x="15176" y="8826"/>
                </a:cubicBezTo>
                <a:cubicBezTo>
                  <a:pt x="15196" y="8746"/>
                  <a:pt x="15222" y="8575"/>
                  <a:pt x="15272" y="8509"/>
                </a:cubicBezTo>
                <a:cubicBezTo>
                  <a:pt x="15283" y="8509"/>
                  <a:pt x="15293" y="8509"/>
                  <a:pt x="15304" y="8509"/>
                </a:cubicBezTo>
                <a:cubicBezTo>
                  <a:pt x="15331" y="8591"/>
                  <a:pt x="15318" y="8670"/>
                  <a:pt x="15335" y="8763"/>
                </a:cubicBezTo>
                <a:cubicBezTo>
                  <a:pt x="15366" y="8930"/>
                  <a:pt x="15372" y="9103"/>
                  <a:pt x="15399" y="9271"/>
                </a:cubicBezTo>
                <a:cubicBezTo>
                  <a:pt x="15432" y="9481"/>
                  <a:pt x="15507" y="9693"/>
                  <a:pt x="15526" y="9906"/>
                </a:cubicBezTo>
                <a:cubicBezTo>
                  <a:pt x="15543" y="10096"/>
                  <a:pt x="15558" y="10291"/>
                  <a:pt x="15589" y="10478"/>
                </a:cubicBezTo>
                <a:cubicBezTo>
                  <a:pt x="15604" y="10566"/>
                  <a:pt x="15662" y="10687"/>
                  <a:pt x="15684" y="10732"/>
                </a:cubicBezTo>
                <a:cubicBezTo>
                  <a:pt x="15684" y="10496"/>
                  <a:pt x="15703" y="10267"/>
                  <a:pt x="15716" y="10033"/>
                </a:cubicBezTo>
                <a:cubicBezTo>
                  <a:pt x="15731" y="9776"/>
                  <a:pt x="15761" y="9527"/>
                  <a:pt x="15780" y="9271"/>
                </a:cubicBezTo>
                <a:cubicBezTo>
                  <a:pt x="15795" y="9069"/>
                  <a:pt x="15818" y="8896"/>
                  <a:pt x="15875" y="8700"/>
                </a:cubicBezTo>
                <a:cubicBezTo>
                  <a:pt x="15894" y="8636"/>
                  <a:pt x="15920" y="8522"/>
                  <a:pt x="15970" y="8477"/>
                </a:cubicBezTo>
                <a:cubicBezTo>
                  <a:pt x="15981" y="8477"/>
                  <a:pt x="15991" y="8477"/>
                  <a:pt x="16002" y="8477"/>
                </a:cubicBezTo>
              </a:path>
              <a:path w="10288" h="3494">
                <a:moveTo>
                  <a:pt x="16446" y="8572"/>
                </a:moveTo>
                <a:cubicBezTo>
                  <a:pt x="16419" y="8628"/>
                  <a:pt x="16376" y="8698"/>
                  <a:pt x="16351" y="8763"/>
                </a:cubicBezTo>
                <a:cubicBezTo>
                  <a:pt x="16295" y="8906"/>
                  <a:pt x="16257" y="9059"/>
                  <a:pt x="16224" y="9208"/>
                </a:cubicBezTo>
                <a:cubicBezTo>
                  <a:pt x="16174" y="9436"/>
                  <a:pt x="16144" y="9674"/>
                  <a:pt x="16129" y="9906"/>
                </a:cubicBezTo>
                <a:cubicBezTo>
                  <a:pt x="16117" y="10100"/>
                  <a:pt x="16128" y="10293"/>
                  <a:pt x="16192" y="10478"/>
                </a:cubicBezTo>
                <a:cubicBezTo>
                  <a:pt x="16224" y="10541"/>
                  <a:pt x="16235" y="10562"/>
                  <a:pt x="16256" y="10604"/>
                </a:cubicBezTo>
                <a:cubicBezTo>
                  <a:pt x="16331" y="10595"/>
                  <a:pt x="16405" y="10594"/>
                  <a:pt x="16446" y="10509"/>
                </a:cubicBezTo>
                <a:cubicBezTo>
                  <a:pt x="16534" y="10326"/>
                  <a:pt x="16621" y="10072"/>
                  <a:pt x="16669" y="9874"/>
                </a:cubicBezTo>
                <a:cubicBezTo>
                  <a:pt x="16729" y="9630"/>
                  <a:pt x="16790" y="9396"/>
                  <a:pt x="16796" y="9144"/>
                </a:cubicBezTo>
                <a:cubicBezTo>
                  <a:pt x="16800" y="8969"/>
                  <a:pt x="16811" y="8842"/>
                  <a:pt x="16700" y="8700"/>
                </a:cubicBezTo>
                <a:cubicBezTo>
                  <a:pt x="16639" y="8622"/>
                  <a:pt x="16591" y="8638"/>
                  <a:pt x="16510" y="8604"/>
                </a:cubicBezTo>
              </a:path>
              <a:path w="10288" h="3494">
                <a:moveTo>
                  <a:pt x="17113" y="8604"/>
                </a:moveTo>
                <a:cubicBezTo>
                  <a:pt x="17113" y="8831"/>
                  <a:pt x="17126" y="9046"/>
                  <a:pt x="17145" y="9271"/>
                </a:cubicBezTo>
                <a:cubicBezTo>
                  <a:pt x="17160" y="9447"/>
                  <a:pt x="17153" y="9636"/>
                  <a:pt x="17177" y="9811"/>
                </a:cubicBezTo>
                <a:cubicBezTo>
                  <a:pt x="17191" y="9915"/>
                  <a:pt x="17208" y="9991"/>
                  <a:pt x="17208" y="10096"/>
                </a:cubicBezTo>
              </a:path>
              <a:path w="10288" h="3494">
                <a:moveTo>
                  <a:pt x="16637" y="8636"/>
                </a:moveTo>
                <a:cubicBezTo>
                  <a:pt x="16713" y="8636"/>
                  <a:pt x="16756" y="8629"/>
                  <a:pt x="16828" y="8604"/>
                </a:cubicBezTo>
                <a:cubicBezTo>
                  <a:pt x="16972" y="8553"/>
                  <a:pt x="17131" y="8532"/>
                  <a:pt x="17272" y="8477"/>
                </a:cubicBezTo>
                <a:cubicBezTo>
                  <a:pt x="17432" y="8415"/>
                  <a:pt x="17578" y="8368"/>
                  <a:pt x="17748" y="8350"/>
                </a:cubicBezTo>
                <a:cubicBezTo>
                  <a:pt x="17842" y="8340"/>
                  <a:pt x="17931" y="8335"/>
                  <a:pt x="17970" y="8414"/>
                </a:cubicBezTo>
              </a:path>
              <a:path w="10288" h="3494">
                <a:moveTo>
                  <a:pt x="14319" y="11240"/>
                </a:moveTo>
                <a:cubicBezTo>
                  <a:pt x="14387" y="11231"/>
                  <a:pt x="14441" y="11210"/>
                  <a:pt x="14510" y="11208"/>
                </a:cubicBezTo>
                <a:cubicBezTo>
                  <a:pt x="14672" y="11202"/>
                  <a:pt x="14829" y="11226"/>
                  <a:pt x="14986" y="11176"/>
                </a:cubicBezTo>
                <a:cubicBezTo>
                  <a:pt x="15221" y="11101"/>
                  <a:pt x="15443" y="10980"/>
                  <a:pt x="15684" y="10922"/>
                </a:cubicBezTo>
                <a:cubicBezTo>
                  <a:pt x="15951" y="10857"/>
                  <a:pt x="16234" y="10781"/>
                  <a:pt x="16510" y="10763"/>
                </a:cubicBezTo>
                <a:cubicBezTo>
                  <a:pt x="16765" y="10746"/>
                  <a:pt x="17016" y="10732"/>
                  <a:pt x="17272" y="10732"/>
                </a:cubicBezTo>
                <a:cubicBezTo>
                  <a:pt x="17388" y="10732"/>
                  <a:pt x="17829" y="10767"/>
                  <a:pt x="17812" y="10700"/>
                </a:cubicBezTo>
                <a:cubicBezTo>
                  <a:pt x="17801" y="10689"/>
                  <a:pt x="17791" y="10679"/>
                  <a:pt x="17780" y="10668"/>
                </a:cubicBezTo>
              </a:path>
              <a:path w="10288" h="3494">
                <a:moveTo>
                  <a:pt x="18764" y="9525"/>
                </a:moveTo>
                <a:cubicBezTo>
                  <a:pt x="18730" y="9592"/>
                  <a:pt x="18732" y="9631"/>
                  <a:pt x="18732" y="9716"/>
                </a:cubicBezTo>
                <a:cubicBezTo>
                  <a:pt x="18732" y="10087"/>
                  <a:pt x="18714" y="10464"/>
                  <a:pt x="18764" y="10827"/>
                </a:cubicBezTo>
                <a:cubicBezTo>
                  <a:pt x="18764" y="10858"/>
                  <a:pt x="18764" y="10869"/>
                  <a:pt x="18764" y="10890"/>
                </a:cubicBezTo>
                <a:cubicBezTo>
                  <a:pt x="18754" y="10769"/>
                  <a:pt x="18735" y="10666"/>
                  <a:pt x="18732" y="10541"/>
                </a:cubicBezTo>
                <a:cubicBezTo>
                  <a:pt x="18726" y="10295"/>
                  <a:pt x="18724" y="10053"/>
                  <a:pt x="18764" y="9811"/>
                </a:cubicBezTo>
                <a:cubicBezTo>
                  <a:pt x="18777" y="9732"/>
                  <a:pt x="18855" y="9425"/>
                  <a:pt x="18923" y="9366"/>
                </a:cubicBezTo>
                <a:cubicBezTo>
                  <a:pt x="18939" y="9352"/>
                  <a:pt x="18998" y="9374"/>
                  <a:pt x="19018" y="9366"/>
                </a:cubicBezTo>
                <a:cubicBezTo>
                  <a:pt x="19063" y="9502"/>
                  <a:pt x="19112" y="9640"/>
                  <a:pt x="19145" y="9779"/>
                </a:cubicBezTo>
                <a:cubicBezTo>
                  <a:pt x="19195" y="9989"/>
                  <a:pt x="19200" y="10232"/>
                  <a:pt x="19209" y="10446"/>
                </a:cubicBezTo>
                <a:cubicBezTo>
                  <a:pt x="19212" y="10509"/>
                  <a:pt x="19114" y="10602"/>
                  <a:pt x="19177" y="10604"/>
                </a:cubicBezTo>
                <a:cubicBezTo>
                  <a:pt x="19188" y="10594"/>
                  <a:pt x="19198" y="10583"/>
                  <a:pt x="19209" y="10573"/>
                </a:cubicBezTo>
                <a:cubicBezTo>
                  <a:pt x="19184" y="10412"/>
                  <a:pt x="19191" y="10204"/>
                  <a:pt x="19209" y="10033"/>
                </a:cubicBezTo>
                <a:cubicBezTo>
                  <a:pt x="19229" y="9841"/>
                  <a:pt x="19277" y="9646"/>
                  <a:pt x="19336" y="9462"/>
                </a:cubicBezTo>
                <a:cubicBezTo>
                  <a:pt x="19347" y="9430"/>
                  <a:pt x="19357" y="9398"/>
                  <a:pt x="19368" y="9366"/>
                </a:cubicBezTo>
                <a:cubicBezTo>
                  <a:pt x="19455" y="9379"/>
                  <a:pt x="19476" y="9376"/>
                  <a:pt x="19494" y="9493"/>
                </a:cubicBezTo>
                <a:cubicBezTo>
                  <a:pt x="19523" y="9678"/>
                  <a:pt x="19503" y="9878"/>
                  <a:pt x="19526" y="10065"/>
                </a:cubicBezTo>
                <a:cubicBezTo>
                  <a:pt x="19549" y="10256"/>
                  <a:pt x="19559" y="10452"/>
                  <a:pt x="19622" y="10636"/>
                </a:cubicBezTo>
                <a:cubicBezTo>
                  <a:pt x="19666" y="10766"/>
                  <a:pt x="19711" y="10671"/>
                  <a:pt x="19748" y="10604"/>
                </a:cubicBezTo>
              </a:path>
              <a:path w="10288" h="3494">
                <a:moveTo>
                  <a:pt x="19907" y="9462"/>
                </a:moveTo>
                <a:cubicBezTo>
                  <a:pt x="19907" y="9584"/>
                  <a:pt x="19910" y="9692"/>
                  <a:pt x="19939" y="9811"/>
                </a:cubicBezTo>
                <a:cubicBezTo>
                  <a:pt x="19983" y="9992"/>
                  <a:pt x="19981" y="10168"/>
                  <a:pt x="20034" y="10350"/>
                </a:cubicBezTo>
                <a:cubicBezTo>
                  <a:pt x="20063" y="10448"/>
                  <a:pt x="20094" y="10512"/>
                  <a:pt x="20130" y="10573"/>
                </a:cubicBezTo>
                <a:cubicBezTo>
                  <a:pt x="20130" y="10583"/>
                  <a:pt x="20130" y="10594"/>
                  <a:pt x="20130" y="10604"/>
                </a:cubicBezTo>
                <a:cubicBezTo>
                  <a:pt x="20191" y="10543"/>
                  <a:pt x="20217" y="10473"/>
                  <a:pt x="20225" y="10382"/>
                </a:cubicBezTo>
                <a:cubicBezTo>
                  <a:pt x="20244" y="10161"/>
                  <a:pt x="20225" y="9936"/>
                  <a:pt x="20256" y="9716"/>
                </a:cubicBezTo>
                <a:cubicBezTo>
                  <a:pt x="20268" y="9629"/>
                  <a:pt x="20303" y="9431"/>
                  <a:pt x="20352" y="9398"/>
                </a:cubicBezTo>
                <a:cubicBezTo>
                  <a:pt x="20352" y="9635"/>
                  <a:pt x="20366" y="9862"/>
                  <a:pt x="20384" y="10096"/>
                </a:cubicBezTo>
                <a:cubicBezTo>
                  <a:pt x="20394" y="10230"/>
                  <a:pt x="20403" y="10359"/>
                  <a:pt x="20479" y="10478"/>
                </a:cubicBezTo>
                <a:cubicBezTo>
                  <a:pt x="20505" y="10519"/>
                  <a:pt x="20534" y="10531"/>
                  <a:pt x="20574" y="10541"/>
                </a:cubicBezTo>
                <a:cubicBezTo>
                  <a:pt x="20645" y="10452"/>
                  <a:pt x="20642" y="10365"/>
                  <a:pt x="20669" y="10255"/>
                </a:cubicBezTo>
                <a:cubicBezTo>
                  <a:pt x="20680" y="10213"/>
                  <a:pt x="20690" y="10170"/>
                  <a:pt x="20701" y="10128"/>
                </a:cubicBezTo>
              </a:path>
              <a:path w="10288" h="3494">
                <a:moveTo>
                  <a:pt x="20796" y="8763"/>
                </a:moveTo>
                <a:cubicBezTo>
                  <a:pt x="20796" y="8947"/>
                  <a:pt x="20816" y="9122"/>
                  <a:pt x="20828" y="9303"/>
                </a:cubicBezTo>
                <a:cubicBezTo>
                  <a:pt x="20843" y="9526"/>
                  <a:pt x="20875" y="9748"/>
                  <a:pt x="20892" y="9970"/>
                </a:cubicBezTo>
                <a:cubicBezTo>
                  <a:pt x="20905" y="10144"/>
                  <a:pt x="20893" y="10338"/>
                  <a:pt x="20923" y="10509"/>
                </a:cubicBezTo>
                <a:cubicBezTo>
                  <a:pt x="20937" y="10587"/>
                  <a:pt x="20970" y="10698"/>
                  <a:pt x="20987" y="10732"/>
                </a:cubicBezTo>
              </a:path>
              <a:path w="10288" h="3494">
                <a:moveTo>
                  <a:pt x="21304" y="8700"/>
                </a:moveTo>
                <a:cubicBezTo>
                  <a:pt x="21304" y="9104"/>
                  <a:pt x="21309" y="9506"/>
                  <a:pt x="21336" y="9906"/>
                </a:cubicBezTo>
                <a:cubicBezTo>
                  <a:pt x="21348" y="10090"/>
                  <a:pt x="21338" y="10296"/>
                  <a:pt x="21368" y="10478"/>
                </a:cubicBezTo>
                <a:cubicBezTo>
                  <a:pt x="21383" y="10567"/>
                  <a:pt x="21400" y="10657"/>
                  <a:pt x="21431" y="10732"/>
                </a:cubicBezTo>
              </a:path>
              <a:path w="10288" h="3494">
                <a:moveTo>
                  <a:pt x="21177" y="9652"/>
                </a:moveTo>
                <a:cubicBezTo>
                  <a:pt x="21167" y="9652"/>
                  <a:pt x="21156" y="9652"/>
                  <a:pt x="21146" y="9652"/>
                </a:cubicBezTo>
                <a:cubicBezTo>
                  <a:pt x="21193" y="9668"/>
                  <a:pt x="21172" y="9684"/>
                  <a:pt x="21241" y="9684"/>
                </a:cubicBezTo>
                <a:cubicBezTo>
                  <a:pt x="21292" y="9684"/>
                  <a:pt x="21327" y="9644"/>
                  <a:pt x="21368" y="9620"/>
                </a:cubicBezTo>
                <a:cubicBezTo>
                  <a:pt x="21440" y="9578"/>
                  <a:pt x="21465" y="9554"/>
                  <a:pt x="21526" y="9493"/>
                </a:cubicBezTo>
              </a:path>
              <a:path w="10288" h="3494">
                <a:moveTo>
                  <a:pt x="21749" y="9239"/>
                </a:moveTo>
                <a:cubicBezTo>
                  <a:pt x="21749" y="9351"/>
                  <a:pt x="21777" y="9446"/>
                  <a:pt x="21780" y="9557"/>
                </a:cubicBezTo>
                <a:cubicBezTo>
                  <a:pt x="21785" y="9730"/>
                  <a:pt x="21807" y="9894"/>
                  <a:pt x="21812" y="10065"/>
                </a:cubicBezTo>
                <a:cubicBezTo>
                  <a:pt x="21816" y="10208"/>
                  <a:pt x="21837" y="10340"/>
                  <a:pt x="21844" y="10478"/>
                </a:cubicBezTo>
                <a:cubicBezTo>
                  <a:pt x="21844" y="10499"/>
                  <a:pt x="21844" y="10520"/>
                  <a:pt x="21844" y="10541"/>
                </a:cubicBezTo>
              </a:path>
              <a:path w="10288" h="3494">
                <a:moveTo>
                  <a:pt x="22066" y="9303"/>
                </a:moveTo>
                <a:lnTo>
                  <a:pt x="22066" y="9303"/>
                </a:lnTo>
              </a:path>
              <a:path w="10288" h="3494">
                <a:moveTo>
                  <a:pt x="22066" y="9303"/>
                </a:moveTo>
                <a:cubicBezTo>
                  <a:pt x="22077" y="9324"/>
                  <a:pt x="22087" y="9345"/>
                  <a:pt x="22098" y="9366"/>
                </a:cubicBezTo>
              </a:path>
              <a:path w="10288" h="3494">
                <a:moveTo>
                  <a:pt x="22098" y="9366"/>
                </a:moveTo>
                <a:cubicBezTo>
                  <a:pt x="22137" y="9535"/>
                  <a:pt x="22130" y="9698"/>
                  <a:pt x="22130" y="9874"/>
                </a:cubicBezTo>
                <a:cubicBezTo>
                  <a:pt x="22130" y="10085"/>
                  <a:pt x="22131" y="10302"/>
                  <a:pt x="22162" y="10509"/>
                </a:cubicBezTo>
                <a:cubicBezTo>
                  <a:pt x="22176" y="10604"/>
                  <a:pt x="22238" y="10802"/>
                  <a:pt x="22225" y="10890"/>
                </a:cubicBezTo>
                <a:cubicBezTo>
                  <a:pt x="22220" y="10926"/>
                  <a:pt x="22219" y="10896"/>
                  <a:pt x="22193" y="10922"/>
                </a:cubicBezTo>
                <a:cubicBezTo>
                  <a:pt x="22178" y="10785"/>
                  <a:pt x="22140" y="10647"/>
                  <a:pt x="22130" y="10509"/>
                </a:cubicBezTo>
                <a:cubicBezTo>
                  <a:pt x="22113" y="10276"/>
                  <a:pt x="22115" y="10072"/>
                  <a:pt x="22130" y="9842"/>
                </a:cubicBezTo>
                <a:cubicBezTo>
                  <a:pt x="22142" y="9657"/>
                  <a:pt x="22159" y="9480"/>
                  <a:pt x="22225" y="9303"/>
                </a:cubicBezTo>
                <a:cubicBezTo>
                  <a:pt x="22259" y="9211"/>
                  <a:pt x="22298" y="9188"/>
                  <a:pt x="22384" y="9176"/>
                </a:cubicBezTo>
                <a:cubicBezTo>
                  <a:pt x="22435" y="9278"/>
                  <a:pt x="22469" y="9377"/>
                  <a:pt x="22479" y="9493"/>
                </a:cubicBezTo>
                <a:cubicBezTo>
                  <a:pt x="22493" y="9653"/>
                  <a:pt x="22484" y="9817"/>
                  <a:pt x="22447" y="9970"/>
                </a:cubicBezTo>
                <a:cubicBezTo>
                  <a:pt x="22418" y="10092"/>
                  <a:pt x="22390" y="10243"/>
                  <a:pt x="22320" y="10350"/>
                </a:cubicBezTo>
                <a:cubicBezTo>
                  <a:pt x="22258" y="10446"/>
                  <a:pt x="22251" y="10416"/>
                  <a:pt x="22225" y="10350"/>
                </a:cubicBezTo>
              </a:path>
              <a:path w="10288" h="3494">
                <a:moveTo>
                  <a:pt x="22701" y="8858"/>
                </a:moveTo>
                <a:cubicBezTo>
                  <a:pt x="22701" y="9032"/>
                  <a:pt x="22681" y="9195"/>
                  <a:pt x="22670" y="9366"/>
                </a:cubicBezTo>
                <a:cubicBezTo>
                  <a:pt x="22656" y="9572"/>
                  <a:pt x="22696" y="9767"/>
                  <a:pt x="22701" y="9970"/>
                </a:cubicBezTo>
                <a:cubicBezTo>
                  <a:pt x="22705" y="10115"/>
                  <a:pt x="22743" y="10246"/>
                  <a:pt x="22765" y="10382"/>
                </a:cubicBezTo>
                <a:cubicBezTo>
                  <a:pt x="22787" y="10521"/>
                  <a:pt x="22805" y="10395"/>
                  <a:pt x="22828" y="10319"/>
                </a:cubicBezTo>
              </a:path>
              <a:path w="10288" h="3494">
                <a:moveTo>
                  <a:pt x="22924" y="9366"/>
                </a:moveTo>
                <a:cubicBezTo>
                  <a:pt x="22934" y="9345"/>
                  <a:pt x="22945" y="9324"/>
                  <a:pt x="22955" y="9303"/>
                </a:cubicBezTo>
              </a:path>
              <a:path w="10288" h="3494">
                <a:moveTo>
                  <a:pt x="22924" y="9366"/>
                </a:moveTo>
                <a:lnTo>
                  <a:pt x="22924" y="9366"/>
                </a:lnTo>
              </a:path>
              <a:path w="10288" h="3494">
                <a:moveTo>
                  <a:pt x="22955" y="9366"/>
                </a:moveTo>
                <a:cubicBezTo>
                  <a:pt x="22955" y="9571"/>
                  <a:pt x="22942" y="9770"/>
                  <a:pt x="22987" y="9970"/>
                </a:cubicBezTo>
                <a:cubicBezTo>
                  <a:pt x="23014" y="10089"/>
                  <a:pt x="23016" y="10159"/>
                  <a:pt x="23082" y="10255"/>
                </a:cubicBezTo>
                <a:cubicBezTo>
                  <a:pt x="23093" y="10266"/>
                  <a:pt x="23103" y="10276"/>
                  <a:pt x="23114" y="10287"/>
                </a:cubicBezTo>
                <a:cubicBezTo>
                  <a:pt x="23170" y="10245"/>
                  <a:pt x="23204" y="10244"/>
                  <a:pt x="23241" y="10160"/>
                </a:cubicBezTo>
                <a:cubicBezTo>
                  <a:pt x="23300" y="10024"/>
                  <a:pt x="23320" y="9800"/>
                  <a:pt x="23336" y="9652"/>
                </a:cubicBezTo>
                <a:cubicBezTo>
                  <a:pt x="23351" y="9514"/>
                  <a:pt x="23368" y="9100"/>
                  <a:pt x="23368" y="9239"/>
                </a:cubicBezTo>
                <a:cubicBezTo>
                  <a:pt x="23368" y="9281"/>
                  <a:pt x="23368" y="9302"/>
                  <a:pt x="23368" y="9334"/>
                </a:cubicBezTo>
                <a:cubicBezTo>
                  <a:pt x="23368" y="9561"/>
                  <a:pt x="23385" y="9778"/>
                  <a:pt x="23400" y="10001"/>
                </a:cubicBezTo>
                <a:cubicBezTo>
                  <a:pt x="23415" y="10223"/>
                  <a:pt x="23437" y="10448"/>
                  <a:pt x="23463" y="10668"/>
                </a:cubicBezTo>
                <a:cubicBezTo>
                  <a:pt x="23492" y="10914"/>
                  <a:pt x="23495" y="11150"/>
                  <a:pt x="23495" y="11398"/>
                </a:cubicBezTo>
                <a:cubicBezTo>
                  <a:pt x="23495" y="11489"/>
                  <a:pt x="23501" y="11778"/>
                  <a:pt x="23400" y="11843"/>
                </a:cubicBezTo>
                <a:cubicBezTo>
                  <a:pt x="23368" y="11843"/>
                  <a:pt x="23357" y="11843"/>
                  <a:pt x="23336" y="11843"/>
                </a:cubicBezTo>
                <a:cubicBezTo>
                  <a:pt x="23285" y="11726"/>
                  <a:pt x="23222" y="11598"/>
                  <a:pt x="23209" y="11462"/>
                </a:cubicBezTo>
                <a:cubicBezTo>
                  <a:pt x="23190" y="11270"/>
                  <a:pt x="23181" y="11011"/>
                  <a:pt x="23241" y="10827"/>
                </a:cubicBezTo>
                <a:cubicBezTo>
                  <a:pt x="23294" y="10662"/>
                  <a:pt x="23376" y="10530"/>
                  <a:pt x="23463" y="10382"/>
                </a:cubicBezTo>
                <a:cubicBezTo>
                  <a:pt x="23502" y="10317"/>
                  <a:pt x="23532" y="10301"/>
                  <a:pt x="23590" y="10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nk 8"/>
          <p:cNvSpPr/>
          <p:nvPr/>
        </p:nvSpPr>
        <p:spPr>
          <a:xfrm>
            <a:off x="4754520" y="4125960"/>
            <a:ext cx="2617920" cy="995400"/>
          </a:xfrm>
          <a:custGeom>
            <a:avLst/>
            <a:gdLst/>
            <a:ahLst/>
            <a:rect l="l" t="t" r="r" b="b"/>
            <a:pathLst>
              <a:path w="7272" h="2763">
                <a:moveTo>
                  <a:pt x="13589" y="12192"/>
                </a:moveTo>
                <a:cubicBezTo>
                  <a:pt x="13572" y="12237"/>
                  <a:pt x="13557" y="12322"/>
                  <a:pt x="13557" y="12414"/>
                </a:cubicBezTo>
                <a:cubicBezTo>
                  <a:pt x="13557" y="12548"/>
                  <a:pt x="13583" y="12664"/>
                  <a:pt x="13589" y="12795"/>
                </a:cubicBezTo>
                <a:cubicBezTo>
                  <a:pt x="13593" y="12885"/>
                  <a:pt x="13575" y="12948"/>
                  <a:pt x="13557" y="13018"/>
                </a:cubicBezTo>
                <a:cubicBezTo>
                  <a:pt x="13557" y="13028"/>
                  <a:pt x="13557" y="13039"/>
                  <a:pt x="13557" y="13049"/>
                </a:cubicBezTo>
                <a:cubicBezTo>
                  <a:pt x="13485" y="12959"/>
                  <a:pt x="13495" y="12873"/>
                  <a:pt x="13462" y="12764"/>
                </a:cubicBezTo>
                <a:cubicBezTo>
                  <a:pt x="13422" y="12628"/>
                  <a:pt x="13434" y="12485"/>
                  <a:pt x="13398" y="12351"/>
                </a:cubicBezTo>
                <a:cubicBezTo>
                  <a:pt x="13373" y="12256"/>
                  <a:pt x="13360" y="12239"/>
                  <a:pt x="13303" y="12192"/>
                </a:cubicBezTo>
                <a:cubicBezTo>
                  <a:pt x="13253" y="12278"/>
                  <a:pt x="13257" y="12376"/>
                  <a:pt x="13240" y="12478"/>
                </a:cubicBezTo>
                <a:cubicBezTo>
                  <a:pt x="13202" y="12712"/>
                  <a:pt x="13208" y="12938"/>
                  <a:pt x="13208" y="13176"/>
                </a:cubicBezTo>
                <a:cubicBezTo>
                  <a:pt x="13208" y="13422"/>
                  <a:pt x="13192" y="13665"/>
                  <a:pt x="13240" y="13906"/>
                </a:cubicBezTo>
                <a:cubicBezTo>
                  <a:pt x="13272" y="14064"/>
                  <a:pt x="13289" y="14128"/>
                  <a:pt x="13398" y="14192"/>
                </a:cubicBezTo>
                <a:cubicBezTo>
                  <a:pt x="13459" y="14228"/>
                  <a:pt x="13503" y="14236"/>
                  <a:pt x="13557" y="14160"/>
                </a:cubicBezTo>
                <a:cubicBezTo>
                  <a:pt x="13645" y="14037"/>
                  <a:pt x="13662" y="13915"/>
                  <a:pt x="13716" y="13780"/>
                </a:cubicBezTo>
                <a:cubicBezTo>
                  <a:pt x="13737" y="13737"/>
                  <a:pt x="13759" y="13695"/>
                  <a:pt x="13780" y="13652"/>
                </a:cubicBezTo>
              </a:path>
              <a:path w="7272" h="2763">
                <a:moveTo>
                  <a:pt x="13938" y="12573"/>
                </a:moveTo>
                <a:cubicBezTo>
                  <a:pt x="13890" y="12589"/>
                  <a:pt x="13892" y="12699"/>
                  <a:pt x="13875" y="12764"/>
                </a:cubicBezTo>
                <a:cubicBezTo>
                  <a:pt x="13827" y="12951"/>
                  <a:pt x="13861" y="13088"/>
                  <a:pt x="13875" y="13272"/>
                </a:cubicBezTo>
                <a:cubicBezTo>
                  <a:pt x="13886" y="13424"/>
                  <a:pt x="13895" y="13576"/>
                  <a:pt x="13970" y="13716"/>
                </a:cubicBezTo>
                <a:cubicBezTo>
                  <a:pt x="13992" y="13757"/>
                  <a:pt x="14028" y="13771"/>
                  <a:pt x="14065" y="13780"/>
                </a:cubicBezTo>
                <a:cubicBezTo>
                  <a:pt x="14156" y="13757"/>
                  <a:pt x="14139" y="13701"/>
                  <a:pt x="14160" y="13621"/>
                </a:cubicBezTo>
                <a:cubicBezTo>
                  <a:pt x="14211" y="13427"/>
                  <a:pt x="14175" y="13276"/>
                  <a:pt x="14160" y="13081"/>
                </a:cubicBezTo>
                <a:cubicBezTo>
                  <a:pt x="14147" y="12918"/>
                  <a:pt x="14126" y="12793"/>
                  <a:pt x="14097" y="12636"/>
                </a:cubicBezTo>
                <a:cubicBezTo>
                  <a:pt x="14089" y="12591"/>
                  <a:pt x="14071" y="12471"/>
                  <a:pt x="14034" y="12446"/>
                </a:cubicBezTo>
                <a:cubicBezTo>
                  <a:pt x="14023" y="12446"/>
                  <a:pt x="14013" y="12446"/>
                  <a:pt x="14002" y="12446"/>
                </a:cubicBezTo>
              </a:path>
              <a:path w="7272" h="2763">
                <a:moveTo>
                  <a:pt x="14510" y="13018"/>
                </a:moveTo>
                <a:cubicBezTo>
                  <a:pt x="14579" y="13018"/>
                  <a:pt x="14615" y="13002"/>
                  <a:pt x="14668" y="12954"/>
                </a:cubicBezTo>
                <a:cubicBezTo>
                  <a:pt x="14728" y="12900"/>
                  <a:pt x="14889" y="12783"/>
                  <a:pt x="14922" y="12732"/>
                </a:cubicBezTo>
                <a:cubicBezTo>
                  <a:pt x="14922" y="12721"/>
                  <a:pt x="14922" y="12711"/>
                  <a:pt x="14922" y="12700"/>
                </a:cubicBezTo>
                <a:cubicBezTo>
                  <a:pt x="14905" y="12648"/>
                  <a:pt x="14863" y="12642"/>
                  <a:pt x="14796" y="12636"/>
                </a:cubicBezTo>
                <a:cubicBezTo>
                  <a:pt x="14728" y="12630"/>
                  <a:pt x="14677" y="12605"/>
                  <a:pt x="14605" y="12605"/>
                </a:cubicBezTo>
                <a:cubicBezTo>
                  <a:pt x="14541" y="12605"/>
                  <a:pt x="14479" y="12598"/>
                  <a:pt x="14446" y="12668"/>
                </a:cubicBezTo>
                <a:cubicBezTo>
                  <a:pt x="14382" y="12803"/>
                  <a:pt x="14434" y="12915"/>
                  <a:pt x="14446" y="13049"/>
                </a:cubicBezTo>
                <a:cubicBezTo>
                  <a:pt x="14459" y="13190"/>
                  <a:pt x="14495" y="13399"/>
                  <a:pt x="14573" y="13526"/>
                </a:cubicBezTo>
                <a:cubicBezTo>
                  <a:pt x="14616" y="13596"/>
                  <a:pt x="14679" y="13678"/>
                  <a:pt x="14764" y="13684"/>
                </a:cubicBezTo>
                <a:cubicBezTo>
                  <a:pt x="14867" y="13691"/>
                  <a:pt x="14904" y="13605"/>
                  <a:pt x="14954" y="13526"/>
                </a:cubicBezTo>
              </a:path>
              <a:path w="7272" h="2763">
                <a:moveTo>
                  <a:pt x="15558" y="11716"/>
                </a:moveTo>
                <a:cubicBezTo>
                  <a:pt x="15481" y="11685"/>
                  <a:pt x="15468" y="11682"/>
                  <a:pt x="15399" y="11779"/>
                </a:cubicBezTo>
                <a:cubicBezTo>
                  <a:pt x="15323" y="11887"/>
                  <a:pt x="15282" y="12004"/>
                  <a:pt x="15240" y="12128"/>
                </a:cubicBezTo>
                <a:cubicBezTo>
                  <a:pt x="15192" y="12272"/>
                  <a:pt x="15176" y="12391"/>
                  <a:pt x="15176" y="12541"/>
                </a:cubicBezTo>
                <a:cubicBezTo>
                  <a:pt x="15176" y="12708"/>
                  <a:pt x="15198" y="12825"/>
                  <a:pt x="15240" y="12986"/>
                </a:cubicBezTo>
                <a:cubicBezTo>
                  <a:pt x="15284" y="13157"/>
                  <a:pt x="15302" y="13326"/>
                  <a:pt x="15335" y="13494"/>
                </a:cubicBezTo>
                <a:cubicBezTo>
                  <a:pt x="15352" y="13580"/>
                  <a:pt x="15377" y="13666"/>
                  <a:pt x="15399" y="13748"/>
                </a:cubicBezTo>
              </a:path>
              <a:path w="7272" h="2763">
                <a:moveTo>
                  <a:pt x="15176" y="13049"/>
                </a:moveTo>
                <a:cubicBezTo>
                  <a:pt x="15239" y="13034"/>
                  <a:pt x="15301" y="13016"/>
                  <a:pt x="15367" y="12986"/>
                </a:cubicBezTo>
                <a:cubicBezTo>
                  <a:pt x="15461" y="12943"/>
                  <a:pt x="15544" y="12863"/>
                  <a:pt x="15621" y="12795"/>
                </a:cubicBezTo>
              </a:path>
              <a:path w="7272" h="2763">
                <a:moveTo>
                  <a:pt x="16161" y="11938"/>
                </a:moveTo>
                <a:cubicBezTo>
                  <a:pt x="16185" y="11864"/>
                  <a:pt x="16223" y="11734"/>
                  <a:pt x="16192" y="11652"/>
                </a:cubicBezTo>
                <a:cubicBezTo>
                  <a:pt x="16161" y="11569"/>
                  <a:pt x="16113" y="11598"/>
                  <a:pt x="16066" y="11620"/>
                </a:cubicBezTo>
                <a:cubicBezTo>
                  <a:pt x="15962" y="11669"/>
                  <a:pt x="15909" y="11799"/>
                  <a:pt x="15875" y="11906"/>
                </a:cubicBezTo>
                <a:cubicBezTo>
                  <a:pt x="15823" y="12072"/>
                  <a:pt x="15785" y="12242"/>
                  <a:pt x="15780" y="12414"/>
                </a:cubicBezTo>
                <a:cubicBezTo>
                  <a:pt x="15775" y="12599"/>
                  <a:pt x="15778" y="12774"/>
                  <a:pt x="15812" y="12954"/>
                </a:cubicBezTo>
                <a:cubicBezTo>
                  <a:pt x="15847" y="13141"/>
                  <a:pt x="15885" y="13337"/>
                  <a:pt x="15907" y="13526"/>
                </a:cubicBezTo>
                <a:cubicBezTo>
                  <a:pt x="15919" y="13628"/>
                  <a:pt x="15914" y="13714"/>
                  <a:pt x="15938" y="13811"/>
                </a:cubicBezTo>
              </a:path>
              <a:path w="7272" h="2763">
                <a:moveTo>
                  <a:pt x="15716" y="13081"/>
                </a:moveTo>
                <a:cubicBezTo>
                  <a:pt x="15772" y="13048"/>
                  <a:pt x="15819" y="13050"/>
                  <a:pt x="15875" y="13018"/>
                </a:cubicBezTo>
                <a:cubicBezTo>
                  <a:pt x="15958" y="12971"/>
                  <a:pt x="16025" y="12922"/>
                  <a:pt x="16097" y="12859"/>
                </a:cubicBezTo>
              </a:path>
              <a:path w="7272" h="2763">
                <a:moveTo>
                  <a:pt x="16415" y="12446"/>
                </a:moveTo>
                <a:cubicBezTo>
                  <a:pt x="16434" y="12544"/>
                  <a:pt x="16446" y="12626"/>
                  <a:pt x="16446" y="12732"/>
                </a:cubicBezTo>
                <a:cubicBezTo>
                  <a:pt x="16446" y="13028"/>
                  <a:pt x="16446" y="13325"/>
                  <a:pt x="16446" y="13621"/>
                </a:cubicBezTo>
              </a:path>
              <a:path w="7272" h="2763">
                <a:moveTo>
                  <a:pt x="16954" y="12446"/>
                </a:moveTo>
                <a:cubicBezTo>
                  <a:pt x="16954" y="12414"/>
                  <a:pt x="16954" y="12383"/>
                  <a:pt x="16954" y="12351"/>
                </a:cubicBezTo>
                <a:cubicBezTo>
                  <a:pt x="16868" y="12372"/>
                  <a:pt x="16859" y="12424"/>
                  <a:pt x="16828" y="12510"/>
                </a:cubicBezTo>
                <a:cubicBezTo>
                  <a:pt x="16781" y="12642"/>
                  <a:pt x="16757" y="12754"/>
                  <a:pt x="16732" y="12890"/>
                </a:cubicBezTo>
                <a:cubicBezTo>
                  <a:pt x="16699" y="13071"/>
                  <a:pt x="16700" y="13248"/>
                  <a:pt x="16732" y="13430"/>
                </a:cubicBezTo>
                <a:cubicBezTo>
                  <a:pt x="16749" y="13526"/>
                  <a:pt x="16794" y="13620"/>
                  <a:pt x="16891" y="13652"/>
                </a:cubicBezTo>
                <a:cubicBezTo>
                  <a:pt x="16995" y="13686"/>
                  <a:pt x="17000" y="13618"/>
                  <a:pt x="17050" y="13557"/>
                </a:cubicBezTo>
                <a:cubicBezTo>
                  <a:pt x="17156" y="13428"/>
                  <a:pt x="17170" y="13309"/>
                  <a:pt x="17208" y="13144"/>
                </a:cubicBezTo>
              </a:path>
              <a:path w="7272" h="2763">
                <a:moveTo>
                  <a:pt x="17336" y="12128"/>
                </a:moveTo>
                <a:cubicBezTo>
                  <a:pt x="17336" y="12211"/>
                  <a:pt x="17380" y="12263"/>
                  <a:pt x="17367" y="12351"/>
                </a:cubicBezTo>
                <a:cubicBezTo>
                  <a:pt x="17341" y="12521"/>
                  <a:pt x="17336" y="12684"/>
                  <a:pt x="17336" y="12859"/>
                </a:cubicBezTo>
                <a:cubicBezTo>
                  <a:pt x="17336" y="13055"/>
                  <a:pt x="17361" y="13236"/>
                  <a:pt x="17367" y="13430"/>
                </a:cubicBezTo>
                <a:cubicBezTo>
                  <a:pt x="17370" y="13521"/>
                  <a:pt x="17357" y="13551"/>
                  <a:pt x="17399" y="13621"/>
                </a:cubicBezTo>
              </a:path>
              <a:path w="7272" h="2763">
                <a:moveTo>
                  <a:pt x="17653" y="12890"/>
                </a:moveTo>
                <a:cubicBezTo>
                  <a:pt x="17664" y="12880"/>
                  <a:pt x="17674" y="12869"/>
                  <a:pt x="17685" y="12859"/>
                </a:cubicBezTo>
              </a:path>
              <a:path w="7272" h="2763">
                <a:moveTo>
                  <a:pt x="17653" y="12890"/>
                </a:moveTo>
                <a:cubicBezTo>
                  <a:pt x="17674" y="12848"/>
                  <a:pt x="17695" y="12806"/>
                  <a:pt x="17716" y="12764"/>
                </a:cubicBezTo>
              </a:path>
              <a:path w="7272" h="2763">
                <a:moveTo>
                  <a:pt x="17716" y="12764"/>
                </a:moveTo>
                <a:cubicBezTo>
                  <a:pt x="17793" y="12745"/>
                  <a:pt x="17752" y="12698"/>
                  <a:pt x="17812" y="12668"/>
                </a:cubicBezTo>
                <a:cubicBezTo>
                  <a:pt x="17905" y="12622"/>
                  <a:pt x="17906" y="12626"/>
                  <a:pt x="17970" y="12541"/>
                </a:cubicBezTo>
                <a:cubicBezTo>
                  <a:pt x="18012" y="12485"/>
                  <a:pt x="18075" y="12420"/>
                  <a:pt x="18098" y="12351"/>
                </a:cubicBezTo>
                <a:cubicBezTo>
                  <a:pt x="18122" y="12279"/>
                  <a:pt x="18142" y="12252"/>
                  <a:pt x="18098" y="12192"/>
                </a:cubicBezTo>
                <a:cubicBezTo>
                  <a:pt x="18060" y="12163"/>
                  <a:pt x="17979" y="12155"/>
                  <a:pt x="17939" y="12192"/>
                </a:cubicBezTo>
                <a:cubicBezTo>
                  <a:pt x="17853" y="12272"/>
                  <a:pt x="17817" y="12400"/>
                  <a:pt x="17780" y="12510"/>
                </a:cubicBezTo>
                <a:cubicBezTo>
                  <a:pt x="17728" y="12664"/>
                  <a:pt x="17716" y="12792"/>
                  <a:pt x="17716" y="12954"/>
                </a:cubicBezTo>
                <a:cubicBezTo>
                  <a:pt x="17716" y="13086"/>
                  <a:pt x="17729" y="13254"/>
                  <a:pt x="17812" y="13367"/>
                </a:cubicBezTo>
                <a:cubicBezTo>
                  <a:pt x="17868" y="13443"/>
                  <a:pt x="17953" y="13488"/>
                  <a:pt x="18034" y="13430"/>
                </a:cubicBezTo>
                <a:cubicBezTo>
                  <a:pt x="18157" y="13341"/>
                  <a:pt x="18167" y="13242"/>
                  <a:pt x="18224" y="13113"/>
                </a:cubicBezTo>
                <a:cubicBezTo>
                  <a:pt x="18281" y="12983"/>
                  <a:pt x="18317" y="12871"/>
                  <a:pt x="18352" y="12732"/>
                </a:cubicBezTo>
              </a:path>
              <a:path w="7272" h="2763">
                <a:moveTo>
                  <a:pt x="18415" y="12224"/>
                </a:moveTo>
                <a:cubicBezTo>
                  <a:pt x="18430" y="12344"/>
                  <a:pt x="18447" y="12445"/>
                  <a:pt x="18447" y="12573"/>
                </a:cubicBezTo>
                <a:cubicBezTo>
                  <a:pt x="18447" y="12747"/>
                  <a:pt x="18462" y="12911"/>
                  <a:pt x="18478" y="13081"/>
                </a:cubicBezTo>
                <a:cubicBezTo>
                  <a:pt x="18490" y="13213"/>
                  <a:pt x="18498" y="13334"/>
                  <a:pt x="18510" y="13462"/>
                </a:cubicBezTo>
                <a:cubicBezTo>
                  <a:pt x="18510" y="13494"/>
                  <a:pt x="18510" y="13505"/>
                  <a:pt x="18510" y="13462"/>
                </a:cubicBezTo>
                <a:cubicBezTo>
                  <a:pt x="18510" y="13308"/>
                  <a:pt x="18531" y="13169"/>
                  <a:pt x="18542" y="13018"/>
                </a:cubicBezTo>
                <a:cubicBezTo>
                  <a:pt x="18557" y="12801"/>
                  <a:pt x="18589" y="12596"/>
                  <a:pt x="18637" y="12382"/>
                </a:cubicBezTo>
                <a:cubicBezTo>
                  <a:pt x="18667" y="12249"/>
                  <a:pt x="18685" y="12187"/>
                  <a:pt x="18796" y="12128"/>
                </a:cubicBezTo>
                <a:cubicBezTo>
                  <a:pt x="18807" y="12128"/>
                  <a:pt x="18817" y="12128"/>
                  <a:pt x="18828" y="12128"/>
                </a:cubicBezTo>
                <a:cubicBezTo>
                  <a:pt x="18878" y="12229"/>
                  <a:pt x="18912" y="12334"/>
                  <a:pt x="18923" y="12446"/>
                </a:cubicBezTo>
                <a:cubicBezTo>
                  <a:pt x="18940" y="12626"/>
                  <a:pt x="18972" y="12805"/>
                  <a:pt x="18986" y="12986"/>
                </a:cubicBezTo>
                <a:cubicBezTo>
                  <a:pt x="18999" y="13162"/>
                  <a:pt x="19002" y="13354"/>
                  <a:pt x="19050" y="13526"/>
                </a:cubicBezTo>
                <a:cubicBezTo>
                  <a:pt x="19073" y="13609"/>
                  <a:pt x="19101" y="13689"/>
                  <a:pt x="19177" y="13716"/>
                </a:cubicBezTo>
                <a:cubicBezTo>
                  <a:pt x="19209" y="13716"/>
                  <a:pt x="19219" y="13716"/>
                  <a:pt x="19240" y="13716"/>
                </a:cubicBezTo>
                <a:cubicBezTo>
                  <a:pt x="19308" y="13580"/>
                  <a:pt x="19338" y="13453"/>
                  <a:pt x="19368" y="13303"/>
                </a:cubicBezTo>
                <a:cubicBezTo>
                  <a:pt x="19378" y="13250"/>
                  <a:pt x="19389" y="13197"/>
                  <a:pt x="19399" y="13144"/>
                </a:cubicBezTo>
              </a:path>
              <a:path w="7272" h="2763">
                <a:moveTo>
                  <a:pt x="19558" y="11748"/>
                </a:moveTo>
                <a:cubicBezTo>
                  <a:pt x="19537" y="11685"/>
                  <a:pt x="19516" y="11496"/>
                  <a:pt x="19463" y="11462"/>
                </a:cubicBezTo>
                <a:cubicBezTo>
                  <a:pt x="19452" y="11462"/>
                  <a:pt x="19442" y="11462"/>
                  <a:pt x="19431" y="11462"/>
                </a:cubicBezTo>
                <a:cubicBezTo>
                  <a:pt x="19431" y="11667"/>
                  <a:pt x="19449" y="11863"/>
                  <a:pt x="19463" y="12065"/>
                </a:cubicBezTo>
                <a:cubicBezTo>
                  <a:pt x="19479" y="12303"/>
                  <a:pt x="19512" y="12529"/>
                  <a:pt x="19558" y="12764"/>
                </a:cubicBezTo>
                <a:cubicBezTo>
                  <a:pt x="19592" y="12936"/>
                  <a:pt x="19635" y="13130"/>
                  <a:pt x="19653" y="13303"/>
                </a:cubicBezTo>
                <a:cubicBezTo>
                  <a:pt x="19668" y="13450"/>
                  <a:pt x="19656" y="13483"/>
                  <a:pt x="19717" y="13557"/>
                </a:cubicBezTo>
                <a:cubicBezTo>
                  <a:pt x="19709" y="13450"/>
                  <a:pt x="19693" y="13347"/>
                  <a:pt x="19685" y="13240"/>
                </a:cubicBezTo>
              </a:path>
              <a:path w="7272" h="2763">
                <a:moveTo>
                  <a:pt x="19336" y="12510"/>
                </a:moveTo>
                <a:cubicBezTo>
                  <a:pt x="19433" y="12510"/>
                  <a:pt x="19501" y="12493"/>
                  <a:pt x="19590" y="12478"/>
                </a:cubicBezTo>
                <a:cubicBezTo>
                  <a:pt x="19696" y="12460"/>
                  <a:pt x="19809" y="12435"/>
                  <a:pt x="19907" y="12382"/>
                </a:cubicBezTo>
                <a:cubicBezTo>
                  <a:pt x="19939" y="12361"/>
                  <a:pt x="19970" y="12340"/>
                  <a:pt x="20002" y="12319"/>
                </a:cubicBezTo>
              </a:path>
              <a:path w="7272" h="2763">
                <a:moveTo>
                  <a:pt x="20288" y="11779"/>
                </a:moveTo>
                <a:cubicBezTo>
                  <a:pt x="20199" y="11779"/>
                  <a:pt x="20205" y="11773"/>
                  <a:pt x="20130" y="11843"/>
                </a:cubicBezTo>
                <a:cubicBezTo>
                  <a:pt x="20037" y="11930"/>
                  <a:pt x="19966" y="12014"/>
                  <a:pt x="19907" y="12128"/>
                </a:cubicBezTo>
                <a:cubicBezTo>
                  <a:pt x="19881" y="12178"/>
                  <a:pt x="19856" y="12208"/>
                  <a:pt x="19844" y="12256"/>
                </a:cubicBezTo>
                <a:cubicBezTo>
                  <a:pt x="19908" y="12293"/>
                  <a:pt x="19956" y="12287"/>
                  <a:pt x="20034" y="12287"/>
                </a:cubicBezTo>
                <a:cubicBezTo>
                  <a:pt x="20130" y="12287"/>
                  <a:pt x="20200" y="12304"/>
                  <a:pt x="20288" y="12319"/>
                </a:cubicBezTo>
                <a:cubicBezTo>
                  <a:pt x="20364" y="12332"/>
                  <a:pt x="20460" y="12351"/>
                  <a:pt x="20479" y="12446"/>
                </a:cubicBezTo>
                <a:cubicBezTo>
                  <a:pt x="20495" y="12527"/>
                  <a:pt x="20491" y="12693"/>
                  <a:pt x="20447" y="12764"/>
                </a:cubicBezTo>
                <a:cubicBezTo>
                  <a:pt x="20388" y="12860"/>
                  <a:pt x="20285" y="12955"/>
                  <a:pt x="20193" y="13018"/>
                </a:cubicBezTo>
                <a:cubicBezTo>
                  <a:pt x="20096" y="13084"/>
                  <a:pt x="20042" y="13088"/>
                  <a:pt x="19939" y="13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nk 9"/>
          <p:cNvSpPr/>
          <p:nvPr/>
        </p:nvSpPr>
        <p:spPr>
          <a:xfrm>
            <a:off x="4743360" y="5086440"/>
            <a:ext cx="2171880" cy="137880"/>
          </a:xfrm>
          <a:custGeom>
            <a:avLst/>
            <a:gdLst/>
            <a:ahLst/>
            <a:rect l="l" t="t" r="r" b="b"/>
            <a:pathLst>
              <a:path w="6034" h="382">
                <a:moveTo>
                  <a:pt x="13176" y="14510"/>
                </a:moveTo>
                <a:cubicBezTo>
                  <a:pt x="13246" y="14472"/>
                  <a:pt x="13315" y="14423"/>
                  <a:pt x="13398" y="14414"/>
                </a:cubicBezTo>
                <a:cubicBezTo>
                  <a:pt x="13625" y="14389"/>
                  <a:pt x="13870" y="14398"/>
                  <a:pt x="14097" y="14383"/>
                </a:cubicBezTo>
                <a:cubicBezTo>
                  <a:pt x="14352" y="14366"/>
                  <a:pt x="14576" y="14299"/>
                  <a:pt x="14827" y="14256"/>
                </a:cubicBezTo>
                <a:cubicBezTo>
                  <a:pt x="15121" y="14206"/>
                  <a:pt x="15419" y="14224"/>
                  <a:pt x="15716" y="14224"/>
                </a:cubicBezTo>
                <a:cubicBezTo>
                  <a:pt x="16045" y="14224"/>
                  <a:pt x="16370" y="14192"/>
                  <a:pt x="16700" y="14192"/>
                </a:cubicBezTo>
                <a:cubicBezTo>
                  <a:pt x="17031" y="14192"/>
                  <a:pt x="17356" y="14174"/>
                  <a:pt x="17685" y="14160"/>
                </a:cubicBezTo>
                <a:cubicBezTo>
                  <a:pt x="17993" y="14147"/>
                  <a:pt x="18297" y="14129"/>
                  <a:pt x="18606" y="14129"/>
                </a:cubicBezTo>
                <a:cubicBezTo>
                  <a:pt x="18817" y="14129"/>
                  <a:pt x="19002" y="14158"/>
                  <a:pt x="19209" y="14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8.  I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then what does x equ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2438280" y="457200"/>
                <a:ext cx="28958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·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8" name="Ink 5"/>
          <p:cNvSpPr/>
          <p:nvPr/>
        </p:nvSpPr>
        <p:spPr>
          <a:xfrm>
            <a:off x="2239920" y="2274840"/>
            <a:ext cx="3017880" cy="720720"/>
          </a:xfrm>
          <a:custGeom>
            <a:avLst/>
            <a:gdLst/>
            <a:ahLst/>
            <a:rect l="l" t="t" r="r" b="b"/>
            <a:pathLst>
              <a:path w="8383" h="2001">
                <a:moveTo>
                  <a:pt x="6414" y="6636"/>
                </a:moveTo>
                <a:cubicBezTo>
                  <a:pt x="6446" y="6679"/>
                  <a:pt x="6487" y="6744"/>
                  <a:pt x="6509" y="6794"/>
                </a:cubicBezTo>
                <a:cubicBezTo>
                  <a:pt x="6557" y="6903"/>
                  <a:pt x="6619" y="7005"/>
                  <a:pt x="6668" y="7112"/>
                </a:cubicBezTo>
                <a:cubicBezTo>
                  <a:pt x="6728" y="7243"/>
                  <a:pt x="6788" y="7366"/>
                  <a:pt x="6858" y="7493"/>
                </a:cubicBezTo>
                <a:cubicBezTo>
                  <a:pt x="6911" y="7589"/>
                  <a:pt x="6968" y="7681"/>
                  <a:pt x="7017" y="7779"/>
                </a:cubicBezTo>
                <a:cubicBezTo>
                  <a:pt x="7024" y="7793"/>
                  <a:pt x="7091" y="7934"/>
                  <a:pt x="7112" y="7906"/>
                </a:cubicBezTo>
                <a:cubicBezTo>
                  <a:pt x="7112" y="7895"/>
                  <a:pt x="7112" y="7885"/>
                  <a:pt x="7112" y="7874"/>
                </a:cubicBezTo>
              </a:path>
              <a:path w="8383" h="2001">
                <a:moveTo>
                  <a:pt x="7207" y="6699"/>
                </a:moveTo>
                <a:cubicBezTo>
                  <a:pt x="7174" y="6792"/>
                  <a:pt x="7129" y="6863"/>
                  <a:pt x="7080" y="6953"/>
                </a:cubicBezTo>
                <a:cubicBezTo>
                  <a:pt x="6981" y="7134"/>
                  <a:pt x="6870" y="7319"/>
                  <a:pt x="6763" y="7493"/>
                </a:cubicBezTo>
                <a:cubicBezTo>
                  <a:pt x="6651" y="7675"/>
                  <a:pt x="6531" y="7853"/>
                  <a:pt x="6414" y="8033"/>
                </a:cubicBezTo>
                <a:cubicBezTo>
                  <a:pt x="6352" y="8129"/>
                  <a:pt x="6286" y="8223"/>
                  <a:pt x="6223" y="8318"/>
                </a:cubicBezTo>
              </a:path>
              <a:path w="8383" h="2001">
                <a:moveTo>
                  <a:pt x="8192" y="6763"/>
                </a:moveTo>
                <a:cubicBezTo>
                  <a:pt x="8152" y="6868"/>
                  <a:pt x="8152" y="6971"/>
                  <a:pt x="8128" y="7080"/>
                </a:cubicBezTo>
                <a:cubicBezTo>
                  <a:pt x="8097" y="7219"/>
                  <a:pt x="8052" y="7353"/>
                  <a:pt x="8033" y="7493"/>
                </a:cubicBezTo>
                <a:cubicBezTo>
                  <a:pt x="8021" y="7585"/>
                  <a:pt x="7992" y="7669"/>
                  <a:pt x="7969" y="7747"/>
                </a:cubicBezTo>
                <a:cubicBezTo>
                  <a:pt x="7969" y="7758"/>
                  <a:pt x="7969" y="7768"/>
                  <a:pt x="7969" y="7779"/>
                </a:cubicBezTo>
              </a:path>
              <a:path w="8383" h="2001">
                <a:moveTo>
                  <a:pt x="7620" y="7239"/>
                </a:moveTo>
                <a:cubicBezTo>
                  <a:pt x="7701" y="7239"/>
                  <a:pt x="7758" y="7267"/>
                  <a:pt x="7842" y="7271"/>
                </a:cubicBezTo>
                <a:cubicBezTo>
                  <a:pt x="7970" y="7277"/>
                  <a:pt x="8090" y="7302"/>
                  <a:pt x="8223" y="7302"/>
                </a:cubicBezTo>
                <a:cubicBezTo>
                  <a:pt x="8308" y="7302"/>
                  <a:pt x="8392" y="7302"/>
                  <a:pt x="8477" y="7302"/>
                </a:cubicBezTo>
              </a:path>
              <a:path w="8383" h="2001">
                <a:moveTo>
                  <a:pt x="8985" y="6540"/>
                </a:moveTo>
                <a:cubicBezTo>
                  <a:pt x="8985" y="6606"/>
                  <a:pt x="9009" y="6638"/>
                  <a:pt x="9017" y="6699"/>
                </a:cubicBezTo>
                <a:cubicBezTo>
                  <a:pt x="9036" y="6834"/>
                  <a:pt x="9068" y="6948"/>
                  <a:pt x="9112" y="7080"/>
                </a:cubicBezTo>
                <a:cubicBezTo>
                  <a:pt x="9156" y="7213"/>
                  <a:pt x="9228" y="7343"/>
                  <a:pt x="9303" y="7461"/>
                </a:cubicBezTo>
                <a:cubicBezTo>
                  <a:pt x="9376" y="7577"/>
                  <a:pt x="9423" y="7698"/>
                  <a:pt x="9493" y="7810"/>
                </a:cubicBezTo>
                <a:cubicBezTo>
                  <a:pt x="9520" y="7854"/>
                  <a:pt x="9556" y="7897"/>
                  <a:pt x="9588" y="7938"/>
                </a:cubicBezTo>
              </a:path>
              <a:path w="8383" h="2001">
                <a:moveTo>
                  <a:pt x="9652" y="6731"/>
                </a:moveTo>
                <a:cubicBezTo>
                  <a:pt x="9612" y="6797"/>
                  <a:pt x="9563" y="6880"/>
                  <a:pt x="9525" y="6953"/>
                </a:cubicBezTo>
                <a:cubicBezTo>
                  <a:pt x="9453" y="7091"/>
                  <a:pt x="9389" y="7232"/>
                  <a:pt x="9303" y="7366"/>
                </a:cubicBezTo>
                <a:cubicBezTo>
                  <a:pt x="9221" y="7493"/>
                  <a:pt x="9152" y="7618"/>
                  <a:pt x="9080" y="7747"/>
                </a:cubicBezTo>
                <a:cubicBezTo>
                  <a:pt x="9023" y="7850"/>
                  <a:pt x="8960" y="7918"/>
                  <a:pt x="8890" y="8001"/>
                </a:cubicBezTo>
                <a:cubicBezTo>
                  <a:pt x="8879" y="8012"/>
                  <a:pt x="8869" y="8022"/>
                  <a:pt x="8858" y="8033"/>
                </a:cubicBezTo>
              </a:path>
              <a:path w="8383" h="2001">
                <a:moveTo>
                  <a:pt x="10160" y="6890"/>
                </a:moveTo>
                <a:cubicBezTo>
                  <a:pt x="10134" y="6983"/>
                  <a:pt x="10111" y="7085"/>
                  <a:pt x="10096" y="7176"/>
                </a:cubicBezTo>
                <a:cubicBezTo>
                  <a:pt x="10082" y="7259"/>
                  <a:pt x="10069" y="7348"/>
                  <a:pt x="10065" y="7430"/>
                </a:cubicBezTo>
                <a:cubicBezTo>
                  <a:pt x="10061" y="7501"/>
                  <a:pt x="10033" y="7549"/>
                  <a:pt x="10033" y="7620"/>
                </a:cubicBezTo>
                <a:cubicBezTo>
                  <a:pt x="10033" y="7652"/>
                  <a:pt x="10033" y="7663"/>
                  <a:pt x="10033" y="7684"/>
                </a:cubicBezTo>
              </a:path>
              <a:path w="8383" h="2001">
                <a:moveTo>
                  <a:pt x="9842" y="7302"/>
                </a:moveTo>
                <a:cubicBezTo>
                  <a:pt x="9883" y="7333"/>
                  <a:pt x="9957" y="7357"/>
                  <a:pt x="10001" y="7366"/>
                </a:cubicBezTo>
                <a:cubicBezTo>
                  <a:pt x="10132" y="7392"/>
                  <a:pt x="10326" y="7379"/>
                  <a:pt x="10446" y="7334"/>
                </a:cubicBezTo>
              </a:path>
              <a:path w="8383" h="2001">
                <a:moveTo>
                  <a:pt x="10732" y="6477"/>
                </a:moveTo>
                <a:cubicBezTo>
                  <a:pt x="10763" y="6496"/>
                  <a:pt x="10759" y="6505"/>
                  <a:pt x="10827" y="6509"/>
                </a:cubicBezTo>
                <a:cubicBezTo>
                  <a:pt x="10938" y="6516"/>
                  <a:pt x="11040" y="6524"/>
                  <a:pt x="11144" y="6540"/>
                </a:cubicBezTo>
                <a:cubicBezTo>
                  <a:pt x="11265" y="6559"/>
                  <a:pt x="11391" y="6510"/>
                  <a:pt x="11494" y="6572"/>
                </a:cubicBezTo>
                <a:cubicBezTo>
                  <a:pt x="11450" y="6616"/>
                  <a:pt x="11415" y="6639"/>
                  <a:pt x="11366" y="6668"/>
                </a:cubicBezTo>
                <a:cubicBezTo>
                  <a:pt x="11290" y="6713"/>
                  <a:pt x="11240" y="6762"/>
                  <a:pt x="11176" y="6826"/>
                </a:cubicBezTo>
                <a:cubicBezTo>
                  <a:pt x="11137" y="6865"/>
                  <a:pt x="11096" y="6903"/>
                  <a:pt x="11049" y="6922"/>
                </a:cubicBezTo>
                <a:cubicBezTo>
                  <a:pt x="11038" y="6922"/>
                  <a:pt x="11028" y="6922"/>
                  <a:pt x="11017" y="6922"/>
                </a:cubicBezTo>
                <a:cubicBezTo>
                  <a:pt x="11073" y="6903"/>
                  <a:pt x="11106" y="6878"/>
                  <a:pt x="11176" y="6890"/>
                </a:cubicBezTo>
                <a:cubicBezTo>
                  <a:pt x="11230" y="6899"/>
                  <a:pt x="11319" y="6919"/>
                  <a:pt x="11366" y="6953"/>
                </a:cubicBezTo>
                <a:cubicBezTo>
                  <a:pt x="11437" y="7006"/>
                  <a:pt x="11522" y="7096"/>
                  <a:pt x="11557" y="7176"/>
                </a:cubicBezTo>
                <a:cubicBezTo>
                  <a:pt x="11599" y="7273"/>
                  <a:pt x="11639" y="7393"/>
                  <a:pt x="11652" y="7493"/>
                </a:cubicBezTo>
                <a:cubicBezTo>
                  <a:pt x="11664" y="7589"/>
                  <a:pt x="11612" y="7700"/>
                  <a:pt x="11557" y="7779"/>
                </a:cubicBezTo>
                <a:cubicBezTo>
                  <a:pt x="11499" y="7862"/>
                  <a:pt x="11432" y="7901"/>
                  <a:pt x="11335" y="7906"/>
                </a:cubicBezTo>
                <a:cubicBezTo>
                  <a:pt x="11234" y="7912"/>
                  <a:pt x="11111" y="7901"/>
                  <a:pt x="11017" y="7874"/>
                </a:cubicBezTo>
                <a:cubicBezTo>
                  <a:pt x="10936" y="7851"/>
                  <a:pt x="10884" y="7772"/>
                  <a:pt x="10827" y="7715"/>
                </a:cubicBezTo>
                <a:cubicBezTo>
                  <a:pt x="10768" y="7656"/>
                  <a:pt x="10809" y="7639"/>
                  <a:pt x="10858" y="7588"/>
                </a:cubicBezTo>
              </a:path>
              <a:path w="8383" h="2001">
                <a:moveTo>
                  <a:pt x="12128" y="6953"/>
                </a:moveTo>
                <a:cubicBezTo>
                  <a:pt x="12178" y="6966"/>
                  <a:pt x="12233" y="6969"/>
                  <a:pt x="12287" y="6985"/>
                </a:cubicBezTo>
                <a:cubicBezTo>
                  <a:pt x="12385" y="7014"/>
                  <a:pt x="12501" y="7036"/>
                  <a:pt x="12605" y="7048"/>
                </a:cubicBezTo>
                <a:cubicBezTo>
                  <a:pt x="12666" y="7055"/>
                  <a:pt x="12733" y="7048"/>
                  <a:pt x="12795" y="7048"/>
                </a:cubicBezTo>
              </a:path>
              <a:path w="8383" h="2001">
                <a:moveTo>
                  <a:pt x="12160" y="7461"/>
                </a:moveTo>
                <a:cubicBezTo>
                  <a:pt x="12213" y="7493"/>
                  <a:pt x="12316" y="7516"/>
                  <a:pt x="12382" y="7525"/>
                </a:cubicBezTo>
                <a:cubicBezTo>
                  <a:pt x="12479" y="7538"/>
                  <a:pt x="12544" y="7526"/>
                  <a:pt x="12636" y="7556"/>
                </a:cubicBezTo>
              </a:path>
              <a:path w="8383" h="2001">
                <a:moveTo>
                  <a:pt x="13526" y="6318"/>
                </a:moveTo>
                <a:cubicBezTo>
                  <a:pt x="13517" y="6417"/>
                  <a:pt x="13491" y="6474"/>
                  <a:pt x="13462" y="6572"/>
                </a:cubicBezTo>
                <a:cubicBezTo>
                  <a:pt x="13406" y="6764"/>
                  <a:pt x="13402" y="6949"/>
                  <a:pt x="13367" y="7144"/>
                </a:cubicBezTo>
                <a:cubicBezTo>
                  <a:pt x="13332" y="7344"/>
                  <a:pt x="13258" y="7544"/>
                  <a:pt x="13240" y="7747"/>
                </a:cubicBezTo>
                <a:cubicBezTo>
                  <a:pt x="13227" y="7896"/>
                  <a:pt x="13206" y="8019"/>
                  <a:pt x="13176" y="8160"/>
                </a:cubicBezTo>
                <a:cubicBezTo>
                  <a:pt x="13176" y="8171"/>
                  <a:pt x="13176" y="8181"/>
                  <a:pt x="13176" y="8192"/>
                </a:cubicBezTo>
              </a:path>
              <a:path w="8383" h="2001">
                <a:moveTo>
                  <a:pt x="13684" y="6509"/>
                </a:moveTo>
                <a:cubicBezTo>
                  <a:pt x="13736" y="6516"/>
                  <a:pt x="13763" y="6532"/>
                  <a:pt x="13811" y="6540"/>
                </a:cubicBezTo>
                <a:cubicBezTo>
                  <a:pt x="13960" y="6564"/>
                  <a:pt x="14113" y="6525"/>
                  <a:pt x="14256" y="6509"/>
                </a:cubicBezTo>
                <a:cubicBezTo>
                  <a:pt x="14382" y="6495"/>
                  <a:pt x="14609" y="6387"/>
                  <a:pt x="14573" y="6509"/>
                </a:cubicBezTo>
                <a:cubicBezTo>
                  <a:pt x="14551" y="6585"/>
                  <a:pt x="14483" y="6629"/>
                  <a:pt x="14446" y="6699"/>
                </a:cubicBezTo>
                <a:cubicBezTo>
                  <a:pt x="14376" y="6832"/>
                  <a:pt x="14326" y="6965"/>
                  <a:pt x="14288" y="7112"/>
                </a:cubicBezTo>
                <a:cubicBezTo>
                  <a:pt x="14236" y="7314"/>
                  <a:pt x="14180" y="7508"/>
                  <a:pt x="14160" y="7715"/>
                </a:cubicBezTo>
                <a:cubicBezTo>
                  <a:pt x="14147" y="7843"/>
                  <a:pt x="14164" y="7974"/>
                  <a:pt x="14129" y="8096"/>
                </a:cubicBezTo>
                <a:cubicBezTo>
                  <a:pt x="14103" y="8148"/>
                  <a:pt x="14092" y="8156"/>
                  <a:pt x="14097" y="8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nk 6"/>
          <p:cNvSpPr/>
          <p:nvPr/>
        </p:nvSpPr>
        <p:spPr>
          <a:xfrm>
            <a:off x="2239920" y="2936880"/>
            <a:ext cx="2400480" cy="1144440"/>
          </a:xfrm>
          <a:custGeom>
            <a:avLst/>
            <a:gdLst/>
            <a:ahLst/>
            <a:rect l="l" t="t" r="r" b="b"/>
            <a:pathLst>
              <a:path w="6668" h="3176">
                <a:moveTo>
                  <a:pt x="6223" y="8255"/>
                </a:moveTo>
                <a:cubicBezTo>
                  <a:pt x="6306" y="8255"/>
                  <a:pt x="6368" y="8236"/>
                  <a:pt x="6445" y="8223"/>
                </a:cubicBezTo>
                <a:cubicBezTo>
                  <a:pt x="6545" y="8206"/>
                  <a:pt x="6664" y="8203"/>
                  <a:pt x="6763" y="8192"/>
                </a:cubicBezTo>
                <a:cubicBezTo>
                  <a:pt x="6969" y="8170"/>
                  <a:pt x="7190" y="8192"/>
                  <a:pt x="7398" y="8192"/>
                </a:cubicBezTo>
              </a:path>
              <a:path w="6668" h="3176">
                <a:moveTo>
                  <a:pt x="8763" y="8192"/>
                </a:moveTo>
                <a:cubicBezTo>
                  <a:pt x="8829" y="8142"/>
                  <a:pt x="8899" y="8160"/>
                  <a:pt x="8985" y="8160"/>
                </a:cubicBezTo>
                <a:cubicBezTo>
                  <a:pt x="9144" y="8160"/>
                  <a:pt x="9303" y="8160"/>
                  <a:pt x="9462" y="8160"/>
                </a:cubicBezTo>
              </a:path>
              <a:path w="6668" h="3176">
                <a:moveTo>
                  <a:pt x="7112" y="9080"/>
                </a:moveTo>
                <a:cubicBezTo>
                  <a:pt x="7126" y="9060"/>
                  <a:pt x="7164" y="8979"/>
                  <a:pt x="7207" y="8985"/>
                </a:cubicBezTo>
                <a:cubicBezTo>
                  <a:pt x="7309" y="9000"/>
                  <a:pt x="7331" y="9107"/>
                  <a:pt x="7334" y="9176"/>
                </a:cubicBezTo>
                <a:cubicBezTo>
                  <a:pt x="7340" y="9308"/>
                  <a:pt x="7310" y="9399"/>
                  <a:pt x="7271" y="9525"/>
                </a:cubicBezTo>
                <a:cubicBezTo>
                  <a:pt x="7229" y="9659"/>
                  <a:pt x="7138" y="9769"/>
                  <a:pt x="7048" y="9874"/>
                </a:cubicBezTo>
                <a:cubicBezTo>
                  <a:pt x="6941" y="9999"/>
                  <a:pt x="6801" y="10147"/>
                  <a:pt x="6668" y="10224"/>
                </a:cubicBezTo>
                <a:cubicBezTo>
                  <a:pt x="6708" y="10168"/>
                  <a:pt x="6726" y="10149"/>
                  <a:pt x="6794" y="10128"/>
                </a:cubicBezTo>
                <a:cubicBezTo>
                  <a:pt x="6872" y="10104"/>
                  <a:pt x="6877" y="10105"/>
                  <a:pt x="6953" y="10128"/>
                </a:cubicBezTo>
                <a:cubicBezTo>
                  <a:pt x="7033" y="10152"/>
                  <a:pt x="7041" y="10146"/>
                  <a:pt x="7112" y="10192"/>
                </a:cubicBezTo>
                <a:cubicBezTo>
                  <a:pt x="7162" y="10224"/>
                  <a:pt x="7229" y="10226"/>
                  <a:pt x="7271" y="10255"/>
                </a:cubicBezTo>
                <a:cubicBezTo>
                  <a:pt x="7301" y="10275"/>
                  <a:pt x="7354" y="10312"/>
                  <a:pt x="7398" y="10287"/>
                </a:cubicBezTo>
                <a:cubicBezTo>
                  <a:pt x="7431" y="10269"/>
                  <a:pt x="7466" y="10219"/>
                  <a:pt x="7493" y="10192"/>
                </a:cubicBezTo>
              </a:path>
              <a:path w="6668" h="3176">
                <a:moveTo>
                  <a:pt x="7684" y="9366"/>
                </a:moveTo>
                <a:cubicBezTo>
                  <a:pt x="7735" y="9443"/>
                  <a:pt x="7767" y="9534"/>
                  <a:pt x="7810" y="9620"/>
                </a:cubicBezTo>
                <a:cubicBezTo>
                  <a:pt x="7881" y="9762"/>
                  <a:pt x="7966" y="9890"/>
                  <a:pt x="8033" y="10033"/>
                </a:cubicBezTo>
                <a:cubicBezTo>
                  <a:pt x="8086" y="10146"/>
                  <a:pt x="8145" y="10246"/>
                  <a:pt x="8192" y="10350"/>
                </a:cubicBezTo>
                <a:cubicBezTo>
                  <a:pt x="8202" y="10361"/>
                  <a:pt x="8213" y="10371"/>
                  <a:pt x="8223" y="10382"/>
                </a:cubicBezTo>
              </a:path>
              <a:path w="6668" h="3176">
                <a:moveTo>
                  <a:pt x="8223" y="9366"/>
                </a:moveTo>
                <a:cubicBezTo>
                  <a:pt x="8169" y="9517"/>
                  <a:pt x="8093" y="9615"/>
                  <a:pt x="8001" y="9747"/>
                </a:cubicBezTo>
                <a:cubicBezTo>
                  <a:pt x="7870" y="9934"/>
                  <a:pt x="7727" y="10109"/>
                  <a:pt x="7588" y="10287"/>
                </a:cubicBezTo>
                <a:cubicBezTo>
                  <a:pt x="7520" y="10390"/>
                  <a:pt x="7495" y="10430"/>
                  <a:pt x="7461" y="10509"/>
                </a:cubicBezTo>
              </a:path>
              <a:path w="6668" h="3176">
                <a:moveTo>
                  <a:pt x="8985" y="9398"/>
                </a:moveTo>
                <a:cubicBezTo>
                  <a:pt x="8985" y="9553"/>
                  <a:pt x="8975" y="9692"/>
                  <a:pt x="8954" y="9842"/>
                </a:cubicBezTo>
                <a:cubicBezTo>
                  <a:pt x="8942" y="9928"/>
                  <a:pt x="8927" y="10012"/>
                  <a:pt x="8922" y="10096"/>
                </a:cubicBezTo>
                <a:cubicBezTo>
                  <a:pt x="8922" y="10098"/>
                  <a:pt x="8915" y="10305"/>
                  <a:pt x="8954" y="10255"/>
                </a:cubicBezTo>
                <a:cubicBezTo>
                  <a:pt x="8954" y="10245"/>
                  <a:pt x="8954" y="10234"/>
                  <a:pt x="8954" y="10224"/>
                </a:cubicBezTo>
              </a:path>
              <a:path w="6668" h="3176">
                <a:moveTo>
                  <a:pt x="8668" y="9747"/>
                </a:moveTo>
                <a:cubicBezTo>
                  <a:pt x="8833" y="9747"/>
                  <a:pt x="8988" y="9740"/>
                  <a:pt x="9144" y="9716"/>
                </a:cubicBezTo>
                <a:cubicBezTo>
                  <a:pt x="9165" y="9716"/>
                  <a:pt x="9187" y="9716"/>
                  <a:pt x="9208" y="9716"/>
                </a:cubicBezTo>
              </a:path>
              <a:path w="6668" h="3176">
                <a:moveTo>
                  <a:pt x="9557" y="9144"/>
                </a:moveTo>
                <a:cubicBezTo>
                  <a:pt x="9596" y="9025"/>
                  <a:pt x="9556" y="9119"/>
                  <a:pt x="9652" y="9080"/>
                </a:cubicBezTo>
                <a:cubicBezTo>
                  <a:pt x="9711" y="9056"/>
                  <a:pt x="9783" y="9072"/>
                  <a:pt x="9842" y="9049"/>
                </a:cubicBezTo>
                <a:cubicBezTo>
                  <a:pt x="9907" y="9024"/>
                  <a:pt x="9936" y="9009"/>
                  <a:pt x="10001" y="9049"/>
                </a:cubicBezTo>
                <a:cubicBezTo>
                  <a:pt x="10012" y="9059"/>
                  <a:pt x="10022" y="9070"/>
                  <a:pt x="10033" y="9080"/>
                </a:cubicBezTo>
                <a:cubicBezTo>
                  <a:pt x="10019" y="9176"/>
                  <a:pt x="9987" y="9163"/>
                  <a:pt x="9938" y="9239"/>
                </a:cubicBezTo>
                <a:cubicBezTo>
                  <a:pt x="9884" y="9323"/>
                  <a:pt x="9818" y="9331"/>
                  <a:pt x="9747" y="9398"/>
                </a:cubicBezTo>
                <a:cubicBezTo>
                  <a:pt x="9724" y="9420"/>
                  <a:pt x="9630" y="9521"/>
                  <a:pt x="9620" y="9525"/>
                </a:cubicBezTo>
                <a:cubicBezTo>
                  <a:pt x="9609" y="9525"/>
                  <a:pt x="9599" y="9525"/>
                  <a:pt x="9588" y="9525"/>
                </a:cubicBezTo>
                <a:cubicBezTo>
                  <a:pt x="9636" y="9518"/>
                  <a:pt x="9677" y="9517"/>
                  <a:pt x="9716" y="9493"/>
                </a:cubicBezTo>
                <a:cubicBezTo>
                  <a:pt x="9785" y="9451"/>
                  <a:pt x="9853" y="9462"/>
                  <a:pt x="9938" y="9462"/>
                </a:cubicBezTo>
                <a:cubicBezTo>
                  <a:pt x="10033" y="9462"/>
                  <a:pt x="10087" y="9458"/>
                  <a:pt x="10160" y="9525"/>
                </a:cubicBezTo>
                <a:cubicBezTo>
                  <a:pt x="10232" y="9592"/>
                  <a:pt x="10251" y="9681"/>
                  <a:pt x="10255" y="9779"/>
                </a:cubicBezTo>
                <a:cubicBezTo>
                  <a:pt x="10261" y="9911"/>
                  <a:pt x="10234" y="10003"/>
                  <a:pt x="10192" y="10128"/>
                </a:cubicBezTo>
                <a:cubicBezTo>
                  <a:pt x="10159" y="10228"/>
                  <a:pt x="10125" y="10320"/>
                  <a:pt x="10033" y="10382"/>
                </a:cubicBezTo>
                <a:cubicBezTo>
                  <a:pt x="9952" y="10437"/>
                  <a:pt x="9846" y="10470"/>
                  <a:pt x="9747" y="10446"/>
                </a:cubicBezTo>
                <a:cubicBezTo>
                  <a:pt x="9655" y="10424"/>
                  <a:pt x="9588" y="10350"/>
                  <a:pt x="9525" y="10287"/>
                </a:cubicBezTo>
                <a:cubicBezTo>
                  <a:pt x="9462" y="10224"/>
                  <a:pt x="9451" y="10195"/>
                  <a:pt x="9493" y="10128"/>
                </a:cubicBezTo>
                <a:cubicBezTo>
                  <a:pt x="9525" y="10096"/>
                  <a:pt x="9535" y="10086"/>
                  <a:pt x="9557" y="10065"/>
                </a:cubicBezTo>
              </a:path>
              <a:path w="6668" h="3176">
                <a:moveTo>
                  <a:pt x="10604" y="9588"/>
                </a:moveTo>
                <a:cubicBezTo>
                  <a:pt x="10693" y="9577"/>
                  <a:pt x="10765" y="9557"/>
                  <a:pt x="10858" y="9557"/>
                </a:cubicBezTo>
                <a:cubicBezTo>
                  <a:pt x="10978" y="9557"/>
                  <a:pt x="11086" y="9588"/>
                  <a:pt x="11208" y="9588"/>
                </a:cubicBezTo>
                <a:cubicBezTo>
                  <a:pt x="11229" y="9588"/>
                  <a:pt x="11250" y="9588"/>
                  <a:pt x="11271" y="9588"/>
                </a:cubicBezTo>
              </a:path>
              <a:path w="6668" h="3176">
                <a:moveTo>
                  <a:pt x="10668" y="9970"/>
                </a:moveTo>
                <a:cubicBezTo>
                  <a:pt x="10684" y="10033"/>
                  <a:pt x="10699" y="10033"/>
                  <a:pt x="10763" y="10033"/>
                </a:cubicBezTo>
                <a:cubicBezTo>
                  <a:pt x="10959" y="10033"/>
                  <a:pt x="11149" y="10032"/>
                  <a:pt x="11335" y="10001"/>
                </a:cubicBezTo>
                <a:cubicBezTo>
                  <a:pt x="11421" y="9987"/>
                  <a:pt x="11409" y="10005"/>
                  <a:pt x="11494" y="9970"/>
                </a:cubicBezTo>
              </a:path>
              <a:path w="6668" h="3176">
                <a:moveTo>
                  <a:pt x="11843" y="9176"/>
                </a:moveTo>
                <a:cubicBezTo>
                  <a:pt x="11859" y="9260"/>
                  <a:pt x="11846" y="9284"/>
                  <a:pt x="11843" y="9366"/>
                </a:cubicBezTo>
                <a:cubicBezTo>
                  <a:pt x="11837" y="9520"/>
                  <a:pt x="11770" y="9631"/>
                  <a:pt x="11748" y="9779"/>
                </a:cubicBezTo>
                <a:cubicBezTo>
                  <a:pt x="11728" y="9916"/>
                  <a:pt x="11689" y="10054"/>
                  <a:pt x="11684" y="10192"/>
                </a:cubicBezTo>
                <a:cubicBezTo>
                  <a:pt x="11680" y="10293"/>
                  <a:pt x="11659" y="10356"/>
                  <a:pt x="11620" y="10446"/>
                </a:cubicBezTo>
              </a:path>
              <a:path w="6668" h="3176">
                <a:moveTo>
                  <a:pt x="12097" y="9366"/>
                </a:moveTo>
                <a:cubicBezTo>
                  <a:pt x="12097" y="9460"/>
                  <a:pt x="12109" y="9516"/>
                  <a:pt x="12065" y="9588"/>
                </a:cubicBezTo>
                <a:cubicBezTo>
                  <a:pt x="12065" y="9505"/>
                  <a:pt x="12066" y="9448"/>
                  <a:pt x="12097" y="9366"/>
                </a:cubicBezTo>
                <a:cubicBezTo>
                  <a:pt x="12114" y="9320"/>
                  <a:pt x="12125" y="9293"/>
                  <a:pt x="12128" y="9239"/>
                </a:cubicBezTo>
                <a:cubicBezTo>
                  <a:pt x="12132" y="9169"/>
                  <a:pt x="12181" y="9173"/>
                  <a:pt x="12192" y="9144"/>
                </a:cubicBezTo>
                <a:cubicBezTo>
                  <a:pt x="12192" y="9123"/>
                  <a:pt x="12192" y="9101"/>
                  <a:pt x="12192" y="9080"/>
                </a:cubicBezTo>
                <a:cubicBezTo>
                  <a:pt x="12388" y="9080"/>
                  <a:pt x="12554" y="9086"/>
                  <a:pt x="12700" y="9144"/>
                </a:cubicBezTo>
                <a:cubicBezTo>
                  <a:pt x="12733" y="9157"/>
                  <a:pt x="12838" y="9174"/>
                  <a:pt x="12859" y="9208"/>
                </a:cubicBezTo>
                <a:cubicBezTo>
                  <a:pt x="12884" y="9248"/>
                  <a:pt x="12888" y="9316"/>
                  <a:pt x="12890" y="9366"/>
                </a:cubicBezTo>
                <a:cubicBezTo>
                  <a:pt x="12896" y="9509"/>
                  <a:pt x="12847" y="9584"/>
                  <a:pt x="12827" y="9716"/>
                </a:cubicBezTo>
                <a:cubicBezTo>
                  <a:pt x="12803" y="9874"/>
                  <a:pt x="12778" y="10038"/>
                  <a:pt x="12732" y="10192"/>
                </a:cubicBezTo>
                <a:cubicBezTo>
                  <a:pt x="12693" y="10323"/>
                  <a:pt x="12673" y="10467"/>
                  <a:pt x="12668" y="10604"/>
                </a:cubicBezTo>
                <a:cubicBezTo>
                  <a:pt x="12668" y="10636"/>
                  <a:pt x="12668" y="10668"/>
                  <a:pt x="12668" y="10700"/>
                </a:cubicBezTo>
              </a:path>
              <a:path w="6668" h="3176">
                <a:moveTo>
                  <a:pt x="8604" y="10986"/>
                </a:moveTo>
                <a:cubicBezTo>
                  <a:pt x="8667" y="10986"/>
                  <a:pt x="8680" y="11000"/>
                  <a:pt x="8731" y="11017"/>
                </a:cubicBezTo>
                <a:cubicBezTo>
                  <a:pt x="8763" y="11017"/>
                  <a:pt x="8774" y="11017"/>
                  <a:pt x="8795" y="11017"/>
                </a:cubicBezTo>
              </a:path>
              <a:path w="6668" h="3176">
                <a:moveTo>
                  <a:pt x="9366" y="10732"/>
                </a:moveTo>
                <a:cubicBezTo>
                  <a:pt x="9414" y="10716"/>
                  <a:pt x="9393" y="10700"/>
                  <a:pt x="9462" y="10700"/>
                </a:cubicBezTo>
                <a:cubicBezTo>
                  <a:pt x="9524" y="10700"/>
                  <a:pt x="9540" y="10695"/>
                  <a:pt x="9588" y="10732"/>
                </a:cubicBezTo>
                <a:cubicBezTo>
                  <a:pt x="9576" y="10780"/>
                  <a:pt x="9559" y="10820"/>
                  <a:pt x="9525" y="10858"/>
                </a:cubicBezTo>
                <a:cubicBezTo>
                  <a:pt x="9495" y="10891"/>
                  <a:pt x="9440" y="10917"/>
                  <a:pt x="9398" y="10922"/>
                </a:cubicBezTo>
                <a:cubicBezTo>
                  <a:pt x="9323" y="10930"/>
                  <a:pt x="9440" y="10892"/>
                  <a:pt x="9462" y="10890"/>
                </a:cubicBezTo>
                <a:cubicBezTo>
                  <a:pt x="9506" y="10885"/>
                  <a:pt x="9557" y="10901"/>
                  <a:pt x="9588" y="10922"/>
                </a:cubicBezTo>
                <a:cubicBezTo>
                  <a:pt x="9618" y="10942"/>
                  <a:pt x="9666" y="11046"/>
                  <a:pt x="9652" y="11081"/>
                </a:cubicBezTo>
                <a:cubicBezTo>
                  <a:pt x="9624" y="11150"/>
                  <a:pt x="9612" y="11171"/>
                  <a:pt x="9557" y="11208"/>
                </a:cubicBezTo>
                <a:cubicBezTo>
                  <a:pt x="9506" y="11242"/>
                  <a:pt x="9493" y="11240"/>
                  <a:pt x="9430" y="11240"/>
                </a:cubicBezTo>
                <a:cubicBezTo>
                  <a:pt x="9413" y="11240"/>
                  <a:pt x="9348" y="11204"/>
                  <a:pt x="9334" y="11176"/>
                </a:cubicBezTo>
                <a:cubicBezTo>
                  <a:pt x="9334" y="11165"/>
                  <a:pt x="9334" y="11155"/>
                  <a:pt x="9334" y="11144"/>
                </a:cubicBezTo>
              </a:path>
              <a:path w="6668" h="3176">
                <a:moveTo>
                  <a:pt x="11430" y="10732"/>
                </a:moveTo>
                <a:cubicBezTo>
                  <a:pt x="11430" y="10742"/>
                  <a:pt x="11430" y="10753"/>
                  <a:pt x="11430" y="10763"/>
                </a:cubicBezTo>
                <a:cubicBezTo>
                  <a:pt x="11501" y="10763"/>
                  <a:pt x="11536" y="10783"/>
                  <a:pt x="11589" y="10795"/>
                </a:cubicBezTo>
                <a:cubicBezTo>
                  <a:pt x="11629" y="10804"/>
                  <a:pt x="11707" y="10795"/>
                  <a:pt x="11748" y="10795"/>
                </a:cubicBezTo>
              </a:path>
              <a:path w="6668" h="3176">
                <a:moveTo>
                  <a:pt x="12002" y="10732"/>
                </a:moveTo>
                <a:cubicBezTo>
                  <a:pt x="12022" y="10704"/>
                  <a:pt x="12052" y="10642"/>
                  <a:pt x="12065" y="10636"/>
                </a:cubicBezTo>
                <a:cubicBezTo>
                  <a:pt x="12099" y="10619"/>
                  <a:pt x="12171" y="10654"/>
                  <a:pt x="12192" y="10668"/>
                </a:cubicBezTo>
                <a:cubicBezTo>
                  <a:pt x="12231" y="10694"/>
                  <a:pt x="12245" y="10786"/>
                  <a:pt x="12224" y="10827"/>
                </a:cubicBezTo>
                <a:cubicBezTo>
                  <a:pt x="12205" y="10863"/>
                  <a:pt x="12152" y="10919"/>
                  <a:pt x="12128" y="10922"/>
                </a:cubicBezTo>
                <a:cubicBezTo>
                  <a:pt x="12098" y="10926"/>
                  <a:pt x="12064" y="10922"/>
                  <a:pt x="12033" y="10922"/>
                </a:cubicBezTo>
                <a:cubicBezTo>
                  <a:pt x="12060" y="10913"/>
                  <a:pt x="12082" y="10864"/>
                  <a:pt x="12128" y="10890"/>
                </a:cubicBezTo>
                <a:cubicBezTo>
                  <a:pt x="12206" y="10934"/>
                  <a:pt x="12222" y="10945"/>
                  <a:pt x="12287" y="11017"/>
                </a:cubicBezTo>
                <a:cubicBezTo>
                  <a:pt x="12331" y="11066"/>
                  <a:pt x="12319" y="11112"/>
                  <a:pt x="12319" y="11176"/>
                </a:cubicBezTo>
                <a:cubicBezTo>
                  <a:pt x="12319" y="11264"/>
                  <a:pt x="12292" y="11274"/>
                  <a:pt x="12224" y="11303"/>
                </a:cubicBezTo>
                <a:cubicBezTo>
                  <a:pt x="12127" y="11345"/>
                  <a:pt x="12121" y="11330"/>
                  <a:pt x="12033" y="11303"/>
                </a:cubicBezTo>
                <a:cubicBezTo>
                  <a:pt x="11997" y="11292"/>
                  <a:pt x="11975" y="11280"/>
                  <a:pt x="11938" y="11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nk 7"/>
          <p:cNvSpPr/>
          <p:nvPr/>
        </p:nvSpPr>
        <p:spPr>
          <a:xfrm>
            <a:off x="2766960" y="4172040"/>
            <a:ext cx="1314360" cy="971640"/>
          </a:xfrm>
          <a:custGeom>
            <a:avLst/>
            <a:gdLst/>
            <a:ahLst/>
            <a:rect l="l" t="t" r="r" b="b"/>
            <a:pathLst>
              <a:path w="3652" h="2700">
                <a:moveTo>
                  <a:pt x="8064" y="11716"/>
                </a:moveTo>
                <a:cubicBezTo>
                  <a:pt x="8064" y="11755"/>
                  <a:pt x="8084" y="11723"/>
                  <a:pt x="8128" y="11684"/>
                </a:cubicBezTo>
                <a:cubicBezTo>
                  <a:pt x="8188" y="11631"/>
                  <a:pt x="8236" y="11602"/>
                  <a:pt x="8318" y="11589"/>
                </a:cubicBezTo>
                <a:cubicBezTo>
                  <a:pt x="8372" y="11580"/>
                  <a:pt x="8474" y="11569"/>
                  <a:pt x="8509" y="11620"/>
                </a:cubicBezTo>
                <a:cubicBezTo>
                  <a:pt x="8558" y="11690"/>
                  <a:pt x="8531" y="11799"/>
                  <a:pt x="8509" y="11874"/>
                </a:cubicBezTo>
                <a:cubicBezTo>
                  <a:pt x="8487" y="11951"/>
                  <a:pt x="8399" y="12094"/>
                  <a:pt x="8350" y="12160"/>
                </a:cubicBezTo>
                <a:cubicBezTo>
                  <a:pt x="8275" y="12262"/>
                  <a:pt x="8186" y="12355"/>
                  <a:pt x="8096" y="12446"/>
                </a:cubicBezTo>
                <a:cubicBezTo>
                  <a:pt x="8046" y="12496"/>
                  <a:pt x="7973" y="12607"/>
                  <a:pt x="7906" y="12636"/>
                </a:cubicBezTo>
                <a:cubicBezTo>
                  <a:pt x="7839" y="12665"/>
                  <a:pt x="7859" y="12661"/>
                  <a:pt x="7906" y="12636"/>
                </a:cubicBezTo>
                <a:cubicBezTo>
                  <a:pt x="7948" y="12613"/>
                  <a:pt x="8007" y="12577"/>
                  <a:pt x="8064" y="12605"/>
                </a:cubicBezTo>
                <a:cubicBezTo>
                  <a:pt x="8128" y="12636"/>
                  <a:pt x="8168" y="12644"/>
                  <a:pt x="8223" y="12700"/>
                </a:cubicBezTo>
                <a:cubicBezTo>
                  <a:pt x="8264" y="12741"/>
                  <a:pt x="8386" y="12907"/>
                  <a:pt x="8446" y="12890"/>
                </a:cubicBezTo>
                <a:cubicBezTo>
                  <a:pt x="8502" y="12863"/>
                  <a:pt x="8517" y="12858"/>
                  <a:pt x="8541" y="12827"/>
                </a:cubicBezTo>
              </a:path>
              <a:path w="3652" h="2700">
                <a:moveTo>
                  <a:pt x="8826" y="11906"/>
                </a:moveTo>
                <a:cubicBezTo>
                  <a:pt x="8826" y="12003"/>
                  <a:pt x="8837" y="12100"/>
                  <a:pt x="8858" y="12192"/>
                </a:cubicBezTo>
                <a:cubicBezTo>
                  <a:pt x="8888" y="12322"/>
                  <a:pt x="8954" y="12459"/>
                  <a:pt x="9017" y="12573"/>
                </a:cubicBezTo>
                <a:cubicBezTo>
                  <a:pt x="9073" y="12674"/>
                  <a:pt x="9110" y="12795"/>
                  <a:pt x="9176" y="12890"/>
                </a:cubicBezTo>
                <a:cubicBezTo>
                  <a:pt x="9205" y="12919"/>
                  <a:pt x="9211" y="12929"/>
                  <a:pt x="9239" y="12922"/>
                </a:cubicBezTo>
              </a:path>
              <a:path w="3652" h="2700">
                <a:moveTo>
                  <a:pt x="9271" y="12097"/>
                </a:moveTo>
                <a:cubicBezTo>
                  <a:pt x="9226" y="12156"/>
                  <a:pt x="9188" y="12219"/>
                  <a:pt x="9144" y="12287"/>
                </a:cubicBezTo>
                <a:cubicBezTo>
                  <a:pt x="9055" y="12422"/>
                  <a:pt x="8950" y="12536"/>
                  <a:pt x="8858" y="12668"/>
                </a:cubicBezTo>
                <a:cubicBezTo>
                  <a:pt x="8784" y="12773"/>
                  <a:pt x="8691" y="12876"/>
                  <a:pt x="8636" y="12986"/>
                </a:cubicBezTo>
                <a:cubicBezTo>
                  <a:pt x="8636" y="13022"/>
                  <a:pt x="8633" y="13036"/>
                  <a:pt x="8604" y="13049"/>
                </a:cubicBezTo>
              </a:path>
              <a:path w="3652" h="2700">
                <a:moveTo>
                  <a:pt x="9493" y="12319"/>
                </a:moveTo>
                <a:cubicBezTo>
                  <a:pt x="9505" y="12344"/>
                  <a:pt x="9577" y="12319"/>
                  <a:pt x="9652" y="12319"/>
                </a:cubicBezTo>
                <a:cubicBezTo>
                  <a:pt x="9746" y="12319"/>
                  <a:pt x="9816" y="12298"/>
                  <a:pt x="9906" y="12287"/>
                </a:cubicBezTo>
              </a:path>
              <a:path w="3652" h="2700">
                <a:moveTo>
                  <a:pt x="9620" y="12573"/>
                </a:moveTo>
                <a:cubicBezTo>
                  <a:pt x="9534" y="12573"/>
                  <a:pt x="9669" y="12573"/>
                  <a:pt x="9684" y="12573"/>
                </a:cubicBezTo>
                <a:cubicBezTo>
                  <a:pt x="9757" y="12573"/>
                  <a:pt x="9825" y="12541"/>
                  <a:pt x="9906" y="12541"/>
                </a:cubicBezTo>
                <a:cubicBezTo>
                  <a:pt x="9938" y="12541"/>
                  <a:pt x="9969" y="12541"/>
                  <a:pt x="10001" y="12541"/>
                </a:cubicBezTo>
              </a:path>
              <a:path w="3652" h="2700">
                <a:moveTo>
                  <a:pt x="10604" y="11811"/>
                </a:moveTo>
                <a:cubicBezTo>
                  <a:pt x="10589" y="11888"/>
                  <a:pt x="10567" y="11958"/>
                  <a:pt x="10541" y="12033"/>
                </a:cubicBezTo>
                <a:cubicBezTo>
                  <a:pt x="10497" y="12157"/>
                  <a:pt x="10487" y="12287"/>
                  <a:pt x="10446" y="12414"/>
                </a:cubicBezTo>
                <a:cubicBezTo>
                  <a:pt x="10402" y="12551"/>
                  <a:pt x="10365" y="12690"/>
                  <a:pt x="10319" y="12827"/>
                </a:cubicBezTo>
                <a:cubicBezTo>
                  <a:pt x="10293" y="12906"/>
                  <a:pt x="10273" y="12978"/>
                  <a:pt x="10255" y="13049"/>
                </a:cubicBezTo>
              </a:path>
              <a:path w="3652" h="2700">
                <a:moveTo>
                  <a:pt x="10890" y="11970"/>
                </a:moveTo>
                <a:cubicBezTo>
                  <a:pt x="10924" y="11981"/>
                  <a:pt x="10940" y="12015"/>
                  <a:pt x="10922" y="12065"/>
                </a:cubicBezTo>
                <a:cubicBezTo>
                  <a:pt x="10874" y="12197"/>
                  <a:pt x="10772" y="12312"/>
                  <a:pt x="10732" y="12446"/>
                </a:cubicBezTo>
                <a:cubicBezTo>
                  <a:pt x="10718" y="12493"/>
                  <a:pt x="10666" y="12571"/>
                  <a:pt x="10732" y="12605"/>
                </a:cubicBezTo>
                <a:cubicBezTo>
                  <a:pt x="10792" y="12636"/>
                  <a:pt x="10982" y="12625"/>
                  <a:pt x="11049" y="12636"/>
                </a:cubicBezTo>
                <a:cubicBezTo>
                  <a:pt x="11121" y="12648"/>
                  <a:pt x="11191" y="12643"/>
                  <a:pt x="11240" y="12636"/>
                </a:cubicBezTo>
                <a:cubicBezTo>
                  <a:pt x="11297" y="12636"/>
                  <a:pt x="11313" y="12640"/>
                  <a:pt x="11335" y="12605"/>
                </a:cubicBezTo>
              </a:path>
              <a:path w="3652" h="2700">
                <a:moveTo>
                  <a:pt x="11335" y="11779"/>
                </a:moveTo>
                <a:cubicBezTo>
                  <a:pt x="11291" y="11909"/>
                  <a:pt x="11323" y="12024"/>
                  <a:pt x="11303" y="12160"/>
                </a:cubicBezTo>
                <a:cubicBezTo>
                  <a:pt x="11278" y="12332"/>
                  <a:pt x="11251" y="12498"/>
                  <a:pt x="11208" y="12668"/>
                </a:cubicBezTo>
                <a:cubicBezTo>
                  <a:pt x="11166" y="12834"/>
                  <a:pt x="11119" y="12988"/>
                  <a:pt x="11049" y="13144"/>
                </a:cubicBezTo>
                <a:cubicBezTo>
                  <a:pt x="11028" y="13187"/>
                  <a:pt x="11007" y="13229"/>
                  <a:pt x="10986" y="13272"/>
                </a:cubicBezTo>
              </a:path>
              <a:path w="3652" h="2700">
                <a:moveTo>
                  <a:pt x="7684" y="13272"/>
                </a:moveTo>
                <a:cubicBezTo>
                  <a:pt x="7741" y="13272"/>
                  <a:pt x="7759" y="13297"/>
                  <a:pt x="7810" y="13303"/>
                </a:cubicBezTo>
                <a:cubicBezTo>
                  <a:pt x="7881" y="13311"/>
                  <a:pt x="7925" y="13335"/>
                  <a:pt x="8001" y="13335"/>
                </a:cubicBezTo>
                <a:cubicBezTo>
                  <a:pt x="8087" y="13335"/>
                  <a:pt x="8176" y="13329"/>
                  <a:pt x="8255" y="13303"/>
                </a:cubicBezTo>
                <a:cubicBezTo>
                  <a:pt x="8360" y="13268"/>
                  <a:pt x="8470" y="13247"/>
                  <a:pt x="8572" y="13208"/>
                </a:cubicBezTo>
                <a:cubicBezTo>
                  <a:pt x="8674" y="13169"/>
                  <a:pt x="8780" y="13149"/>
                  <a:pt x="8890" y="13144"/>
                </a:cubicBezTo>
                <a:cubicBezTo>
                  <a:pt x="9069" y="13135"/>
                  <a:pt x="9251" y="13144"/>
                  <a:pt x="9430" y="13144"/>
                </a:cubicBezTo>
              </a:path>
              <a:path w="3652" h="2700">
                <a:moveTo>
                  <a:pt x="8668" y="13589"/>
                </a:moveTo>
                <a:cubicBezTo>
                  <a:pt x="8616" y="13563"/>
                  <a:pt x="8712" y="13535"/>
                  <a:pt x="8763" y="13526"/>
                </a:cubicBezTo>
                <a:cubicBezTo>
                  <a:pt x="8843" y="13512"/>
                  <a:pt x="8912" y="13490"/>
                  <a:pt x="8985" y="13526"/>
                </a:cubicBezTo>
                <a:cubicBezTo>
                  <a:pt x="9034" y="13550"/>
                  <a:pt x="9105" y="13576"/>
                  <a:pt x="9080" y="13652"/>
                </a:cubicBezTo>
                <a:cubicBezTo>
                  <a:pt x="9064" y="13701"/>
                  <a:pt x="9023" y="13770"/>
                  <a:pt x="8985" y="13811"/>
                </a:cubicBezTo>
                <a:cubicBezTo>
                  <a:pt x="8920" y="13881"/>
                  <a:pt x="8843" y="13983"/>
                  <a:pt x="8763" y="14034"/>
                </a:cubicBezTo>
                <a:cubicBezTo>
                  <a:pt x="8718" y="14063"/>
                  <a:pt x="8661" y="14144"/>
                  <a:pt x="8636" y="14160"/>
                </a:cubicBezTo>
                <a:cubicBezTo>
                  <a:pt x="8604" y="14160"/>
                  <a:pt x="8593" y="14160"/>
                  <a:pt x="8604" y="14192"/>
                </a:cubicBezTo>
                <a:cubicBezTo>
                  <a:pt x="8660" y="14234"/>
                  <a:pt x="8689" y="14224"/>
                  <a:pt x="8763" y="14224"/>
                </a:cubicBezTo>
                <a:cubicBezTo>
                  <a:pt x="8863" y="14224"/>
                  <a:pt x="8926" y="14233"/>
                  <a:pt x="9017" y="14256"/>
                </a:cubicBezTo>
                <a:cubicBezTo>
                  <a:pt x="9065" y="14268"/>
                  <a:pt x="9099" y="14277"/>
                  <a:pt x="9144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nk 8"/>
          <p:cNvSpPr/>
          <p:nvPr/>
        </p:nvSpPr>
        <p:spPr>
          <a:xfrm>
            <a:off x="2719440" y="720720"/>
            <a:ext cx="162000" cy="46080"/>
          </a:xfrm>
          <a:custGeom>
            <a:avLst/>
            <a:gdLst/>
            <a:ahLst/>
            <a:rect l="l" t="t" r="r" b="b"/>
            <a:pathLst>
              <a:path w="446" h="128">
                <a:moveTo>
                  <a:pt x="7556" y="2127"/>
                </a:moveTo>
                <a:cubicBezTo>
                  <a:pt x="7634" y="2127"/>
                  <a:pt x="7675" y="2092"/>
                  <a:pt x="7747" y="2064"/>
                </a:cubicBezTo>
                <a:cubicBezTo>
                  <a:pt x="7831" y="2031"/>
                  <a:pt x="7914" y="2024"/>
                  <a:pt x="8001" y="20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Ink 9"/>
          <p:cNvSpPr/>
          <p:nvPr/>
        </p:nvSpPr>
        <p:spPr>
          <a:xfrm>
            <a:off x="3508200" y="743040"/>
            <a:ext cx="503280" cy="92160"/>
          </a:xfrm>
          <a:custGeom>
            <a:avLst/>
            <a:gdLst/>
            <a:ahLst/>
            <a:rect l="l" t="t" r="r" b="b"/>
            <a:pathLst>
              <a:path w="1398" h="255">
                <a:moveTo>
                  <a:pt x="9747" y="2318"/>
                </a:moveTo>
                <a:cubicBezTo>
                  <a:pt x="9826" y="2302"/>
                  <a:pt x="9864" y="2252"/>
                  <a:pt x="9938" y="2222"/>
                </a:cubicBezTo>
                <a:cubicBezTo>
                  <a:pt x="10044" y="2179"/>
                  <a:pt x="10151" y="2189"/>
                  <a:pt x="10255" y="2159"/>
                </a:cubicBezTo>
                <a:cubicBezTo>
                  <a:pt x="10364" y="2128"/>
                  <a:pt x="10462" y="2148"/>
                  <a:pt x="10573" y="2127"/>
                </a:cubicBezTo>
                <a:cubicBezTo>
                  <a:pt x="10695" y="2104"/>
                  <a:pt x="10794" y="2096"/>
                  <a:pt x="10922" y="2096"/>
                </a:cubicBezTo>
                <a:cubicBezTo>
                  <a:pt x="11009" y="2096"/>
                  <a:pt x="11064" y="2091"/>
                  <a:pt x="11144" y="20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Ink 10"/>
          <p:cNvSpPr/>
          <p:nvPr/>
        </p:nvSpPr>
        <p:spPr>
          <a:xfrm>
            <a:off x="4994280" y="754200"/>
            <a:ext cx="252360" cy="34920"/>
          </a:xfrm>
          <a:custGeom>
            <a:avLst/>
            <a:gdLst/>
            <a:ahLst/>
            <a:rect l="l" t="t" r="r" b="b"/>
            <a:pathLst>
              <a:path w="699" h="96">
                <a:moveTo>
                  <a:pt x="13875" y="2191"/>
                </a:moveTo>
                <a:cubicBezTo>
                  <a:pt x="13976" y="2140"/>
                  <a:pt x="14079" y="2106"/>
                  <a:pt x="14192" y="2096"/>
                </a:cubicBezTo>
                <a:cubicBezTo>
                  <a:pt x="14326" y="2084"/>
                  <a:pt x="14443" y="2103"/>
                  <a:pt x="14573" y="21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Ink 11"/>
          <p:cNvSpPr/>
          <p:nvPr/>
        </p:nvSpPr>
        <p:spPr>
          <a:xfrm>
            <a:off x="3176640" y="4789440"/>
            <a:ext cx="915840" cy="1120680"/>
          </a:xfrm>
          <a:custGeom>
            <a:avLst/>
            <a:gdLst/>
            <a:ahLst/>
            <a:rect l="l" t="t" r="r" b="b"/>
            <a:pathLst>
              <a:path w="2541" h="3113">
                <a:moveTo>
                  <a:pt x="10065" y="13367"/>
                </a:moveTo>
                <a:cubicBezTo>
                  <a:pt x="10084" y="13289"/>
                  <a:pt x="10114" y="13303"/>
                  <a:pt x="10192" y="13303"/>
                </a:cubicBezTo>
                <a:cubicBezTo>
                  <a:pt x="10408" y="13303"/>
                  <a:pt x="10617" y="13311"/>
                  <a:pt x="10827" y="13335"/>
                </a:cubicBezTo>
                <a:cubicBezTo>
                  <a:pt x="10937" y="13347"/>
                  <a:pt x="11030" y="13367"/>
                  <a:pt x="11144" y="13367"/>
                </a:cubicBezTo>
                <a:cubicBezTo>
                  <a:pt x="11165" y="13367"/>
                  <a:pt x="11324" y="13346"/>
                  <a:pt x="11335" y="13335"/>
                </a:cubicBezTo>
                <a:cubicBezTo>
                  <a:pt x="11335" y="13303"/>
                  <a:pt x="11335" y="13293"/>
                  <a:pt x="11366" y="13303"/>
                </a:cubicBezTo>
              </a:path>
              <a:path w="2541" h="3113">
                <a:moveTo>
                  <a:pt x="10636" y="13811"/>
                </a:moveTo>
                <a:cubicBezTo>
                  <a:pt x="10691" y="13771"/>
                  <a:pt x="10723" y="13754"/>
                  <a:pt x="10795" y="13748"/>
                </a:cubicBezTo>
                <a:cubicBezTo>
                  <a:pt x="10886" y="13740"/>
                  <a:pt x="10943" y="13758"/>
                  <a:pt x="10986" y="13780"/>
                </a:cubicBezTo>
                <a:cubicBezTo>
                  <a:pt x="11017" y="13780"/>
                  <a:pt x="11027" y="13780"/>
                  <a:pt x="11017" y="13811"/>
                </a:cubicBezTo>
                <a:cubicBezTo>
                  <a:pt x="10969" y="13860"/>
                  <a:pt x="10924" y="13913"/>
                  <a:pt x="10890" y="13970"/>
                </a:cubicBezTo>
                <a:cubicBezTo>
                  <a:pt x="10851" y="14035"/>
                  <a:pt x="10817" y="14075"/>
                  <a:pt x="10763" y="14129"/>
                </a:cubicBezTo>
                <a:cubicBezTo>
                  <a:pt x="10728" y="14164"/>
                  <a:pt x="10730" y="14185"/>
                  <a:pt x="10700" y="14224"/>
                </a:cubicBezTo>
                <a:cubicBezTo>
                  <a:pt x="10771" y="14224"/>
                  <a:pt x="10826" y="14216"/>
                  <a:pt x="10890" y="14256"/>
                </a:cubicBezTo>
                <a:cubicBezTo>
                  <a:pt x="10942" y="14289"/>
                  <a:pt x="11037" y="14294"/>
                  <a:pt x="11081" y="14351"/>
                </a:cubicBezTo>
                <a:cubicBezTo>
                  <a:pt x="11081" y="14387"/>
                  <a:pt x="11084" y="14400"/>
                  <a:pt x="11112" y="14414"/>
                </a:cubicBezTo>
              </a:path>
              <a:path w="2541" h="3113">
                <a:moveTo>
                  <a:pt x="9303" y="14827"/>
                </a:moveTo>
                <a:cubicBezTo>
                  <a:pt x="9318" y="14919"/>
                  <a:pt x="9358" y="15021"/>
                  <a:pt x="9366" y="15113"/>
                </a:cubicBezTo>
                <a:cubicBezTo>
                  <a:pt x="9381" y="15291"/>
                  <a:pt x="9393" y="15475"/>
                  <a:pt x="9398" y="15653"/>
                </a:cubicBezTo>
                <a:cubicBezTo>
                  <a:pt x="9403" y="15828"/>
                  <a:pt x="9441" y="15990"/>
                  <a:pt x="9462" y="16161"/>
                </a:cubicBezTo>
                <a:cubicBezTo>
                  <a:pt x="9462" y="16182"/>
                  <a:pt x="9462" y="16203"/>
                  <a:pt x="9462" y="16224"/>
                </a:cubicBezTo>
              </a:path>
              <a:path w="2541" h="3113">
                <a:moveTo>
                  <a:pt x="9620" y="15335"/>
                </a:moveTo>
                <a:cubicBezTo>
                  <a:pt x="9446" y="15511"/>
                  <a:pt x="9295" y="15687"/>
                  <a:pt x="9144" y="15875"/>
                </a:cubicBezTo>
                <a:cubicBezTo>
                  <a:pt x="9051" y="15991"/>
                  <a:pt x="8959" y="16116"/>
                  <a:pt x="8858" y="16224"/>
                </a:cubicBezTo>
                <a:cubicBezTo>
                  <a:pt x="8847" y="16235"/>
                  <a:pt x="8837" y="16245"/>
                  <a:pt x="8826" y="16256"/>
                </a:cubicBezTo>
              </a:path>
              <a:path w="2541" h="3113">
                <a:moveTo>
                  <a:pt x="9779" y="15558"/>
                </a:moveTo>
                <a:cubicBezTo>
                  <a:pt x="9862" y="15558"/>
                  <a:pt x="9924" y="15539"/>
                  <a:pt x="10001" y="15526"/>
                </a:cubicBezTo>
                <a:cubicBezTo>
                  <a:pt x="10102" y="15509"/>
                  <a:pt x="10190" y="15519"/>
                  <a:pt x="10287" y="15494"/>
                </a:cubicBezTo>
                <a:cubicBezTo>
                  <a:pt x="10298" y="15494"/>
                  <a:pt x="10308" y="15494"/>
                  <a:pt x="10319" y="15494"/>
                </a:cubicBezTo>
              </a:path>
              <a:path w="2541" h="3113">
                <a:moveTo>
                  <a:pt x="9811" y="15780"/>
                </a:moveTo>
                <a:cubicBezTo>
                  <a:pt x="9872" y="15796"/>
                  <a:pt x="9933" y="15832"/>
                  <a:pt x="10001" y="15843"/>
                </a:cubicBezTo>
                <a:cubicBezTo>
                  <a:pt x="10085" y="15857"/>
                  <a:pt x="10172" y="15869"/>
                  <a:pt x="10255" y="15875"/>
                </a:cubicBezTo>
                <a:cubicBezTo>
                  <a:pt x="10266" y="15875"/>
                  <a:pt x="10276" y="15875"/>
                  <a:pt x="10287" y="15875"/>
                </a:cubicBezTo>
              </a:path>
              <a:path w="2541" h="3113">
                <a:moveTo>
                  <a:pt x="10509" y="14922"/>
                </a:moveTo>
                <a:cubicBezTo>
                  <a:pt x="10562" y="14949"/>
                  <a:pt x="10520" y="14949"/>
                  <a:pt x="10573" y="14922"/>
                </a:cubicBezTo>
                <a:cubicBezTo>
                  <a:pt x="10527" y="14955"/>
                  <a:pt x="10512" y="14961"/>
                  <a:pt x="10478" y="15018"/>
                </a:cubicBezTo>
                <a:cubicBezTo>
                  <a:pt x="10463" y="15042"/>
                  <a:pt x="10459" y="15087"/>
                  <a:pt x="10446" y="15113"/>
                </a:cubicBezTo>
                <a:cubicBezTo>
                  <a:pt x="10471" y="15071"/>
                  <a:pt x="10459" y="15051"/>
                  <a:pt x="10478" y="14986"/>
                </a:cubicBezTo>
                <a:cubicBezTo>
                  <a:pt x="10492" y="14937"/>
                  <a:pt x="10506" y="14914"/>
                  <a:pt x="10509" y="14859"/>
                </a:cubicBezTo>
                <a:cubicBezTo>
                  <a:pt x="10513" y="14794"/>
                  <a:pt x="10508" y="14786"/>
                  <a:pt x="10541" y="14732"/>
                </a:cubicBezTo>
                <a:cubicBezTo>
                  <a:pt x="10564" y="14695"/>
                  <a:pt x="10539" y="14729"/>
                  <a:pt x="10573" y="14764"/>
                </a:cubicBezTo>
                <a:cubicBezTo>
                  <a:pt x="10591" y="14783"/>
                  <a:pt x="10675" y="14852"/>
                  <a:pt x="10700" y="14859"/>
                </a:cubicBezTo>
                <a:cubicBezTo>
                  <a:pt x="10792" y="14885"/>
                  <a:pt x="10913" y="14842"/>
                  <a:pt x="10986" y="14827"/>
                </a:cubicBezTo>
                <a:cubicBezTo>
                  <a:pt x="11030" y="14818"/>
                  <a:pt x="11138" y="14792"/>
                  <a:pt x="11176" y="14796"/>
                </a:cubicBezTo>
                <a:cubicBezTo>
                  <a:pt x="11229" y="14802"/>
                  <a:pt x="11251" y="14857"/>
                  <a:pt x="11271" y="14891"/>
                </a:cubicBezTo>
                <a:cubicBezTo>
                  <a:pt x="11326" y="14984"/>
                  <a:pt x="11275" y="15041"/>
                  <a:pt x="11271" y="15145"/>
                </a:cubicBezTo>
                <a:cubicBezTo>
                  <a:pt x="11266" y="15274"/>
                  <a:pt x="11245" y="15403"/>
                  <a:pt x="11208" y="15526"/>
                </a:cubicBezTo>
                <a:cubicBezTo>
                  <a:pt x="11157" y="15696"/>
                  <a:pt x="11096" y="15863"/>
                  <a:pt x="11049" y="16034"/>
                </a:cubicBezTo>
                <a:cubicBezTo>
                  <a:pt x="11014" y="16160"/>
                  <a:pt x="10996" y="16286"/>
                  <a:pt x="10986" y="164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9.   What does each ? stan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762120" y="1905120"/>
                <a:ext cx="274320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·</m:t>
                              </m:r>
                              <m:sSup>
                                <m:e>
                                  <m:r>
                                    <m:t xml:space="preserve">x·x</m:t>
                                  </m:r>
                                </m:e>
                                <m:sup>
                                  <m:r>
                                    <m:t xml:space="preserve">?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f>
                                <m:num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p>
                                </m:num>
                                <m:den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?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7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7" name="Ink 5"/>
          <p:cNvSpPr/>
          <p:nvPr/>
        </p:nvSpPr>
        <p:spPr>
          <a:xfrm>
            <a:off x="4548240" y="1646280"/>
            <a:ext cx="2573280" cy="914400"/>
          </a:xfrm>
          <a:custGeom>
            <a:avLst/>
            <a:gdLst/>
            <a:ahLst/>
            <a:rect l="l" t="t" r="r" b="b"/>
            <a:pathLst>
              <a:path w="7145" h="2541">
                <a:moveTo>
                  <a:pt x="12922" y="5239"/>
                </a:moveTo>
                <a:cubicBezTo>
                  <a:pt x="12922" y="5322"/>
                  <a:pt x="12949" y="5381"/>
                  <a:pt x="12954" y="5461"/>
                </a:cubicBezTo>
                <a:cubicBezTo>
                  <a:pt x="12961" y="5577"/>
                  <a:pt x="12985" y="5698"/>
                  <a:pt x="13018" y="5810"/>
                </a:cubicBezTo>
                <a:cubicBezTo>
                  <a:pt x="13055" y="5937"/>
                  <a:pt x="13077" y="6061"/>
                  <a:pt x="13113" y="6191"/>
                </a:cubicBezTo>
                <a:cubicBezTo>
                  <a:pt x="13148" y="6315"/>
                  <a:pt x="13216" y="6447"/>
                  <a:pt x="13240" y="6572"/>
                </a:cubicBezTo>
                <a:cubicBezTo>
                  <a:pt x="13245" y="6599"/>
                  <a:pt x="13263" y="6763"/>
                  <a:pt x="13303" y="6763"/>
                </a:cubicBezTo>
                <a:cubicBezTo>
                  <a:pt x="13303" y="6752"/>
                  <a:pt x="13303" y="6742"/>
                  <a:pt x="13303" y="6731"/>
                </a:cubicBezTo>
              </a:path>
              <a:path w="7145" h="2541">
                <a:moveTo>
                  <a:pt x="13367" y="5144"/>
                </a:moveTo>
                <a:cubicBezTo>
                  <a:pt x="13337" y="5234"/>
                  <a:pt x="13309" y="5337"/>
                  <a:pt x="13272" y="5429"/>
                </a:cubicBezTo>
                <a:cubicBezTo>
                  <a:pt x="13215" y="5569"/>
                  <a:pt x="13155" y="5730"/>
                  <a:pt x="13113" y="5874"/>
                </a:cubicBezTo>
                <a:cubicBezTo>
                  <a:pt x="13057" y="6064"/>
                  <a:pt x="13025" y="6262"/>
                  <a:pt x="12954" y="6445"/>
                </a:cubicBezTo>
                <a:cubicBezTo>
                  <a:pt x="12892" y="6606"/>
                  <a:pt x="12831" y="6766"/>
                  <a:pt x="12764" y="6922"/>
                </a:cubicBezTo>
                <a:cubicBezTo>
                  <a:pt x="12718" y="7029"/>
                  <a:pt x="12715" y="7056"/>
                  <a:pt x="12636" y="7112"/>
                </a:cubicBezTo>
              </a:path>
              <a:path w="7145" h="2541">
                <a:moveTo>
                  <a:pt x="13430" y="5175"/>
                </a:moveTo>
                <a:cubicBezTo>
                  <a:pt x="13383" y="5152"/>
                  <a:pt x="13459" y="5106"/>
                  <a:pt x="13494" y="5048"/>
                </a:cubicBezTo>
                <a:cubicBezTo>
                  <a:pt x="13523" y="5001"/>
                  <a:pt x="13564" y="4915"/>
                  <a:pt x="13621" y="4890"/>
                </a:cubicBezTo>
                <a:cubicBezTo>
                  <a:pt x="13679" y="4864"/>
                  <a:pt x="13734" y="4897"/>
                  <a:pt x="13748" y="4953"/>
                </a:cubicBezTo>
                <a:cubicBezTo>
                  <a:pt x="13770" y="5038"/>
                  <a:pt x="13697" y="5158"/>
                  <a:pt x="13684" y="5239"/>
                </a:cubicBezTo>
                <a:cubicBezTo>
                  <a:pt x="13672" y="5315"/>
                  <a:pt x="13650" y="5390"/>
                  <a:pt x="13621" y="5461"/>
                </a:cubicBezTo>
                <a:cubicBezTo>
                  <a:pt x="13592" y="5533"/>
                  <a:pt x="13580" y="5565"/>
                  <a:pt x="13526" y="5620"/>
                </a:cubicBezTo>
                <a:cubicBezTo>
                  <a:pt x="13581" y="5592"/>
                  <a:pt x="13577" y="5556"/>
                  <a:pt x="13652" y="5556"/>
                </a:cubicBezTo>
                <a:cubicBezTo>
                  <a:pt x="13722" y="5556"/>
                  <a:pt x="13743" y="5571"/>
                  <a:pt x="13811" y="5588"/>
                </a:cubicBezTo>
                <a:cubicBezTo>
                  <a:pt x="13877" y="5605"/>
                  <a:pt x="13953" y="5593"/>
                  <a:pt x="14002" y="5556"/>
                </a:cubicBezTo>
              </a:path>
              <a:path w="7145" h="2541">
                <a:moveTo>
                  <a:pt x="14319" y="6032"/>
                </a:moveTo>
                <a:cubicBezTo>
                  <a:pt x="14319" y="6022"/>
                  <a:pt x="14319" y="6011"/>
                  <a:pt x="14319" y="6001"/>
                </a:cubicBezTo>
              </a:path>
              <a:path w="7145" h="2541">
                <a:moveTo>
                  <a:pt x="14319" y="6032"/>
                </a:moveTo>
                <a:cubicBezTo>
                  <a:pt x="14309" y="6043"/>
                  <a:pt x="14298" y="6053"/>
                  <a:pt x="14288" y="6064"/>
                </a:cubicBezTo>
              </a:path>
              <a:path w="7145" h="2541">
                <a:moveTo>
                  <a:pt x="14288" y="6064"/>
                </a:moveTo>
                <a:cubicBezTo>
                  <a:pt x="14249" y="6090"/>
                  <a:pt x="14256" y="6097"/>
                  <a:pt x="14256" y="6160"/>
                </a:cubicBezTo>
                <a:cubicBezTo>
                  <a:pt x="14296" y="6173"/>
                  <a:pt x="14348" y="6094"/>
                  <a:pt x="14288" y="6032"/>
                </a:cubicBezTo>
                <a:cubicBezTo>
                  <a:pt x="14260" y="6003"/>
                  <a:pt x="14270" y="6091"/>
                  <a:pt x="14288" y="6128"/>
                </a:cubicBezTo>
              </a:path>
              <a:path w="7145" h="2541">
                <a:moveTo>
                  <a:pt x="14637" y="5398"/>
                </a:moveTo>
                <a:cubicBezTo>
                  <a:pt x="14676" y="5450"/>
                  <a:pt x="14706" y="5522"/>
                  <a:pt x="14732" y="5588"/>
                </a:cubicBezTo>
                <a:cubicBezTo>
                  <a:pt x="14774" y="5694"/>
                  <a:pt x="14819" y="5800"/>
                  <a:pt x="14859" y="5906"/>
                </a:cubicBezTo>
                <a:cubicBezTo>
                  <a:pt x="14908" y="6037"/>
                  <a:pt x="14973" y="6151"/>
                  <a:pt x="15018" y="6286"/>
                </a:cubicBezTo>
                <a:cubicBezTo>
                  <a:pt x="15058" y="6404"/>
                  <a:pt x="15092" y="6523"/>
                  <a:pt x="15145" y="6636"/>
                </a:cubicBezTo>
                <a:cubicBezTo>
                  <a:pt x="15149" y="6645"/>
                  <a:pt x="15227" y="6798"/>
                  <a:pt x="15240" y="6794"/>
                </a:cubicBezTo>
                <a:cubicBezTo>
                  <a:pt x="15240" y="6763"/>
                  <a:pt x="15240" y="6752"/>
                  <a:pt x="15240" y="6731"/>
                </a:cubicBezTo>
              </a:path>
              <a:path w="7145" h="2541">
                <a:moveTo>
                  <a:pt x="15176" y="5398"/>
                </a:moveTo>
                <a:cubicBezTo>
                  <a:pt x="15166" y="5502"/>
                  <a:pt x="15147" y="5581"/>
                  <a:pt x="15113" y="5683"/>
                </a:cubicBezTo>
                <a:cubicBezTo>
                  <a:pt x="15062" y="5836"/>
                  <a:pt x="15016" y="5982"/>
                  <a:pt x="14954" y="6128"/>
                </a:cubicBezTo>
                <a:cubicBezTo>
                  <a:pt x="14884" y="6292"/>
                  <a:pt x="14803" y="6441"/>
                  <a:pt x="14732" y="6604"/>
                </a:cubicBezTo>
                <a:cubicBezTo>
                  <a:pt x="14683" y="6716"/>
                  <a:pt x="14626" y="6809"/>
                  <a:pt x="14573" y="6922"/>
                </a:cubicBezTo>
                <a:cubicBezTo>
                  <a:pt x="14551" y="6969"/>
                  <a:pt x="14542" y="6957"/>
                  <a:pt x="14510" y="6985"/>
                </a:cubicBezTo>
              </a:path>
              <a:path w="7145" h="2541">
                <a:moveTo>
                  <a:pt x="15558" y="6096"/>
                </a:moveTo>
                <a:cubicBezTo>
                  <a:pt x="15525" y="6140"/>
                  <a:pt x="15491" y="6212"/>
                  <a:pt x="15558" y="6255"/>
                </a:cubicBezTo>
                <a:cubicBezTo>
                  <a:pt x="15616" y="6292"/>
                  <a:pt x="15589" y="6145"/>
                  <a:pt x="15589" y="6128"/>
                </a:cubicBezTo>
                <a:cubicBezTo>
                  <a:pt x="15553" y="6140"/>
                  <a:pt x="15528" y="6237"/>
                  <a:pt x="15558" y="6286"/>
                </a:cubicBezTo>
                <a:cubicBezTo>
                  <a:pt x="15589" y="6286"/>
                  <a:pt x="15599" y="6286"/>
                  <a:pt x="15589" y="6255"/>
                </a:cubicBezTo>
              </a:path>
              <a:path w="7145" h="2541">
                <a:moveTo>
                  <a:pt x="15970" y="5429"/>
                </a:moveTo>
                <a:cubicBezTo>
                  <a:pt x="16033" y="5507"/>
                  <a:pt x="16076" y="5598"/>
                  <a:pt x="16129" y="5683"/>
                </a:cubicBezTo>
                <a:cubicBezTo>
                  <a:pt x="16202" y="5800"/>
                  <a:pt x="16279" y="5932"/>
                  <a:pt x="16320" y="6064"/>
                </a:cubicBezTo>
                <a:cubicBezTo>
                  <a:pt x="16362" y="6198"/>
                  <a:pt x="16422" y="6315"/>
                  <a:pt x="16478" y="6445"/>
                </a:cubicBezTo>
                <a:cubicBezTo>
                  <a:pt x="16509" y="6517"/>
                  <a:pt x="16577" y="6572"/>
                  <a:pt x="16605" y="6636"/>
                </a:cubicBezTo>
                <a:cubicBezTo>
                  <a:pt x="16622" y="6674"/>
                  <a:pt x="16609" y="6722"/>
                  <a:pt x="16637" y="6668"/>
                </a:cubicBezTo>
              </a:path>
              <a:path w="7145" h="2541">
                <a:moveTo>
                  <a:pt x="16542" y="5302"/>
                </a:moveTo>
                <a:cubicBezTo>
                  <a:pt x="16510" y="5342"/>
                  <a:pt x="16495" y="5382"/>
                  <a:pt x="16478" y="5461"/>
                </a:cubicBezTo>
                <a:cubicBezTo>
                  <a:pt x="16429" y="5689"/>
                  <a:pt x="16356" y="5906"/>
                  <a:pt x="16288" y="6128"/>
                </a:cubicBezTo>
                <a:cubicBezTo>
                  <a:pt x="16233" y="6307"/>
                  <a:pt x="16210" y="6499"/>
                  <a:pt x="16129" y="6668"/>
                </a:cubicBezTo>
                <a:cubicBezTo>
                  <a:pt x="16094" y="6742"/>
                  <a:pt x="16034" y="6929"/>
                  <a:pt x="15970" y="6985"/>
                </a:cubicBezTo>
                <a:cubicBezTo>
                  <a:pt x="15970" y="7021"/>
                  <a:pt x="15967" y="7029"/>
                  <a:pt x="15938" y="6985"/>
                </a:cubicBezTo>
              </a:path>
              <a:path w="7145" h="2541">
                <a:moveTo>
                  <a:pt x="16732" y="4794"/>
                </a:moveTo>
                <a:cubicBezTo>
                  <a:pt x="16721" y="4794"/>
                  <a:pt x="16711" y="4794"/>
                  <a:pt x="16700" y="4794"/>
                </a:cubicBezTo>
                <a:cubicBezTo>
                  <a:pt x="16713" y="4756"/>
                  <a:pt x="16727" y="4741"/>
                  <a:pt x="16764" y="4699"/>
                </a:cubicBezTo>
                <a:cubicBezTo>
                  <a:pt x="16805" y="4653"/>
                  <a:pt x="16850" y="4631"/>
                  <a:pt x="16891" y="4604"/>
                </a:cubicBezTo>
                <a:cubicBezTo>
                  <a:pt x="16902" y="4593"/>
                  <a:pt x="16912" y="4583"/>
                  <a:pt x="16923" y="4572"/>
                </a:cubicBezTo>
                <a:cubicBezTo>
                  <a:pt x="16934" y="4607"/>
                  <a:pt x="16973" y="4612"/>
                  <a:pt x="16954" y="4667"/>
                </a:cubicBezTo>
                <a:cubicBezTo>
                  <a:pt x="16931" y="4732"/>
                  <a:pt x="16908" y="4800"/>
                  <a:pt x="16891" y="4858"/>
                </a:cubicBezTo>
                <a:cubicBezTo>
                  <a:pt x="16871" y="4923"/>
                  <a:pt x="16869" y="4996"/>
                  <a:pt x="16828" y="5048"/>
                </a:cubicBezTo>
                <a:cubicBezTo>
                  <a:pt x="16817" y="5059"/>
                  <a:pt x="16807" y="5069"/>
                  <a:pt x="16796" y="5080"/>
                </a:cubicBezTo>
                <a:cubicBezTo>
                  <a:pt x="16844" y="5096"/>
                  <a:pt x="16825" y="5153"/>
                  <a:pt x="16859" y="5175"/>
                </a:cubicBezTo>
                <a:cubicBezTo>
                  <a:pt x="16891" y="5175"/>
                  <a:pt x="16902" y="5175"/>
                  <a:pt x="16891" y="5207"/>
                </a:cubicBezTo>
              </a:path>
              <a:path w="7145" h="2541">
                <a:moveTo>
                  <a:pt x="16954" y="5461"/>
                </a:moveTo>
                <a:cubicBezTo>
                  <a:pt x="16945" y="5497"/>
                  <a:pt x="16912" y="5560"/>
                  <a:pt x="16954" y="5588"/>
                </a:cubicBezTo>
                <a:cubicBezTo>
                  <a:pt x="16965" y="5588"/>
                  <a:pt x="16975" y="5588"/>
                  <a:pt x="16986" y="5588"/>
                </a:cubicBezTo>
                <a:cubicBezTo>
                  <a:pt x="17023" y="5539"/>
                  <a:pt x="17018" y="5523"/>
                  <a:pt x="17018" y="5461"/>
                </a:cubicBezTo>
                <a:cubicBezTo>
                  <a:pt x="16968" y="5478"/>
                  <a:pt x="16984" y="5511"/>
                  <a:pt x="16954" y="5556"/>
                </a:cubicBezTo>
                <a:cubicBezTo>
                  <a:pt x="16926" y="5585"/>
                  <a:pt x="16911" y="5595"/>
                  <a:pt x="16954" y="5588"/>
                </a:cubicBezTo>
              </a:path>
              <a:path w="7145" h="2541">
                <a:moveTo>
                  <a:pt x="17494" y="5747"/>
                </a:moveTo>
                <a:cubicBezTo>
                  <a:pt x="17602" y="5747"/>
                  <a:pt x="18039" y="5700"/>
                  <a:pt x="18066" y="5778"/>
                </a:cubicBezTo>
              </a:path>
              <a:path w="7145" h="2541">
                <a:moveTo>
                  <a:pt x="17621" y="6160"/>
                </a:moveTo>
                <a:cubicBezTo>
                  <a:pt x="17677" y="6201"/>
                  <a:pt x="17708" y="6217"/>
                  <a:pt x="17780" y="6223"/>
                </a:cubicBezTo>
                <a:cubicBezTo>
                  <a:pt x="17834" y="6228"/>
                  <a:pt x="17900" y="6191"/>
                  <a:pt x="17970" y="6191"/>
                </a:cubicBezTo>
                <a:cubicBezTo>
                  <a:pt x="18034" y="6191"/>
                  <a:pt x="18097" y="6191"/>
                  <a:pt x="18161" y="6191"/>
                </a:cubicBezTo>
              </a:path>
              <a:path w="7145" h="2541">
                <a:moveTo>
                  <a:pt x="18478" y="5366"/>
                </a:moveTo>
                <a:lnTo>
                  <a:pt x="18478" y="5366"/>
                </a:lnTo>
              </a:path>
              <a:path w="7145" h="2541">
                <a:moveTo>
                  <a:pt x="18478" y="5366"/>
                </a:moveTo>
                <a:cubicBezTo>
                  <a:pt x="18489" y="5398"/>
                  <a:pt x="18499" y="5429"/>
                  <a:pt x="18510" y="5461"/>
                </a:cubicBezTo>
              </a:path>
              <a:path w="7145" h="2541">
                <a:moveTo>
                  <a:pt x="18510" y="5461"/>
                </a:moveTo>
                <a:cubicBezTo>
                  <a:pt x="18552" y="5585"/>
                  <a:pt x="18582" y="5687"/>
                  <a:pt x="18637" y="5810"/>
                </a:cubicBezTo>
                <a:cubicBezTo>
                  <a:pt x="18691" y="5931"/>
                  <a:pt x="18734" y="6042"/>
                  <a:pt x="18796" y="6160"/>
                </a:cubicBezTo>
                <a:cubicBezTo>
                  <a:pt x="18842" y="6246"/>
                  <a:pt x="18874" y="6332"/>
                  <a:pt x="18923" y="6414"/>
                </a:cubicBezTo>
                <a:cubicBezTo>
                  <a:pt x="18961" y="6477"/>
                  <a:pt x="18946" y="6517"/>
                  <a:pt x="18986" y="6572"/>
                </a:cubicBezTo>
              </a:path>
              <a:path w="7145" h="2541">
                <a:moveTo>
                  <a:pt x="19082" y="5302"/>
                </a:moveTo>
                <a:lnTo>
                  <a:pt x="19082" y="5302"/>
                </a:lnTo>
              </a:path>
              <a:path w="7145" h="2541">
                <a:moveTo>
                  <a:pt x="19082" y="5302"/>
                </a:moveTo>
                <a:lnTo>
                  <a:pt x="19082" y="5302"/>
                </a:lnTo>
              </a:path>
              <a:path w="7145" h="2541">
                <a:moveTo>
                  <a:pt x="19018" y="5398"/>
                </a:moveTo>
                <a:cubicBezTo>
                  <a:pt x="18958" y="5532"/>
                  <a:pt x="18938" y="5671"/>
                  <a:pt x="18891" y="5810"/>
                </a:cubicBezTo>
                <a:cubicBezTo>
                  <a:pt x="18826" y="6001"/>
                  <a:pt x="18754" y="6187"/>
                  <a:pt x="18701" y="6382"/>
                </a:cubicBezTo>
                <a:cubicBezTo>
                  <a:pt x="18661" y="6532"/>
                  <a:pt x="18601" y="6682"/>
                  <a:pt x="18542" y="6826"/>
                </a:cubicBezTo>
                <a:cubicBezTo>
                  <a:pt x="18515" y="6892"/>
                  <a:pt x="18476" y="6924"/>
                  <a:pt x="18447" y="6953"/>
                </a:cubicBezTo>
                <a:cubicBezTo>
                  <a:pt x="18447" y="6911"/>
                  <a:pt x="18447" y="6890"/>
                  <a:pt x="18447" y="6858"/>
                </a:cubicBezTo>
              </a:path>
              <a:path w="7145" h="2541">
                <a:moveTo>
                  <a:pt x="19399" y="4858"/>
                </a:moveTo>
                <a:cubicBezTo>
                  <a:pt x="19477" y="4858"/>
                  <a:pt x="19482" y="4819"/>
                  <a:pt x="19558" y="4794"/>
                </a:cubicBezTo>
                <a:cubicBezTo>
                  <a:pt x="19611" y="4776"/>
                  <a:pt x="19654" y="4737"/>
                  <a:pt x="19717" y="4731"/>
                </a:cubicBezTo>
                <a:cubicBezTo>
                  <a:pt x="19748" y="4731"/>
                  <a:pt x="19759" y="4731"/>
                  <a:pt x="19780" y="4731"/>
                </a:cubicBezTo>
                <a:cubicBezTo>
                  <a:pt x="19780" y="4787"/>
                  <a:pt x="19768" y="4840"/>
                  <a:pt x="19748" y="4890"/>
                </a:cubicBezTo>
                <a:cubicBezTo>
                  <a:pt x="19720" y="4961"/>
                  <a:pt x="19682" y="5048"/>
                  <a:pt x="19653" y="5112"/>
                </a:cubicBezTo>
                <a:cubicBezTo>
                  <a:pt x="19634" y="5154"/>
                  <a:pt x="19612" y="5233"/>
                  <a:pt x="19590" y="5270"/>
                </a:cubicBezTo>
                <a:cubicBezTo>
                  <a:pt x="19553" y="5331"/>
                  <a:pt x="19558" y="5350"/>
                  <a:pt x="19558" y="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Ink 6"/>
          <p:cNvSpPr/>
          <p:nvPr/>
        </p:nvSpPr>
        <p:spPr>
          <a:xfrm>
            <a:off x="5451480" y="2606760"/>
            <a:ext cx="1704960" cy="662040"/>
          </a:xfrm>
          <a:custGeom>
            <a:avLst/>
            <a:gdLst/>
            <a:ahLst/>
            <a:rect l="l" t="t" r="r" b="b"/>
            <a:pathLst>
              <a:path w="4732" h="1842">
                <a:moveTo>
                  <a:pt x="15145" y="8255"/>
                </a:moveTo>
                <a:cubicBezTo>
                  <a:pt x="15145" y="8188"/>
                  <a:pt x="15170" y="8164"/>
                  <a:pt x="15176" y="8096"/>
                </a:cubicBezTo>
                <a:cubicBezTo>
                  <a:pt x="15180" y="8046"/>
                  <a:pt x="15208" y="7978"/>
                  <a:pt x="15240" y="7938"/>
                </a:cubicBezTo>
                <a:cubicBezTo>
                  <a:pt x="15263" y="7910"/>
                  <a:pt x="15325" y="7815"/>
                  <a:pt x="15335" y="7779"/>
                </a:cubicBezTo>
                <a:cubicBezTo>
                  <a:pt x="15352" y="7719"/>
                  <a:pt x="15366" y="7671"/>
                  <a:pt x="15399" y="7620"/>
                </a:cubicBezTo>
                <a:cubicBezTo>
                  <a:pt x="15430" y="7573"/>
                  <a:pt x="15477" y="7588"/>
                  <a:pt x="15526" y="7588"/>
                </a:cubicBezTo>
                <a:cubicBezTo>
                  <a:pt x="15538" y="7638"/>
                  <a:pt x="15558" y="7658"/>
                  <a:pt x="15558" y="7715"/>
                </a:cubicBezTo>
              </a:path>
              <a:path w="4732" h="1842">
                <a:moveTo>
                  <a:pt x="15558" y="7810"/>
                </a:moveTo>
                <a:cubicBezTo>
                  <a:pt x="15543" y="7884"/>
                  <a:pt x="15506" y="7959"/>
                  <a:pt x="15494" y="8033"/>
                </a:cubicBezTo>
                <a:cubicBezTo>
                  <a:pt x="15478" y="8129"/>
                  <a:pt x="15444" y="8220"/>
                  <a:pt x="15430" y="8318"/>
                </a:cubicBezTo>
                <a:cubicBezTo>
                  <a:pt x="15414" y="8430"/>
                  <a:pt x="15353" y="8527"/>
                  <a:pt x="15335" y="8636"/>
                </a:cubicBezTo>
                <a:cubicBezTo>
                  <a:pt x="15322" y="8713"/>
                  <a:pt x="15301" y="8787"/>
                  <a:pt x="15272" y="8858"/>
                </a:cubicBezTo>
                <a:cubicBezTo>
                  <a:pt x="15251" y="8910"/>
                  <a:pt x="15232" y="9007"/>
                  <a:pt x="15208" y="9049"/>
                </a:cubicBezTo>
                <a:cubicBezTo>
                  <a:pt x="15163" y="9128"/>
                  <a:pt x="15172" y="9078"/>
                  <a:pt x="15176" y="9049"/>
                </a:cubicBezTo>
                <a:cubicBezTo>
                  <a:pt x="15184" y="8987"/>
                  <a:pt x="15194" y="8981"/>
                  <a:pt x="15208" y="8954"/>
                </a:cubicBezTo>
                <a:cubicBezTo>
                  <a:pt x="15223" y="8925"/>
                  <a:pt x="15211" y="8845"/>
                  <a:pt x="15240" y="8826"/>
                </a:cubicBezTo>
                <a:cubicBezTo>
                  <a:pt x="15264" y="8810"/>
                  <a:pt x="15294" y="8777"/>
                  <a:pt x="15335" y="8763"/>
                </a:cubicBezTo>
                <a:cubicBezTo>
                  <a:pt x="15397" y="8742"/>
                  <a:pt x="15412" y="8786"/>
                  <a:pt x="15430" y="8795"/>
                </a:cubicBezTo>
                <a:cubicBezTo>
                  <a:pt x="15452" y="8806"/>
                  <a:pt x="15507" y="8820"/>
                  <a:pt x="15526" y="8858"/>
                </a:cubicBezTo>
                <a:cubicBezTo>
                  <a:pt x="15542" y="8889"/>
                  <a:pt x="15584" y="8944"/>
                  <a:pt x="15589" y="8954"/>
                </a:cubicBezTo>
                <a:cubicBezTo>
                  <a:pt x="15605" y="8987"/>
                  <a:pt x="15630" y="9011"/>
                  <a:pt x="15684" y="9017"/>
                </a:cubicBezTo>
                <a:cubicBezTo>
                  <a:pt x="15724" y="9021"/>
                  <a:pt x="15770" y="9004"/>
                  <a:pt x="15780" y="8985"/>
                </a:cubicBezTo>
                <a:cubicBezTo>
                  <a:pt x="15799" y="8947"/>
                  <a:pt x="15800" y="8937"/>
                  <a:pt x="15843" y="8922"/>
                </a:cubicBezTo>
              </a:path>
              <a:path w="4732" h="1842">
                <a:moveTo>
                  <a:pt x="16192" y="7969"/>
                </a:moveTo>
                <a:cubicBezTo>
                  <a:pt x="16192" y="8097"/>
                  <a:pt x="16254" y="8763"/>
                  <a:pt x="16161" y="8795"/>
                </a:cubicBezTo>
              </a:path>
              <a:path w="4732" h="1842">
                <a:moveTo>
                  <a:pt x="15970" y="8414"/>
                </a:moveTo>
                <a:cubicBezTo>
                  <a:pt x="16073" y="8414"/>
                  <a:pt x="16169" y="8400"/>
                  <a:pt x="16256" y="8382"/>
                </a:cubicBezTo>
                <a:cubicBezTo>
                  <a:pt x="16335" y="8366"/>
                  <a:pt x="16340" y="8361"/>
                  <a:pt x="16415" y="8318"/>
                </a:cubicBezTo>
              </a:path>
              <a:path w="4732" h="1842">
                <a:moveTo>
                  <a:pt x="16732" y="7525"/>
                </a:moveTo>
                <a:cubicBezTo>
                  <a:pt x="16721" y="7525"/>
                  <a:pt x="16711" y="7525"/>
                  <a:pt x="16700" y="7525"/>
                </a:cubicBezTo>
              </a:path>
              <a:path w="4732" h="1842">
                <a:moveTo>
                  <a:pt x="16732" y="7525"/>
                </a:moveTo>
                <a:lnTo>
                  <a:pt x="16732" y="7525"/>
                </a:lnTo>
              </a:path>
              <a:path w="4732" h="1842">
                <a:moveTo>
                  <a:pt x="16700" y="7684"/>
                </a:moveTo>
                <a:cubicBezTo>
                  <a:pt x="16700" y="7819"/>
                  <a:pt x="16718" y="7936"/>
                  <a:pt x="16732" y="8064"/>
                </a:cubicBezTo>
                <a:cubicBezTo>
                  <a:pt x="16761" y="8323"/>
                  <a:pt x="16731" y="8610"/>
                  <a:pt x="16700" y="8858"/>
                </a:cubicBezTo>
                <a:cubicBezTo>
                  <a:pt x="16700" y="8932"/>
                  <a:pt x="16700" y="8943"/>
                  <a:pt x="16700" y="8985"/>
                </a:cubicBezTo>
              </a:path>
              <a:path w="4732" h="1842">
                <a:moveTo>
                  <a:pt x="17431" y="8001"/>
                </a:moveTo>
                <a:cubicBezTo>
                  <a:pt x="17444" y="8120"/>
                  <a:pt x="17462" y="8227"/>
                  <a:pt x="17462" y="8350"/>
                </a:cubicBezTo>
                <a:cubicBezTo>
                  <a:pt x="17462" y="8488"/>
                  <a:pt x="17460" y="8603"/>
                  <a:pt x="17431" y="8731"/>
                </a:cubicBezTo>
                <a:cubicBezTo>
                  <a:pt x="17431" y="8763"/>
                  <a:pt x="17431" y="8774"/>
                  <a:pt x="17431" y="8795"/>
                </a:cubicBezTo>
              </a:path>
              <a:path w="4732" h="1842">
                <a:moveTo>
                  <a:pt x="17177" y="8446"/>
                </a:moveTo>
                <a:cubicBezTo>
                  <a:pt x="17231" y="8486"/>
                  <a:pt x="17265" y="8477"/>
                  <a:pt x="17336" y="8477"/>
                </a:cubicBezTo>
                <a:cubicBezTo>
                  <a:pt x="17430" y="8477"/>
                  <a:pt x="17424" y="8459"/>
                  <a:pt x="17494" y="8414"/>
                </a:cubicBezTo>
                <a:cubicBezTo>
                  <a:pt x="17550" y="8386"/>
                  <a:pt x="17565" y="8381"/>
                  <a:pt x="17590" y="8350"/>
                </a:cubicBezTo>
              </a:path>
              <a:path w="4732" h="1842">
                <a:moveTo>
                  <a:pt x="18224" y="7334"/>
                </a:moveTo>
                <a:cubicBezTo>
                  <a:pt x="18286" y="7396"/>
                  <a:pt x="18288" y="7404"/>
                  <a:pt x="18288" y="7493"/>
                </a:cubicBezTo>
                <a:cubicBezTo>
                  <a:pt x="18288" y="7593"/>
                  <a:pt x="18259" y="7716"/>
                  <a:pt x="18224" y="7810"/>
                </a:cubicBezTo>
                <a:cubicBezTo>
                  <a:pt x="18187" y="7910"/>
                  <a:pt x="18116" y="7974"/>
                  <a:pt x="18066" y="8064"/>
                </a:cubicBezTo>
                <a:cubicBezTo>
                  <a:pt x="18038" y="8115"/>
                  <a:pt x="17987" y="8174"/>
                  <a:pt x="17970" y="8223"/>
                </a:cubicBezTo>
                <a:cubicBezTo>
                  <a:pt x="17970" y="8255"/>
                  <a:pt x="17970" y="8266"/>
                  <a:pt x="18002" y="8255"/>
                </a:cubicBezTo>
              </a:path>
              <a:path w="4732" h="1842">
                <a:moveTo>
                  <a:pt x="18066" y="8826"/>
                </a:moveTo>
                <a:cubicBezTo>
                  <a:pt x="18018" y="8842"/>
                  <a:pt x="18034" y="8865"/>
                  <a:pt x="18034" y="8922"/>
                </a:cubicBezTo>
                <a:cubicBezTo>
                  <a:pt x="18034" y="8974"/>
                  <a:pt x="18050" y="8939"/>
                  <a:pt x="18066" y="8985"/>
                </a:cubicBezTo>
                <a:cubicBezTo>
                  <a:pt x="18092" y="8951"/>
                  <a:pt x="18116" y="8898"/>
                  <a:pt x="18129" y="8858"/>
                </a:cubicBezTo>
                <a:cubicBezTo>
                  <a:pt x="18129" y="8822"/>
                  <a:pt x="18126" y="8809"/>
                  <a:pt x="18098" y="8795"/>
                </a:cubicBezTo>
                <a:cubicBezTo>
                  <a:pt x="18061" y="8807"/>
                  <a:pt x="18040" y="8838"/>
                  <a:pt x="18034" y="8890"/>
                </a:cubicBezTo>
                <a:cubicBezTo>
                  <a:pt x="18033" y="8898"/>
                  <a:pt x="18028" y="9034"/>
                  <a:pt x="18066" y="8985"/>
                </a:cubicBezTo>
                <a:cubicBezTo>
                  <a:pt x="18066" y="8949"/>
                  <a:pt x="18069" y="8936"/>
                  <a:pt x="18098" y="8922"/>
                </a:cubicBezTo>
              </a:path>
              <a:path w="4732" h="1842">
                <a:moveTo>
                  <a:pt x="17844" y="7430"/>
                </a:moveTo>
                <a:cubicBezTo>
                  <a:pt x="17844" y="7461"/>
                  <a:pt x="17844" y="7472"/>
                  <a:pt x="17812" y="7461"/>
                </a:cubicBezTo>
                <a:cubicBezTo>
                  <a:pt x="17825" y="7425"/>
                  <a:pt x="17839" y="7407"/>
                  <a:pt x="17875" y="7366"/>
                </a:cubicBezTo>
                <a:cubicBezTo>
                  <a:pt x="17917" y="7319"/>
                  <a:pt x="17973" y="7246"/>
                  <a:pt x="18034" y="7239"/>
                </a:cubicBezTo>
                <a:cubicBezTo>
                  <a:pt x="18091" y="7233"/>
                  <a:pt x="18125" y="7241"/>
                  <a:pt x="18129" y="7302"/>
                </a:cubicBezTo>
                <a:cubicBezTo>
                  <a:pt x="18133" y="7366"/>
                  <a:pt x="18189" y="7459"/>
                  <a:pt x="18161" y="7525"/>
                </a:cubicBezTo>
                <a:cubicBezTo>
                  <a:pt x="18132" y="7553"/>
                  <a:pt x="18121" y="7559"/>
                  <a:pt x="18129" y="7588"/>
                </a:cubicBezTo>
              </a:path>
              <a:path w="4732" h="1842">
                <a:moveTo>
                  <a:pt x="18669" y="8033"/>
                </a:moveTo>
                <a:cubicBezTo>
                  <a:pt x="18746" y="8033"/>
                  <a:pt x="18788" y="8014"/>
                  <a:pt x="18860" y="8001"/>
                </a:cubicBezTo>
                <a:cubicBezTo>
                  <a:pt x="18936" y="7987"/>
                  <a:pt x="18967" y="7969"/>
                  <a:pt x="19050" y="7969"/>
                </a:cubicBezTo>
              </a:path>
              <a:path w="4732" h="1842">
                <a:moveTo>
                  <a:pt x="18637" y="8350"/>
                </a:moveTo>
                <a:cubicBezTo>
                  <a:pt x="18648" y="8361"/>
                  <a:pt x="18658" y="8371"/>
                  <a:pt x="18669" y="8382"/>
                </a:cubicBezTo>
                <a:cubicBezTo>
                  <a:pt x="18728" y="8347"/>
                  <a:pt x="18768" y="8371"/>
                  <a:pt x="18828" y="8350"/>
                </a:cubicBezTo>
                <a:cubicBezTo>
                  <a:pt x="18895" y="8326"/>
                  <a:pt x="18954" y="8339"/>
                  <a:pt x="19018" y="8318"/>
                </a:cubicBezTo>
                <a:cubicBezTo>
                  <a:pt x="19039" y="8308"/>
                  <a:pt x="19061" y="8297"/>
                  <a:pt x="19082" y="8287"/>
                </a:cubicBezTo>
              </a:path>
              <a:path w="4732" h="1842">
                <a:moveTo>
                  <a:pt x="19272" y="7588"/>
                </a:moveTo>
                <a:cubicBezTo>
                  <a:pt x="19336" y="7588"/>
                  <a:pt x="19373" y="7594"/>
                  <a:pt x="19431" y="7556"/>
                </a:cubicBezTo>
                <a:cubicBezTo>
                  <a:pt x="19481" y="7523"/>
                  <a:pt x="19588" y="7476"/>
                  <a:pt x="19653" y="7461"/>
                </a:cubicBezTo>
                <a:cubicBezTo>
                  <a:pt x="19716" y="7447"/>
                  <a:pt x="19778" y="7430"/>
                  <a:pt x="19844" y="7430"/>
                </a:cubicBezTo>
                <a:cubicBezTo>
                  <a:pt x="19855" y="7430"/>
                  <a:pt x="19865" y="7430"/>
                  <a:pt x="19876" y="7430"/>
                </a:cubicBezTo>
                <a:cubicBezTo>
                  <a:pt x="19876" y="7514"/>
                  <a:pt x="19854" y="7576"/>
                  <a:pt x="19844" y="7652"/>
                </a:cubicBezTo>
                <a:cubicBezTo>
                  <a:pt x="19826" y="7787"/>
                  <a:pt x="19792" y="7901"/>
                  <a:pt x="19748" y="8033"/>
                </a:cubicBezTo>
                <a:cubicBezTo>
                  <a:pt x="19709" y="8150"/>
                  <a:pt x="19690" y="8291"/>
                  <a:pt x="19685" y="8414"/>
                </a:cubicBezTo>
                <a:cubicBezTo>
                  <a:pt x="19681" y="8514"/>
                  <a:pt x="19661" y="8600"/>
                  <a:pt x="19653" y="8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Ink 7"/>
          <p:cNvSpPr/>
          <p:nvPr/>
        </p:nvSpPr>
        <p:spPr>
          <a:xfrm>
            <a:off x="320760" y="1874880"/>
            <a:ext cx="5954760" cy="3486240"/>
          </a:xfrm>
          <a:custGeom>
            <a:avLst/>
            <a:gdLst/>
            <a:ahLst/>
            <a:rect l="l" t="t" r="r" b="b"/>
            <a:pathLst>
              <a:path w="16543" h="9685">
                <a:moveTo>
                  <a:pt x="2254" y="6953"/>
                </a:moveTo>
                <a:lnTo>
                  <a:pt x="2254" y="6953"/>
                </a:lnTo>
              </a:path>
              <a:path w="16543" h="9685">
                <a:moveTo>
                  <a:pt x="2254" y="6953"/>
                </a:moveTo>
                <a:cubicBezTo>
                  <a:pt x="2254" y="6943"/>
                  <a:pt x="2254" y="6932"/>
                  <a:pt x="2254" y="6922"/>
                </a:cubicBezTo>
              </a:path>
              <a:path w="16543" h="9685">
                <a:moveTo>
                  <a:pt x="2254" y="6922"/>
                </a:moveTo>
                <a:cubicBezTo>
                  <a:pt x="2265" y="6901"/>
                  <a:pt x="2275" y="6879"/>
                  <a:pt x="2286" y="6858"/>
                </a:cubicBezTo>
              </a:path>
              <a:path w="16543" h="9685">
                <a:moveTo>
                  <a:pt x="2286" y="6858"/>
                </a:moveTo>
                <a:cubicBezTo>
                  <a:pt x="2306" y="6839"/>
                  <a:pt x="2341" y="6797"/>
                  <a:pt x="2381" y="6763"/>
                </a:cubicBezTo>
                <a:cubicBezTo>
                  <a:pt x="2479" y="6679"/>
                  <a:pt x="2558" y="6631"/>
                  <a:pt x="2667" y="6572"/>
                </a:cubicBezTo>
                <a:cubicBezTo>
                  <a:pt x="2732" y="6537"/>
                  <a:pt x="2785" y="6500"/>
                  <a:pt x="2858" y="6477"/>
                </a:cubicBezTo>
                <a:cubicBezTo>
                  <a:pt x="2913" y="6460"/>
                  <a:pt x="2999" y="6422"/>
                  <a:pt x="3048" y="6414"/>
                </a:cubicBezTo>
                <a:cubicBezTo>
                  <a:pt x="3163" y="6396"/>
                  <a:pt x="3282" y="6400"/>
                  <a:pt x="3397" y="6382"/>
                </a:cubicBezTo>
                <a:cubicBezTo>
                  <a:pt x="3482" y="6369"/>
                  <a:pt x="3567" y="6357"/>
                  <a:pt x="3651" y="6350"/>
                </a:cubicBezTo>
                <a:cubicBezTo>
                  <a:pt x="3815" y="6337"/>
                  <a:pt x="3976" y="6373"/>
                  <a:pt x="4128" y="6382"/>
                </a:cubicBezTo>
                <a:cubicBezTo>
                  <a:pt x="4240" y="6388"/>
                  <a:pt x="4339" y="6387"/>
                  <a:pt x="4445" y="6414"/>
                </a:cubicBezTo>
                <a:cubicBezTo>
                  <a:pt x="4529" y="6436"/>
                  <a:pt x="4616" y="6454"/>
                  <a:pt x="4699" y="6477"/>
                </a:cubicBezTo>
                <a:cubicBezTo>
                  <a:pt x="4786" y="6501"/>
                  <a:pt x="4869" y="6544"/>
                  <a:pt x="4953" y="6572"/>
                </a:cubicBezTo>
                <a:cubicBezTo>
                  <a:pt x="5038" y="6600"/>
                  <a:pt x="5119" y="6632"/>
                  <a:pt x="5207" y="6668"/>
                </a:cubicBezTo>
                <a:cubicBezTo>
                  <a:pt x="5263" y="6691"/>
                  <a:pt x="5339" y="6702"/>
                  <a:pt x="5398" y="6731"/>
                </a:cubicBezTo>
                <a:cubicBezTo>
                  <a:pt x="5461" y="6762"/>
                  <a:pt x="5533" y="6797"/>
                  <a:pt x="5588" y="6826"/>
                </a:cubicBezTo>
                <a:cubicBezTo>
                  <a:pt x="5665" y="6867"/>
                  <a:pt x="5737" y="6918"/>
                  <a:pt x="5810" y="6953"/>
                </a:cubicBezTo>
                <a:cubicBezTo>
                  <a:pt x="5884" y="6989"/>
                  <a:pt x="5958" y="6991"/>
                  <a:pt x="6032" y="7017"/>
                </a:cubicBezTo>
                <a:cubicBezTo>
                  <a:pt x="6094" y="7038"/>
                  <a:pt x="6164" y="7091"/>
                  <a:pt x="6223" y="7112"/>
                </a:cubicBezTo>
                <a:cubicBezTo>
                  <a:pt x="6292" y="7137"/>
                  <a:pt x="6381" y="7190"/>
                  <a:pt x="6445" y="7207"/>
                </a:cubicBezTo>
                <a:cubicBezTo>
                  <a:pt x="6518" y="7226"/>
                  <a:pt x="6593" y="7224"/>
                  <a:pt x="6668" y="7239"/>
                </a:cubicBezTo>
                <a:cubicBezTo>
                  <a:pt x="6766" y="7259"/>
                  <a:pt x="6849" y="7260"/>
                  <a:pt x="6953" y="7271"/>
                </a:cubicBezTo>
                <a:cubicBezTo>
                  <a:pt x="7041" y="7280"/>
                  <a:pt x="7146" y="7290"/>
                  <a:pt x="7239" y="7302"/>
                </a:cubicBezTo>
                <a:cubicBezTo>
                  <a:pt x="7329" y="7313"/>
                  <a:pt x="7429" y="7323"/>
                  <a:pt x="7525" y="7334"/>
                </a:cubicBezTo>
                <a:cubicBezTo>
                  <a:pt x="7642" y="7347"/>
                  <a:pt x="7784" y="7391"/>
                  <a:pt x="7906" y="7398"/>
                </a:cubicBezTo>
                <a:cubicBezTo>
                  <a:pt x="8217" y="7415"/>
                  <a:pt x="8560" y="7417"/>
                  <a:pt x="8858" y="7366"/>
                </a:cubicBezTo>
                <a:cubicBezTo>
                  <a:pt x="8970" y="7347"/>
                  <a:pt x="9064" y="7333"/>
                  <a:pt x="9176" y="7302"/>
                </a:cubicBezTo>
                <a:cubicBezTo>
                  <a:pt x="9267" y="7277"/>
                  <a:pt x="9341" y="7245"/>
                  <a:pt x="9430" y="7207"/>
                </a:cubicBezTo>
                <a:cubicBezTo>
                  <a:pt x="9547" y="7156"/>
                  <a:pt x="9646" y="7089"/>
                  <a:pt x="9747" y="7017"/>
                </a:cubicBezTo>
                <a:cubicBezTo>
                  <a:pt x="9866" y="6933"/>
                  <a:pt x="9972" y="6834"/>
                  <a:pt x="10065" y="6731"/>
                </a:cubicBezTo>
                <a:cubicBezTo>
                  <a:pt x="10127" y="6662"/>
                  <a:pt x="10185" y="6602"/>
                  <a:pt x="10224" y="6509"/>
                </a:cubicBezTo>
                <a:cubicBezTo>
                  <a:pt x="10246" y="6457"/>
                  <a:pt x="10284" y="6311"/>
                  <a:pt x="10287" y="6255"/>
                </a:cubicBezTo>
                <a:cubicBezTo>
                  <a:pt x="10291" y="6185"/>
                  <a:pt x="10241" y="6061"/>
                  <a:pt x="10224" y="6001"/>
                </a:cubicBezTo>
                <a:cubicBezTo>
                  <a:pt x="10191" y="5887"/>
                  <a:pt x="10168" y="5871"/>
                  <a:pt x="10096" y="5778"/>
                </a:cubicBezTo>
                <a:cubicBezTo>
                  <a:pt x="10047" y="5715"/>
                  <a:pt x="9996" y="5636"/>
                  <a:pt x="9938" y="5588"/>
                </a:cubicBezTo>
                <a:cubicBezTo>
                  <a:pt x="9884" y="5543"/>
                  <a:pt x="9781" y="5491"/>
                  <a:pt x="9716" y="5461"/>
                </a:cubicBezTo>
                <a:cubicBezTo>
                  <a:pt x="9636" y="5424"/>
                  <a:pt x="9487" y="5381"/>
                  <a:pt x="9398" y="5366"/>
                </a:cubicBezTo>
                <a:cubicBezTo>
                  <a:pt x="9258" y="5343"/>
                  <a:pt x="9115" y="5377"/>
                  <a:pt x="8985" y="5398"/>
                </a:cubicBezTo>
                <a:cubicBezTo>
                  <a:pt x="8882" y="5414"/>
                  <a:pt x="8771" y="5452"/>
                  <a:pt x="8668" y="5461"/>
                </a:cubicBezTo>
                <a:cubicBezTo>
                  <a:pt x="8539" y="5472"/>
                  <a:pt x="8444" y="5495"/>
                  <a:pt x="8318" y="5524"/>
                </a:cubicBezTo>
                <a:cubicBezTo>
                  <a:pt x="8203" y="5550"/>
                  <a:pt x="8088" y="5593"/>
                  <a:pt x="7969" y="5620"/>
                </a:cubicBezTo>
                <a:cubicBezTo>
                  <a:pt x="7867" y="5643"/>
                  <a:pt x="7721" y="5675"/>
                  <a:pt x="7620" y="5683"/>
                </a:cubicBezTo>
                <a:cubicBezTo>
                  <a:pt x="7407" y="5699"/>
                  <a:pt x="7191" y="5683"/>
                  <a:pt x="6985" y="5652"/>
                </a:cubicBezTo>
                <a:cubicBezTo>
                  <a:pt x="6887" y="5637"/>
                  <a:pt x="6797" y="5617"/>
                  <a:pt x="6699" y="5588"/>
                </a:cubicBezTo>
                <a:cubicBezTo>
                  <a:pt x="6611" y="5562"/>
                  <a:pt x="6534" y="5524"/>
                  <a:pt x="6445" y="5493"/>
                </a:cubicBezTo>
                <a:cubicBezTo>
                  <a:pt x="6381" y="5471"/>
                  <a:pt x="6291" y="5454"/>
                  <a:pt x="6223" y="5429"/>
                </a:cubicBezTo>
                <a:cubicBezTo>
                  <a:pt x="6133" y="5396"/>
                  <a:pt x="6059" y="5358"/>
                  <a:pt x="5969" y="5334"/>
                </a:cubicBezTo>
                <a:cubicBezTo>
                  <a:pt x="5840" y="5300"/>
                  <a:pt x="5717" y="5292"/>
                  <a:pt x="5588" y="5270"/>
                </a:cubicBezTo>
                <a:cubicBezTo>
                  <a:pt x="5488" y="5253"/>
                  <a:pt x="5408" y="5241"/>
                  <a:pt x="5302" y="5239"/>
                </a:cubicBezTo>
                <a:cubicBezTo>
                  <a:pt x="4973" y="5232"/>
                  <a:pt x="4637" y="5227"/>
                  <a:pt x="4318" y="5207"/>
                </a:cubicBezTo>
                <a:cubicBezTo>
                  <a:pt x="4134" y="5195"/>
                  <a:pt x="3951" y="5229"/>
                  <a:pt x="3778" y="5239"/>
                </a:cubicBezTo>
                <a:cubicBezTo>
                  <a:pt x="3665" y="5246"/>
                  <a:pt x="3569" y="5251"/>
                  <a:pt x="3461" y="5270"/>
                </a:cubicBezTo>
                <a:cubicBezTo>
                  <a:pt x="3353" y="5289"/>
                  <a:pt x="3276" y="5334"/>
                  <a:pt x="3175" y="5366"/>
                </a:cubicBezTo>
                <a:cubicBezTo>
                  <a:pt x="3082" y="5396"/>
                  <a:pt x="3009" y="5416"/>
                  <a:pt x="2921" y="5461"/>
                </a:cubicBezTo>
                <a:cubicBezTo>
                  <a:pt x="2816" y="5515"/>
                  <a:pt x="2756" y="5570"/>
                  <a:pt x="2667" y="5652"/>
                </a:cubicBezTo>
                <a:cubicBezTo>
                  <a:pt x="2605" y="5709"/>
                  <a:pt x="2530" y="5767"/>
                  <a:pt x="2476" y="5842"/>
                </a:cubicBezTo>
                <a:cubicBezTo>
                  <a:pt x="2432" y="5903"/>
                  <a:pt x="2381" y="5995"/>
                  <a:pt x="2350" y="6064"/>
                </a:cubicBezTo>
                <a:cubicBezTo>
                  <a:pt x="2312" y="6148"/>
                  <a:pt x="2271" y="6229"/>
                  <a:pt x="2254" y="6318"/>
                </a:cubicBezTo>
                <a:cubicBezTo>
                  <a:pt x="2240" y="6390"/>
                  <a:pt x="2251" y="6454"/>
                  <a:pt x="2286" y="6509"/>
                </a:cubicBezTo>
                <a:cubicBezTo>
                  <a:pt x="2310" y="6548"/>
                  <a:pt x="2331" y="6546"/>
                  <a:pt x="2381" y="6572"/>
                </a:cubicBezTo>
                <a:cubicBezTo>
                  <a:pt x="2458" y="6611"/>
                  <a:pt x="2514" y="6592"/>
                  <a:pt x="2604" y="6604"/>
                </a:cubicBezTo>
                <a:cubicBezTo>
                  <a:pt x="2640" y="6609"/>
                  <a:pt x="2746" y="6624"/>
                  <a:pt x="2794" y="6636"/>
                </a:cubicBezTo>
                <a:cubicBezTo>
                  <a:pt x="2843" y="6648"/>
                  <a:pt x="2901" y="6684"/>
                  <a:pt x="2953" y="6699"/>
                </a:cubicBezTo>
              </a:path>
              <a:path w="16543" h="9685">
                <a:moveTo>
                  <a:pt x="4699" y="6445"/>
                </a:moveTo>
                <a:cubicBezTo>
                  <a:pt x="4605" y="6440"/>
                  <a:pt x="4530" y="6419"/>
                  <a:pt x="4445" y="6414"/>
                </a:cubicBezTo>
                <a:cubicBezTo>
                  <a:pt x="4322" y="6407"/>
                  <a:pt x="4213" y="6427"/>
                  <a:pt x="4096" y="6445"/>
                </a:cubicBezTo>
                <a:cubicBezTo>
                  <a:pt x="3996" y="6460"/>
                  <a:pt x="3904" y="6473"/>
                  <a:pt x="3810" y="6509"/>
                </a:cubicBezTo>
                <a:cubicBezTo>
                  <a:pt x="3615" y="6584"/>
                  <a:pt x="3483" y="6693"/>
                  <a:pt x="3366" y="6858"/>
                </a:cubicBezTo>
                <a:cubicBezTo>
                  <a:pt x="3298" y="6953"/>
                  <a:pt x="3239" y="7044"/>
                  <a:pt x="3175" y="7144"/>
                </a:cubicBezTo>
                <a:cubicBezTo>
                  <a:pt x="3109" y="7247"/>
                  <a:pt x="3059" y="7347"/>
                  <a:pt x="3016" y="7461"/>
                </a:cubicBezTo>
                <a:cubicBezTo>
                  <a:pt x="2930" y="7688"/>
                  <a:pt x="2801" y="7953"/>
                  <a:pt x="2762" y="8192"/>
                </a:cubicBezTo>
                <a:cubicBezTo>
                  <a:pt x="2730" y="8388"/>
                  <a:pt x="2739" y="8670"/>
                  <a:pt x="2794" y="8858"/>
                </a:cubicBezTo>
                <a:cubicBezTo>
                  <a:pt x="2819" y="8944"/>
                  <a:pt x="2893" y="9031"/>
                  <a:pt x="2921" y="9080"/>
                </a:cubicBezTo>
                <a:cubicBezTo>
                  <a:pt x="2984" y="9189"/>
                  <a:pt x="3031" y="9274"/>
                  <a:pt x="3143" y="9334"/>
                </a:cubicBezTo>
                <a:cubicBezTo>
                  <a:pt x="3206" y="9368"/>
                  <a:pt x="3338" y="9442"/>
                  <a:pt x="3397" y="9462"/>
                </a:cubicBezTo>
                <a:cubicBezTo>
                  <a:pt x="3490" y="9493"/>
                  <a:pt x="3585" y="9479"/>
                  <a:pt x="3683" y="9493"/>
                </a:cubicBezTo>
                <a:cubicBezTo>
                  <a:pt x="3781" y="9507"/>
                  <a:pt x="3865" y="9523"/>
                  <a:pt x="3969" y="9525"/>
                </a:cubicBezTo>
                <a:cubicBezTo>
                  <a:pt x="4083" y="9527"/>
                  <a:pt x="4176" y="9500"/>
                  <a:pt x="4286" y="9493"/>
                </a:cubicBezTo>
                <a:cubicBezTo>
                  <a:pt x="4385" y="9486"/>
                  <a:pt x="4479" y="9489"/>
                  <a:pt x="4572" y="9462"/>
                </a:cubicBezTo>
                <a:cubicBezTo>
                  <a:pt x="4660" y="9436"/>
                  <a:pt x="4733" y="9395"/>
                  <a:pt x="4826" y="9366"/>
                </a:cubicBezTo>
                <a:cubicBezTo>
                  <a:pt x="4929" y="9334"/>
                  <a:pt x="5009" y="9328"/>
                  <a:pt x="5112" y="9271"/>
                </a:cubicBezTo>
                <a:cubicBezTo>
                  <a:pt x="5208" y="9217"/>
                  <a:pt x="5302" y="9133"/>
                  <a:pt x="5398" y="9080"/>
                </a:cubicBezTo>
                <a:cubicBezTo>
                  <a:pt x="5567" y="8987"/>
                  <a:pt x="5757" y="8907"/>
                  <a:pt x="5937" y="8858"/>
                </a:cubicBezTo>
                <a:cubicBezTo>
                  <a:pt x="6051" y="8827"/>
                  <a:pt x="6171" y="8804"/>
                  <a:pt x="6286" y="8795"/>
                </a:cubicBezTo>
                <a:cubicBezTo>
                  <a:pt x="6391" y="8786"/>
                  <a:pt x="6474" y="8810"/>
                  <a:pt x="6572" y="8826"/>
                </a:cubicBezTo>
                <a:cubicBezTo>
                  <a:pt x="6669" y="8842"/>
                  <a:pt x="6761" y="8842"/>
                  <a:pt x="6858" y="8858"/>
                </a:cubicBezTo>
                <a:cubicBezTo>
                  <a:pt x="6956" y="8875"/>
                  <a:pt x="7048" y="8904"/>
                  <a:pt x="7144" y="8922"/>
                </a:cubicBezTo>
                <a:cubicBezTo>
                  <a:pt x="7290" y="8950"/>
                  <a:pt x="7443" y="8976"/>
                  <a:pt x="7588" y="8985"/>
                </a:cubicBezTo>
                <a:cubicBezTo>
                  <a:pt x="7712" y="8993"/>
                  <a:pt x="7823" y="8969"/>
                  <a:pt x="7938" y="8954"/>
                </a:cubicBezTo>
                <a:cubicBezTo>
                  <a:pt x="8033" y="8942"/>
                  <a:pt x="8131" y="8947"/>
                  <a:pt x="8223" y="8922"/>
                </a:cubicBezTo>
                <a:cubicBezTo>
                  <a:pt x="8310" y="8898"/>
                  <a:pt x="8388" y="8876"/>
                  <a:pt x="8477" y="8858"/>
                </a:cubicBezTo>
                <a:cubicBezTo>
                  <a:pt x="8583" y="8837"/>
                  <a:pt x="8662" y="8792"/>
                  <a:pt x="8763" y="8763"/>
                </a:cubicBezTo>
                <a:cubicBezTo>
                  <a:pt x="8847" y="8739"/>
                  <a:pt x="8970" y="8734"/>
                  <a:pt x="9049" y="8700"/>
                </a:cubicBezTo>
                <a:cubicBezTo>
                  <a:pt x="9130" y="8665"/>
                  <a:pt x="9195" y="8614"/>
                  <a:pt x="9271" y="8572"/>
                </a:cubicBezTo>
                <a:cubicBezTo>
                  <a:pt x="9358" y="8524"/>
                  <a:pt x="9399" y="8483"/>
                  <a:pt x="9462" y="8414"/>
                </a:cubicBezTo>
                <a:cubicBezTo>
                  <a:pt x="9505" y="8367"/>
                  <a:pt x="9569" y="8286"/>
                  <a:pt x="9588" y="8223"/>
                </a:cubicBezTo>
                <a:cubicBezTo>
                  <a:pt x="9609" y="8151"/>
                  <a:pt x="9588" y="8033"/>
                  <a:pt x="9557" y="7969"/>
                </a:cubicBezTo>
                <a:cubicBezTo>
                  <a:pt x="9526" y="7905"/>
                  <a:pt x="9449" y="7816"/>
                  <a:pt x="9398" y="7779"/>
                </a:cubicBezTo>
                <a:cubicBezTo>
                  <a:pt x="9302" y="7709"/>
                  <a:pt x="9184" y="7685"/>
                  <a:pt x="9080" y="7652"/>
                </a:cubicBezTo>
                <a:cubicBezTo>
                  <a:pt x="8990" y="7624"/>
                  <a:pt x="8891" y="7588"/>
                  <a:pt x="8795" y="7588"/>
                </a:cubicBezTo>
                <a:cubicBezTo>
                  <a:pt x="8701" y="7588"/>
                  <a:pt x="8631" y="7608"/>
                  <a:pt x="8541" y="7620"/>
                </a:cubicBezTo>
                <a:cubicBezTo>
                  <a:pt x="8451" y="7632"/>
                  <a:pt x="8374" y="7666"/>
                  <a:pt x="8287" y="7684"/>
                </a:cubicBezTo>
                <a:cubicBezTo>
                  <a:pt x="8195" y="7703"/>
                  <a:pt x="8094" y="7697"/>
                  <a:pt x="8001" y="7715"/>
                </a:cubicBezTo>
                <a:cubicBezTo>
                  <a:pt x="7896" y="7736"/>
                  <a:pt x="7794" y="7732"/>
                  <a:pt x="7684" y="7747"/>
                </a:cubicBezTo>
                <a:cubicBezTo>
                  <a:pt x="7539" y="7767"/>
                  <a:pt x="7441" y="7753"/>
                  <a:pt x="7302" y="7747"/>
                </a:cubicBezTo>
                <a:cubicBezTo>
                  <a:pt x="7168" y="7741"/>
                  <a:pt x="7049" y="7736"/>
                  <a:pt x="6922" y="7715"/>
                </a:cubicBezTo>
                <a:cubicBezTo>
                  <a:pt x="6813" y="7697"/>
                  <a:pt x="6711" y="7673"/>
                  <a:pt x="6604" y="7652"/>
                </a:cubicBezTo>
                <a:cubicBezTo>
                  <a:pt x="6498" y="7631"/>
                  <a:pt x="6389" y="7627"/>
                  <a:pt x="6286" y="7588"/>
                </a:cubicBezTo>
                <a:cubicBezTo>
                  <a:pt x="6188" y="7551"/>
                  <a:pt x="6056" y="7503"/>
                  <a:pt x="5969" y="7461"/>
                </a:cubicBezTo>
                <a:cubicBezTo>
                  <a:pt x="5895" y="7426"/>
                  <a:pt x="5817" y="7378"/>
                  <a:pt x="5747" y="7334"/>
                </a:cubicBezTo>
                <a:cubicBezTo>
                  <a:pt x="5689" y="7297"/>
                  <a:pt x="5643" y="7247"/>
                  <a:pt x="5588" y="7207"/>
                </a:cubicBezTo>
                <a:cubicBezTo>
                  <a:pt x="5515" y="7154"/>
                  <a:pt x="5465" y="7113"/>
                  <a:pt x="5398" y="7048"/>
                </a:cubicBezTo>
                <a:cubicBezTo>
                  <a:pt x="5354" y="7005"/>
                  <a:pt x="5311" y="6953"/>
                  <a:pt x="5270" y="6922"/>
                </a:cubicBezTo>
                <a:cubicBezTo>
                  <a:pt x="5199" y="6868"/>
                  <a:pt x="5098" y="6788"/>
                  <a:pt x="5016" y="6731"/>
                </a:cubicBezTo>
                <a:cubicBezTo>
                  <a:pt x="4970" y="6699"/>
                  <a:pt x="4912" y="6662"/>
                  <a:pt x="4858" y="6636"/>
                </a:cubicBezTo>
                <a:cubicBezTo>
                  <a:pt x="4788" y="6602"/>
                  <a:pt x="4733" y="6562"/>
                  <a:pt x="4667" y="6540"/>
                </a:cubicBezTo>
                <a:cubicBezTo>
                  <a:pt x="4600" y="6517"/>
                  <a:pt x="4512" y="6522"/>
                  <a:pt x="4445" y="6509"/>
                </a:cubicBezTo>
                <a:cubicBezTo>
                  <a:pt x="4354" y="6491"/>
                  <a:pt x="4295" y="6503"/>
                  <a:pt x="4223" y="6509"/>
                </a:cubicBezTo>
                <a:cubicBezTo>
                  <a:pt x="4141" y="6515"/>
                  <a:pt x="4044" y="6509"/>
                  <a:pt x="3969" y="6540"/>
                </a:cubicBezTo>
                <a:cubicBezTo>
                  <a:pt x="3926" y="6558"/>
                  <a:pt x="3884" y="6613"/>
                  <a:pt x="3842" y="6636"/>
                </a:cubicBezTo>
              </a:path>
              <a:path w="16543" h="9685">
                <a:moveTo>
                  <a:pt x="1429" y="5556"/>
                </a:moveTo>
                <a:cubicBezTo>
                  <a:pt x="1429" y="5747"/>
                  <a:pt x="1429" y="5937"/>
                  <a:pt x="1429" y="6128"/>
                </a:cubicBezTo>
              </a:path>
              <a:path w="16543" h="9685">
                <a:moveTo>
                  <a:pt x="1206" y="6223"/>
                </a:moveTo>
                <a:cubicBezTo>
                  <a:pt x="1217" y="6302"/>
                  <a:pt x="1235" y="6367"/>
                  <a:pt x="1270" y="6445"/>
                </a:cubicBezTo>
                <a:cubicBezTo>
                  <a:pt x="1287" y="6483"/>
                  <a:pt x="1349" y="6590"/>
                  <a:pt x="1397" y="6604"/>
                </a:cubicBezTo>
                <a:cubicBezTo>
                  <a:pt x="1467" y="6624"/>
                  <a:pt x="1519" y="6636"/>
                  <a:pt x="1588" y="6604"/>
                </a:cubicBezTo>
                <a:cubicBezTo>
                  <a:pt x="1663" y="6569"/>
                  <a:pt x="1717" y="6455"/>
                  <a:pt x="1746" y="6382"/>
                </a:cubicBezTo>
                <a:cubicBezTo>
                  <a:pt x="1794" y="6259"/>
                  <a:pt x="1778" y="6131"/>
                  <a:pt x="1778" y="6001"/>
                </a:cubicBezTo>
                <a:cubicBezTo>
                  <a:pt x="1778" y="5866"/>
                  <a:pt x="1725" y="5748"/>
                  <a:pt x="1683" y="5620"/>
                </a:cubicBezTo>
                <a:cubicBezTo>
                  <a:pt x="1647" y="5512"/>
                  <a:pt x="1587" y="5422"/>
                  <a:pt x="1492" y="5366"/>
                </a:cubicBezTo>
                <a:cubicBezTo>
                  <a:pt x="1373" y="5296"/>
                  <a:pt x="1329" y="5307"/>
                  <a:pt x="1206" y="5366"/>
                </a:cubicBezTo>
                <a:cubicBezTo>
                  <a:pt x="1085" y="5424"/>
                  <a:pt x="1039" y="5506"/>
                  <a:pt x="984" y="5620"/>
                </a:cubicBezTo>
                <a:cubicBezTo>
                  <a:pt x="899" y="5796"/>
                  <a:pt x="889" y="5902"/>
                  <a:pt x="889" y="6096"/>
                </a:cubicBezTo>
                <a:cubicBezTo>
                  <a:pt x="889" y="6202"/>
                  <a:pt x="923" y="6354"/>
                  <a:pt x="984" y="6445"/>
                </a:cubicBezTo>
                <a:cubicBezTo>
                  <a:pt x="1043" y="6534"/>
                  <a:pt x="1156" y="6607"/>
                  <a:pt x="1238" y="6668"/>
                </a:cubicBezTo>
              </a:path>
              <a:path w="16543" h="9685">
                <a:moveTo>
                  <a:pt x="1334" y="8128"/>
                </a:moveTo>
                <a:cubicBezTo>
                  <a:pt x="1306" y="8090"/>
                  <a:pt x="1275" y="8022"/>
                  <a:pt x="1302" y="7969"/>
                </a:cubicBezTo>
                <a:cubicBezTo>
                  <a:pt x="1328" y="7917"/>
                  <a:pt x="1354" y="7857"/>
                  <a:pt x="1397" y="7810"/>
                </a:cubicBezTo>
                <a:cubicBezTo>
                  <a:pt x="1435" y="7768"/>
                  <a:pt x="1481" y="7728"/>
                  <a:pt x="1524" y="7779"/>
                </a:cubicBezTo>
                <a:cubicBezTo>
                  <a:pt x="1579" y="7845"/>
                  <a:pt x="1556" y="7956"/>
                  <a:pt x="1556" y="8033"/>
                </a:cubicBezTo>
                <a:cubicBezTo>
                  <a:pt x="1556" y="8137"/>
                  <a:pt x="1552" y="8252"/>
                  <a:pt x="1524" y="8350"/>
                </a:cubicBezTo>
                <a:cubicBezTo>
                  <a:pt x="1511" y="8395"/>
                  <a:pt x="1462" y="8552"/>
                  <a:pt x="1429" y="8572"/>
                </a:cubicBezTo>
                <a:cubicBezTo>
                  <a:pt x="1375" y="8605"/>
                  <a:pt x="1455" y="8544"/>
                  <a:pt x="1492" y="8541"/>
                </a:cubicBezTo>
                <a:cubicBezTo>
                  <a:pt x="1595" y="8534"/>
                  <a:pt x="1728" y="8570"/>
                  <a:pt x="1810" y="8509"/>
                </a:cubicBezTo>
              </a:path>
              <a:path w="16543" h="9685">
                <a:moveTo>
                  <a:pt x="1238" y="8985"/>
                </a:moveTo>
                <a:cubicBezTo>
                  <a:pt x="1300" y="8944"/>
                  <a:pt x="1359" y="8946"/>
                  <a:pt x="1429" y="8922"/>
                </a:cubicBezTo>
                <a:cubicBezTo>
                  <a:pt x="1523" y="8890"/>
                  <a:pt x="1569" y="8850"/>
                  <a:pt x="1651" y="8795"/>
                </a:cubicBezTo>
                <a:cubicBezTo>
                  <a:pt x="1751" y="8728"/>
                  <a:pt x="1788" y="8680"/>
                  <a:pt x="1842" y="8572"/>
                </a:cubicBezTo>
                <a:cubicBezTo>
                  <a:pt x="1908" y="8440"/>
                  <a:pt x="1905" y="8338"/>
                  <a:pt x="1905" y="8192"/>
                </a:cubicBezTo>
                <a:cubicBezTo>
                  <a:pt x="1905" y="8030"/>
                  <a:pt x="1889" y="7903"/>
                  <a:pt x="1842" y="7747"/>
                </a:cubicBezTo>
                <a:cubicBezTo>
                  <a:pt x="1802" y="7615"/>
                  <a:pt x="1739" y="7527"/>
                  <a:pt x="1619" y="7461"/>
                </a:cubicBezTo>
                <a:cubicBezTo>
                  <a:pt x="1500" y="7395"/>
                  <a:pt x="1423" y="7396"/>
                  <a:pt x="1302" y="7461"/>
                </a:cubicBezTo>
                <a:cubicBezTo>
                  <a:pt x="1144" y="7546"/>
                  <a:pt x="1092" y="7722"/>
                  <a:pt x="1016" y="7874"/>
                </a:cubicBezTo>
                <a:cubicBezTo>
                  <a:pt x="927" y="8050"/>
                  <a:pt x="894" y="8217"/>
                  <a:pt x="889" y="8414"/>
                </a:cubicBezTo>
                <a:cubicBezTo>
                  <a:pt x="885" y="8564"/>
                  <a:pt x="920" y="8692"/>
                  <a:pt x="984" y="8826"/>
                </a:cubicBezTo>
                <a:cubicBezTo>
                  <a:pt x="1024" y="8910"/>
                  <a:pt x="1111" y="9023"/>
                  <a:pt x="1206" y="9049"/>
                </a:cubicBezTo>
                <a:cubicBezTo>
                  <a:pt x="1280" y="9070"/>
                  <a:pt x="1411" y="9102"/>
                  <a:pt x="1492" y="9080"/>
                </a:cubicBezTo>
                <a:cubicBezTo>
                  <a:pt x="1513" y="9070"/>
                  <a:pt x="1535" y="9059"/>
                  <a:pt x="1556" y="9049"/>
                </a:cubicBezTo>
              </a:path>
              <a:path w="16543" h="9685">
                <a:moveTo>
                  <a:pt x="4000" y="10382"/>
                </a:moveTo>
                <a:cubicBezTo>
                  <a:pt x="4000" y="10289"/>
                  <a:pt x="4029" y="10358"/>
                  <a:pt x="4064" y="10287"/>
                </a:cubicBezTo>
                <a:cubicBezTo>
                  <a:pt x="4088" y="10239"/>
                  <a:pt x="4132" y="10236"/>
                  <a:pt x="4191" y="10192"/>
                </a:cubicBezTo>
                <a:cubicBezTo>
                  <a:pt x="4240" y="10155"/>
                  <a:pt x="4256" y="10160"/>
                  <a:pt x="4318" y="10160"/>
                </a:cubicBezTo>
                <a:cubicBezTo>
                  <a:pt x="4329" y="10160"/>
                  <a:pt x="4339" y="10160"/>
                  <a:pt x="4350" y="10160"/>
                </a:cubicBezTo>
                <a:cubicBezTo>
                  <a:pt x="4350" y="10217"/>
                  <a:pt x="4325" y="10245"/>
                  <a:pt x="4318" y="10287"/>
                </a:cubicBezTo>
                <a:cubicBezTo>
                  <a:pt x="4299" y="10403"/>
                  <a:pt x="4271" y="10492"/>
                  <a:pt x="4223" y="10604"/>
                </a:cubicBezTo>
                <a:cubicBezTo>
                  <a:pt x="4171" y="10725"/>
                  <a:pt x="4092" y="10813"/>
                  <a:pt x="4032" y="10922"/>
                </a:cubicBezTo>
                <a:cubicBezTo>
                  <a:pt x="3968" y="11040"/>
                  <a:pt x="3909" y="11110"/>
                  <a:pt x="3810" y="11208"/>
                </a:cubicBezTo>
                <a:cubicBezTo>
                  <a:pt x="3746" y="11271"/>
                  <a:pt x="3683" y="11334"/>
                  <a:pt x="3620" y="11398"/>
                </a:cubicBezTo>
                <a:cubicBezTo>
                  <a:pt x="3609" y="11409"/>
                  <a:pt x="3599" y="11419"/>
                  <a:pt x="3588" y="11430"/>
                </a:cubicBezTo>
                <a:cubicBezTo>
                  <a:pt x="3638" y="11417"/>
                  <a:pt x="3658" y="11398"/>
                  <a:pt x="3715" y="11398"/>
                </a:cubicBezTo>
                <a:cubicBezTo>
                  <a:pt x="3788" y="11398"/>
                  <a:pt x="3815" y="11410"/>
                  <a:pt x="3874" y="11430"/>
                </a:cubicBezTo>
                <a:cubicBezTo>
                  <a:pt x="3921" y="11446"/>
                  <a:pt x="3900" y="11462"/>
                  <a:pt x="3969" y="11462"/>
                </a:cubicBezTo>
                <a:cubicBezTo>
                  <a:pt x="4023" y="11462"/>
                  <a:pt x="4059" y="11403"/>
                  <a:pt x="4096" y="11366"/>
                </a:cubicBezTo>
              </a:path>
              <a:path w="16543" h="9685">
                <a:moveTo>
                  <a:pt x="5048" y="9970"/>
                </a:moveTo>
                <a:cubicBezTo>
                  <a:pt x="5080" y="9970"/>
                  <a:pt x="5091" y="9970"/>
                  <a:pt x="5080" y="9938"/>
                </a:cubicBezTo>
                <a:cubicBezTo>
                  <a:pt x="5057" y="10008"/>
                  <a:pt x="5022" y="9942"/>
                  <a:pt x="4953" y="9970"/>
                </a:cubicBezTo>
                <a:cubicBezTo>
                  <a:pt x="4885" y="9998"/>
                  <a:pt x="4843" y="10001"/>
                  <a:pt x="4762" y="10001"/>
                </a:cubicBezTo>
                <a:cubicBezTo>
                  <a:pt x="4731" y="10001"/>
                  <a:pt x="4720" y="10001"/>
                  <a:pt x="4699" y="10001"/>
                </a:cubicBezTo>
                <a:cubicBezTo>
                  <a:pt x="4699" y="10060"/>
                  <a:pt x="4673" y="10076"/>
                  <a:pt x="4667" y="10128"/>
                </a:cubicBezTo>
                <a:cubicBezTo>
                  <a:pt x="4661" y="10185"/>
                  <a:pt x="4615" y="10203"/>
                  <a:pt x="4604" y="10224"/>
                </a:cubicBezTo>
                <a:cubicBezTo>
                  <a:pt x="4604" y="10234"/>
                  <a:pt x="4604" y="10245"/>
                  <a:pt x="4604" y="10255"/>
                </a:cubicBezTo>
                <a:cubicBezTo>
                  <a:pt x="4645" y="10215"/>
                  <a:pt x="4675" y="10166"/>
                  <a:pt x="4731" y="10160"/>
                </a:cubicBezTo>
                <a:cubicBezTo>
                  <a:pt x="4777" y="10155"/>
                  <a:pt x="4866" y="10144"/>
                  <a:pt x="4890" y="10192"/>
                </a:cubicBezTo>
                <a:cubicBezTo>
                  <a:pt x="4918" y="10248"/>
                  <a:pt x="4947" y="10281"/>
                  <a:pt x="4953" y="10350"/>
                </a:cubicBezTo>
                <a:cubicBezTo>
                  <a:pt x="4958" y="10407"/>
                  <a:pt x="4958" y="10436"/>
                  <a:pt x="4921" y="10478"/>
                </a:cubicBezTo>
                <a:cubicBezTo>
                  <a:pt x="4879" y="10525"/>
                  <a:pt x="4823" y="10509"/>
                  <a:pt x="4762" y="10509"/>
                </a:cubicBezTo>
                <a:cubicBezTo>
                  <a:pt x="4730" y="10509"/>
                  <a:pt x="4699" y="10509"/>
                  <a:pt x="4667" y="10509"/>
                </a:cubicBezTo>
              </a:path>
              <a:path w="16543" h="9685">
                <a:moveTo>
                  <a:pt x="3080" y="11906"/>
                </a:moveTo>
                <a:cubicBezTo>
                  <a:pt x="3167" y="11898"/>
                  <a:pt x="3221" y="11857"/>
                  <a:pt x="3302" y="11843"/>
                </a:cubicBezTo>
                <a:cubicBezTo>
                  <a:pt x="3438" y="11820"/>
                  <a:pt x="3576" y="11802"/>
                  <a:pt x="3715" y="11779"/>
                </a:cubicBezTo>
                <a:cubicBezTo>
                  <a:pt x="3902" y="11748"/>
                  <a:pt x="4097" y="11729"/>
                  <a:pt x="4286" y="11716"/>
                </a:cubicBezTo>
                <a:cubicBezTo>
                  <a:pt x="4492" y="11702"/>
                  <a:pt x="4689" y="11734"/>
                  <a:pt x="4890" y="11748"/>
                </a:cubicBezTo>
                <a:cubicBezTo>
                  <a:pt x="5102" y="11763"/>
                  <a:pt x="5595" y="11828"/>
                  <a:pt x="5778" y="11716"/>
                </a:cubicBezTo>
              </a:path>
              <a:path w="16543" h="9685">
                <a:moveTo>
                  <a:pt x="3715" y="12382"/>
                </a:moveTo>
                <a:cubicBezTo>
                  <a:pt x="3738" y="12374"/>
                  <a:pt x="3793" y="12326"/>
                  <a:pt x="3810" y="12287"/>
                </a:cubicBezTo>
                <a:cubicBezTo>
                  <a:pt x="3837" y="12228"/>
                  <a:pt x="3862" y="12185"/>
                  <a:pt x="3937" y="12160"/>
                </a:cubicBezTo>
                <a:cubicBezTo>
                  <a:pt x="3984" y="12144"/>
                  <a:pt x="4008" y="12128"/>
                  <a:pt x="4064" y="12128"/>
                </a:cubicBezTo>
                <a:cubicBezTo>
                  <a:pt x="4132" y="12128"/>
                  <a:pt x="4128" y="12170"/>
                  <a:pt x="4128" y="12224"/>
                </a:cubicBezTo>
                <a:cubicBezTo>
                  <a:pt x="4128" y="12327"/>
                  <a:pt x="4138" y="12416"/>
                  <a:pt x="4096" y="12510"/>
                </a:cubicBezTo>
                <a:cubicBezTo>
                  <a:pt x="4054" y="12604"/>
                  <a:pt x="4023" y="12706"/>
                  <a:pt x="3969" y="12795"/>
                </a:cubicBezTo>
                <a:cubicBezTo>
                  <a:pt x="3901" y="12905"/>
                  <a:pt x="3820" y="12979"/>
                  <a:pt x="3746" y="13081"/>
                </a:cubicBezTo>
                <a:cubicBezTo>
                  <a:pt x="3676" y="13177"/>
                  <a:pt x="3586" y="13265"/>
                  <a:pt x="3524" y="13367"/>
                </a:cubicBezTo>
                <a:cubicBezTo>
                  <a:pt x="3506" y="13396"/>
                  <a:pt x="3410" y="13499"/>
                  <a:pt x="3461" y="13462"/>
                </a:cubicBezTo>
                <a:cubicBezTo>
                  <a:pt x="3513" y="13424"/>
                  <a:pt x="3542" y="13376"/>
                  <a:pt x="3588" y="13335"/>
                </a:cubicBezTo>
                <a:cubicBezTo>
                  <a:pt x="3638" y="13290"/>
                  <a:pt x="3677" y="13303"/>
                  <a:pt x="3746" y="13303"/>
                </a:cubicBezTo>
                <a:cubicBezTo>
                  <a:pt x="3799" y="13303"/>
                  <a:pt x="3903" y="13324"/>
                  <a:pt x="3937" y="13367"/>
                </a:cubicBezTo>
                <a:cubicBezTo>
                  <a:pt x="3979" y="13421"/>
                  <a:pt x="3991" y="13454"/>
                  <a:pt x="4064" y="13462"/>
                </a:cubicBezTo>
                <a:cubicBezTo>
                  <a:pt x="4125" y="13469"/>
                  <a:pt x="4134" y="13411"/>
                  <a:pt x="4159" y="13367"/>
                </a:cubicBezTo>
              </a:path>
              <a:path w="16543" h="9685">
                <a:moveTo>
                  <a:pt x="4445" y="11938"/>
                </a:moveTo>
                <a:cubicBezTo>
                  <a:pt x="4494" y="11922"/>
                  <a:pt x="4471" y="11906"/>
                  <a:pt x="4540" y="11906"/>
                </a:cubicBezTo>
                <a:cubicBezTo>
                  <a:pt x="4580" y="11906"/>
                  <a:pt x="4579" y="11842"/>
                  <a:pt x="4636" y="11874"/>
                </a:cubicBezTo>
                <a:cubicBezTo>
                  <a:pt x="4681" y="11900"/>
                  <a:pt x="4725" y="11914"/>
                  <a:pt x="4731" y="11970"/>
                </a:cubicBezTo>
                <a:cubicBezTo>
                  <a:pt x="4740" y="12052"/>
                  <a:pt x="4692" y="12027"/>
                  <a:pt x="4667" y="12065"/>
                </a:cubicBezTo>
                <a:cubicBezTo>
                  <a:pt x="4650" y="12091"/>
                  <a:pt x="4619" y="12113"/>
                  <a:pt x="4572" y="12128"/>
                </a:cubicBezTo>
                <a:cubicBezTo>
                  <a:pt x="4540" y="12128"/>
                  <a:pt x="4529" y="12128"/>
                  <a:pt x="4508" y="12128"/>
                </a:cubicBezTo>
                <a:cubicBezTo>
                  <a:pt x="4508" y="12197"/>
                  <a:pt x="4524" y="12176"/>
                  <a:pt x="4540" y="12224"/>
                </a:cubicBezTo>
              </a:path>
              <a:path w="16543" h="9685">
                <a:moveTo>
                  <a:pt x="4477" y="12510"/>
                </a:moveTo>
                <a:cubicBezTo>
                  <a:pt x="4477" y="12541"/>
                  <a:pt x="4477" y="12551"/>
                  <a:pt x="4508" y="12541"/>
                </a:cubicBezTo>
              </a:path>
              <a:path w="16543" h="9685">
                <a:moveTo>
                  <a:pt x="5969" y="11938"/>
                </a:moveTo>
                <a:cubicBezTo>
                  <a:pt x="5969" y="11927"/>
                  <a:pt x="5969" y="11917"/>
                  <a:pt x="5969" y="11906"/>
                </a:cubicBezTo>
                <a:cubicBezTo>
                  <a:pt x="6083" y="11906"/>
                  <a:pt x="6189" y="11918"/>
                  <a:pt x="6286" y="11938"/>
                </a:cubicBezTo>
                <a:cubicBezTo>
                  <a:pt x="6333" y="11947"/>
                  <a:pt x="6396" y="11938"/>
                  <a:pt x="6445" y="11938"/>
                </a:cubicBezTo>
              </a:path>
              <a:path w="16543" h="9685">
                <a:moveTo>
                  <a:pt x="5969" y="12319"/>
                </a:moveTo>
                <a:cubicBezTo>
                  <a:pt x="5883" y="12319"/>
                  <a:pt x="6047" y="12328"/>
                  <a:pt x="6064" y="12319"/>
                </a:cubicBezTo>
                <a:cubicBezTo>
                  <a:pt x="6153" y="12275"/>
                  <a:pt x="6186" y="12313"/>
                  <a:pt x="6286" y="12319"/>
                </a:cubicBezTo>
                <a:cubicBezTo>
                  <a:pt x="6361" y="12323"/>
                  <a:pt x="6406" y="12337"/>
                  <a:pt x="6477" y="12351"/>
                </a:cubicBezTo>
              </a:path>
              <a:path w="16543" h="9685">
                <a:moveTo>
                  <a:pt x="7779" y="11906"/>
                </a:moveTo>
                <a:cubicBezTo>
                  <a:pt x="7803" y="11821"/>
                  <a:pt x="7857" y="11787"/>
                  <a:pt x="7874" y="11684"/>
                </a:cubicBezTo>
                <a:cubicBezTo>
                  <a:pt x="7888" y="11602"/>
                  <a:pt x="7876" y="11526"/>
                  <a:pt x="7842" y="11462"/>
                </a:cubicBezTo>
                <a:cubicBezTo>
                  <a:pt x="7789" y="11363"/>
                  <a:pt x="7748" y="11304"/>
                  <a:pt x="7652" y="11240"/>
                </a:cubicBezTo>
                <a:cubicBezTo>
                  <a:pt x="7583" y="11194"/>
                  <a:pt x="7508" y="11208"/>
                  <a:pt x="7430" y="11208"/>
                </a:cubicBezTo>
                <a:cubicBezTo>
                  <a:pt x="7323" y="11208"/>
                  <a:pt x="7328" y="11259"/>
                  <a:pt x="7271" y="11335"/>
                </a:cubicBezTo>
                <a:cubicBezTo>
                  <a:pt x="7210" y="11416"/>
                  <a:pt x="7207" y="11456"/>
                  <a:pt x="7207" y="11557"/>
                </a:cubicBezTo>
                <a:cubicBezTo>
                  <a:pt x="7207" y="11665"/>
                  <a:pt x="7260" y="11775"/>
                  <a:pt x="7302" y="11874"/>
                </a:cubicBezTo>
                <a:cubicBezTo>
                  <a:pt x="7350" y="11987"/>
                  <a:pt x="7410" y="12089"/>
                  <a:pt x="7461" y="12192"/>
                </a:cubicBezTo>
                <a:cubicBezTo>
                  <a:pt x="7516" y="12303"/>
                  <a:pt x="7568" y="12429"/>
                  <a:pt x="7620" y="12541"/>
                </a:cubicBezTo>
                <a:cubicBezTo>
                  <a:pt x="7657" y="12621"/>
                  <a:pt x="7679" y="12741"/>
                  <a:pt x="7684" y="12827"/>
                </a:cubicBezTo>
                <a:cubicBezTo>
                  <a:pt x="7688" y="12896"/>
                  <a:pt x="7685" y="12965"/>
                  <a:pt x="7652" y="13018"/>
                </a:cubicBezTo>
                <a:cubicBezTo>
                  <a:pt x="7625" y="13061"/>
                  <a:pt x="7537" y="13058"/>
                  <a:pt x="7493" y="13049"/>
                </a:cubicBezTo>
                <a:cubicBezTo>
                  <a:pt x="7426" y="13035"/>
                  <a:pt x="7359" y="12997"/>
                  <a:pt x="7302" y="12954"/>
                </a:cubicBezTo>
                <a:cubicBezTo>
                  <a:pt x="7214" y="12887"/>
                  <a:pt x="7184" y="12812"/>
                  <a:pt x="7144" y="12732"/>
                </a:cubicBezTo>
                <a:cubicBezTo>
                  <a:pt x="7116" y="12676"/>
                  <a:pt x="7095" y="12613"/>
                  <a:pt x="7112" y="12541"/>
                </a:cubicBezTo>
                <a:cubicBezTo>
                  <a:pt x="7126" y="12481"/>
                  <a:pt x="7199" y="12395"/>
                  <a:pt x="7239" y="12351"/>
                </a:cubicBezTo>
                <a:cubicBezTo>
                  <a:pt x="7309" y="12276"/>
                  <a:pt x="7385" y="12223"/>
                  <a:pt x="7461" y="12160"/>
                </a:cubicBezTo>
                <a:cubicBezTo>
                  <a:pt x="7555" y="12082"/>
                  <a:pt x="7656" y="11980"/>
                  <a:pt x="7715" y="11874"/>
                </a:cubicBezTo>
                <a:cubicBezTo>
                  <a:pt x="7760" y="11792"/>
                  <a:pt x="7806" y="11749"/>
                  <a:pt x="7810" y="11652"/>
                </a:cubicBezTo>
                <a:cubicBezTo>
                  <a:pt x="7812" y="11600"/>
                  <a:pt x="7810" y="11547"/>
                  <a:pt x="7810" y="11494"/>
                </a:cubicBezTo>
              </a:path>
              <a:path w="16543" h="9685">
                <a:moveTo>
                  <a:pt x="8954" y="11462"/>
                </a:moveTo>
                <a:cubicBezTo>
                  <a:pt x="8938" y="11414"/>
                  <a:pt x="8915" y="11430"/>
                  <a:pt x="8858" y="11430"/>
                </a:cubicBezTo>
                <a:cubicBezTo>
                  <a:pt x="8802" y="11430"/>
                  <a:pt x="8779" y="11478"/>
                  <a:pt x="8731" y="11494"/>
                </a:cubicBezTo>
                <a:cubicBezTo>
                  <a:pt x="8703" y="11503"/>
                  <a:pt x="8675" y="11544"/>
                  <a:pt x="8700" y="11589"/>
                </a:cubicBezTo>
                <a:cubicBezTo>
                  <a:pt x="8729" y="11641"/>
                  <a:pt x="8811" y="11688"/>
                  <a:pt x="8858" y="11716"/>
                </a:cubicBezTo>
                <a:cubicBezTo>
                  <a:pt x="8938" y="11764"/>
                  <a:pt x="8942" y="11810"/>
                  <a:pt x="8985" y="11874"/>
                </a:cubicBezTo>
                <a:cubicBezTo>
                  <a:pt x="9035" y="11948"/>
                  <a:pt x="9009" y="11930"/>
                  <a:pt x="8985" y="12002"/>
                </a:cubicBezTo>
                <a:cubicBezTo>
                  <a:pt x="8959" y="12077"/>
                  <a:pt x="8941" y="12065"/>
                  <a:pt x="8858" y="12065"/>
                </a:cubicBezTo>
                <a:cubicBezTo>
                  <a:pt x="8810" y="12065"/>
                  <a:pt x="8739" y="12052"/>
                  <a:pt x="8700" y="12033"/>
                </a:cubicBezTo>
                <a:cubicBezTo>
                  <a:pt x="8656" y="12012"/>
                  <a:pt x="8609" y="11949"/>
                  <a:pt x="8604" y="11906"/>
                </a:cubicBezTo>
                <a:cubicBezTo>
                  <a:pt x="8598" y="11853"/>
                  <a:pt x="8605" y="11851"/>
                  <a:pt x="8636" y="11811"/>
                </a:cubicBezTo>
              </a:path>
              <a:path w="16543" h="9685">
                <a:moveTo>
                  <a:pt x="9334" y="11589"/>
                </a:moveTo>
                <a:cubicBezTo>
                  <a:pt x="9317" y="11537"/>
                  <a:pt x="9320" y="11577"/>
                  <a:pt x="9303" y="11525"/>
                </a:cubicBezTo>
                <a:cubicBezTo>
                  <a:pt x="9226" y="11544"/>
                  <a:pt x="9226" y="11559"/>
                  <a:pt x="9176" y="11620"/>
                </a:cubicBezTo>
                <a:cubicBezTo>
                  <a:pt x="9130" y="11676"/>
                  <a:pt x="9118" y="11768"/>
                  <a:pt x="9112" y="11843"/>
                </a:cubicBezTo>
                <a:cubicBezTo>
                  <a:pt x="9108" y="11895"/>
                  <a:pt x="9118" y="11981"/>
                  <a:pt x="9176" y="12002"/>
                </a:cubicBezTo>
                <a:cubicBezTo>
                  <a:pt x="9237" y="12024"/>
                  <a:pt x="9354" y="12009"/>
                  <a:pt x="9398" y="11970"/>
                </a:cubicBezTo>
                <a:cubicBezTo>
                  <a:pt x="9463" y="11912"/>
                  <a:pt x="9489" y="11830"/>
                  <a:pt x="9493" y="11748"/>
                </a:cubicBezTo>
                <a:cubicBezTo>
                  <a:pt x="9497" y="11681"/>
                  <a:pt x="9468" y="11588"/>
                  <a:pt x="9398" y="11557"/>
                </a:cubicBezTo>
                <a:cubicBezTo>
                  <a:pt x="9359" y="11540"/>
                  <a:pt x="9261" y="11546"/>
                  <a:pt x="9239" y="11589"/>
                </a:cubicBezTo>
                <a:cubicBezTo>
                  <a:pt x="9239" y="11599"/>
                  <a:pt x="9239" y="11610"/>
                  <a:pt x="9239" y="11620"/>
                </a:cubicBezTo>
              </a:path>
              <a:path w="16543" h="9685">
                <a:moveTo>
                  <a:pt x="10732" y="9874"/>
                </a:moveTo>
                <a:cubicBezTo>
                  <a:pt x="10705" y="9821"/>
                  <a:pt x="10710" y="9862"/>
                  <a:pt x="10763" y="9779"/>
                </a:cubicBezTo>
                <a:cubicBezTo>
                  <a:pt x="10804" y="9715"/>
                  <a:pt x="10851" y="9652"/>
                  <a:pt x="10890" y="9588"/>
                </a:cubicBezTo>
                <a:cubicBezTo>
                  <a:pt x="10925" y="9531"/>
                  <a:pt x="11015" y="9456"/>
                  <a:pt x="11081" y="9462"/>
                </a:cubicBezTo>
                <a:cubicBezTo>
                  <a:pt x="11145" y="9468"/>
                  <a:pt x="11188" y="9499"/>
                  <a:pt x="11208" y="9557"/>
                </a:cubicBezTo>
                <a:cubicBezTo>
                  <a:pt x="11241" y="9656"/>
                  <a:pt x="11174" y="9784"/>
                  <a:pt x="11144" y="9874"/>
                </a:cubicBezTo>
                <a:cubicBezTo>
                  <a:pt x="11104" y="9995"/>
                  <a:pt x="11066" y="10123"/>
                  <a:pt x="10986" y="10224"/>
                </a:cubicBezTo>
                <a:cubicBezTo>
                  <a:pt x="10936" y="10287"/>
                  <a:pt x="10920" y="10289"/>
                  <a:pt x="10890" y="10319"/>
                </a:cubicBezTo>
                <a:cubicBezTo>
                  <a:pt x="10920" y="10271"/>
                  <a:pt x="10953" y="10193"/>
                  <a:pt x="11017" y="10160"/>
                </a:cubicBezTo>
                <a:cubicBezTo>
                  <a:pt x="11052" y="10142"/>
                  <a:pt x="11130" y="10114"/>
                  <a:pt x="11176" y="10128"/>
                </a:cubicBezTo>
                <a:cubicBezTo>
                  <a:pt x="11222" y="10142"/>
                  <a:pt x="11327" y="10275"/>
                  <a:pt x="11335" y="10319"/>
                </a:cubicBezTo>
                <a:cubicBezTo>
                  <a:pt x="11354" y="10424"/>
                  <a:pt x="11335" y="10541"/>
                  <a:pt x="11303" y="10636"/>
                </a:cubicBezTo>
                <a:cubicBezTo>
                  <a:pt x="11271" y="10733"/>
                  <a:pt x="11237" y="10872"/>
                  <a:pt x="11176" y="10954"/>
                </a:cubicBezTo>
                <a:cubicBezTo>
                  <a:pt x="11132" y="11014"/>
                  <a:pt x="11033" y="11126"/>
                  <a:pt x="10954" y="11144"/>
                </a:cubicBezTo>
                <a:cubicBezTo>
                  <a:pt x="10893" y="11158"/>
                  <a:pt x="10773" y="11160"/>
                  <a:pt x="10732" y="11112"/>
                </a:cubicBezTo>
                <a:cubicBezTo>
                  <a:pt x="10706" y="11060"/>
                  <a:pt x="10695" y="11052"/>
                  <a:pt x="10700" y="11017"/>
                </a:cubicBezTo>
              </a:path>
              <a:path w="16543" h="9685">
                <a:moveTo>
                  <a:pt x="11335" y="9874"/>
                </a:moveTo>
                <a:cubicBezTo>
                  <a:pt x="11345" y="9802"/>
                  <a:pt x="11361" y="9786"/>
                  <a:pt x="11398" y="9716"/>
                </a:cubicBezTo>
                <a:cubicBezTo>
                  <a:pt x="11433" y="9650"/>
                  <a:pt x="11474" y="9580"/>
                  <a:pt x="11525" y="9525"/>
                </a:cubicBezTo>
                <a:cubicBezTo>
                  <a:pt x="11598" y="9447"/>
                  <a:pt x="11613" y="9392"/>
                  <a:pt x="11716" y="9366"/>
                </a:cubicBezTo>
                <a:cubicBezTo>
                  <a:pt x="11821" y="9339"/>
                  <a:pt x="11824" y="9399"/>
                  <a:pt x="11843" y="9493"/>
                </a:cubicBezTo>
                <a:cubicBezTo>
                  <a:pt x="11862" y="9589"/>
                  <a:pt x="11776" y="9752"/>
                  <a:pt x="11748" y="9842"/>
                </a:cubicBezTo>
                <a:cubicBezTo>
                  <a:pt x="11700" y="9997"/>
                  <a:pt x="11617" y="10137"/>
                  <a:pt x="11557" y="10287"/>
                </a:cubicBezTo>
                <a:cubicBezTo>
                  <a:pt x="11509" y="10406"/>
                  <a:pt x="11454" y="10520"/>
                  <a:pt x="11398" y="10636"/>
                </a:cubicBezTo>
                <a:cubicBezTo>
                  <a:pt x="11398" y="10672"/>
                  <a:pt x="11395" y="10686"/>
                  <a:pt x="11366" y="10700"/>
                </a:cubicBezTo>
                <a:cubicBezTo>
                  <a:pt x="11386" y="10680"/>
                  <a:pt x="11432" y="10659"/>
                  <a:pt x="11462" y="10636"/>
                </a:cubicBezTo>
                <a:cubicBezTo>
                  <a:pt x="11510" y="10600"/>
                  <a:pt x="11542" y="10566"/>
                  <a:pt x="11589" y="10541"/>
                </a:cubicBezTo>
                <a:cubicBezTo>
                  <a:pt x="11635" y="10516"/>
                  <a:pt x="11723" y="10487"/>
                  <a:pt x="11779" y="10509"/>
                </a:cubicBezTo>
                <a:cubicBezTo>
                  <a:pt x="11824" y="10526"/>
                  <a:pt x="11896" y="10573"/>
                  <a:pt x="11938" y="10604"/>
                </a:cubicBezTo>
                <a:cubicBezTo>
                  <a:pt x="11978" y="10634"/>
                  <a:pt x="12010" y="10648"/>
                  <a:pt x="12065" y="10636"/>
                </a:cubicBezTo>
                <a:cubicBezTo>
                  <a:pt x="12114" y="10625"/>
                  <a:pt x="12180" y="10574"/>
                  <a:pt x="12224" y="10541"/>
                </a:cubicBezTo>
                <a:cubicBezTo>
                  <a:pt x="12262" y="10503"/>
                  <a:pt x="12276" y="10485"/>
                  <a:pt x="12287" y="10446"/>
                </a:cubicBezTo>
              </a:path>
              <a:path w="16543" h="9685">
                <a:moveTo>
                  <a:pt x="10319" y="11366"/>
                </a:moveTo>
                <a:cubicBezTo>
                  <a:pt x="10394" y="11291"/>
                  <a:pt x="10415" y="11329"/>
                  <a:pt x="10509" y="11303"/>
                </a:cubicBezTo>
                <a:cubicBezTo>
                  <a:pt x="10614" y="11274"/>
                  <a:pt x="10720" y="11244"/>
                  <a:pt x="10827" y="11208"/>
                </a:cubicBezTo>
                <a:cubicBezTo>
                  <a:pt x="10973" y="11159"/>
                  <a:pt x="11122" y="11119"/>
                  <a:pt x="11271" y="11081"/>
                </a:cubicBezTo>
                <a:cubicBezTo>
                  <a:pt x="11484" y="11026"/>
                  <a:pt x="11693" y="10990"/>
                  <a:pt x="11906" y="10954"/>
                </a:cubicBezTo>
                <a:cubicBezTo>
                  <a:pt x="12043" y="10931"/>
                  <a:pt x="12185" y="10915"/>
                  <a:pt x="12319" y="10890"/>
                </a:cubicBezTo>
                <a:cubicBezTo>
                  <a:pt x="12424" y="10870"/>
                  <a:pt x="12467" y="10885"/>
                  <a:pt x="12573" y="10890"/>
                </a:cubicBezTo>
                <a:cubicBezTo>
                  <a:pt x="12651" y="10894"/>
                  <a:pt x="12623" y="10895"/>
                  <a:pt x="12668" y="10922"/>
                </a:cubicBezTo>
              </a:path>
              <a:path w="16543" h="9685">
                <a:moveTo>
                  <a:pt x="10922" y="12002"/>
                </a:moveTo>
                <a:cubicBezTo>
                  <a:pt x="10911" y="12012"/>
                  <a:pt x="10901" y="12023"/>
                  <a:pt x="10890" y="12033"/>
                </a:cubicBezTo>
                <a:cubicBezTo>
                  <a:pt x="10903" y="11967"/>
                  <a:pt x="10925" y="11905"/>
                  <a:pt x="10954" y="11843"/>
                </a:cubicBezTo>
                <a:cubicBezTo>
                  <a:pt x="10990" y="11766"/>
                  <a:pt x="11022" y="11712"/>
                  <a:pt x="11081" y="11652"/>
                </a:cubicBezTo>
                <a:cubicBezTo>
                  <a:pt x="11126" y="11606"/>
                  <a:pt x="11179" y="11618"/>
                  <a:pt x="11208" y="11684"/>
                </a:cubicBezTo>
                <a:cubicBezTo>
                  <a:pt x="11239" y="11753"/>
                  <a:pt x="11255" y="11859"/>
                  <a:pt x="11240" y="11938"/>
                </a:cubicBezTo>
                <a:cubicBezTo>
                  <a:pt x="11211" y="12086"/>
                  <a:pt x="11202" y="12234"/>
                  <a:pt x="11176" y="12382"/>
                </a:cubicBezTo>
                <a:cubicBezTo>
                  <a:pt x="11151" y="12525"/>
                  <a:pt x="11075" y="12654"/>
                  <a:pt x="11049" y="12795"/>
                </a:cubicBezTo>
                <a:cubicBezTo>
                  <a:pt x="11043" y="12827"/>
                  <a:pt x="10989" y="13024"/>
                  <a:pt x="11017" y="12922"/>
                </a:cubicBezTo>
                <a:cubicBezTo>
                  <a:pt x="11031" y="12870"/>
                  <a:pt x="11075" y="12805"/>
                  <a:pt x="11112" y="12764"/>
                </a:cubicBezTo>
                <a:cubicBezTo>
                  <a:pt x="11156" y="12715"/>
                  <a:pt x="11211" y="12732"/>
                  <a:pt x="11271" y="12732"/>
                </a:cubicBezTo>
                <a:cubicBezTo>
                  <a:pt x="11292" y="12732"/>
                  <a:pt x="11377" y="12753"/>
                  <a:pt x="11398" y="12764"/>
                </a:cubicBezTo>
                <a:cubicBezTo>
                  <a:pt x="11441" y="12787"/>
                  <a:pt x="11444" y="12786"/>
                  <a:pt x="11462" y="12732"/>
                </a:cubicBezTo>
              </a:path>
              <a:path w="16543" h="9685">
                <a:moveTo>
                  <a:pt x="11494" y="11240"/>
                </a:moveTo>
                <a:cubicBezTo>
                  <a:pt x="11522" y="11211"/>
                  <a:pt x="11528" y="11200"/>
                  <a:pt x="11557" y="11208"/>
                </a:cubicBezTo>
                <a:cubicBezTo>
                  <a:pt x="11572" y="11163"/>
                  <a:pt x="11566" y="11176"/>
                  <a:pt x="11620" y="11176"/>
                </a:cubicBezTo>
                <a:cubicBezTo>
                  <a:pt x="11629" y="11203"/>
                  <a:pt x="11678" y="11225"/>
                  <a:pt x="11652" y="11271"/>
                </a:cubicBezTo>
                <a:cubicBezTo>
                  <a:pt x="11624" y="11320"/>
                  <a:pt x="11620" y="11308"/>
                  <a:pt x="11620" y="11366"/>
                </a:cubicBezTo>
                <a:cubicBezTo>
                  <a:pt x="11573" y="11382"/>
                  <a:pt x="11589" y="11406"/>
                  <a:pt x="11589" y="11462"/>
                </a:cubicBezTo>
                <a:cubicBezTo>
                  <a:pt x="11589" y="11473"/>
                  <a:pt x="11589" y="11483"/>
                  <a:pt x="11589" y="11494"/>
                </a:cubicBezTo>
              </a:path>
              <a:path w="16543" h="9685">
                <a:moveTo>
                  <a:pt x="11652" y="11716"/>
                </a:moveTo>
                <a:cubicBezTo>
                  <a:pt x="11620" y="11716"/>
                  <a:pt x="11609" y="11716"/>
                  <a:pt x="11620" y="11748"/>
                </a:cubicBezTo>
              </a:path>
              <a:path w="16543" h="9685">
                <a:moveTo>
                  <a:pt x="12795" y="10986"/>
                </a:moveTo>
                <a:cubicBezTo>
                  <a:pt x="12795" y="10996"/>
                  <a:pt x="12795" y="11007"/>
                  <a:pt x="12795" y="11017"/>
                </a:cubicBezTo>
                <a:cubicBezTo>
                  <a:pt x="12868" y="11017"/>
                  <a:pt x="12927" y="10998"/>
                  <a:pt x="12986" y="10986"/>
                </a:cubicBezTo>
                <a:cubicBezTo>
                  <a:pt x="13062" y="10971"/>
                  <a:pt x="13099" y="10941"/>
                  <a:pt x="13176" y="10922"/>
                </a:cubicBezTo>
                <a:cubicBezTo>
                  <a:pt x="13208" y="10922"/>
                  <a:pt x="13219" y="10922"/>
                  <a:pt x="13240" y="10922"/>
                </a:cubicBezTo>
              </a:path>
              <a:path w="16543" h="9685">
                <a:moveTo>
                  <a:pt x="12795" y="11494"/>
                </a:moveTo>
                <a:cubicBezTo>
                  <a:pt x="12712" y="11494"/>
                  <a:pt x="12845" y="11494"/>
                  <a:pt x="12859" y="11494"/>
                </a:cubicBezTo>
                <a:cubicBezTo>
                  <a:pt x="12946" y="11494"/>
                  <a:pt x="13000" y="11481"/>
                  <a:pt x="13081" y="11462"/>
                </a:cubicBezTo>
                <a:cubicBezTo>
                  <a:pt x="13137" y="11449"/>
                  <a:pt x="13181" y="11437"/>
                  <a:pt x="13240" y="11430"/>
                </a:cubicBezTo>
              </a:path>
              <a:path w="16543" h="9685">
                <a:moveTo>
                  <a:pt x="14224" y="10319"/>
                </a:moveTo>
                <a:cubicBezTo>
                  <a:pt x="14224" y="10223"/>
                  <a:pt x="14227" y="10171"/>
                  <a:pt x="14160" y="10096"/>
                </a:cubicBezTo>
                <a:cubicBezTo>
                  <a:pt x="14106" y="10036"/>
                  <a:pt x="14004" y="10040"/>
                  <a:pt x="13938" y="10065"/>
                </a:cubicBezTo>
                <a:cubicBezTo>
                  <a:pt x="13841" y="10102"/>
                  <a:pt x="13759" y="10153"/>
                  <a:pt x="13684" y="10224"/>
                </a:cubicBezTo>
                <a:cubicBezTo>
                  <a:pt x="13632" y="10273"/>
                  <a:pt x="13543" y="10372"/>
                  <a:pt x="13526" y="10446"/>
                </a:cubicBezTo>
                <a:cubicBezTo>
                  <a:pt x="13511" y="10513"/>
                  <a:pt x="13533" y="10595"/>
                  <a:pt x="13589" y="10636"/>
                </a:cubicBezTo>
                <a:cubicBezTo>
                  <a:pt x="13661" y="10688"/>
                  <a:pt x="13738" y="10746"/>
                  <a:pt x="13811" y="10795"/>
                </a:cubicBezTo>
                <a:cubicBezTo>
                  <a:pt x="13922" y="10869"/>
                  <a:pt x="13985" y="10921"/>
                  <a:pt x="14034" y="11049"/>
                </a:cubicBezTo>
                <a:cubicBezTo>
                  <a:pt x="14092" y="11201"/>
                  <a:pt x="14097" y="11334"/>
                  <a:pt x="14097" y="11494"/>
                </a:cubicBezTo>
                <a:cubicBezTo>
                  <a:pt x="14097" y="11618"/>
                  <a:pt x="14088" y="11697"/>
                  <a:pt x="14034" y="11811"/>
                </a:cubicBezTo>
                <a:cubicBezTo>
                  <a:pt x="14034" y="11847"/>
                  <a:pt x="14031" y="11861"/>
                  <a:pt x="14002" y="11874"/>
                </a:cubicBezTo>
                <a:cubicBezTo>
                  <a:pt x="13943" y="11866"/>
                  <a:pt x="13914" y="11871"/>
                  <a:pt x="13875" y="11811"/>
                </a:cubicBezTo>
                <a:cubicBezTo>
                  <a:pt x="13810" y="11709"/>
                  <a:pt x="13791" y="11580"/>
                  <a:pt x="13780" y="11462"/>
                </a:cubicBezTo>
                <a:cubicBezTo>
                  <a:pt x="13765" y="11311"/>
                  <a:pt x="13808" y="11101"/>
                  <a:pt x="13843" y="10954"/>
                </a:cubicBezTo>
                <a:cubicBezTo>
                  <a:pt x="13897" y="10725"/>
                  <a:pt x="13971" y="10502"/>
                  <a:pt x="14065" y="10287"/>
                </a:cubicBezTo>
                <a:cubicBezTo>
                  <a:pt x="14093" y="10222"/>
                  <a:pt x="14129" y="10159"/>
                  <a:pt x="14160" y="10096"/>
                </a:cubicBezTo>
              </a:path>
              <a:path w="16543" h="9685">
                <a:moveTo>
                  <a:pt x="10986" y="13494"/>
                </a:moveTo>
                <a:cubicBezTo>
                  <a:pt x="10973" y="13578"/>
                  <a:pt x="10949" y="13555"/>
                  <a:pt x="11017" y="13589"/>
                </a:cubicBezTo>
                <a:cubicBezTo>
                  <a:pt x="11064" y="13613"/>
                  <a:pt x="11122" y="13615"/>
                  <a:pt x="11176" y="13621"/>
                </a:cubicBezTo>
                <a:cubicBezTo>
                  <a:pt x="11259" y="13631"/>
                  <a:pt x="11355" y="13612"/>
                  <a:pt x="11430" y="13589"/>
                </a:cubicBezTo>
                <a:cubicBezTo>
                  <a:pt x="11545" y="13553"/>
                  <a:pt x="11640" y="13446"/>
                  <a:pt x="11716" y="13367"/>
                </a:cubicBezTo>
                <a:cubicBezTo>
                  <a:pt x="11826" y="13253"/>
                  <a:pt x="11914" y="13150"/>
                  <a:pt x="12002" y="13018"/>
                </a:cubicBezTo>
                <a:cubicBezTo>
                  <a:pt x="12080" y="12900"/>
                  <a:pt x="12174" y="12767"/>
                  <a:pt x="12224" y="12636"/>
                </a:cubicBezTo>
                <a:cubicBezTo>
                  <a:pt x="12295" y="12448"/>
                  <a:pt x="12319" y="12263"/>
                  <a:pt x="12319" y="12065"/>
                </a:cubicBezTo>
                <a:cubicBezTo>
                  <a:pt x="12319" y="11930"/>
                  <a:pt x="12325" y="11813"/>
                  <a:pt x="12287" y="11684"/>
                </a:cubicBezTo>
                <a:cubicBezTo>
                  <a:pt x="12257" y="11580"/>
                  <a:pt x="12220" y="11426"/>
                  <a:pt x="12160" y="11335"/>
                </a:cubicBezTo>
                <a:cubicBezTo>
                  <a:pt x="12098" y="11242"/>
                  <a:pt x="12027" y="11120"/>
                  <a:pt x="11938" y="11049"/>
                </a:cubicBezTo>
                <a:cubicBezTo>
                  <a:pt x="11875" y="10998"/>
                  <a:pt x="11763" y="10952"/>
                  <a:pt x="11684" y="10954"/>
                </a:cubicBezTo>
                <a:cubicBezTo>
                  <a:pt x="11568" y="10958"/>
                  <a:pt x="11523" y="11004"/>
                  <a:pt x="11430" y="11049"/>
                </a:cubicBezTo>
                <a:cubicBezTo>
                  <a:pt x="11323" y="11101"/>
                  <a:pt x="11195" y="11180"/>
                  <a:pt x="11112" y="11271"/>
                </a:cubicBezTo>
                <a:cubicBezTo>
                  <a:pt x="11007" y="11385"/>
                  <a:pt x="10937" y="11520"/>
                  <a:pt x="10858" y="11652"/>
                </a:cubicBezTo>
                <a:cubicBezTo>
                  <a:pt x="10768" y="11803"/>
                  <a:pt x="10692" y="11961"/>
                  <a:pt x="10636" y="12128"/>
                </a:cubicBezTo>
                <a:cubicBezTo>
                  <a:pt x="10584" y="12282"/>
                  <a:pt x="10577" y="12475"/>
                  <a:pt x="10573" y="12636"/>
                </a:cubicBezTo>
                <a:cubicBezTo>
                  <a:pt x="10569" y="12812"/>
                  <a:pt x="10619" y="12975"/>
                  <a:pt x="10668" y="13144"/>
                </a:cubicBezTo>
                <a:cubicBezTo>
                  <a:pt x="10721" y="13326"/>
                  <a:pt x="10798" y="13478"/>
                  <a:pt x="10922" y="13621"/>
                </a:cubicBezTo>
                <a:cubicBezTo>
                  <a:pt x="10986" y="13695"/>
                  <a:pt x="11109" y="13767"/>
                  <a:pt x="11208" y="13780"/>
                </a:cubicBezTo>
                <a:cubicBezTo>
                  <a:pt x="11310" y="13793"/>
                  <a:pt x="11401" y="13774"/>
                  <a:pt x="11494" y="13748"/>
                </a:cubicBezTo>
                <a:cubicBezTo>
                  <a:pt x="11599" y="13719"/>
                  <a:pt x="11708" y="13694"/>
                  <a:pt x="11811" y="13652"/>
                </a:cubicBezTo>
              </a:path>
              <a:path w="16543" h="9685">
                <a:moveTo>
                  <a:pt x="12478" y="13208"/>
                </a:moveTo>
                <a:cubicBezTo>
                  <a:pt x="12467" y="13208"/>
                  <a:pt x="12457" y="13208"/>
                  <a:pt x="12446" y="13208"/>
                </a:cubicBezTo>
                <a:cubicBezTo>
                  <a:pt x="12511" y="13224"/>
                  <a:pt x="12527" y="13240"/>
                  <a:pt x="12605" y="13240"/>
                </a:cubicBezTo>
                <a:cubicBezTo>
                  <a:pt x="12676" y="13240"/>
                  <a:pt x="12711" y="13260"/>
                  <a:pt x="12764" y="13272"/>
                </a:cubicBezTo>
                <a:cubicBezTo>
                  <a:pt x="12799" y="13280"/>
                  <a:pt x="12853" y="13272"/>
                  <a:pt x="12890" y="13272"/>
                </a:cubicBezTo>
                <a:cubicBezTo>
                  <a:pt x="12890" y="13303"/>
                  <a:pt x="12890" y="13314"/>
                  <a:pt x="12922" y="13303"/>
                </a:cubicBezTo>
              </a:path>
              <a:path w="16543" h="9685">
                <a:moveTo>
                  <a:pt x="12446" y="13748"/>
                </a:moveTo>
                <a:cubicBezTo>
                  <a:pt x="12435" y="13748"/>
                  <a:pt x="12425" y="13748"/>
                  <a:pt x="12414" y="13748"/>
                </a:cubicBezTo>
                <a:cubicBezTo>
                  <a:pt x="12529" y="13748"/>
                  <a:pt x="12633" y="13747"/>
                  <a:pt x="12732" y="13780"/>
                </a:cubicBezTo>
                <a:cubicBezTo>
                  <a:pt x="12743" y="13780"/>
                  <a:pt x="12753" y="13780"/>
                  <a:pt x="12764" y="13780"/>
                </a:cubicBezTo>
              </a:path>
              <a:path w="16543" h="9685">
                <a:moveTo>
                  <a:pt x="13113" y="13049"/>
                </a:moveTo>
                <a:cubicBezTo>
                  <a:pt x="13169" y="13126"/>
                  <a:pt x="13128" y="13119"/>
                  <a:pt x="13113" y="13208"/>
                </a:cubicBezTo>
                <a:cubicBezTo>
                  <a:pt x="13097" y="13304"/>
                  <a:pt x="13064" y="13400"/>
                  <a:pt x="13049" y="13494"/>
                </a:cubicBezTo>
                <a:cubicBezTo>
                  <a:pt x="13041" y="13543"/>
                  <a:pt x="13042" y="13641"/>
                  <a:pt x="13018" y="13684"/>
                </a:cubicBezTo>
                <a:cubicBezTo>
                  <a:pt x="13007" y="13695"/>
                  <a:pt x="12997" y="13705"/>
                  <a:pt x="12986" y="13716"/>
                </a:cubicBezTo>
                <a:cubicBezTo>
                  <a:pt x="13002" y="13668"/>
                  <a:pt x="13014" y="13678"/>
                  <a:pt x="13049" y="13652"/>
                </a:cubicBezTo>
                <a:cubicBezTo>
                  <a:pt x="13097" y="13616"/>
                  <a:pt x="13115" y="13621"/>
                  <a:pt x="13176" y="13621"/>
                </a:cubicBezTo>
                <a:cubicBezTo>
                  <a:pt x="13226" y="13621"/>
                  <a:pt x="13246" y="13652"/>
                  <a:pt x="13303" y="13652"/>
                </a:cubicBezTo>
                <a:cubicBezTo>
                  <a:pt x="13355" y="13652"/>
                  <a:pt x="13319" y="13668"/>
                  <a:pt x="13367" y="13684"/>
                </a:cubicBezTo>
                <a:cubicBezTo>
                  <a:pt x="13406" y="13671"/>
                  <a:pt x="13417" y="13660"/>
                  <a:pt x="13430" y="13621"/>
                </a:cubicBezTo>
              </a:path>
              <a:path w="16543" h="9685">
                <a:moveTo>
                  <a:pt x="13462" y="12859"/>
                </a:moveTo>
                <a:cubicBezTo>
                  <a:pt x="13410" y="12876"/>
                  <a:pt x="13430" y="12921"/>
                  <a:pt x="13430" y="12986"/>
                </a:cubicBezTo>
                <a:cubicBezTo>
                  <a:pt x="13430" y="13136"/>
                  <a:pt x="13415" y="13311"/>
                  <a:pt x="13398" y="13462"/>
                </a:cubicBezTo>
                <a:cubicBezTo>
                  <a:pt x="13377" y="13656"/>
                  <a:pt x="13367" y="13837"/>
                  <a:pt x="13367" y="14034"/>
                </a:cubicBezTo>
                <a:cubicBezTo>
                  <a:pt x="13367" y="14182"/>
                  <a:pt x="13367" y="14330"/>
                  <a:pt x="13367" y="14478"/>
                </a:cubicBezTo>
              </a:path>
              <a:path w="16543" h="9685">
                <a:moveTo>
                  <a:pt x="13811" y="14224"/>
                </a:moveTo>
                <a:cubicBezTo>
                  <a:pt x="13811" y="14235"/>
                  <a:pt x="13811" y="14245"/>
                  <a:pt x="13811" y="14256"/>
                </a:cubicBezTo>
              </a:path>
              <a:path w="16543" h="9685">
                <a:moveTo>
                  <a:pt x="13843" y="14478"/>
                </a:moveTo>
                <a:cubicBezTo>
                  <a:pt x="13843" y="14565"/>
                  <a:pt x="13840" y="14590"/>
                  <a:pt x="13875" y="14637"/>
                </a:cubicBezTo>
              </a:path>
              <a:path w="16543" h="9685">
                <a:moveTo>
                  <a:pt x="13875" y="14732"/>
                </a:moveTo>
                <a:cubicBezTo>
                  <a:pt x="13875" y="14806"/>
                  <a:pt x="13872" y="14832"/>
                  <a:pt x="13906" y="14891"/>
                </a:cubicBezTo>
              </a:path>
              <a:path w="16543" h="9685">
                <a:moveTo>
                  <a:pt x="14478" y="13335"/>
                </a:moveTo>
                <a:cubicBezTo>
                  <a:pt x="14418" y="13350"/>
                  <a:pt x="14356" y="13405"/>
                  <a:pt x="14319" y="13462"/>
                </a:cubicBezTo>
                <a:cubicBezTo>
                  <a:pt x="14274" y="13531"/>
                  <a:pt x="14234" y="13614"/>
                  <a:pt x="14192" y="13684"/>
                </a:cubicBezTo>
                <a:cubicBezTo>
                  <a:pt x="14169" y="13722"/>
                  <a:pt x="14133" y="13828"/>
                  <a:pt x="14160" y="13875"/>
                </a:cubicBezTo>
                <a:cubicBezTo>
                  <a:pt x="14196" y="13939"/>
                  <a:pt x="14229" y="13965"/>
                  <a:pt x="14288" y="13970"/>
                </a:cubicBezTo>
                <a:cubicBezTo>
                  <a:pt x="14329" y="13974"/>
                  <a:pt x="14409" y="14009"/>
                  <a:pt x="14446" y="14034"/>
                </a:cubicBezTo>
                <a:cubicBezTo>
                  <a:pt x="14493" y="14065"/>
                  <a:pt x="14560" y="14137"/>
                  <a:pt x="14573" y="14192"/>
                </a:cubicBezTo>
                <a:cubicBezTo>
                  <a:pt x="14598" y="14300"/>
                  <a:pt x="14590" y="14343"/>
                  <a:pt x="14573" y="14446"/>
                </a:cubicBezTo>
                <a:cubicBezTo>
                  <a:pt x="14558" y="14536"/>
                  <a:pt x="14533" y="14621"/>
                  <a:pt x="14478" y="14700"/>
                </a:cubicBezTo>
                <a:cubicBezTo>
                  <a:pt x="14433" y="14765"/>
                  <a:pt x="14392" y="14790"/>
                  <a:pt x="14319" y="14796"/>
                </a:cubicBezTo>
                <a:cubicBezTo>
                  <a:pt x="14284" y="14799"/>
                  <a:pt x="14202" y="14736"/>
                  <a:pt x="14192" y="14700"/>
                </a:cubicBezTo>
                <a:cubicBezTo>
                  <a:pt x="14175" y="14641"/>
                  <a:pt x="14169" y="14604"/>
                  <a:pt x="14160" y="14542"/>
                </a:cubicBezTo>
              </a:path>
              <a:path w="16543" h="9685">
                <a:moveTo>
                  <a:pt x="14764" y="13589"/>
                </a:moveTo>
                <a:cubicBezTo>
                  <a:pt x="14750" y="13644"/>
                  <a:pt x="14711" y="13686"/>
                  <a:pt x="14700" y="13748"/>
                </a:cubicBezTo>
                <a:cubicBezTo>
                  <a:pt x="14680" y="13861"/>
                  <a:pt x="14649" y="13983"/>
                  <a:pt x="14637" y="14097"/>
                </a:cubicBezTo>
                <a:cubicBezTo>
                  <a:pt x="14622" y="14233"/>
                  <a:pt x="14616" y="14418"/>
                  <a:pt x="14668" y="14542"/>
                </a:cubicBezTo>
                <a:cubicBezTo>
                  <a:pt x="14704" y="14629"/>
                  <a:pt x="14739" y="14661"/>
                  <a:pt x="14827" y="14668"/>
                </a:cubicBezTo>
                <a:cubicBezTo>
                  <a:pt x="14887" y="14673"/>
                  <a:pt x="14954" y="14623"/>
                  <a:pt x="14986" y="14573"/>
                </a:cubicBezTo>
                <a:cubicBezTo>
                  <a:pt x="15053" y="14470"/>
                  <a:pt x="15077" y="14342"/>
                  <a:pt x="15081" y="14224"/>
                </a:cubicBezTo>
                <a:cubicBezTo>
                  <a:pt x="15086" y="14090"/>
                  <a:pt x="15112" y="13904"/>
                  <a:pt x="15050" y="13780"/>
                </a:cubicBezTo>
                <a:cubicBezTo>
                  <a:pt x="15008" y="13697"/>
                  <a:pt x="14980" y="13684"/>
                  <a:pt x="14891" y="13684"/>
                </a:cubicBezTo>
                <a:cubicBezTo>
                  <a:pt x="14833" y="13684"/>
                  <a:pt x="14817" y="13679"/>
                  <a:pt x="14796" y="13716"/>
                </a:cubicBezTo>
              </a:path>
              <a:path w="16543" h="9685">
                <a:moveTo>
                  <a:pt x="15589" y="12827"/>
                </a:moveTo>
                <a:cubicBezTo>
                  <a:pt x="15642" y="12775"/>
                  <a:pt x="15695" y="12735"/>
                  <a:pt x="15748" y="12700"/>
                </a:cubicBezTo>
                <a:cubicBezTo>
                  <a:pt x="15781" y="12678"/>
                  <a:pt x="15860" y="12641"/>
                  <a:pt x="15907" y="12668"/>
                </a:cubicBezTo>
                <a:cubicBezTo>
                  <a:pt x="15974" y="12706"/>
                  <a:pt x="15970" y="12760"/>
                  <a:pt x="15970" y="12827"/>
                </a:cubicBezTo>
                <a:cubicBezTo>
                  <a:pt x="15970" y="12931"/>
                  <a:pt x="15937" y="13045"/>
                  <a:pt x="15907" y="13144"/>
                </a:cubicBezTo>
                <a:cubicBezTo>
                  <a:pt x="15861" y="13293"/>
                  <a:pt x="15815" y="13449"/>
                  <a:pt x="15748" y="13589"/>
                </a:cubicBezTo>
                <a:cubicBezTo>
                  <a:pt x="15724" y="13640"/>
                  <a:pt x="15710" y="13707"/>
                  <a:pt x="15684" y="13748"/>
                </a:cubicBezTo>
                <a:cubicBezTo>
                  <a:pt x="15636" y="13822"/>
                  <a:pt x="15660" y="13803"/>
                  <a:pt x="15684" y="13875"/>
                </a:cubicBezTo>
                <a:cubicBezTo>
                  <a:pt x="15696" y="13910"/>
                  <a:pt x="15707" y="13933"/>
                  <a:pt x="15716" y="13970"/>
                </a:cubicBezTo>
              </a:path>
              <a:path w="16543" h="9685">
                <a:moveTo>
                  <a:pt x="15748" y="14542"/>
                </a:moveTo>
                <a:lnTo>
                  <a:pt x="15748" y="14542"/>
                </a:lnTo>
              </a:path>
              <a:path w="16543" h="9685">
                <a:moveTo>
                  <a:pt x="16320" y="13430"/>
                </a:moveTo>
                <a:cubicBezTo>
                  <a:pt x="16309" y="13430"/>
                  <a:pt x="16299" y="13430"/>
                  <a:pt x="16288" y="13430"/>
                </a:cubicBezTo>
                <a:cubicBezTo>
                  <a:pt x="16334" y="13400"/>
                  <a:pt x="16327" y="13398"/>
                  <a:pt x="16383" y="13367"/>
                </a:cubicBezTo>
                <a:cubicBezTo>
                  <a:pt x="16426" y="13343"/>
                  <a:pt x="16464" y="13292"/>
                  <a:pt x="16510" y="13272"/>
                </a:cubicBezTo>
                <a:cubicBezTo>
                  <a:pt x="16541" y="13258"/>
                  <a:pt x="16605" y="13244"/>
                  <a:pt x="16637" y="13240"/>
                </a:cubicBezTo>
                <a:cubicBezTo>
                  <a:pt x="16684" y="13235"/>
                  <a:pt x="16658" y="13258"/>
                  <a:pt x="16700" y="13272"/>
                </a:cubicBezTo>
              </a:path>
              <a:path w="16543" h="9685">
                <a:moveTo>
                  <a:pt x="16256" y="13811"/>
                </a:moveTo>
                <a:cubicBezTo>
                  <a:pt x="16328" y="13811"/>
                  <a:pt x="16356" y="13799"/>
                  <a:pt x="16415" y="13780"/>
                </a:cubicBezTo>
                <a:cubicBezTo>
                  <a:pt x="16461" y="13765"/>
                  <a:pt x="16498" y="13731"/>
                  <a:pt x="16542" y="13716"/>
                </a:cubicBezTo>
                <a:cubicBezTo>
                  <a:pt x="16574" y="13716"/>
                  <a:pt x="16584" y="13716"/>
                  <a:pt x="16605" y="13716"/>
                </a:cubicBezTo>
              </a:path>
              <a:path w="16543" h="9685">
                <a:moveTo>
                  <a:pt x="16764" y="13081"/>
                </a:moveTo>
                <a:cubicBezTo>
                  <a:pt x="16780" y="13039"/>
                  <a:pt x="16781" y="12998"/>
                  <a:pt x="16796" y="12954"/>
                </a:cubicBezTo>
                <a:cubicBezTo>
                  <a:pt x="16824" y="12875"/>
                  <a:pt x="16841" y="12769"/>
                  <a:pt x="16891" y="12700"/>
                </a:cubicBezTo>
                <a:cubicBezTo>
                  <a:pt x="16930" y="12647"/>
                  <a:pt x="16952" y="12565"/>
                  <a:pt x="17018" y="12573"/>
                </a:cubicBezTo>
                <a:cubicBezTo>
                  <a:pt x="17084" y="12581"/>
                  <a:pt x="17110" y="12642"/>
                  <a:pt x="17113" y="12700"/>
                </a:cubicBezTo>
                <a:cubicBezTo>
                  <a:pt x="17119" y="12835"/>
                  <a:pt x="17096" y="12952"/>
                  <a:pt x="17082" y="13081"/>
                </a:cubicBezTo>
                <a:cubicBezTo>
                  <a:pt x="17064" y="13243"/>
                  <a:pt x="17032" y="13399"/>
                  <a:pt x="16986" y="13557"/>
                </a:cubicBezTo>
                <a:cubicBezTo>
                  <a:pt x="16945" y="13696"/>
                  <a:pt x="16907" y="13835"/>
                  <a:pt x="16859" y="13970"/>
                </a:cubicBezTo>
                <a:cubicBezTo>
                  <a:pt x="16834" y="14040"/>
                  <a:pt x="16845" y="14156"/>
                  <a:pt x="16764" y="14192"/>
                </a:cubicBezTo>
                <a:cubicBezTo>
                  <a:pt x="16753" y="14192"/>
                  <a:pt x="16743" y="14192"/>
                  <a:pt x="16732" y="14192"/>
                </a:cubicBezTo>
                <a:cubicBezTo>
                  <a:pt x="16753" y="14171"/>
                  <a:pt x="16791" y="14135"/>
                  <a:pt x="16828" y="14097"/>
                </a:cubicBezTo>
                <a:cubicBezTo>
                  <a:pt x="16863" y="14062"/>
                  <a:pt x="16908" y="14044"/>
                  <a:pt x="16954" y="14034"/>
                </a:cubicBezTo>
                <a:cubicBezTo>
                  <a:pt x="16996" y="14025"/>
                  <a:pt x="17052" y="14047"/>
                  <a:pt x="17082" y="14065"/>
                </a:cubicBezTo>
                <a:cubicBezTo>
                  <a:pt x="17127" y="14093"/>
                  <a:pt x="17155" y="14117"/>
                  <a:pt x="17208" y="14129"/>
                </a:cubicBezTo>
                <a:cubicBezTo>
                  <a:pt x="17246" y="14137"/>
                  <a:pt x="17318" y="14139"/>
                  <a:pt x="17336" y="14097"/>
                </a:cubicBezTo>
                <a:cubicBezTo>
                  <a:pt x="17383" y="13988"/>
                  <a:pt x="17405" y="13832"/>
                  <a:pt x="17431" y="13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Ink 8"/>
          <p:cNvSpPr/>
          <p:nvPr/>
        </p:nvSpPr>
        <p:spPr>
          <a:xfrm>
            <a:off x="6093000" y="3382920"/>
            <a:ext cx="685800" cy="560520"/>
          </a:xfrm>
          <a:custGeom>
            <a:avLst/>
            <a:gdLst/>
            <a:ahLst/>
            <a:rect l="l" t="t" r="r" b="b"/>
            <a:pathLst>
              <a:path w="1906" h="1557">
                <a:moveTo>
                  <a:pt x="16923" y="9779"/>
                </a:moveTo>
                <a:cubicBezTo>
                  <a:pt x="16960" y="9766"/>
                  <a:pt x="16977" y="9725"/>
                  <a:pt x="17018" y="9684"/>
                </a:cubicBezTo>
                <a:cubicBezTo>
                  <a:pt x="17084" y="9618"/>
                  <a:pt x="17115" y="9565"/>
                  <a:pt x="17208" y="9557"/>
                </a:cubicBezTo>
                <a:cubicBezTo>
                  <a:pt x="17262" y="9553"/>
                  <a:pt x="17286" y="9567"/>
                  <a:pt x="17304" y="9620"/>
                </a:cubicBezTo>
                <a:cubicBezTo>
                  <a:pt x="17326" y="9687"/>
                  <a:pt x="17282" y="9752"/>
                  <a:pt x="17272" y="9811"/>
                </a:cubicBezTo>
                <a:cubicBezTo>
                  <a:pt x="17253" y="9923"/>
                  <a:pt x="17199" y="9993"/>
                  <a:pt x="17145" y="10096"/>
                </a:cubicBezTo>
                <a:cubicBezTo>
                  <a:pt x="17114" y="10154"/>
                  <a:pt x="17060" y="10289"/>
                  <a:pt x="17018" y="10319"/>
                </a:cubicBezTo>
                <a:cubicBezTo>
                  <a:pt x="16986" y="10319"/>
                  <a:pt x="16976" y="10319"/>
                  <a:pt x="16986" y="10350"/>
                </a:cubicBezTo>
                <a:cubicBezTo>
                  <a:pt x="17018" y="10350"/>
                  <a:pt x="17050" y="10350"/>
                  <a:pt x="17082" y="10350"/>
                </a:cubicBezTo>
              </a:path>
              <a:path w="1906" h="1557">
                <a:moveTo>
                  <a:pt x="17208" y="10858"/>
                </a:moveTo>
                <a:lnTo>
                  <a:pt x="17208" y="10858"/>
                </a:lnTo>
              </a:path>
              <a:path w="1906" h="1557">
                <a:moveTo>
                  <a:pt x="17208" y="10858"/>
                </a:moveTo>
                <a:cubicBezTo>
                  <a:pt x="17198" y="10858"/>
                  <a:pt x="17187" y="10858"/>
                  <a:pt x="17177" y="10858"/>
                </a:cubicBezTo>
              </a:path>
              <a:path w="1906" h="1557">
                <a:moveTo>
                  <a:pt x="17177" y="10858"/>
                </a:moveTo>
                <a:cubicBezTo>
                  <a:pt x="17177" y="10766"/>
                  <a:pt x="17173" y="10919"/>
                  <a:pt x="17177" y="10922"/>
                </a:cubicBezTo>
                <a:cubicBezTo>
                  <a:pt x="17202" y="10942"/>
                  <a:pt x="17207" y="10943"/>
                  <a:pt x="17240" y="10954"/>
                </a:cubicBezTo>
                <a:cubicBezTo>
                  <a:pt x="17240" y="10888"/>
                  <a:pt x="17222" y="10885"/>
                  <a:pt x="17208" y="10858"/>
                </a:cubicBezTo>
                <a:cubicBezTo>
                  <a:pt x="17189" y="10821"/>
                  <a:pt x="17136" y="10899"/>
                  <a:pt x="17177" y="10890"/>
                </a:cubicBezTo>
                <a:cubicBezTo>
                  <a:pt x="17187" y="10879"/>
                  <a:pt x="17198" y="10869"/>
                  <a:pt x="17208" y="10858"/>
                </a:cubicBezTo>
              </a:path>
              <a:path w="1906" h="1557">
                <a:moveTo>
                  <a:pt x="17685" y="10192"/>
                </a:moveTo>
                <a:cubicBezTo>
                  <a:pt x="17743" y="10192"/>
                  <a:pt x="17760" y="10166"/>
                  <a:pt x="17812" y="10160"/>
                </a:cubicBezTo>
                <a:cubicBezTo>
                  <a:pt x="17883" y="10152"/>
                  <a:pt x="17926" y="10128"/>
                  <a:pt x="18002" y="10128"/>
                </a:cubicBezTo>
                <a:cubicBezTo>
                  <a:pt x="18057" y="10128"/>
                  <a:pt x="18051" y="10115"/>
                  <a:pt x="18066" y="10160"/>
                </a:cubicBezTo>
              </a:path>
              <a:path w="1906" h="1557">
                <a:moveTo>
                  <a:pt x="17716" y="10446"/>
                </a:moveTo>
                <a:cubicBezTo>
                  <a:pt x="17727" y="10457"/>
                  <a:pt x="17737" y="10467"/>
                  <a:pt x="17748" y="10478"/>
                </a:cubicBezTo>
                <a:cubicBezTo>
                  <a:pt x="17765" y="10428"/>
                  <a:pt x="17799" y="10444"/>
                  <a:pt x="17844" y="10414"/>
                </a:cubicBezTo>
                <a:cubicBezTo>
                  <a:pt x="17902" y="10375"/>
                  <a:pt x="17937" y="10338"/>
                  <a:pt x="18002" y="10319"/>
                </a:cubicBezTo>
                <a:cubicBezTo>
                  <a:pt x="18013" y="10319"/>
                  <a:pt x="18023" y="10319"/>
                  <a:pt x="18034" y="10319"/>
                </a:cubicBezTo>
              </a:path>
              <a:path w="1906" h="1557">
                <a:moveTo>
                  <a:pt x="18478" y="9588"/>
                </a:moveTo>
                <a:cubicBezTo>
                  <a:pt x="18478" y="9681"/>
                  <a:pt x="18457" y="9752"/>
                  <a:pt x="18447" y="9842"/>
                </a:cubicBezTo>
                <a:cubicBezTo>
                  <a:pt x="18437" y="9930"/>
                  <a:pt x="18439" y="10043"/>
                  <a:pt x="18415" y="10128"/>
                </a:cubicBezTo>
                <a:cubicBezTo>
                  <a:pt x="18389" y="10180"/>
                  <a:pt x="18378" y="10188"/>
                  <a:pt x="18383" y="10224"/>
                </a:cubicBezTo>
                <a:cubicBezTo>
                  <a:pt x="18428" y="10209"/>
                  <a:pt x="18414" y="10167"/>
                  <a:pt x="18478" y="10160"/>
                </a:cubicBezTo>
                <a:cubicBezTo>
                  <a:pt x="18543" y="10153"/>
                  <a:pt x="18555" y="10175"/>
                  <a:pt x="18606" y="10192"/>
                </a:cubicBezTo>
                <a:cubicBezTo>
                  <a:pt x="18660" y="10210"/>
                  <a:pt x="18822" y="10207"/>
                  <a:pt x="18828" y="10160"/>
                </a:cubicBezTo>
                <a:cubicBezTo>
                  <a:pt x="18828" y="10149"/>
                  <a:pt x="18828" y="10139"/>
                  <a:pt x="18828" y="10128"/>
                </a:cubicBezTo>
              </a:path>
              <a:path w="1906" h="1557">
                <a:moveTo>
                  <a:pt x="18764" y="9398"/>
                </a:moveTo>
                <a:cubicBezTo>
                  <a:pt x="18801" y="9592"/>
                  <a:pt x="18768" y="9742"/>
                  <a:pt x="18764" y="9938"/>
                </a:cubicBezTo>
                <a:cubicBezTo>
                  <a:pt x="18759" y="10144"/>
                  <a:pt x="18782" y="10340"/>
                  <a:pt x="18796" y="10541"/>
                </a:cubicBezTo>
                <a:cubicBezTo>
                  <a:pt x="18796" y="10594"/>
                  <a:pt x="18796" y="10647"/>
                  <a:pt x="18796" y="10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Ink 9"/>
          <p:cNvSpPr/>
          <p:nvPr/>
        </p:nvSpPr>
        <p:spPr>
          <a:xfrm>
            <a:off x="1200240" y="4903920"/>
            <a:ext cx="1245960" cy="1039680"/>
          </a:xfrm>
          <a:custGeom>
            <a:avLst/>
            <a:gdLst/>
            <a:ahLst/>
            <a:rect l="l" t="t" r="r" b="b"/>
            <a:pathLst>
              <a:path w="3461" h="2890">
                <a:moveTo>
                  <a:pt x="5620" y="13780"/>
                </a:moveTo>
                <a:cubicBezTo>
                  <a:pt x="5609" y="13780"/>
                  <a:pt x="5599" y="13780"/>
                  <a:pt x="5588" y="13780"/>
                </a:cubicBezTo>
              </a:path>
              <a:path w="3461" h="2890">
                <a:moveTo>
                  <a:pt x="5620" y="13780"/>
                </a:moveTo>
                <a:lnTo>
                  <a:pt x="5620" y="13780"/>
                </a:lnTo>
              </a:path>
              <a:path w="3461" h="2890">
                <a:moveTo>
                  <a:pt x="5556" y="13780"/>
                </a:moveTo>
                <a:cubicBezTo>
                  <a:pt x="5463" y="13798"/>
                  <a:pt x="5394" y="13861"/>
                  <a:pt x="5334" y="13938"/>
                </a:cubicBezTo>
                <a:cubicBezTo>
                  <a:pt x="5244" y="14053"/>
                  <a:pt x="5163" y="14183"/>
                  <a:pt x="5112" y="14319"/>
                </a:cubicBezTo>
                <a:cubicBezTo>
                  <a:pt x="5079" y="14408"/>
                  <a:pt x="5098" y="14561"/>
                  <a:pt x="5175" y="14637"/>
                </a:cubicBezTo>
                <a:cubicBezTo>
                  <a:pt x="5238" y="14699"/>
                  <a:pt x="5424" y="14680"/>
                  <a:pt x="5493" y="14637"/>
                </a:cubicBezTo>
                <a:cubicBezTo>
                  <a:pt x="5609" y="14565"/>
                  <a:pt x="5669" y="14383"/>
                  <a:pt x="5683" y="14256"/>
                </a:cubicBezTo>
                <a:cubicBezTo>
                  <a:pt x="5697" y="14136"/>
                  <a:pt x="5698" y="13985"/>
                  <a:pt x="5652" y="13875"/>
                </a:cubicBezTo>
                <a:cubicBezTo>
                  <a:pt x="5621" y="13814"/>
                  <a:pt x="5611" y="13795"/>
                  <a:pt x="5620" y="13748"/>
                </a:cubicBezTo>
              </a:path>
              <a:path w="3461" h="2890">
                <a:moveTo>
                  <a:pt x="5906" y="14097"/>
                </a:moveTo>
                <a:cubicBezTo>
                  <a:pt x="5900" y="14143"/>
                  <a:pt x="5879" y="14191"/>
                  <a:pt x="5874" y="14224"/>
                </a:cubicBezTo>
                <a:cubicBezTo>
                  <a:pt x="5863" y="14294"/>
                  <a:pt x="5865" y="14350"/>
                  <a:pt x="5842" y="14414"/>
                </a:cubicBezTo>
                <a:cubicBezTo>
                  <a:pt x="5815" y="14491"/>
                  <a:pt x="5833" y="14564"/>
                  <a:pt x="5810" y="14637"/>
                </a:cubicBezTo>
                <a:cubicBezTo>
                  <a:pt x="5781" y="14665"/>
                  <a:pt x="5770" y="14671"/>
                  <a:pt x="5778" y="14700"/>
                </a:cubicBezTo>
                <a:cubicBezTo>
                  <a:pt x="5778" y="14608"/>
                  <a:pt x="5800" y="14535"/>
                  <a:pt x="5810" y="14446"/>
                </a:cubicBezTo>
                <a:cubicBezTo>
                  <a:pt x="5828" y="14290"/>
                  <a:pt x="5874" y="14206"/>
                  <a:pt x="5937" y="14065"/>
                </a:cubicBezTo>
                <a:cubicBezTo>
                  <a:pt x="6006" y="13910"/>
                  <a:pt x="6067" y="13828"/>
                  <a:pt x="6191" y="13716"/>
                </a:cubicBezTo>
                <a:cubicBezTo>
                  <a:pt x="6296" y="13621"/>
                  <a:pt x="6376" y="13596"/>
                  <a:pt x="6509" y="13652"/>
                </a:cubicBezTo>
                <a:cubicBezTo>
                  <a:pt x="6607" y="13693"/>
                  <a:pt x="6599" y="13715"/>
                  <a:pt x="6604" y="13811"/>
                </a:cubicBezTo>
                <a:cubicBezTo>
                  <a:pt x="6611" y="13941"/>
                  <a:pt x="6530" y="13963"/>
                  <a:pt x="6445" y="14034"/>
                </a:cubicBezTo>
                <a:cubicBezTo>
                  <a:pt x="6363" y="14102"/>
                  <a:pt x="6168" y="14233"/>
                  <a:pt x="6064" y="14256"/>
                </a:cubicBezTo>
                <a:cubicBezTo>
                  <a:pt x="5952" y="14281"/>
                  <a:pt x="5960" y="14265"/>
                  <a:pt x="5906" y="14319"/>
                </a:cubicBezTo>
                <a:cubicBezTo>
                  <a:pt x="5914" y="14378"/>
                  <a:pt x="5910" y="14407"/>
                  <a:pt x="5969" y="14446"/>
                </a:cubicBezTo>
                <a:cubicBezTo>
                  <a:pt x="6058" y="14504"/>
                  <a:pt x="6092" y="14586"/>
                  <a:pt x="6160" y="14668"/>
                </a:cubicBezTo>
                <a:cubicBezTo>
                  <a:pt x="6212" y="14731"/>
                  <a:pt x="6361" y="14830"/>
                  <a:pt x="6445" y="14827"/>
                </a:cubicBezTo>
                <a:cubicBezTo>
                  <a:pt x="6601" y="14821"/>
                  <a:pt x="6669" y="14691"/>
                  <a:pt x="6731" y="14573"/>
                </a:cubicBezTo>
                <a:cubicBezTo>
                  <a:pt x="6752" y="14531"/>
                  <a:pt x="6773" y="14488"/>
                  <a:pt x="6794" y="14446"/>
                </a:cubicBezTo>
              </a:path>
              <a:path w="3461" h="2890">
                <a:moveTo>
                  <a:pt x="3556" y="15589"/>
                </a:moveTo>
                <a:cubicBezTo>
                  <a:pt x="3542" y="15534"/>
                  <a:pt x="3521" y="15515"/>
                  <a:pt x="3556" y="15462"/>
                </a:cubicBezTo>
                <a:cubicBezTo>
                  <a:pt x="3587" y="15416"/>
                  <a:pt x="3662" y="15348"/>
                  <a:pt x="3715" y="15335"/>
                </a:cubicBezTo>
                <a:cubicBezTo>
                  <a:pt x="3785" y="15318"/>
                  <a:pt x="3885" y="15326"/>
                  <a:pt x="3937" y="15367"/>
                </a:cubicBezTo>
                <a:cubicBezTo>
                  <a:pt x="3992" y="15411"/>
                  <a:pt x="3956" y="15501"/>
                  <a:pt x="3937" y="15558"/>
                </a:cubicBezTo>
                <a:cubicBezTo>
                  <a:pt x="3896" y="15681"/>
                  <a:pt x="3790" y="15775"/>
                  <a:pt x="3715" y="15875"/>
                </a:cubicBezTo>
                <a:cubicBezTo>
                  <a:pt x="3631" y="15986"/>
                  <a:pt x="3563" y="16111"/>
                  <a:pt x="3492" y="16224"/>
                </a:cubicBezTo>
                <a:cubicBezTo>
                  <a:pt x="3454" y="16284"/>
                  <a:pt x="3358" y="16341"/>
                  <a:pt x="3334" y="16383"/>
                </a:cubicBezTo>
                <a:cubicBezTo>
                  <a:pt x="3300" y="16442"/>
                  <a:pt x="3372" y="16360"/>
                  <a:pt x="3397" y="16351"/>
                </a:cubicBezTo>
                <a:cubicBezTo>
                  <a:pt x="3440" y="16336"/>
                  <a:pt x="3511" y="16323"/>
                  <a:pt x="3556" y="16320"/>
                </a:cubicBezTo>
                <a:cubicBezTo>
                  <a:pt x="3636" y="16315"/>
                  <a:pt x="3716" y="16350"/>
                  <a:pt x="3778" y="16383"/>
                </a:cubicBezTo>
                <a:cubicBezTo>
                  <a:pt x="3830" y="16411"/>
                  <a:pt x="3895" y="16450"/>
                  <a:pt x="3937" y="16478"/>
                </a:cubicBezTo>
                <a:cubicBezTo>
                  <a:pt x="3948" y="16489"/>
                  <a:pt x="3958" y="16499"/>
                  <a:pt x="3969" y="16510"/>
                </a:cubicBezTo>
              </a:path>
              <a:path w="3461" h="2890">
                <a:moveTo>
                  <a:pt x="4604" y="14668"/>
                </a:moveTo>
                <a:cubicBezTo>
                  <a:pt x="4591" y="14707"/>
                  <a:pt x="4525" y="14717"/>
                  <a:pt x="4477" y="14732"/>
                </a:cubicBezTo>
                <a:cubicBezTo>
                  <a:pt x="4430" y="14746"/>
                  <a:pt x="4366" y="14759"/>
                  <a:pt x="4318" y="14764"/>
                </a:cubicBezTo>
                <a:cubicBezTo>
                  <a:pt x="4307" y="14764"/>
                  <a:pt x="4297" y="14764"/>
                  <a:pt x="4286" y="14764"/>
                </a:cubicBezTo>
                <a:cubicBezTo>
                  <a:pt x="4286" y="14854"/>
                  <a:pt x="4279" y="14911"/>
                  <a:pt x="4254" y="14986"/>
                </a:cubicBezTo>
                <a:cubicBezTo>
                  <a:pt x="4254" y="14997"/>
                  <a:pt x="4254" y="15007"/>
                  <a:pt x="4254" y="15018"/>
                </a:cubicBezTo>
                <a:cubicBezTo>
                  <a:pt x="4299" y="15003"/>
                  <a:pt x="4292" y="14948"/>
                  <a:pt x="4350" y="14922"/>
                </a:cubicBezTo>
                <a:cubicBezTo>
                  <a:pt x="4430" y="14887"/>
                  <a:pt x="4419" y="14900"/>
                  <a:pt x="4508" y="14922"/>
                </a:cubicBezTo>
                <a:cubicBezTo>
                  <a:pt x="4584" y="14941"/>
                  <a:pt x="4597" y="14972"/>
                  <a:pt x="4604" y="15050"/>
                </a:cubicBezTo>
                <a:cubicBezTo>
                  <a:pt x="4609" y="15109"/>
                  <a:pt x="4607" y="15156"/>
                  <a:pt x="4572" y="15208"/>
                </a:cubicBezTo>
                <a:cubicBezTo>
                  <a:pt x="4531" y="15268"/>
                  <a:pt x="4438" y="15293"/>
                  <a:pt x="4382" y="15335"/>
                </a:cubicBezTo>
                <a:cubicBezTo>
                  <a:pt x="4337" y="15369"/>
                  <a:pt x="4342" y="15367"/>
                  <a:pt x="4286" y="15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Ink 10"/>
          <p:cNvSpPr/>
          <p:nvPr/>
        </p:nvSpPr>
        <p:spPr>
          <a:xfrm>
            <a:off x="1017720" y="5178600"/>
            <a:ext cx="3303360" cy="1085760"/>
          </a:xfrm>
          <a:custGeom>
            <a:avLst/>
            <a:gdLst/>
            <a:ahLst/>
            <a:rect l="l" t="t" r="r" b="b"/>
            <a:pathLst>
              <a:path w="9177" h="3017">
                <a:moveTo>
                  <a:pt x="2826" y="16891"/>
                </a:moveTo>
                <a:cubicBezTo>
                  <a:pt x="2871" y="16869"/>
                  <a:pt x="2937" y="16808"/>
                  <a:pt x="2984" y="16796"/>
                </a:cubicBezTo>
                <a:cubicBezTo>
                  <a:pt x="3132" y="16756"/>
                  <a:pt x="3215" y="16685"/>
                  <a:pt x="3366" y="16637"/>
                </a:cubicBezTo>
                <a:cubicBezTo>
                  <a:pt x="3547" y="16580"/>
                  <a:pt x="3724" y="16497"/>
                  <a:pt x="3905" y="16446"/>
                </a:cubicBezTo>
                <a:cubicBezTo>
                  <a:pt x="4105" y="16389"/>
                  <a:pt x="4304" y="16332"/>
                  <a:pt x="4508" y="16288"/>
                </a:cubicBezTo>
                <a:cubicBezTo>
                  <a:pt x="4668" y="16254"/>
                  <a:pt x="4831" y="16237"/>
                  <a:pt x="4985" y="16192"/>
                </a:cubicBezTo>
                <a:cubicBezTo>
                  <a:pt x="5068" y="16168"/>
                  <a:pt x="5075" y="16168"/>
                  <a:pt x="5144" y="16161"/>
                </a:cubicBezTo>
              </a:path>
              <a:path w="9177" h="3017">
                <a:moveTo>
                  <a:pt x="3651" y="16859"/>
                </a:moveTo>
                <a:cubicBezTo>
                  <a:pt x="3705" y="16806"/>
                  <a:pt x="3734" y="16758"/>
                  <a:pt x="3778" y="16700"/>
                </a:cubicBezTo>
                <a:cubicBezTo>
                  <a:pt x="3828" y="16634"/>
                  <a:pt x="3924" y="16609"/>
                  <a:pt x="4000" y="16605"/>
                </a:cubicBezTo>
                <a:cubicBezTo>
                  <a:pt x="4053" y="16605"/>
                  <a:pt x="4064" y="16605"/>
                  <a:pt x="4096" y="16605"/>
                </a:cubicBezTo>
                <a:cubicBezTo>
                  <a:pt x="4096" y="16696"/>
                  <a:pt x="4109" y="16777"/>
                  <a:pt x="4064" y="16859"/>
                </a:cubicBezTo>
                <a:cubicBezTo>
                  <a:pt x="4000" y="16976"/>
                  <a:pt x="3912" y="17064"/>
                  <a:pt x="3842" y="17177"/>
                </a:cubicBezTo>
                <a:cubicBezTo>
                  <a:pt x="3796" y="17251"/>
                  <a:pt x="3745" y="17306"/>
                  <a:pt x="3683" y="17367"/>
                </a:cubicBezTo>
                <a:cubicBezTo>
                  <a:pt x="3654" y="17396"/>
                  <a:pt x="3648" y="17406"/>
                  <a:pt x="3620" y="17399"/>
                </a:cubicBezTo>
                <a:cubicBezTo>
                  <a:pt x="3630" y="17396"/>
                  <a:pt x="3743" y="17371"/>
                  <a:pt x="3746" y="17367"/>
                </a:cubicBezTo>
                <a:cubicBezTo>
                  <a:pt x="3776" y="17329"/>
                  <a:pt x="3809" y="17336"/>
                  <a:pt x="3874" y="17336"/>
                </a:cubicBezTo>
                <a:cubicBezTo>
                  <a:pt x="3937" y="17336"/>
                  <a:pt x="3949" y="17350"/>
                  <a:pt x="4000" y="17367"/>
                </a:cubicBezTo>
                <a:cubicBezTo>
                  <a:pt x="4025" y="17375"/>
                  <a:pt x="4070" y="17367"/>
                  <a:pt x="4096" y="17367"/>
                </a:cubicBezTo>
              </a:path>
              <a:path w="9177" h="3017">
                <a:moveTo>
                  <a:pt x="4318" y="16510"/>
                </a:moveTo>
                <a:lnTo>
                  <a:pt x="4318" y="16510"/>
                </a:lnTo>
              </a:path>
              <a:path w="9177" h="3017">
                <a:moveTo>
                  <a:pt x="4318" y="16510"/>
                </a:moveTo>
                <a:cubicBezTo>
                  <a:pt x="4318" y="16499"/>
                  <a:pt x="4318" y="16489"/>
                  <a:pt x="4318" y="16478"/>
                </a:cubicBezTo>
              </a:path>
              <a:path w="9177" h="3017">
                <a:moveTo>
                  <a:pt x="4318" y="16478"/>
                </a:moveTo>
                <a:cubicBezTo>
                  <a:pt x="4363" y="16463"/>
                  <a:pt x="4349" y="16422"/>
                  <a:pt x="4413" y="16415"/>
                </a:cubicBezTo>
                <a:cubicBezTo>
                  <a:pt x="4444" y="16412"/>
                  <a:pt x="4477" y="16415"/>
                  <a:pt x="4508" y="16415"/>
                </a:cubicBezTo>
                <a:cubicBezTo>
                  <a:pt x="4508" y="16460"/>
                  <a:pt x="4499" y="16508"/>
                  <a:pt x="4477" y="16542"/>
                </a:cubicBezTo>
                <a:cubicBezTo>
                  <a:pt x="4460" y="16567"/>
                  <a:pt x="4405" y="16658"/>
                  <a:pt x="4382" y="16669"/>
                </a:cubicBezTo>
                <a:cubicBezTo>
                  <a:pt x="4350" y="16669"/>
                  <a:pt x="4339" y="16669"/>
                  <a:pt x="4382" y="16669"/>
                </a:cubicBezTo>
              </a:path>
              <a:path w="9177" h="3017">
                <a:moveTo>
                  <a:pt x="4413" y="17050"/>
                </a:moveTo>
                <a:cubicBezTo>
                  <a:pt x="4413" y="17082"/>
                  <a:pt x="4413" y="17093"/>
                  <a:pt x="4413" y="17050"/>
                </a:cubicBezTo>
              </a:path>
              <a:path w="9177" h="3017">
                <a:moveTo>
                  <a:pt x="5398" y="16129"/>
                </a:moveTo>
                <a:cubicBezTo>
                  <a:pt x="5345" y="16129"/>
                  <a:pt x="5440" y="16129"/>
                  <a:pt x="5493" y="16129"/>
                </a:cubicBezTo>
                <a:cubicBezTo>
                  <a:pt x="5579" y="16129"/>
                  <a:pt x="5646" y="16111"/>
                  <a:pt x="5715" y="16097"/>
                </a:cubicBezTo>
                <a:cubicBezTo>
                  <a:pt x="5768" y="16097"/>
                  <a:pt x="5778" y="16097"/>
                  <a:pt x="5810" y="16097"/>
                </a:cubicBezTo>
              </a:path>
              <a:path w="9177" h="3017">
                <a:moveTo>
                  <a:pt x="5493" y="16446"/>
                </a:moveTo>
                <a:cubicBezTo>
                  <a:pt x="5517" y="16521"/>
                  <a:pt x="5567" y="16457"/>
                  <a:pt x="5620" y="16446"/>
                </a:cubicBezTo>
                <a:cubicBezTo>
                  <a:pt x="5698" y="16430"/>
                  <a:pt x="5782" y="16442"/>
                  <a:pt x="5842" y="16478"/>
                </a:cubicBezTo>
              </a:path>
              <a:path w="9177" h="3017">
                <a:moveTo>
                  <a:pt x="6350" y="15780"/>
                </a:moveTo>
                <a:cubicBezTo>
                  <a:pt x="6361" y="15703"/>
                  <a:pt x="6379" y="15655"/>
                  <a:pt x="6414" y="15589"/>
                </a:cubicBezTo>
                <a:cubicBezTo>
                  <a:pt x="6453" y="15515"/>
                  <a:pt x="6474" y="15452"/>
                  <a:pt x="6540" y="15399"/>
                </a:cubicBezTo>
                <a:cubicBezTo>
                  <a:pt x="6601" y="15350"/>
                  <a:pt x="6682" y="15312"/>
                  <a:pt x="6763" y="15335"/>
                </a:cubicBezTo>
                <a:cubicBezTo>
                  <a:pt x="6819" y="15351"/>
                  <a:pt x="6844" y="15372"/>
                  <a:pt x="6858" y="15430"/>
                </a:cubicBezTo>
                <a:cubicBezTo>
                  <a:pt x="6883" y="15535"/>
                  <a:pt x="6828" y="15623"/>
                  <a:pt x="6794" y="15716"/>
                </a:cubicBezTo>
                <a:cubicBezTo>
                  <a:pt x="6740" y="15861"/>
                  <a:pt x="6691" y="15968"/>
                  <a:pt x="6604" y="16097"/>
                </a:cubicBezTo>
                <a:cubicBezTo>
                  <a:pt x="6523" y="16218"/>
                  <a:pt x="6433" y="16327"/>
                  <a:pt x="6350" y="16446"/>
                </a:cubicBezTo>
                <a:cubicBezTo>
                  <a:pt x="6260" y="16575"/>
                  <a:pt x="6215" y="16725"/>
                  <a:pt x="6128" y="16859"/>
                </a:cubicBezTo>
                <a:cubicBezTo>
                  <a:pt x="6075" y="16942"/>
                  <a:pt x="6028" y="17035"/>
                  <a:pt x="5969" y="17113"/>
                </a:cubicBezTo>
                <a:cubicBezTo>
                  <a:pt x="5958" y="17124"/>
                  <a:pt x="5948" y="17134"/>
                  <a:pt x="5937" y="17145"/>
                </a:cubicBezTo>
                <a:cubicBezTo>
                  <a:pt x="5923" y="17117"/>
                  <a:pt x="5900" y="17114"/>
                  <a:pt x="5937" y="17050"/>
                </a:cubicBezTo>
                <a:cubicBezTo>
                  <a:pt x="5972" y="16990"/>
                  <a:pt x="6047" y="16967"/>
                  <a:pt x="6096" y="16923"/>
                </a:cubicBezTo>
                <a:cubicBezTo>
                  <a:pt x="6138" y="16886"/>
                  <a:pt x="6227" y="16875"/>
                  <a:pt x="6286" y="16891"/>
                </a:cubicBezTo>
                <a:cubicBezTo>
                  <a:pt x="6341" y="16906"/>
                  <a:pt x="6371" y="16942"/>
                  <a:pt x="6414" y="16986"/>
                </a:cubicBezTo>
                <a:cubicBezTo>
                  <a:pt x="6478" y="17051"/>
                  <a:pt x="6502" y="17048"/>
                  <a:pt x="6572" y="17082"/>
                </a:cubicBezTo>
                <a:cubicBezTo>
                  <a:pt x="6621" y="17106"/>
                  <a:pt x="6667" y="17148"/>
                  <a:pt x="6731" y="17145"/>
                </a:cubicBezTo>
                <a:cubicBezTo>
                  <a:pt x="6776" y="17143"/>
                  <a:pt x="6845" y="17104"/>
                  <a:pt x="6890" y="17082"/>
                </a:cubicBezTo>
              </a:path>
              <a:path w="9177" h="3017">
                <a:moveTo>
                  <a:pt x="6985" y="15050"/>
                </a:moveTo>
                <a:cubicBezTo>
                  <a:pt x="6985" y="14985"/>
                  <a:pt x="6999" y="14975"/>
                  <a:pt x="7017" y="14922"/>
                </a:cubicBezTo>
                <a:cubicBezTo>
                  <a:pt x="7028" y="14890"/>
                  <a:pt x="7098" y="14845"/>
                  <a:pt x="7144" y="14827"/>
                </a:cubicBezTo>
                <a:cubicBezTo>
                  <a:pt x="7199" y="14805"/>
                  <a:pt x="7277" y="14835"/>
                  <a:pt x="7302" y="14891"/>
                </a:cubicBezTo>
                <a:cubicBezTo>
                  <a:pt x="7335" y="14965"/>
                  <a:pt x="7324" y="14978"/>
                  <a:pt x="7302" y="15050"/>
                </a:cubicBezTo>
                <a:cubicBezTo>
                  <a:pt x="7282" y="15114"/>
                  <a:pt x="7236" y="15110"/>
                  <a:pt x="7207" y="15145"/>
                </a:cubicBezTo>
                <a:cubicBezTo>
                  <a:pt x="7148" y="15217"/>
                  <a:pt x="7172" y="15208"/>
                  <a:pt x="7080" y="15208"/>
                </a:cubicBezTo>
                <a:cubicBezTo>
                  <a:pt x="7089" y="15144"/>
                  <a:pt x="7106" y="15096"/>
                  <a:pt x="7176" y="15081"/>
                </a:cubicBezTo>
                <a:cubicBezTo>
                  <a:pt x="7228" y="15070"/>
                  <a:pt x="7335" y="15101"/>
                  <a:pt x="7366" y="15145"/>
                </a:cubicBezTo>
                <a:cubicBezTo>
                  <a:pt x="7407" y="15204"/>
                  <a:pt x="7424" y="15301"/>
                  <a:pt x="7430" y="15367"/>
                </a:cubicBezTo>
                <a:cubicBezTo>
                  <a:pt x="7436" y="15443"/>
                  <a:pt x="7444" y="15532"/>
                  <a:pt x="7398" y="15589"/>
                </a:cubicBezTo>
                <a:cubicBezTo>
                  <a:pt x="7362" y="15634"/>
                  <a:pt x="7324" y="15621"/>
                  <a:pt x="7271" y="15621"/>
                </a:cubicBezTo>
                <a:cubicBezTo>
                  <a:pt x="7193" y="15621"/>
                  <a:pt x="7164" y="15635"/>
                  <a:pt x="7144" y="15558"/>
                </a:cubicBezTo>
              </a:path>
              <a:path w="9177" h="3017">
                <a:moveTo>
                  <a:pt x="8795" y="15050"/>
                </a:moveTo>
                <a:cubicBezTo>
                  <a:pt x="8810" y="14988"/>
                  <a:pt x="8822" y="14947"/>
                  <a:pt x="8890" y="14922"/>
                </a:cubicBezTo>
                <a:cubicBezTo>
                  <a:pt x="8939" y="14904"/>
                  <a:pt x="8998" y="14880"/>
                  <a:pt x="9049" y="14859"/>
                </a:cubicBezTo>
                <a:cubicBezTo>
                  <a:pt x="9092" y="14842"/>
                  <a:pt x="9188" y="14798"/>
                  <a:pt x="9239" y="14827"/>
                </a:cubicBezTo>
                <a:cubicBezTo>
                  <a:pt x="9290" y="14856"/>
                  <a:pt x="9328" y="14927"/>
                  <a:pt x="9303" y="14986"/>
                </a:cubicBezTo>
                <a:cubicBezTo>
                  <a:pt x="9272" y="15061"/>
                  <a:pt x="9200" y="15149"/>
                  <a:pt x="9144" y="15208"/>
                </a:cubicBezTo>
                <a:cubicBezTo>
                  <a:pt x="9076" y="15280"/>
                  <a:pt x="8992" y="15302"/>
                  <a:pt x="8922" y="15367"/>
                </a:cubicBezTo>
                <a:cubicBezTo>
                  <a:pt x="8850" y="15433"/>
                  <a:pt x="8781" y="15468"/>
                  <a:pt x="8763" y="15558"/>
                </a:cubicBezTo>
                <a:cubicBezTo>
                  <a:pt x="8751" y="15619"/>
                  <a:pt x="8811" y="15740"/>
                  <a:pt x="8858" y="15780"/>
                </a:cubicBezTo>
                <a:cubicBezTo>
                  <a:pt x="8879" y="15791"/>
                  <a:pt x="8901" y="15801"/>
                  <a:pt x="8922" y="15812"/>
                </a:cubicBezTo>
              </a:path>
              <a:path w="9177" h="3017">
                <a:moveTo>
                  <a:pt x="9017" y="16288"/>
                </a:moveTo>
                <a:cubicBezTo>
                  <a:pt x="9017" y="16320"/>
                  <a:pt x="9017" y="16331"/>
                  <a:pt x="9049" y="16320"/>
                </a:cubicBezTo>
              </a:path>
              <a:path w="9177" h="3017">
                <a:moveTo>
                  <a:pt x="9684" y="15558"/>
                </a:moveTo>
                <a:cubicBezTo>
                  <a:pt x="9698" y="15515"/>
                  <a:pt x="9749" y="15498"/>
                  <a:pt x="9811" y="15494"/>
                </a:cubicBezTo>
                <a:cubicBezTo>
                  <a:pt x="9958" y="15484"/>
                  <a:pt x="10108" y="15494"/>
                  <a:pt x="10255" y="15494"/>
                </a:cubicBezTo>
              </a:path>
              <a:path w="9177" h="3017">
                <a:moveTo>
                  <a:pt x="9716" y="15812"/>
                </a:moveTo>
                <a:cubicBezTo>
                  <a:pt x="9674" y="15832"/>
                  <a:pt x="9734" y="15865"/>
                  <a:pt x="9779" y="15875"/>
                </a:cubicBezTo>
                <a:cubicBezTo>
                  <a:pt x="9931" y="15908"/>
                  <a:pt x="10130" y="15875"/>
                  <a:pt x="10287" y="15875"/>
                </a:cubicBezTo>
              </a:path>
              <a:path w="9177" h="3017">
                <a:moveTo>
                  <a:pt x="10604" y="15240"/>
                </a:moveTo>
                <a:cubicBezTo>
                  <a:pt x="10611" y="15168"/>
                  <a:pt x="10606" y="15067"/>
                  <a:pt x="10668" y="15018"/>
                </a:cubicBezTo>
                <a:cubicBezTo>
                  <a:pt x="10704" y="14990"/>
                  <a:pt x="10815" y="14944"/>
                  <a:pt x="10858" y="14954"/>
                </a:cubicBezTo>
                <a:cubicBezTo>
                  <a:pt x="10943" y="14974"/>
                  <a:pt x="11001" y="15055"/>
                  <a:pt x="11049" y="15113"/>
                </a:cubicBezTo>
                <a:cubicBezTo>
                  <a:pt x="11114" y="15190"/>
                  <a:pt x="11086" y="15311"/>
                  <a:pt x="11049" y="15399"/>
                </a:cubicBezTo>
                <a:cubicBezTo>
                  <a:pt x="11010" y="15491"/>
                  <a:pt x="10926" y="15581"/>
                  <a:pt x="10858" y="15653"/>
                </a:cubicBezTo>
                <a:cubicBezTo>
                  <a:pt x="10777" y="15739"/>
                  <a:pt x="10664" y="15768"/>
                  <a:pt x="10573" y="15843"/>
                </a:cubicBezTo>
                <a:cubicBezTo>
                  <a:pt x="10491" y="15911"/>
                  <a:pt x="10444" y="15952"/>
                  <a:pt x="10382" y="16034"/>
                </a:cubicBezTo>
                <a:cubicBezTo>
                  <a:pt x="10350" y="16066"/>
                  <a:pt x="10340" y="16076"/>
                  <a:pt x="10319" y="16097"/>
                </a:cubicBezTo>
                <a:cubicBezTo>
                  <a:pt x="10433" y="16097"/>
                  <a:pt x="10531" y="16112"/>
                  <a:pt x="10636" y="16129"/>
                </a:cubicBezTo>
                <a:cubicBezTo>
                  <a:pt x="10705" y="16140"/>
                  <a:pt x="10772" y="16148"/>
                  <a:pt x="10827" y="16192"/>
                </a:cubicBezTo>
                <a:cubicBezTo>
                  <a:pt x="10856" y="16215"/>
                  <a:pt x="10943" y="16315"/>
                  <a:pt x="10954" y="16320"/>
                </a:cubicBezTo>
                <a:cubicBezTo>
                  <a:pt x="10999" y="16341"/>
                  <a:pt x="11051" y="16312"/>
                  <a:pt x="11081" y="16288"/>
                </a:cubicBezTo>
                <a:cubicBezTo>
                  <a:pt x="11091" y="16277"/>
                  <a:pt x="11102" y="16267"/>
                  <a:pt x="11112" y="16256"/>
                </a:cubicBezTo>
              </a:path>
              <a:path w="9177" h="3017">
                <a:moveTo>
                  <a:pt x="9303" y="16478"/>
                </a:moveTo>
                <a:cubicBezTo>
                  <a:pt x="9398" y="16512"/>
                  <a:pt x="9480" y="16577"/>
                  <a:pt x="9588" y="16605"/>
                </a:cubicBezTo>
                <a:cubicBezTo>
                  <a:pt x="9694" y="16632"/>
                  <a:pt x="9799" y="16666"/>
                  <a:pt x="9906" y="16700"/>
                </a:cubicBezTo>
                <a:cubicBezTo>
                  <a:pt x="10031" y="16740"/>
                  <a:pt x="10184" y="16777"/>
                  <a:pt x="10319" y="16796"/>
                </a:cubicBezTo>
                <a:cubicBezTo>
                  <a:pt x="10519" y="16824"/>
                  <a:pt x="10647" y="16760"/>
                  <a:pt x="10827" y="16700"/>
                </a:cubicBezTo>
                <a:cubicBezTo>
                  <a:pt x="10981" y="16649"/>
                  <a:pt x="11153" y="16633"/>
                  <a:pt x="11303" y="16574"/>
                </a:cubicBezTo>
                <a:cubicBezTo>
                  <a:pt x="11471" y="16509"/>
                  <a:pt x="11673" y="16441"/>
                  <a:pt x="11811" y="16320"/>
                </a:cubicBezTo>
                <a:cubicBezTo>
                  <a:pt x="11909" y="16234"/>
                  <a:pt x="11985" y="16136"/>
                  <a:pt x="12002" y="16002"/>
                </a:cubicBezTo>
                <a:cubicBezTo>
                  <a:pt x="12024" y="15831"/>
                  <a:pt x="11980" y="15688"/>
                  <a:pt x="11938" y="15526"/>
                </a:cubicBezTo>
                <a:cubicBezTo>
                  <a:pt x="11897" y="15367"/>
                  <a:pt x="11769" y="15139"/>
                  <a:pt x="11652" y="15018"/>
                </a:cubicBezTo>
                <a:cubicBezTo>
                  <a:pt x="11532" y="14894"/>
                  <a:pt x="11330" y="14771"/>
                  <a:pt x="11176" y="14700"/>
                </a:cubicBezTo>
                <a:cubicBezTo>
                  <a:pt x="10991" y="14614"/>
                  <a:pt x="10771" y="14527"/>
                  <a:pt x="10573" y="14478"/>
                </a:cubicBezTo>
                <a:cubicBezTo>
                  <a:pt x="10349" y="14423"/>
                  <a:pt x="10103" y="14397"/>
                  <a:pt x="9874" y="14383"/>
                </a:cubicBezTo>
                <a:cubicBezTo>
                  <a:pt x="9647" y="14369"/>
                  <a:pt x="9400" y="14411"/>
                  <a:pt x="9176" y="14446"/>
                </a:cubicBezTo>
                <a:cubicBezTo>
                  <a:pt x="8955" y="14481"/>
                  <a:pt x="8723" y="14571"/>
                  <a:pt x="8541" y="14700"/>
                </a:cubicBezTo>
                <a:cubicBezTo>
                  <a:pt x="8381" y="14813"/>
                  <a:pt x="8280" y="14942"/>
                  <a:pt x="8192" y="15113"/>
                </a:cubicBezTo>
                <a:cubicBezTo>
                  <a:pt x="8107" y="15279"/>
                  <a:pt x="8069" y="15436"/>
                  <a:pt x="8064" y="15621"/>
                </a:cubicBezTo>
                <a:cubicBezTo>
                  <a:pt x="8060" y="15776"/>
                  <a:pt x="8095" y="15986"/>
                  <a:pt x="8160" y="16129"/>
                </a:cubicBezTo>
                <a:cubicBezTo>
                  <a:pt x="8224" y="16271"/>
                  <a:pt x="8369" y="16378"/>
                  <a:pt x="8477" y="16478"/>
                </a:cubicBezTo>
                <a:cubicBezTo>
                  <a:pt x="8591" y="16584"/>
                  <a:pt x="8754" y="16730"/>
                  <a:pt x="8890" y="16796"/>
                </a:cubicBezTo>
                <a:cubicBezTo>
                  <a:pt x="9075" y="16886"/>
                  <a:pt x="9293" y="16963"/>
                  <a:pt x="9493" y="17018"/>
                </a:cubicBezTo>
                <a:cubicBezTo>
                  <a:pt x="9633" y="17056"/>
                  <a:pt x="9689" y="17060"/>
                  <a:pt x="9811" y="16986"/>
                </a:cubicBezTo>
                <a:cubicBezTo>
                  <a:pt x="9890" y="16938"/>
                  <a:pt x="9866" y="16922"/>
                  <a:pt x="9906" y="168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2133720" y="914400"/>
                <a:ext cx="4495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Ink 5"/>
          <p:cNvSpPr/>
          <p:nvPr/>
        </p:nvSpPr>
        <p:spPr>
          <a:xfrm>
            <a:off x="1646280" y="925560"/>
            <a:ext cx="4754520" cy="2012760"/>
          </a:xfrm>
          <a:custGeom>
            <a:avLst/>
            <a:gdLst/>
            <a:ahLst/>
            <a:rect l="l" t="t" r="r" b="b"/>
            <a:pathLst>
              <a:path w="13209" h="5589">
                <a:moveTo>
                  <a:pt x="6922" y="4286"/>
                </a:moveTo>
                <a:cubicBezTo>
                  <a:pt x="7086" y="4286"/>
                  <a:pt x="7243" y="4274"/>
                  <a:pt x="7398" y="4254"/>
                </a:cubicBezTo>
                <a:cubicBezTo>
                  <a:pt x="7527" y="4238"/>
                  <a:pt x="7647" y="4223"/>
                  <a:pt x="7779" y="4223"/>
                </a:cubicBezTo>
                <a:cubicBezTo>
                  <a:pt x="7874" y="4223"/>
                  <a:pt x="7943" y="4198"/>
                  <a:pt x="8033" y="4191"/>
                </a:cubicBezTo>
                <a:cubicBezTo>
                  <a:pt x="8075" y="4188"/>
                  <a:pt x="8054" y="4191"/>
                  <a:pt x="8096" y="4191"/>
                </a:cubicBezTo>
                <a:cubicBezTo>
                  <a:pt x="8107" y="4191"/>
                  <a:pt x="8117" y="4191"/>
                  <a:pt x="8128" y="4191"/>
                </a:cubicBezTo>
              </a:path>
              <a:path w="13209" h="5589">
                <a:moveTo>
                  <a:pt x="12446" y="4254"/>
                </a:moveTo>
                <a:cubicBezTo>
                  <a:pt x="12410" y="4254"/>
                  <a:pt x="12396" y="4257"/>
                  <a:pt x="12382" y="4286"/>
                </a:cubicBezTo>
                <a:cubicBezTo>
                  <a:pt x="12459" y="4286"/>
                  <a:pt x="12501" y="4267"/>
                  <a:pt x="12573" y="4254"/>
                </a:cubicBezTo>
                <a:cubicBezTo>
                  <a:pt x="12823" y="4209"/>
                  <a:pt x="13526" y="4254"/>
                  <a:pt x="13272" y="4254"/>
                </a:cubicBezTo>
              </a:path>
              <a:path w="13209" h="5589">
                <a:moveTo>
                  <a:pt x="4604" y="6032"/>
                </a:moveTo>
                <a:cubicBezTo>
                  <a:pt x="4604" y="6068"/>
                  <a:pt x="4601" y="6082"/>
                  <a:pt x="4572" y="6096"/>
                </a:cubicBezTo>
                <a:cubicBezTo>
                  <a:pt x="4641" y="6096"/>
                  <a:pt x="4677" y="6076"/>
                  <a:pt x="4731" y="6064"/>
                </a:cubicBezTo>
                <a:cubicBezTo>
                  <a:pt x="4816" y="6046"/>
                  <a:pt x="4901" y="6052"/>
                  <a:pt x="4985" y="6032"/>
                </a:cubicBezTo>
                <a:cubicBezTo>
                  <a:pt x="5051" y="6016"/>
                  <a:pt x="5090" y="6051"/>
                  <a:pt x="5144" y="6064"/>
                </a:cubicBezTo>
              </a:path>
              <a:path w="13209" h="5589">
                <a:moveTo>
                  <a:pt x="5524" y="6160"/>
                </a:moveTo>
                <a:cubicBezTo>
                  <a:pt x="5517" y="6095"/>
                  <a:pt x="5501" y="6034"/>
                  <a:pt x="5493" y="5969"/>
                </a:cubicBezTo>
                <a:cubicBezTo>
                  <a:pt x="5483" y="5886"/>
                  <a:pt x="5498" y="5822"/>
                  <a:pt x="5524" y="5747"/>
                </a:cubicBezTo>
                <a:cubicBezTo>
                  <a:pt x="5538" y="5705"/>
                  <a:pt x="5559" y="5620"/>
                  <a:pt x="5620" y="5620"/>
                </a:cubicBezTo>
                <a:cubicBezTo>
                  <a:pt x="5678" y="5620"/>
                  <a:pt x="5704" y="5667"/>
                  <a:pt x="5715" y="5715"/>
                </a:cubicBezTo>
                <a:cubicBezTo>
                  <a:pt x="5741" y="5827"/>
                  <a:pt x="5738" y="5920"/>
                  <a:pt x="5715" y="6032"/>
                </a:cubicBezTo>
                <a:cubicBezTo>
                  <a:pt x="5684" y="6183"/>
                  <a:pt x="5629" y="6329"/>
                  <a:pt x="5588" y="6477"/>
                </a:cubicBezTo>
                <a:cubicBezTo>
                  <a:pt x="5549" y="6618"/>
                  <a:pt x="5502" y="6799"/>
                  <a:pt x="5429" y="6922"/>
                </a:cubicBezTo>
                <a:cubicBezTo>
                  <a:pt x="5375" y="7012"/>
                  <a:pt x="5316" y="7099"/>
                  <a:pt x="5239" y="7176"/>
                </a:cubicBezTo>
                <a:cubicBezTo>
                  <a:pt x="5228" y="7186"/>
                  <a:pt x="5218" y="7197"/>
                  <a:pt x="5207" y="7207"/>
                </a:cubicBezTo>
                <a:cubicBezTo>
                  <a:pt x="5172" y="7138"/>
                  <a:pt x="5155" y="7100"/>
                  <a:pt x="5207" y="7017"/>
                </a:cubicBezTo>
                <a:cubicBezTo>
                  <a:pt x="5225" y="6988"/>
                  <a:pt x="5302" y="6951"/>
                  <a:pt x="5334" y="6953"/>
                </a:cubicBezTo>
                <a:cubicBezTo>
                  <a:pt x="5374" y="6956"/>
                  <a:pt x="5451" y="7043"/>
                  <a:pt x="5461" y="7080"/>
                </a:cubicBezTo>
                <a:cubicBezTo>
                  <a:pt x="5485" y="7171"/>
                  <a:pt x="5511" y="7217"/>
                  <a:pt x="5556" y="7302"/>
                </a:cubicBezTo>
                <a:cubicBezTo>
                  <a:pt x="5592" y="7369"/>
                  <a:pt x="5626" y="7434"/>
                  <a:pt x="5715" y="7430"/>
                </a:cubicBezTo>
                <a:cubicBezTo>
                  <a:pt x="5778" y="7427"/>
                  <a:pt x="5856" y="7372"/>
                  <a:pt x="5906" y="7334"/>
                </a:cubicBezTo>
                <a:cubicBezTo>
                  <a:pt x="5916" y="7323"/>
                  <a:pt x="5927" y="7313"/>
                  <a:pt x="5937" y="7302"/>
                </a:cubicBezTo>
              </a:path>
              <a:path w="13209" h="5589">
                <a:moveTo>
                  <a:pt x="6604" y="6223"/>
                </a:moveTo>
                <a:cubicBezTo>
                  <a:pt x="6629" y="6132"/>
                  <a:pt x="6686" y="6001"/>
                  <a:pt x="6668" y="5906"/>
                </a:cubicBezTo>
                <a:cubicBezTo>
                  <a:pt x="6654" y="5832"/>
                  <a:pt x="6603" y="5757"/>
                  <a:pt x="6540" y="5715"/>
                </a:cubicBezTo>
                <a:cubicBezTo>
                  <a:pt x="6452" y="5656"/>
                  <a:pt x="6345" y="5677"/>
                  <a:pt x="6255" y="5715"/>
                </a:cubicBezTo>
                <a:cubicBezTo>
                  <a:pt x="6150" y="5759"/>
                  <a:pt x="6098" y="5824"/>
                  <a:pt x="6064" y="5906"/>
                </a:cubicBezTo>
                <a:cubicBezTo>
                  <a:pt x="6026" y="5998"/>
                  <a:pt x="6021" y="6032"/>
                  <a:pt x="6064" y="6128"/>
                </a:cubicBezTo>
                <a:cubicBezTo>
                  <a:pt x="6113" y="6237"/>
                  <a:pt x="6230" y="6283"/>
                  <a:pt x="6286" y="6382"/>
                </a:cubicBezTo>
                <a:cubicBezTo>
                  <a:pt x="6347" y="6491"/>
                  <a:pt x="6428" y="6615"/>
                  <a:pt x="6477" y="6731"/>
                </a:cubicBezTo>
                <a:cubicBezTo>
                  <a:pt x="6525" y="6844"/>
                  <a:pt x="6568" y="6988"/>
                  <a:pt x="6540" y="7112"/>
                </a:cubicBezTo>
                <a:cubicBezTo>
                  <a:pt x="6528" y="7165"/>
                  <a:pt x="6464" y="7306"/>
                  <a:pt x="6414" y="7334"/>
                </a:cubicBezTo>
                <a:cubicBezTo>
                  <a:pt x="6403" y="7334"/>
                  <a:pt x="6393" y="7334"/>
                  <a:pt x="6382" y="7334"/>
                </a:cubicBezTo>
                <a:cubicBezTo>
                  <a:pt x="6313" y="7324"/>
                  <a:pt x="6276" y="7329"/>
                  <a:pt x="6255" y="7239"/>
                </a:cubicBezTo>
                <a:cubicBezTo>
                  <a:pt x="6226" y="7113"/>
                  <a:pt x="6233" y="6988"/>
                  <a:pt x="6255" y="6858"/>
                </a:cubicBezTo>
                <a:cubicBezTo>
                  <a:pt x="6281" y="6702"/>
                  <a:pt x="6300" y="6564"/>
                  <a:pt x="6350" y="6414"/>
                </a:cubicBezTo>
                <a:cubicBezTo>
                  <a:pt x="6392" y="6289"/>
                  <a:pt x="6459" y="6137"/>
                  <a:pt x="6540" y="6032"/>
                </a:cubicBezTo>
                <a:cubicBezTo>
                  <a:pt x="6593" y="5963"/>
                  <a:pt x="6660" y="5919"/>
                  <a:pt x="6731" y="5874"/>
                </a:cubicBezTo>
              </a:path>
              <a:path w="13209" h="5589">
                <a:moveTo>
                  <a:pt x="7048" y="6255"/>
                </a:moveTo>
                <a:cubicBezTo>
                  <a:pt x="7076" y="6301"/>
                  <a:pt x="7080" y="6347"/>
                  <a:pt x="7080" y="6445"/>
                </a:cubicBezTo>
                <a:cubicBezTo>
                  <a:pt x="7080" y="6579"/>
                  <a:pt x="7060" y="6698"/>
                  <a:pt x="7048" y="6826"/>
                </a:cubicBezTo>
                <a:cubicBezTo>
                  <a:pt x="7034" y="6970"/>
                  <a:pt x="7054" y="7111"/>
                  <a:pt x="7017" y="7239"/>
                </a:cubicBezTo>
                <a:cubicBezTo>
                  <a:pt x="7017" y="7250"/>
                  <a:pt x="7017" y="7260"/>
                  <a:pt x="7017" y="7271"/>
                </a:cubicBezTo>
                <a:cubicBezTo>
                  <a:pt x="7017" y="7108"/>
                  <a:pt x="7034" y="6952"/>
                  <a:pt x="7048" y="6794"/>
                </a:cubicBezTo>
                <a:cubicBezTo>
                  <a:pt x="7061" y="6644"/>
                  <a:pt x="7072" y="6489"/>
                  <a:pt x="7144" y="6350"/>
                </a:cubicBezTo>
                <a:cubicBezTo>
                  <a:pt x="7175" y="6289"/>
                  <a:pt x="7261" y="6120"/>
                  <a:pt x="7334" y="6096"/>
                </a:cubicBezTo>
                <a:cubicBezTo>
                  <a:pt x="7387" y="6096"/>
                  <a:pt x="7398" y="6096"/>
                  <a:pt x="7430" y="6096"/>
                </a:cubicBezTo>
                <a:cubicBezTo>
                  <a:pt x="7477" y="6169"/>
                  <a:pt x="7489" y="6223"/>
                  <a:pt x="7493" y="6318"/>
                </a:cubicBezTo>
                <a:cubicBezTo>
                  <a:pt x="7498" y="6450"/>
                  <a:pt x="7444" y="6570"/>
                  <a:pt x="7430" y="6699"/>
                </a:cubicBezTo>
                <a:cubicBezTo>
                  <a:pt x="7421" y="6786"/>
                  <a:pt x="7412" y="7039"/>
                  <a:pt x="7398" y="6953"/>
                </a:cubicBezTo>
                <a:cubicBezTo>
                  <a:pt x="7382" y="6855"/>
                  <a:pt x="7434" y="6786"/>
                  <a:pt x="7461" y="6699"/>
                </a:cubicBezTo>
                <a:cubicBezTo>
                  <a:pt x="7499" y="6576"/>
                  <a:pt x="7517" y="6396"/>
                  <a:pt x="7588" y="6286"/>
                </a:cubicBezTo>
                <a:cubicBezTo>
                  <a:pt x="7626" y="6227"/>
                  <a:pt x="7685" y="6146"/>
                  <a:pt x="7747" y="6128"/>
                </a:cubicBezTo>
                <a:cubicBezTo>
                  <a:pt x="7779" y="6128"/>
                  <a:pt x="7789" y="6128"/>
                  <a:pt x="7810" y="6128"/>
                </a:cubicBezTo>
                <a:cubicBezTo>
                  <a:pt x="7846" y="6188"/>
                  <a:pt x="7865" y="6306"/>
                  <a:pt x="7874" y="6382"/>
                </a:cubicBezTo>
                <a:cubicBezTo>
                  <a:pt x="7890" y="6524"/>
                  <a:pt x="7847" y="6655"/>
                  <a:pt x="7842" y="6794"/>
                </a:cubicBezTo>
                <a:cubicBezTo>
                  <a:pt x="7838" y="6916"/>
                  <a:pt x="7807" y="7100"/>
                  <a:pt x="7874" y="7207"/>
                </a:cubicBezTo>
                <a:cubicBezTo>
                  <a:pt x="7918" y="7279"/>
                  <a:pt x="7959" y="7267"/>
                  <a:pt x="8033" y="7271"/>
                </a:cubicBezTo>
                <a:cubicBezTo>
                  <a:pt x="8054" y="7271"/>
                  <a:pt x="8075" y="7271"/>
                  <a:pt x="8096" y="7271"/>
                </a:cubicBezTo>
              </a:path>
              <a:path w="13209" h="5589">
                <a:moveTo>
                  <a:pt x="9620" y="3429"/>
                </a:moveTo>
                <a:cubicBezTo>
                  <a:pt x="9680" y="3429"/>
                  <a:pt x="9722" y="3408"/>
                  <a:pt x="9779" y="3397"/>
                </a:cubicBezTo>
              </a:path>
              <a:path w="13209" h="5589">
                <a:moveTo>
                  <a:pt x="14351" y="3175"/>
                </a:moveTo>
                <a:cubicBezTo>
                  <a:pt x="14436" y="3175"/>
                  <a:pt x="14520" y="3175"/>
                  <a:pt x="14605" y="3175"/>
                </a:cubicBezTo>
              </a:path>
              <a:path w="13209" h="5589">
                <a:moveTo>
                  <a:pt x="14383" y="3048"/>
                </a:moveTo>
                <a:lnTo>
                  <a:pt x="14383" y="3048"/>
                </a:lnTo>
              </a:path>
              <a:path w="13209" h="5589">
                <a:moveTo>
                  <a:pt x="14383" y="3048"/>
                </a:moveTo>
                <a:cubicBezTo>
                  <a:pt x="14393" y="3027"/>
                  <a:pt x="14404" y="3005"/>
                  <a:pt x="14414" y="2984"/>
                </a:cubicBezTo>
              </a:path>
              <a:path w="13209" h="5589">
                <a:moveTo>
                  <a:pt x="14414" y="2984"/>
                </a:moveTo>
                <a:cubicBezTo>
                  <a:pt x="14414" y="2879"/>
                  <a:pt x="14429" y="2795"/>
                  <a:pt x="14446" y="2699"/>
                </a:cubicBezTo>
                <a:cubicBezTo>
                  <a:pt x="14446" y="2635"/>
                  <a:pt x="14446" y="2614"/>
                  <a:pt x="14446" y="2572"/>
                </a:cubicBezTo>
              </a:path>
              <a:path w="13209" h="5589">
                <a:moveTo>
                  <a:pt x="17462" y="3143"/>
                </a:moveTo>
                <a:lnTo>
                  <a:pt x="17462" y="3143"/>
                </a:lnTo>
              </a:path>
              <a:path w="13209" h="5589">
                <a:moveTo>
                  <a:pt x="17462" y="3143"/>
                </a:moveTo>
                <a:cubicBezTo>
                  <a:pt x="17483" y="3143"/>
                  <a:pt x="17505" y="3143"/>
                  <a:pt x="17526" y="3143"/>
                </a:cubicBezTo>
              </a:path>
              <a:path w="13209" h="5589">
                <a:moveTo>
                  <a:pt x="17526" y="3143"/>
                </a:moveTo>
                <a:cubicBezTo>
                  <a:pt x="17582" y="3132"/>
                  <a:pt x="17625" y="3112"/>
                  <a:pt x="17685" y="3112"/>
                </a:cubicBezTo>
                <a:cubicBezTo>
                  <a:pt x="17717" y="3112"/>
                  <a:pt x="17748" y="3112"/>
                  <a:pt x="17780" y="3112"/>
                </a:cubicBezTo>
              </a:path>
              <a:path w="13209" h="5589">
                <a:moveTo>
                  <a:pt x="17590" y="2635"/>
                </a:moveTo>
                <a:cubicBezTo>
                  <a:pt x="17590" y="2720"/>
                  <a:pt x="17590" y="2804"/>
                  <a:pt x="17590" y="2889"/>
                </a:cubicBezTo>
              </a:path>
              <a:path w="13209" h="5589">
                <a:moveTo>
                  <a:pt x="8160" y="5366"/>
                </a:moveTo>
                <a:cubicBezTo>
                  <a:pt x="8160" y="5475"/>
                  <a:pt x="8195" y="5665"/>
                  <a:pt x="8128" y="5747"/>
                </a:cubicBezTo>
                <a:cubicBezTo>
                  <a:pt x="8117" y="5757"/>
                  <a:pt x="8107" y="5768"/>
                  <a:pt x="8096" y="5778"/>
                </a:cubicBezTo>
                <a:cubicBezTo>
                  <a:pt x="8146" y="5766"/>
                  <a:pt x="8167" y="5747"/>
                  <a:pt x="8223" y="5747"/>
                </a:cubicBezTo>
                <a:cubicBezTo>
                  <a:pt x="8282" y="5747"/>
                  <a:pt x="8447" y="5776"/>
                  <a:pt x="8477" y="5715"/>
                </a:cubicBezTo>
                <a:cubicBezTo>
                  <a:pt x="8477" y="5670"/>
                  <a:pt x="8483" y="5648"/>
                  <a:pt x="8509" y="5620"/>
                </a:cubicBezTo>
              </a:path>
              <a:path w="13209" h="5589">
                <a:moveTo>
                  <a:pt x="8414" y="5270"/>
                </a:moveTo>
                <a:cubicBezTo>
                  <a:pt x="8382" y="5345"/>
                  <a:pt x="8382" y="5379"/>
                  <a:pt x="8382" y="5461"/>
                </a:cubicBezTo>
                <a:cubicBezTo>
                  <a:pt x="8382" y="5657"/>
                  <a:pt x="8381" y="5846"/>
                  <a:pt x="8350" y="6032"/>
                </a:cubicBezTo>
                <a:cubicBezTo>
                  <a:pt x="8344" y="6070"/>
                  <a:pt x="8350" y="6120"/>
                  <a:pt x="8350" y="6160"/>
                </a:cubicBezTo>
              </a:path>
              <a:path w="13209" h="5589">
                <a:moveTo>
                  <a:pt x="8890" y="5842"/>
                </a:moveTo>
                <a:cubicBezTo>
                  <a:pt x="8890" y="6058"/>
                  <a:pt x="8878" y="6268"/>
                  <a:pt x="8858" y="6477"/>
                </a:cubicBezTo>
                <a:cubicBezTo>
                  <a:pt x="8838" y="6688"/>
                  <a:pt x="8857" y="6912"/>
                  <a:pt x="8890" y="7112"/>
                </a:cubicBezTo>
                <a:cubicBezTo>
                  <a:pt x="8897" y="7153"/>
                  <a:pt x="8890" y="7134"/>
                  <a:pt x="8890" y="7176"/>
                </a:cubicBezTo>
                <a:cubicBezTo>
                  <a:pt x="8890" y="6938"/>
                  <a:pt x="8854" y="6671"/>
                  <a:pt x="8922" y="6445"/>
                </a:cubicBezTo>
                <a:cubicBezTo>
                  <a:pt x="8952" y="6344"/>
                  <a:pt x="8983" y="6213"/>
                  <a:pt x="9049" y="6128"/>
                </a:cubicBezTo>
                <a:cubicBezTo>
                  <a:pt x="9111" y="6048"/>
                  <a:pt x="9154" y="5956"/>
                  <a:pt x="9239" y="5906"/>
                </a:cubicBezTo>
                <a:cubicBezTo>
                  <a:pt x="9286" y="5879"/>
                  <a:pt x="9371" y="5783"/>
                  <a:pt x="9430" y="5810"/>
                </a:cubicBezTo>
                <a:cubicBezTo>
                  <a:pt x="9484" y="5834"/>
                  <a:pt x="9531" y="5923"/>
                  <a:pt x="9557" y="5969"/>
                </a:cubicBezTo>
                <a:cubicBezTo>
                  <a:pt x="9609" y="6063"/>
                  <a:pt x="9617" y="6211"/>
                  <a:pt x="9620" y="6318"/>
                </a:cubicBezTo>
                <a:cubicBezTo>
                  <a:pt x="9633" y="6729"/>
                  <a:pt x="9589" y="7157"/>
                  <a:pt x="9652" y="7556"/>
                </a:cubicBezTo>
                <a:cubicBezTo>
                  <a:pt x="9673" y="7685"/>
                  <a:pt x="9716" y="7675"/>
                  <a:pt x="9811" y="7715"/>
                </a:cubicBezTo>
                <a:cubicBezTo>
                  <a:pt x="9906" y="7755"/>
                  <a:pt x="9954" y="7716"/>
                  <a:pt x="10033" y="7652"/>
                </a:cubicBezTo>
                <a:cubicBezTo>
                  <a:pt x="10096" y="7588"/>
                  <a:pt x="10117" y="7567"/>
                  <a:pt x="10160" y="7525"/>
                </a:cubicBezTo>
              </a:path>
              <a:path w="13209" h="5589">
                <a:moveTo>
                  <a:pt x="10858" y="3461"/>
                </a:moveTo>
                <a:cubicBezTo>
                  <a:pt x="10869" y="3461"/>
                  <a:pt x="10879" y="3461"/>
                  <a:pt x="10890" y="3461"/>
                </a:cubicBezTo>
                <a:cubicBezTo>
                  <a:pt x="10906" y="3508"/>
                  <a:pt x="10930" y="3492"/>
                  <a:pt x="10986" y="3492"/>
                </a:cubicBezTo>
                <a:cubicBezTo>
                  <a:pt x="11071" y="3492"/>
                  <a:pt x="11130" y="3474"/>
                  <a:pt x="11208" y="3461"/>
                </a:cubicBezTo>
                <a:cubicBezTo>
                  <a:pt x="11317" y="3442"/>
                  <a:pt x="11446" y="3461"/>
                  <a:pt x="11557" y="3461"/>
                </a:cubicBezTo>
              </a:path>
              <a:path w="13209" h="5589">
                <a:moveTo>
                  <a:pt x="15240" y="3429"/>
                </a:moveTo>
                <a:cubicBezTo>
                  <a:pt x="15355" y="3429"/>
                  <a:pt x="15451" y="3416"/>
                  <a:pt x="15558" y="3397"/>
                </a:cubicBezTo>
                <a:cubicBezTo>
                  <a:pt x="15667" y="3378"/>
                  <a:pt x="15796" y="3397"/>
                  <a:pt x="15907" y="3397"/>
                </a:cubicBezTo>
              </a:path>
              <a:path w="13209" h="5589">
                <a:moveTo>
                  <a:pt x="9716" y="5588"/>
                </a:moveTo>
                <a:cubicBezTo>
                  <a:pt x="9804" y="5588"/>
                  <a:pt x="9855" y="5577"/>
                  <a:pt x="9938" y="5556"/>
                </a:cubicBezTo>
                <a:cubicBezTo>
                  <a:pt x="9980" y="5556"/>
                  <a:pt x="10001" y="5556"/>
                  <a:pt x="10033" y="5556"/>
                </a:cubicBezTo>
              </a:path>
              <a:path w="13209" h="5589">
                <a:moveTo>
                  <a:pt x="10319" y="5239"/>
                </a:moveTo>
                <a:cubicBezTo>
                  <a:pt x="10284" y="5282"/>
                  <a:pt x="10171" y="5411"/>
                  <a:pt x="10160" y="5461"/>
                </a:cubicBezTo>
                <a:cubicBezTo>
                  <a:pt x="10138" y="5565"/>
                  <a:pt x="10128" y="5669"/>
                  <a:pt x="10128" y="5778"/>
                </a:cubicBezTo>
                <a:cubicBezTo>
                  <a:pt x="10128" y="5920"/>
                  <a:pt x="10127" y="5959"/>
                  <a:pt x="10224" y="6064"/>
                </a:cubicBezTo>
                <a:cubicBezTo>
                  <a:pt x="10306" y="6153"/>
                  <a:pt x="10322" y="6112"/>
                  <a:pt x="10414" y="6096"/>
                </a:cubicBezTo>
                <a:cubicBezTo>
                  <a:pt x="10543" y="6073"/>
                  <a:pt x="10547" y="6033"/>
                  <a:pt x="10636" y="5937"/>
                </a:cubicBezTo>
                <a:cubicBezTo>
                  <a:pt x="10682" y="5887"/>
                  <a:pt x="10692" y="5770"/>
                  <a:pt x="10636" y="5715"/>
                </a:cubicBezTo>
                <a:cubicBezTo>
                  <a:pt x="10576" y="5656"/>
                  <a:pt x="10498" y="5701"/>
                  <a:pt x="10446" y="5747"/>
                </a:cubicBezTo>
                <a:cubicBezTo>
                  <a:pt x="10373" y="5812"/>
                  <a:pt x="10335" y="5874"/>
                  <a:pt x="10319" y="5969"/>
                </a:cubicBezTo>
                <a:cubicBezTo>
                  <a:pt x="10312" y="6014"/>
                  <a:pt x="10319" y="6082"/>
                  <a:pt x="10319" y="6128"/>
                </a:cubicBezTo>
              </a:path>
              <a:path w="13209" h="5589">
                <a:moveTo>
                  <a:pt x="11430" y="6223"/>
                </a:moveTo>
                <a:cubicBezTo>
                  <a:pt x="11512" y="6223"/>
                  <a:pt x="11577" y="6201"/>
                  <a:pt x="11652" y="6191"/>
                </a:cubicBezTo>
                <a:cubicBezTo>
                  <a:pt x="11787" y="6173"/>
                  <a:pt x="11909" y="6202"/>
                  <a:pt x="12033" y="6223"/>
                </a:cubicBezTo>
                <a:cubicBezTo>
                  <a:pt x="12054" y="6223"/>
                  <a:pt x="12076" y="6223"/>
                  <a:pt x="12097" y="6223"/>
                </a:cubicBezTo>
              </a:path>
              <a:path w="13209" h="5589">
                <a:moveTo>
                  <a:pt x="11430" y="6699"/>
                </a:moveTo>
                <a:cubicBezTo>
                  <a:pt x="11537" y="6686"/>
                  <a:pt x="11640" y="6648"/>
                  <a:pt x="11748" y="6636"/>
                </a:cubicBezTo>
                <a:cubicBezTo>
                  <a:pt x="11912" y="6618"/>
                  <a:pt x="12090" y="6636"/>
                  <a:pt x="12256" y="6636"/>
                </a:cubicBezTo>
              </a:path>
              <a:path w="13209" h="5589">
                <a:moveTo>
                  <a:pt x="13621" y="5556"/>
                </a:moveTo>
                <a:cubicBezTo>
                  <a:pt x="13685" y="5595"/>
                  <a:pt x="13732" y="5588"/>
                  <a:pt x="13811" y="5588"/>
                </a:cubicBezTo>
                <a:cubicBezTo>
                  <a:pt x="13889" y="5588"/>
                  <a:pt x="14156" y="5588"/>
                  <a:pt x="14129" y="5588"/>
                </a:cubicBezTo>
              </a:path>
              <a:path w="13209" h="5589">
                <a:moveTo>
                  <a:pt x="14446" y="5048"/>
                </a:moveTo>
                <a:cubicBezTo>
                  <a:pt x="14446" y="4968"/>
                  <a:pt x="14440" y="4902"/>
                  <a:pt x="14478" y="4826"/>
                </a:cubicBezTo>
                <a:cubicBezTo>
                  <a:pt x="14499" y="4785"/>
                  <a:pt x="14599" y="4709"/>
                  <a:pt x="14637" y="4699"/>
                </a:cubicBezTo>
                <a:cubicBezTo>
                  <a:pt x="14698" y="4683"/>
                  <a:pt x="14725" y="4724"/>
                  <a:pt x="14764" y="4762"/>
                </a:cubicBezTo>
                <a:cubicBezTo>
                  <a:pt x="14818" y="4815"/>
                  <a:pt x="14812" y="4972"/>
                  <a:pt x="14796" y="5048"/>
                </a:cubicBezTo>
                <a:cubicBezTo>
                  <a:pt x="14751" y="5263"/>
                  <a:pt x="14649" y="5479"/>
                  <a:pt x="14573" y="5683"/>
                </a:cubicBezTo>
                <a:cubicBezTo>
                  <a:pt x="14538" y="5777"/>
                  <a:pt x="14505" y="5885"/>
                  <a:pt x="14446" y="5969"/>
                </a:cubicBezTo>
                <a:cubicBezTo>
                  <a:pt x="14418" y="6010"/>
                  <a:pt x="14393" y="6022"/>
                  <a:pt x="14351" y="6032"/>
                </a:cubicBezTo>
                <a:cubicBezTo>
                  <a:pt x="14366" y="5942"/>
                  <a:pt x="14388" y="5987"/>
                  <a:pt x="14414" y="5906"/>
                </a:cubicBezTo>
                <a:cubicBezTo>
                  <a:pt x="14420" y="5886"/>
                  <a:pt x="14466" y="5822"/>
                  <a:pt x="14510" y="5842"/>
                </a:cubicBezTo>
                <a:cubicBezTo>
                  <a:pt x="14557" y="5863"/>
                  <a:pt x="14598" y="5898"/>
                  <a:pt x="14637" y="5937"/>
                </a:cubicBezTo>
                <a:cubicBezTo>
                  <a:pt x="14688" y="5988"/>
                  <a:pt x="14744" y="6017"/>
                  <a:pt x="14796" y="6064"/>
                </a:cubicBezTo>
                <a:cubicBezTo>
                  <a:pt x="14849" y="6112"/>
                  <a:pt x="14912" y="6099"/>
                  <a:pt x="14922" y="6096"/>
                </a:cubicBezTo>
                <a:cubicBezTo>
                  <a:pt x="14984" y="6075"/>
                  <a:pt x="14998" y="6111"/>
                  <a:pt x="15018" y="6032"/>
                </a:cubicBezTo>
              </a:path>
              <a:path w="13209" h="5589">
                <a:moveTo>
                  <a:pt x="15399" y="5016"/>
                </a:moveTo>
                <a:cubicBezTo>
                  <a:pt x="15382" y="4915"/>
                  <a:pt x="15365" y="4913"/>
                  <a:pt x="15304" y="4858"/>
                </a:cubicBezTo>
                <a:cubicBezTo>
                  <a:pt x="15268" y="4826"/>
                  <a:pt x="15155" y="4845"/>
                  <a:pt x="15113" y="4890"/>
                </a:cubicBezTo>
                <a:cubicBezTo>
                  <a:pt x="15058" y="4950"/>
                  <a:pt x="14974" y="5023"/>
                  <a:pt x="14954" y="5112"/>
                </a:cubicBezTo>
                <a:cubicBezTo>
                  <a:pt x="14935" y="5196"/>
                  <a:pt x="14966" y="5268"/>
                  <a:pt x="14986" y="5334"/>
                </a:cubicBezTo>
                <a:cubicBezTo>
                  <a:pt x="15001" y="5384"/>
                  <a:pt x="15057" y="5446"/>
                  <a:pt x="15113" y="5461"/>
                </a:cubicBezTo>
                <a:cubicBezTo>
                  <a:pt x="15162" y="5474"/>
                  <a:pt x="15267" y="5447"/>
                  <a:pt x="15304" y="5429"/>
                </a:cubicBezTo>
                <a:cubicBezTo>
                  <a:pt x="15375" y="5394"/>
                  <a:pt x="15380" y="5295"/>
                  <a:pt x="15399" y="5239"/>
                </a:cubicBezTo>
                <a:cubicBezTo>
                  <a:pt x="15424" y="5167"/>
                  <a:pt x="15456" y="5065"/>
                  <a:pt x="15430" y="4985"/>
                </a:cubicBezTo>
                <a:cubicBezTo>
                  <a:pt x="15404" y="4905"/>
                  <a:pt x="15378" y="4890"/>
                  <a:pt x="15304" y="4890"/>
                </a:cubicBezTo>
              </a:path>
              <a:path w="13209" h="5589">
                <a:moveTo>
                  <a:pt x="15304" y="5461"/>
                </a:moveTo>
                <a:cubicBezTo>
                  <a:pt x="15260" y="5461"/>
                  <a:pt x="15201" y="5444"/>
                  <a:pt x="15176" y="5493"/>
                </a:cubicBezTo>
                <a:cubicBezTo>
                  <a:pt x="15154" y="5537"/>
                  <a:pt x="15122" y="5668"/>
                  <a:pt x="15113" y="5715"/>
                </a:cubicBezTo>
                <a:cubicBezTo>
                  <a:pt x="15100" y="5785"/>
                  <a:pt x="15057" y="5897"/>
                  <a:pt x="15081" y="5969"/>
                </a:cubicBezTo>
                <a:cubicBezTo>
                  <a:pt x="15099" y="6021"/>
                  <a:pt x="15162" y="6121"/>
                  <a:pt x="15208" y="6128"/>
                </a:cubicBezTo>
                <a:cubicBezTo>
                  <a:pt x="15264" y="6136"/>
                  <a:pt x="15363" y="6144"/>
                  <a:pt x="15399" y="6096"/>
                </a:cubicBezTo>
                <a:cubicBezTo>
                  <a:pt x="15450" y="6028"/>
                  <a:pt x="15490" y="5959"/>
                  <a:pt x="15494" y="5874"/>
                </a:cubicBezTo>
                <a:cubicBezTo>
                  <a:pt x="15498" y="5772"/>
                  <a:pt x="15480" y="5613"/>
                  <a:pt x="15430" y="5524"/>
                </a:cubicBezTo>
                <a:cubicBezTo>
                  <a:pt x="15399" y="5469"/>
                  <a:pt x="15360" y="5461"/>
                  <a:pt x="15304" y="5461"/>
                </a:cubicBezTo>
                <a:cubicBezTo>
                  <a:pt x="15272" y="5461"/>
                  <a:pt x="15261" y="5461"/>
                  <a:pt x="15240" y="5461"/>
                </a:cubicBezTo>
              </a:path>
              <a:path w="13209" h="5589">
                <a:moveTo>
                  <a:pt x="15716" y="5398"/>
                </a:moveTo>
                <a:cubicBezTo>
                  <a:pt x="15716" y="5594"/>
                  <a:pt x="15727" y="5779"/>
                  <a:pt x="15748" y="5969"/>
                </a:cubicBezTo>
                <a:cubicBezTo>
                  <a:pt x="15760" y="6075"/>
                  <a:pt x="15756" y="6154"/>
                  <a:pt x="15780" y="6255"/>
                </a:cubicBezTo>
                <a:cubicBezTo>
                  <a:pt x="15792" y="6305"/>
                  <a:pt x="15770" y="6352"/>
                  <a:pt x="15748" y="6286"/>
                </a:cubicBezTo>
                <a:cubicBezTo>
                  <a:pt x="15705" y="6172"/>
                  <a:pt x="15737" y="6090"/>
                  <a:pt x="15716" y="5969"/>
                </a:cubicBezTo>
                <a:cubicBezTo>
                  <a:pt x="15690" y="5820"/>
                  <a:pt x="15732" y="5708"/>
                  <a:pt x="15748" y="5556"/>
                </a:cubicBezTo>
                <a:cubicBezTo>
                  <a:pt x="15760" y="5440"/>
                  <a:pt x="15790" y="5375"/>
                  <a:pt x="15843" y="5270"/>
                </a:cubicBezTo>
                <a:cubicBezTo>
                  <a:pt x="15881" y="5194"/>
                  <a:pt x="15869" y="5207"/>
                  <a:pt x="15938" y="5207"/>
                </a:cubicBezTo>
                <a:cubicBezTo>
                  <a:pt x="15981" y="5321"/>
                  <a:pt x="15975" y="5438"/>
                  <a:pt x="16002" y="5556"/>
                </a:cubicBezTo>
                <a:cubicBezTo>
                  <a:pt x="16029" y="5674"/>
                  <a:pt x="16010" y="5791"/>
                  <a:pt x="16034" y="5906"/>
                </a:cubicBezTo>
                <a:cubicBezTo>
                  <a:pt x="16041" y="5941"/>
                  <a:pt x="16106" y="6120"/>
                  <a:pt x="16066" y="6160"/>
                </a:cubicBezTo>
                <a:cubicBezTo>
                  <a:pt x="16055" y="6160"/>
                  <a:pt x="16045" y="6160"/>
                  <a:pt x="16034" y="6160"/>
                </a:cubicBezTo>
                <a:cubicBezTo>
                  <a:pt x="16034" y="6047"/>
                  <a:pt x="16014" y="5951"/>
                  <a:pt x="16002" y="5842"/>
                </a:cubicBezTo>
                <a:cubicBezTo>
                  <a:pt x="15989" y="5723"/>
                  <a:pt x="16032" y="5569"/>
                  <a:pt x="16066" y="5461"/>
                </a:cubicBezTo>
                <a:cubicBezTo>
                  <a:pt x="16099" y="5356"/>
                  <a:pt x="16128" y="5236"/>
                  <a:pt x="16192" y="5144"/>
                </a:cubicBezTo>
                <a:cubicBezTo>
                  <a:pt x="16221" y="5115"/>
                  <a:pt x="16227" y="5104"/>
                  <a:pt x="16256" y="5112"/>
                </a:cubicBezTo>
                <a:cubicBezTo>
                  <a:pt x="16345" y="5200"/>
                  <a:pt x="16299" y="5248"/>
                  <a:pt x="16320" y="5366"/>
                </a:cubicBezTo>
                <a:cubicBezTo>
                  <a:pt x="16346" y="5508"/>
                  <a:pt x="16351" y="5631"/>
                  <a:pt x="16351" y="5778"/>
                </a:cubicBezTo>
                <a:cubicBezTo>
                  <a:pt x="16351" y="5902"/>
                  <a:pt x="16371" y="6043"/>
                  <a:pt x="16415" y="6160"/>
                </a:cubicBezTo>
                <a:cubicBezTo>
                  <a:pt x="16440" y="6227"/>
                  <a:pt x="16509" y="6321"/>
                  <a:pt x="16542" y="6191"/>
                </a:cubicBezTo>
                <a:cubicBezTo>
                  <a:pt x="16542" y="6170"/>
                  <a:pt x="16542" y="6149"/>
                  <a:pt x="16542" y="6128"/>
                </a:cubicBezTo>
              </a:path>
              <a:path w="13209" h="5589">
                <a:moveTo>
                  <a:pt x="16542" y="4604"/>
                </a:moveTo>
                <a:cubicBezTo>
                  <a:pt x="16542" y="4672"/>
                  <a:pt x="16570" y="4692"/>
                  <a:pt x="16574" y="4762"/>
                </a:cubicBezTo>
                <a:cubicBezTo>
                  <a:pt x="16581" y="4878"/>
                  <a:pt x="16574" y="4996"/>
                  <a:pt x="16574" y="5112"/>
                </a:cubicBezTo>
                <a:cubicBezTo>
                  <a:pt x="16529" y="5089"/>
                  <a:pt x="16594" y="5060"/>
                  <a:pt x="16637" y="5016"/>
                </a:cubicBezTo>
                <a:cubicBezTo>
                  <a:pt x="16641" y="5028"/>
                  <a:pt x="16711" y="5098"/>
                  <a:pt x="16732" y="5112"/>
                </a:cubicBezTo>
                <a:cubicBezTo>
                  <a:pt x="16762" y="5132"/>
                  <a:pt x="16844" y="5140"/>
                  <a:pt x="16859" y="5112"/>
                </a:cubicBezTo>
                <a:cubicBezTo>
                  <a:pt x="16859" y="5101"/>
                  <a:pt x="16859" y="5091"/>
                  <a:pt x="16859" y="5080"/>
                </a:cubicBezTo>
              </a:path>
              <a:path w="13209" h="5589">
                <a:moveTo>
                  <a:pt x="16796" y="4572"/>
                </a:moveTo>
                <a:cubicBezTo>
                  <a:pt x="16796" y="4757"/>
                  <a:pt x="16804" y="4932"/>
                  <a:pt x="16828" y="5112"/>
                </a:cubicBezTo>
                <a:cubicBezTo>
                  <a:pt x="16839" y="5195"/>
                  <a:pt x="16833" y="5254"/>
                  <a:pt x="16859" y="5334"/>
                </a:cubicBezTo>
              </a:path>
              <a:path w="13209" h="5589">
                <a:moveTo>
                  <a:pt x="13557" y="6636"/>
                </a:moveTo>
                <a:cubicBezTo>
                  <a:pt x="13609" y="6636"/>
                  <a:pt x="13600" y="6636"/>
                  <a:pt x="13652" y="6636"/>
                </a:cubicBezTo>
                <a:cubicBezTo>
                  <a:pt x="13744" y="6636"/>
                  <a:pt x="13823" y="6614"/>
                  <a:pt x="13906" y="6604"/>
                </a:cubicBezTo>
                <a:cubicBezTo>
                  <a:pt x="14120" y="6577"/>
                  <a:pt x="14359" y="6588"/>
                  <a:pt x="14573" y="6572"/>
                </a:cubicBezTo>
                <a:cubicBezTo>
                  <a:pt x="14780" y="6557"/>
                  <a:pt x="14971" y="6577"/>
                  <a:pt x="15176" y="6540"/>
                </a:cubicBezTo>
                <a:cubicBezTo>
                  <a:pt x="15371" y="6505"/>
                  <a:pt x="15583" y="6464"/>
                  <a:pt x="15780" y="6445"/>
                </a:cubicBezTo>
                <a:cubicBezTo>
                  <a:pt x="15966" y="6427"/>
                  <a:pt x="16164" y="6419"/>
                  <a:pt x="16351" y="6414"/>
                </a:cubicBezTo>
                <a:cubicBezTo>
                  <a:pt x="16523" y="6409"/>
                  <a:pt x="16684" y="6382"/>
                  <a:pt x="16859" y="6382"/>
                </a:cubicBezTo>
                <a:cubicBezTo>
                  <a:pt x="16944" y="6382"/>
                  <a:pt x="17028" y="6382"/>
                  <a:pt x="17113" y="6382"/>
                </a:cubicBezTo>
              </a:path>
              <a:path w="13209" h="5589">
                <a:moveTo>
                  <a:pt x="14796" y="6953"/>
                </a:moveTo>
                <a:cubicBezTo>
                  <a:pt x="14827" y="6922"/>
                  <a:pt x="14838" y="6911"/>
                  <a:pt x="14859" y="6890"/>
                </a:cubicBezTo>
                <a:cubicBezTo>
                  <a:pt x="14871" y="7000"/>
                  <a:pt x="14891" y="7094"/>
                  <a:pt x="14891" y="7207"/>
                </a:cubicBezTo>
                <a:cubicBezTo>
                  <a:pt x="14891" y="7494"/>
                  <a:pt x="14905" y="7789"/>
                  <a:pt x="14859" y="8064"/>
                </a:cubicBezTo>
                <a:cubicBezTo>
                  <a:pt x="14834" y="8213"/>
                  <a:pt x="14859" y="8034"/>
                  <a:pt x="14859" y="8001"/>
                </a:cubicBezTo>
                <a:cubicBezTo>
                  <a:pt x="14859" y="7857"/>
                  <a:pt x="14879" y="7729"/>
                  <a:pt x="14891" y="7588"/>
                </a:cubicBezTo>
                <a:cubicBezTo>
                  <a:pt x="14903" y="7450"/>
                  <a:pt x="14910" y="7268"/>
                  <a:pt x="14986" y="7144"/>
                </a:cubicBezTo>
                <a:cubicBezTo>
                  <a:pt x="15027" y="7078"/>
                  <a:pt x="15075" y="6967"/>
                  <a:pt x="15145" y="6922"/>
                </a:cubicBezTo>
                <a:cubicBezTo>
                  <a:pt x="15166" y="6911"/>
                  <a:pt x="15187" y="6901"/>
                  <a:pt x="15208" y="6890"/>
                </a:cubicBezTo>
                <a:cubicBezTo>
                  <a:pt x="15279" y="6960"/>
                  <a:pt x="15293" y="6985"/>
                  <a:pt x="15335" y="7080"/>
                </a:cubicBezTo>
                <a:cubicBezTo>
                  <a:pt x="15389" y="7201"/>
                  <a:pt x="15418" y="7331"/>
                  <a:pt x="15430" y="7461"/>
                </a:cubicBezTo>
                <a:cubicBezTo>
                  <a:pt x="15444" y="7623"/>
                  <a:pt x="15443" y="7778"/>
                  <a:pt x="15462" y="7938"/>
                </a:cubicBezTo>
                <a:cubicBezTo>
                  <a:pt x="15469" y="7996"/>
                  <a:pt x="15439" y="8137"/>
                  <a:pt x="15526" y="8160"/>
                </a:cubicBezTo>
                <a:cubicBezTo>
                  <a:pt x="15623" y="8186"/>
                  <a:pt x="15643" y="8137"/>
                  <a:pt x="15684" y="8064"/>
                </a:cubicBezTo>
              </a:path>
              <a:path w="13209" h="5589">
                <a:moveTo>
                  <a:pt x="15875" y="6604"/>
                </a:moveTo>
                <a:cubicBezTo>
                  <a:pt x="15823" y="6621"/>
                  <a:pt x="15843" y="6666"/>
                  <a:pt x="15843" y="6731"/>
                </a:cubicBezTo>
                <a:cubicBezTo>
                  <a:pt x="15843" y="6896"/>
                  <a:pt x="15839" y="7052"/>
                  <a:pt x="15875" y="7207"/>
                </a:cubicBezTo>
                <a:cubicBezTo>
                  <a:pt x="15890" y="7271"/>
                  <a:pt x="15913" y="7276"/>
                  <a:pt x="15938" y="7334"/>
                </a:cubicBezTo>
                <a:cubicBezTo>
                  <a:pt x="15938" y="7345"/>
                  <a:pt x="15938" y="7355"/>
                  <a:pt x="15938" y="7366"/>
                </a:cubicBezTo>
                <a:cubicBezTo>
                  <a:pt x="15995" y="7352"/>
                  <a:pt x="16050" y="7314"/>
                  <a:pt x="16097" y="7271"/>
                </a:cubicBezTo>
                <a:cubicBezTo>
                  <a:pt x="16143" y="7230"/>
                  <a:pt x="16182" y="7140"/>
                  <a:pt x="16192" y="7080"/>
                </a:cubicBezTo>
                <a:cubicBezTo>
                  <a:pt x="16205" y="7003"/>
                  <a:pt x="16159" y="6969"/>
                  <a:pt x="16097" y="6953"/>
                </a:cubicBezTo>
                <a:cubicBezTo>
                  <a:pt x="16057" y="7003"/>
                  <a:pt x="15985" y="7080"/>
                  <a:pt x="15970" y="7144"/>
                </a:cubicBezTo>
                <a:cubicBezTo>
                  <a:pt x="15954" y="7210"/>
                  <a:pt x="15966" y="7286"/>
                  <a:pt x="16002" y="7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Ink 6"/>
          <p:cNvSpPr/>
          <p:nvPr/>
        </p:nvSpPr>
        <p:spPr>
          <a:xfrm>
            <a:off x="938160" y="3325680"/>
            <a:ext cx="468360" cy="652680"/>
          </a:xfrm>
          <a:custGeom>
            <a:avLst/>
            <a:gdLst/>
            <a:ahLst/>
            <a:rect l="l" t="t" r="r" b="b"/>
            <a:pathLst>
              <a:path w="1302" h="1811">
                <a:moveTo>
                  <a:pt x="2604" y="9303"/>
                </a:moveTo>
                <a:cubicBezTo>
                  <a:pt x="2638" y="9314"/>
                  <a:pt x="2665" y="9347"/>
                  <a:pt x="2667" y="9398"/>
                </a:cubicBezTo>
                <a:cubicBezTo>
                  <a:pt x="2678" y="9666"/>
                  <a:pt x="2673" y="9928"/>
                  <a:pt x="2699" y="10192"/>
                </a:cubicBezTo>
                <a:cubicBezTo>
                  <a:pt x="2722" y="10426"/>
                  <a:pt x="2695" y="10663"/>
                  <a:pt x="2730" y="10890"/>
                </a:cubicBezTo>
                <a:cubicBezTo>
                  <a:pt x="2739" y="10947"/>
                  <a:pt x="2748" y="11041"/>
                  <a:pt x="2762" y="10986"/>
                </a:cubicBezTo>
                <a:cubicBezTo>
                  <a:pt x="2762" y="10965"/>
                  <a:pt x="2762" y="10943"/>
                  <a:pt x="2762" y="10922"/>
                </a:cubicBezTo>
              </a:path>
              <a:path w="1302" h="1811">
                <a:moveTo>
                  <a:pt x="3143" y="9366"/>
                </a:moveTo>
                <a:cubicBezTo>
                  <a:pt x="3154" y="9290"/>
                  <a:pt x="3160" y="9259"/>
                  <a:pt x="3238" y="9239"/>
                </a:cubicBezTo>
                <a:cubicBezTo>
                  <a:pt x="3238" y="9413"/>
                  <a:pt x="3255" y="9577"/>
                  <a:pt x="3270" y="9747"/>
                </a:cubicBezTo>
                <a:cubicBezTo>
                  <a:pt x="3302" y="10122"/>
                  <a:pt x="3295" y="10558"/>
                  <a:pt x="3238" y="10922"/>
                </a:cubicBezTo>
                <a:cubicBezTo>
                  <a:pt x="3232" y="10960"/>
                  <a:pt x="3238" y="11009"/>
                  <a:pt x="3238" y="11049"/>
                </a:cubicBezTo>
              </a:path>
              <a:path w="1302" h="1811">
                <a:moveTo>
                  <a:pt x="3874" y="10922"/>
                </a:moveTo>
                <a:cubicBezTo>
                  <a:pt x="3874" y="10867"/>
                  <a:pt x="3887" y="10873"/>
                  <a:pt x="3842" y="10858"/>
                </a:cubicBezTo>
                <a:cubicBezTo>
                  <a:pt x="3842" y="10906"/>
                  <a:pt x="3821" y="10991"/>
                  <a:pt x="3874" y="11017"/>
                </a:cubicBezTo>
                <a:cubicBezTo>
                  <a:pt x="3925" y="11042"/>
                  <a:pt x="3905" y="10946"/>
                  <a:pt x="3905" y="10922"/>
                </a:cubicBezTo>
                <a:cubicBezTo>
                  <a:pt x="3905" y="10886"/>
                  <a:pt x="3902" y="10872"/>
                  <a:pt x="3874" y="10858"/>
                </a:cubicBezTo>
                <a:cubicBezTo>
                  <a:pt x="3862" y="10862"/>
                  <a:pt x="3805" y="10930"/>
                  <a:pt x="3810" y="10954"/>
                </a:cubicBezTo>
                <a:cubicBezTo>
                  <a:pt x="3839" y="10983"/>
                  <a:pt x="3845" y="10994"/>
                  <a:pt x="3874" y="10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Ink 7"/>
          <p:cNvSpPr/>
          <p:nvPr/>
        </p:nvSpPr>
        <p:spPr>
          <a:xfrm>
            <a:off x="1908000" y="3189240"/>
            <a:ext cx="1806840" cy="982800"/>
          </a:xfrm>
          <a:custGeom>
            <a:avLst/>
            <a:gdLst/>
            <a:ahLst/>
            <a:rect l="l" t="t" r="r" b="b"/>
            <a:pathLst>
              <a:path w="5018" h="2732">
                <a:moveTo>
                  <a:pt x="6128" y="8858"/>
                </a:moveTo>
                <a:cubicBezTo>
                  <a:pt x="6069" y="8900"/>
                  <a:pt x="6029" y="8953"/>
                  <a:pt x="5969" y="9017"/>
                </a:cubicBezTo>
                <a:cubicBezTo>
                  <a:pt x="5875" y="9117"/>
                  <a:pt x="5757" y="9220"/>
                  <a:pt x="5683" y="9334"/>
                </a:cubicBezTo>
                <a:cubicBezTo>
                  <a:pt x="5584" y="9486"/>
                  <a:pt x="5529" y="9647"/>
                  <a:pt x="5461" y="9811"/>
                </a:cubicBezTo>
                <a:cubicBezTo>
                  <a:pt x="5392" y="9977"/>
                  <a:pt x="5366" y="10114"/>
                  <a:pt x="5334" y="10287"/>
                </a:cubicBezTo>
                <a:cubicBezTo>
                  <a:pt x="5312" y="10408"/>
                  <a:pt x="5305" y="10574"/>
                  <a:pt x="5334" y="10700"/>
                </a:cubicBezTo>
                <a:cubicBezTo>
                  <a:pt x="5353" y="10783"/>
                  <a:pt x="5419" y="10825"/>
                  <a:pt x="5461" y="10890"/>
                </a:cubicBezTo>
                <a:cubicBezTo>
                  <a:pt x="5507" y="10962"/>
                  <a:pt x="5478" y="10946"/>
                  <a:pt x="5524" y="10922"/>
                </a:cubicBezTo>
              </a:path>
              <a:path w="5018" h="2732">
                <a:moveTo>
                  <a:pt x="6096" y="9557"/>
                </a:moveTo>
                <a:cubicBezTo>
                  <a:pt x="6096" y="9672"/>
                  <a:pt x="6089" y="9766"/>
                  <a:pt x="6064" y="9874"/>
                </a:cubicBezTo>
                <a:cubicBezTo>
                  <a:pt x="6047" y="9949"/>
                  <a:pt x="6018" y="10021"/>
                  <a:pt x="6001" y="10096"/>
                </a:cubicBezTo>
                <a:cubicBezTo>
                  <a:pt x="5989" y="10147"/>
                  <a:pt x="5969" y="10181"/>
                  <a:pt x="5937" y="10224"/>
                </a:cubicBezTo>
                <a:cubicBezTo>
                  <a:pt x="5978" y="10193"/>
                  <a:pt x="5995" y="10165"/>
                  <a:pt x="6032" y="10160"/>
                </a:cubicBezTo>
                <a:cubicBezTo>
                  <a:pt x="6111" y="10150"/>
                  <a:pt x="6112" y="10136"/>
                  <a:pt x="6191" y="10160"/>
                </a:cubicBezTo>
                <a:cubicBezTo>
                  <a:pt x="6236" y="10174"/>
                  <a:pt x="6278" y="10178"/>
                  <a:pt x="6318" y="10192"/>
                </a:cubicBezTo>
                <a:cubicBezTo>
                  <a:pt x="6353" y="10204"/>
                  <a:pt x="6421" y="10150"/>
                  <a:pt x="6445" y="10128"/>
                </a:cubicBezTo>
                <a:cubicBezTo>
                  <a:pt x="6456" y="10117"/>
                  <a:pt x="6466" y="10107"/>
                  <a:pt x="6477" y="10096"/>
                </a:cubicBezTo>
              </a:path>
              <a:path w="5018" h="2732">
                <a:moveTo>
                  <a:pt x="6572" y="9462"/>
                </a:moveTo>
                <a:cubicBezTo>
                  <a:pt x="6521" y="9495"/>
                  <a:pt x="6529" y="9577"/>
                  <a:pt x="6509" y="9652"/>
                </a:cubicBezTo>
                <a:cubicBezTo>
                  <a:pt x="6470" y="9802"/>
                  <a:pt x="6441" y="9946"/>
                  <a:pt x="6414" y="10096"/>
                </a:cubicBezTo>
                <a:cubicBezTo>
                  <a:pt x="6388" y="10237"/>
                  <a:pt x="6354" y="10406"/>
                  <a:pt x="6318" y="10541"/>
                </a:cubicBezTo>
                <a:cubicBezTo>
                  <a:pt x="6304" y="10596"/>
                  <a:pt x="6309" y="10717"/>
                  <a:pt x="6286" y="10763"/>
                </a:cubicBezTo>
                <a:cubicBezTo>
                  <a:pt x="6276" y="10774"/>
                  <a:pt x="6265" y="10784"/>
                  <a:pt x="6255" y="10795"/>
                </a:cubicBezTo>
              </a:path>
              <a:path w="5018" h="2732">
                <a:moveTo>
                  <a:pt x="6826" y="9906"/>
                </a:moveTo>
                <a:cubicBezTo>
                  <a:pt x="6842" y="9953"/>
                  <a:pt x="6838" y="9993"/>
                  <a:pt x="6858" y="10065"/>
                </a:cubicBezTo>
                <a:cubicBezTo>
                  <a:pt x="6885" y="10161"/>
                  <a:pt x="6917" y="10254"/>
                  <a:pt x="6953" y="10350"/>
                </a:cubicBezTo>
                <a:cubicBezTo>
                  <a:pt x="7001" y="10478"/>
                  <a:pt x="7071" y="10559"/>
                  <a:pt x="7144" y="10668"/>
                </a:cubicBezTo>
                <a:cubicBezTo>
                  <a:pt x="7187" y="10733"/>
                  <a:pt x="7196" y="10776"/>
                  <a:pt x="7271" y="10795"/>
                </a:cubicBezTo>
              </a:path>
              <a:path w="5018" h="2732">
                <a:moveTo>
                  <a:pt x="7207" y="10001"/>
                </a:moveTo>
                <a:cubicBezTo>
                  <a:pt x="7189" y="10075"/>
                  <a:pt x="7135" y="10134"/>
                  <a:pt x="7080" y="10192"/>
                </a:cubicBezTo>
                <a:cubicBezTo>
                  <a:pt x="6960" y="10319"/>
                  <a:pt x="6876" y="10472"/>
                  <a:pt x="6763" y="10604"/>
                </a:cubicBezTo>
                <a:cubicBezTo>
                  <a:pt x="6717" y="10657"/>
                  <a:pt x="6663" y="10794"/>
                  <a:pt x="6604" y="10827"/>
                </a:cubicBezTo>
                <a:cubicBezTo>
                  <a:pt x="6593" y="10827"/>
                  <a:pt x="6583" y="10827"/>
                  <a:pt x="6572" y="10827"/>
                </a:cubicBezTo>
              </a:path>
              <a:path w="5018" h="2732">
                <a:moveTo>
                  <a:pt x="7556" y="9525"/>
                </a:moveTo>
                <a:cubicBezTo>
                  <a:pt x="7568" y="9490"/>
                  <a:pt x="7579" y="9467"/>
                  <a:pt x="7620" y="9462"/>
                </a:cubicBezTo>
                <a:cubicBezTo>
                  <a:pt x="7670" y="9456"/>
                  <a:pt x="7675" y="9419"/>
                  <a:pt x="7715" y="9398"/>
                </a:cubicBezTo>
                <a:cubicBezTo>
                  <a:pt x="7744" y="9417"/>
                  <a:pt x="7773" y="9472"/>
                  <a:pt x="7779" y="9525"/>
                </a:cubicBezTo>
                <a:cubicBezTo>
                  <a:pt x="7787" y="9594"/>
                  <a:pt x="7727" y="9640"/>
                  <a:pt x="7684" y="9684"/>
                </a:cubicBezTo>
                <a:cubicBezTo>
                  <a:pt x="7646" y="9723"/>
                  <a:pt x="7639" y="9716"/>
                  <a:pt x="7588" y="9716"/>
                </a:cubicBezTo>
                <a:cubicBezTo>
                  <a:pt x="7636" y="9668"/>
                  <a:pt x="7647" y="9652"/>
                  <a:pt x="7715" y="9652"/>
                </a:cubicBezTo>
                <a:cubicBezTo>
                  <a:pt x="7750" y="9652"/>
                  <a:pt x="7775" y="9684"/>
                  <a:pt x="7779" y="9716"/>
                </a:cubicBezTo>
                <a:cubicBezTo>
                  <a:pt x="7787" y="9781"/>
                  <a:pt x="7788" y="9828"/>
                  <a:pt x="7747" y="9874"/>
                </a:cubicBezTo>
                <a:cubicBezTo>
                  <a:pt x="7704" y="9922"/>
                  <a:pt x="7651" y="9994"/>
                  <a:pt x="7588" y="10001"/>
                </a:cubicBezTo>
                <a:cubicBezTo>
                  <a:pt x="7556" y="10001"/>
                  <a:pt x="7546" y="10001"/>
                  <a:pt x="7525" y="10001"/>
                </a:cubicBezTo>
              </a:path>
              <a:path w="5018" h="2732">
                <a:moveTo>
                  <a:pt x="8001" y="9811"/>
                </a:moveTo>
                <a:cubicBezTo>
                  <a:pt x="7985" y="9837"/>
                  <a:pt x="7949" y="9905"/>
                  <a:pt x="7938" y="9970"/>
                </a:cubicBezTo>
                <a:cubicBezTo>
                  <a:pt x="7919" y="10088"/>
                  <a:pt x="7906" y="10196"/>
                  <a:pt x="7906" y="10319"/>
                </a:cubicBezTo>
                <a:cubicBezTo>
                  <a:pt x="7906" y="10424"/>
                  <a:pt x="7896" y="10492"/>
                  <a:pt x="7969" y="10573"/>
                </a:cubicBezTo>
                <a:cubicBezTo>
                  <a:pt x="8006" y="10614"/>
                  <a:pt x="8036" y="10650"/>
                  <a:pt x="8096" y="10636"/>
                </a:cubicBezTo>
                <a:cubicBezTo>
                  <a:pt x="8183" y="10615"/>
                  <a:pt x="8274" y="10452"/>
                  <a:pt x="8318" y="10382"/>
                </a:cubicBezTo>
                <a:cubicBezTo>
                  <a:pt x="8369" y="10299"/>
                  <a:pt x="8409" y="10191"/>
                  <a:pt x="8414" y="10096"/>
                </a:cubicBezTo>
                <a:cubicBezTo>
                  <a:pt x="8415" y="10073"/>
                  <a:pt x="8414" y="9839"/>
                  <a:pt x="8414" y="10001"/>
                </a:cubicBezTo>
                <a:cubicBezTo>
                  <a:pt x="8414" y="10107"/>
                  <a:pt x="8382" y="10205"/>
                  <a:pt x="8382" y="10319"/>
                </a:cubicBezTo>
                <a:cubicBezTo>
                  <a:pt x="8382" y="10515"/>
                  <a:pt x="8366" y="10699"/>
                  <a:pt x="8350" y="10890"/>
                </a:cubicBezTo>
                <a:cubicBezTo>
                  <a:pt x="8336" y="11056"/>
                  <a:pt x="8340" y="11175"/>
                  <a:pt x="8287" y="11335"/>
                </a:cubicBezTo>
                <a:cubicBezTo>
                  <a:pt x="8252" y="11439"/>
                  <a:pt x="8216" y="11555"/>
                  <a:pt x="8096" y="11589"/>
                </a:cubicBezTo>
                <a:cubicBezTo>
                  <a:pt x="8022" y="11610"/>
                  <a:pt x="7905" y="11593"/>
                  <a:pt x="7842" y="11557"/>
                </a:cubicBezTo>
                <a:cubicBezTo>
                  <a:pt x="7754" y="11507"/>
                  <a:pt x="7764" y="11476"/>
                  <a:pt x="7715" y="11398"/>
                </a:cubicBezTo>
              </a:path>
              <a:path w="5018" h="2732">
                <a:moveTo>
                  <a:pt x="8700" y="9557"/>
                </a:moveTo>
                <a:cubicBezTo>
                  <a:pt x="8700" y="9636"/>
                  <a:pt x="8689" y="9684"/>
                  <a:pt x="8668" y="9747"/>
                </a:cubicBezTo>
                <a:cubicBezTo>
                  <a:pt x="8653" y="9792"/>
                  <a:pt x="8646" y="9823"/>
                  <a:pt x="8636" y="9842"/>
                </a:cubicBezTo>
                <a:cubicBezTo>
                  <a:pt x="8636" y="9853"/>
                  <a:pt x="8636" y="9863"/>
                  <a:pt x="8636" y="9874"/>
                </a:cubicBezTo>
                <a:cubicBezTo>
                  <a:pt x="8636" y="9863"/>
                  <a:pt x="8636" y="9853"/>
                  <a:pt x="8636" y="9842"/>
                </a:cubicBezTo>
                <a:cubicBezTo>
                  <a:pt x="8694" y="9842"/>
                  <a:pt x="8711" y="9817"/>
                  <a:pt x="8763" y="9811"/>
                </a:cubicBezTo>
                <a:cubicBezTo>
                  <a:pt x="8809" y="9806"/>
                  <a:pt x="8836" y="9842"/>
                  <a:pt x="8890" y="9842"/>
                </a:cubicBezTo>
                <a:cubicBezTo>
                  <a:pt x="8958" y="9842"/>
                  <a:pt x="8903" y="9905"/>
                  <a:pt x="8985" y="9842"/>
                </a:cubicBezTo>
              </a:path>
              <a:path w="5018" h="2732">
                <a:moveTo>
                  <a:pt x="8985" y="9588"/>
                </a:moveTo>
                <a:cubicBezTo>
                  <a:pt x="8985" y="9644"/>
                  <a:pt x="8974" y="9698"/>
                  <a:pt x="8954" y="9747"/>
                </a:cubicBezTo>
                <a:cubicBezTo>
                  <a:pt x="8918" y="9837"/>
                  <a:pt x="8922" y="9902"/>
                  <a:pt x="8922" y="10001"/>
                </a:cubicBezTo>
                <a:cubicBezTo>
                  <a:pt x="8922" y="10043"/>
                  <a:pt x="8922" y="10086"/>
                  <a:pt x="8922" y="10128"/>
                </a:cubicBezTo>
              </a:path>
              <a:path w="5018" h="2732">
                <a:moveTo>
                  <a:pt x="9080" y="9080"/>
                </a:moveTo>
                <a:cubicBezTo>
                  <a:pt x="9094" y="9012"/>
                  <a:pt x="9090" y="9007"/>
                  <a:pt x="9144" y="9080"/>
                </a:cubicBezTo>
                <a:cubicBezTo>
                  <a:pt x="9194" y="9147"/>
                  <a:pt x="9227" y="9266"/>
                  <a:pt x="9271" y="9366"/>
                </a:cubicBezTo>
                <a:cubicBezTo>
                  <a:pt x="9349" y="9544"/>
                  <a:pt x="9391" y="9715"/>
                  <a:pt x="9430" y="9906"/>
                </a:cubicBezTo>
                <a:cubicBezTo>
                  <a:pt x="9476" y="10129"/>
                  <a:pt x="9480" y="10288"/>
                  <a:pt x="9462" y="10509"/>
                </a:cubicBezTo>
                <a:cubicBezTo>
                  <a:pt x="9448" y="10690"/>
                  <a:pt x="9429" y="10829"/>
                  <a:pt x="9334" y="10986"/>
                </a:cubicBezTo>
                <a:cubicBezTo>
                  <a:pt x="9284" y="11068"/>
                  <a:pt x="9216" y="11209"/>
                  <a:pt x="9144" y="11271"/>
                </a:cubicBezTo>
                <a:cubicBezTo>
                  <a:pt x="9099" y="11310"/>
                  <a:pt x="9072" y="11342"/>
                  <a:pt x="9017" y="11366"/>
                </a:cubicBezTo>
                <a:cubicBezTo>
                  <a:pt x="9006" y="11366"/>
                  <a:pt x="8996" y="11366"/>
                  <a:pt x="8985" y="11366"/>
                </a:cubicBezTo>
              </a:path>
              <a:path w="5018" h="2732">
                <a:moveTo>
                  <a:pt x="9462" y="9080"/>
                </a:moveTo>
                <a:cubicBezTo>
                  <a:pt x="9501" y="9051"/>
                  <a:pt x="9539" y="9022"/>
                  <a:pt x="9588" y="9017"/>
                </a:cubicBezTo>
                <a:cubicBezTo>
                  <a:pt x="9619" y="9014"/>
                  <a:pt x="9653" y="9017"/>
                  <a:pt x="9684" y="9017"/>
                </a:cubicBezTo>
                <a:cubicBezTo>
                  <a:pt x="9684" y="9078"/>
                  <a:pt x="9671" y="9153"/>
                  <a:pt x="9652" y="9208"/>
                </a:cubicBezTo>
                <a:cubicBezTo>
                  <a:pt x="9632" y="9268"/>
                  <a:pt x="9573" y="9335"/>
                  <a:pt x="9557" y="9366"/>
                </a:cubicBezTo>
                <a:cubicBezTo>
                  <a:pt x="9512" y="9451"/>
                  <a:pt x="9553" y="9502"/>
                  <a:pt x="9462" y="9525"/>
                </a:cubicBezTo>
                <a:cubicBezTo>
                  <a:pt x="9478" y="9508"/>
                  <a:pt x="9554" y="9420"/>
                  <a:pt x="9588" y="9462"/>
                </a:cubicBezTo>
                <a:cubicBezTo>
                  <a:pt x="9611" y="9490"/>
                  <a:pt x="9625" y="9518"/>
                  <a:pt x="9684" y="9525"/>
                </a:cubicBezTo>
                <a:cubicBezTo>
                  <a:pt x="9768" y="9534"/>
                  <a:pt x="9731" y="9552"/>
                  <a:pt x="9811" y="9525"/>
                </a:cubicBezTo>
                <a:cubicBezTo>
                  <a:pt x="9855" y="9510"/>
                  <a:pt x="9869" y="9498"/>
                  <a:pt x="9906" y="9462"/>
                </a:cubicBezTo>
              </a:path>
              <a:path w="5018" h="2732">
                <a:moveTo>
                  <a:pt x="10224" y="10160"/>
                </a:moveTo>
                <a:lnTo>
                  <a:pt x="10224" y="10160"/>
                </a:lnTo>
              </a:path>
              <a:path w="5018" h="2732">
                <a:moveTo>
                  <a:pt x="10224" y="10160"/>
                </a:moveTo>
                <a:cubicBezTo>
                  <a:pt x="10224" y="10181"/>
                  <a:pt x="10224" y="10203"/>
                  <a:pt x="10224" y="10224"/>
                </a:cubicBezTo>
              </a:path>
              <a:path w="5018" h="2732">
                <a:moveTo>
                  <a:pt x="10224" y="10224"/>
                </a:moveTo>
                <a:cubicBezTo>
                  <a:pt x="10224" y="10156"/>
                  <a:pt x="10209" y="10247"/>
                  <a:pt x="10192" y="10255"/>
                </a:cubicBezTo>
                <a:cubicBezTo>
                  <a:pt x="10185" y="10258"/>
                  <a:pt x="10095" y="10318"/>
                  <a:pt x="10128" y="10350"/>
                </a:cubicBezTo>
                <a:cubicBezTo>
                  <a:pt x="10160" y="10381"/>
                  <a:pt x="10176" y="10393"/>
                  <a:pt x="10224" y="10350"/>
                </a:cubicBezTo>
                <a:cubicBezTo>
                  <a:pt x="10260" y="10318"/>
                  <a:pt x="10276" y="10267"/>
                  <a:pt x="10287" y="10224"/>
                </a:cubicBezTo>
                <a:cubicBezTo>
                  <a:pt x="10222" y="10224"/>
                  <a:pt x="10220" y="10218"/>
                  <a:pt x="10192" y="10255"/>
                </a:cubicBezTo>
                <a:cubicBezTo>
                  <a:pt x="10150" y="10311"/>
                  <a:pt x="10128" y="10309"/>
                  <a:pt x="10128" y="10382"/>
                </a:cubicBezTo>
                <a:cubicBezTo>
                  <a:pt x="10172" y="10382"/>
                  <a:pt x="10231" y="10399"/>
                  <a:pt x="10255" y="10350"/>
                </a:cubicBezTo>
                <a:cubicBezTo>
                  <a:pt x="10284" y="10292"/>
                  <a:pt x="10297" y="10279"/>
                  <a:pt x="10255" y="10224"/>
                </a:cubicBezTo>
                <a:cubicBezTo>
                  <a:pt x="10202" y="10237"/>
                  <a:pt x="10167" y="10260"/>
                  <a:pt x="10160" y="10319"/>
                </a:cubicBezTo>
                <a:cubicBezTo>
                  <a:pt x="10152" y="10386"/>
                  <a:pt x="10163" y="10382"/>
                  <a:pt x="10224" y="10382"/>
                </a:cubicBezTo>
                <a:cubicBezTo>
                  <a:pt x="10257" y="10382"/>
                  <a:pt x="10283" y="10349"/>
                  <a:pt x="10287" y="10319"/>
                </a:cubicBezTo>
                <a:cubicBezTo>
                  <a:pt x="10294" y="10266"/>
                  <a:pt x="10295" y="10268"/>
                  <a:pt x="10255" y="10255"/>
                </a:cubicBezTo>
                <a:cubicBezTo>
                  <a:pt x="10221" y="10302"/>
                  <a:pt x="10235" y="10305"/>
                  <a:pt x="10192" y="10319"/>
                </a:cubicBezTo>
                <a:cubicBezTo>
                  <a:pt x="10213" y="10379"/>
                  <a:pt x="10233" y="10348"/>
                  <a:pt x="10255" y="10319"/>
                </a:cubicBezTo>
                <a:cubicBezTo>
                  <a:pt x="10266" y="10304"/>
                  <a:pt x="10368" y="10263"/>
                  <a:pt x="10319" y="10224"/>
                </a:cubicBezTo>
                <a:cubicBezTo>
                  <a:pt x="10282" y="10195"/>
                  <a:pt x="10228" y="10274"/>
                  <a:pt x="10224" y="10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nk 8"/>
          <p:cNvSpPr/>
          <p:nvPr/>
        </p:nvSpPr>
        <p:spPr>
          <a:xfrm>
            <a:off x="3965400" y="3268800"/>
            <a:ext cx="1532160" cy="1131840"/>
          </a:xfrm>
          <a:custGeom>
            <a:avLst/>
            <a:gdLst/>
            <a:ahLst/>
            <a:rect l="l" t="t" r="r" b="b"/>
            <a:pathLst>
              <a:path w="4256" h="3145">
                <a:moveTo>
                  <a:pt x="11906" y="9080"/>
                </a:moveTo>
                <a:cubicBezTo>
                  <a:pt x="11830" y="9109"/>
                  <a:pt x="11785" y="9147"/>
                  <a:pt x="11716" y="9208"/>
                </a:cubicBezTo>
                <a:cubicBezTo>
                  <a:pt x="11572" y="9335"/>
                  <a:pt x="11472" y="9529"/>
                  <a:pt x="11366" y="9684"/>
                </a:cubicBezTo>
                <a:cubicBezTo>
                  <a:pt x="11250" y="9854"/>
                  <a:pt x="11140" y="10054"/>
                  <a:pt x="11081" y="10255"/>
                </a:cubicBezTo>
                <a:cubicBezTo>
                  <a:pt x="11022" y="10455"/>
                  <a:pt x="11017" y="10652"/>
                  <a:pt x="11017" y="10858"/>
                </a:cubicBezTo>
                <a:cubicBezTo>
                  <a:pt x="11017" y="11076"/>
                  <a:pt x="11067" y="11232"/>
                  <a:pt x="11144" y="11430"/>
                </a:cubicBezTo>
                <a:cubicBezTo>
                  <a:pt x="11184" y="11534"/>
                  <a:pt x="11207" y="11648"/>
                  <a:pt x="11240" y="11748"/>
                </a:cubicBezTo>
                <a:cubicBezTo>
                  <a:pt x="11253" y="11787"/>
                  <a:pt x="11294" y="11798"/>
                  <a:pt x="11303" y="11811"/>
                </a:cubicBezTo>
                <a:cubicBezTo>
                  <a:pt x="11286" y="11782"/>
                  <a:pt x="11259" y="11769"/>
                  <a:pt x="11271" y="11716"/>
                </a:cubicBezTo>
                <a:cubicBezTo>
                  <a:pt x="11282" y="11695"/>
                  <a:pt x="11292" y="11673"/>
                  <a:pt x="11303" y="11652"/>
                </a:cubicBezTo>
              </a:path>
              <a:path w="4256" h="3145">
                <a:moveTo>
                  <a:pt x="11716" y="10128"/>
                </a:moveTo>
                <a:cubicBezTo>
                  <a:pt x="11728" y="10081"/>
                  <a:pt x="11745" y="10039"/>
                  <a:pt x="11779" y="10001"/>
                </a:cubicBezTo>
                <a:cubicBezTo>
                  <a:pt x="11796" y="9982"/>
                  <a:pt x="11918" y="9935"/>
                  <a:pt x="11938" y="9938"/>
                </a:cubicBezTo>
                <a:cubicBezTo>
                  <a:pt x="12020" y="9952"/>
                  <a:pt x="12006" y="10012"/>
                  <a:pt x="12033" y="10065"/>
                </a:cubicBezTo>
                <a:cubicBezTo>
                  <a:pt x="12079" y="10156"/>
                  <a:pt x="12067" y="10217"/>
                  <a:pt x="12033" y="10319"/>
                </a:cubicBezTo>
                <a:cubicBezTo>
                  <a:pt x="11997" y="10430"/>
                  <a:pt x="11948" y="10529"/>
                  <a:pt x="11906" y="10636"/>
                </a:cubicBezTo>
                <a:cubicBezTo>
                  <a:pt x="11861" y="10750"/>
                  <a:pt x="11805" y="10818"/>
                  <a:pt x="11748" y="10922"/>
                </a:cubicBezTo>
                <a:cubicBezTo>
                  <a:pt x="11717" y="10978"/>
                  <a:pt x="11645" y="11027"/>
                  <a:pt x="11620" y="11081"/>
                </a:cubicBezTo>
                <a:cubicBezTo>
                  <a:pt x="11620" y="11112"/>
                  <a:pt x="11620" y="11122"/>
                  <a:pt x="11589" y="11112"/>
                </a:cubicBezTo>
                <a:cubicBezTo>
                  <a:pt x="11637" y="11064"/>
                  <a:pt x="11648" y="11049"/>
                  <a:pt x="11716" y="11049"/>
                </a:cubicBezTo>
                <a:cubicBezTo>
                  <a:pt x="11770" y="11049"/>
                  <a:pt x="11806" y="11107"/>
                  <a:pt x="11843" y="11144"/>
                </a:cubicBezTo>
                <a:cubicBezTo>
                  <a:pt x="11877" y="11179"/>
                  <a:pt x="11952" y="11223"/>
                  <a:pt x="12002" y="11240"/>
                </a:cubicBezTo>
                <a:cubicBezTo>
                  <a:pt x="12088" y="11269"/>
                  <a:pt x="12064" y="11264"/>
                  <a:pt x="12160" y="11240"/>
                </a:cubicBezTo>
                <a:cubicBezTo>
                  <a:pt x="12203" y="11230"/>
                  <a:pt x="12191" y="11220"/>
                  <a:pt x="12224" y="11176"/>
                </a:cubicBezTo>
              </a:path>
              <a:path w="4256" h="3145">
                <a:moveTo>
                  <a:pt x="12446" y="10319"/>
                </a:moveTo>
                <a:cubicBezTo>
                  <a:pt x="12462" y="10381"/>
                  <a:pt x="12510" y="10446"/>
                  <a:pt x="12541" y="10509"/>
                </a:cubicBezTo>
                <a:cubicBezTo>
                  <a:pt x="12589" y="10605"/>
                  <a:pt x="12655" y="10699"/>
                  <a:pt x="12700" y="10795"/>
                </a:cubicBezTo>
                <a:cubicBezTo>
                  <a:pt x="12736" y="10872"/>
                  <a:pt x="12808" y="11007"/>
                  <a:pt x="12827" y="11081"/>
                </a:cubicBezTo>
                <a:cubicBezTo>
                  <a:pt x="12843" y="11146"/>
                  <a:pt x="12834" y="11189"/>
                  <a:pt x="12890" y="11208"/>
                </a:cubicBezTo>
              </a:path>
              <a:path w="4256" h="3145">
                <a:moveTo>
                  <a:pt x="12890" y="10414"/>
                </a:moveTo>
                <a:cubicBezTo>
                  <a:pt x="12811" y="10434"/>
                  <a:pt x="12814" y="10481"/>
                  <a:pt x="12764" y="10541"/>
                </a:cubicBezTo>
                <a:cubicBezTo>
                  <a:pt x="12680" y="10643"/>
                  <a:pt x="12608" y="10771"/>
                  <a:pt x="12541" y="10890"/>
                </a:cubicBezTo>
                <a:cubicBezTo>
                  <a:pt x="12462" y="11031"/>
                  <a:pt x="12423" y="11175"/>
                  <a:pt x="12319" y="11303"/>
                </a:cubicBezTo>
                <a:cubicBezTo>
                  <a:pt x="12266" y="11356"/>
                  <a:pt x="12256" y="11366"/>
                  <a:pt x="12224" y="11398"/>
                </a:cubicBezTo>
              </a:path>
              <a:path w="4256" h="3145">
                <a:moveTo>
                  <a:pt x="13303" y="10319"/>
                </a:moveTo>
                <a:cubicBezTo>
                  <a:pt x="13296" y="10396"/>
                  <a:pt x="13291" y="10468"/>
                  <a:pt x="13272" y="10541"/>
                </a:cubicBezTo>
                <a:cubicBezTo>
                  <a:pt x="13242" y="10654"/>
                  <a:pt x="13213" y="10773"/>
                  <a:pt x="13208" y="10890"/>
                </a:cubicBezTo>
                <a:cubicBezTo>
                  <a:pt x="13204" y="10986"/>
                  <a:pt x="13232" y="11068"/>
                  <a:pt x="13272" y="11144"/>
                </a:cubicBezTo>
                <a:cubicBezTo>
                  <a:pt x="13305" y="11207"/>
                  <a:pt x="13348" y="11240"/>
                  <a:pt x="13430" y="11240"/>
                </a:cubicBezTo>
                <a:cubicBezTo>
                  <a:pt x="13481" y="11240"/>
                  <a:pt x="13601" y="11088"/>
                  <a:pt x="13621" y="11049"/>
                </a:cubicBezTo>
                <a:cubicBezTo>
                  <a:pt x="13671" y="10953"/>
                  <a:pt x="13710" y="10833"/>
                  <a:pt x="13748" y="10732"/>
                </a:cubicBezTo>
                <a:cubicBezTo>
                  <a:pt x="13782" y="10641"/>
                  <a:pt x="13780" y="10573"/>
                  <a:pt x="13780" y="10478"/>
                </a:cubicBezTo>
                <a:cubicBezTo>
                  <a:pt x="13780" y="10467"/>
                  <a:pt x="13780" y="10457"/>
                  <a:pt x="13780" y="10446"/>
                </a:cubicBezTo>
                <a:cubicBezTo>
                  <a:pt x="13804" y="10520"/>
                  <a:pt x="13802" y="10574"/>
                  <a:pt x="13780" y="10668"/>
                </a:cubicBezTo>
                <a:cubicBezTo>
                  <a:pt x="13747" y="10809"/>
                  <a:pt x="13698" y="10967"/>
                  <a:pt x="13684" y="11112"/>
                </a:cubicBezTo>
                <a:cubicBezTo>
                  <a:pt x="13666" y="11292"/>
                  <a:pt x="13636" y="11473"/>
                  <a:pt x="13621" y="11652"/>
                </a:cubicBezTo>
                <a:cubicBezTo>
                  <a:pt x="13612" y="11761"/>
                  <a:pt x="13605" y="11968"/>
                  <a:pt x="13557" y="12065"/>
                </a:cubicBezTo>
                <a:cubicBezTo>
                  <a:pt x="13541" y="12097"/>
                  <a:pt x="13412" y="12226"/>
                  <a:pt x="13367" y="12224"/>
                </a:cubicBezTo>
                <a:cubicBezTo>
                  <a:pt x="13293" y="12221"/>
                  <a:pt x="13257" y="12176"/>
                  <a:pt x="13208" y="12128"/>
                </a:cubicBezTo>
                <a:cubicBezTo>
                  <a:pt x="13170" y="12091"/>
                  <a:pt x="13155" y="12072"/>
                  <a:pt x="13144" y="12033"/>
                </a:cubicBezTo>
              </a:path>
              <a:path w="4256" h="3145">
                <a:moveTo>
                  <a:pt x="14034" y="10033"/>
                </a:moveTo>
                <a:cubicBezTo>
                  <a:pt x="14098" y="10033"/>
                  <a:pt x="14005" y="10031"/>
                  <a:pt x="14065" y="10001"/>
                </a:cubicBezTo>
                <a:cubicBezTo>
                  <a:pt x="14101" y="10001"/>
                  <a:pt x="14115" y="9998"/>
                  <a:pt x="14129" y="9970"/>
                </a:cubicBezTo>
                <a:cubicBezTo>
                  <a:pt x="14163" y="9981"/>
                  <a:pt x="14187" y="9993"/>
                  <a:pt x="14192" y="10033"/>
                </a:cubicBezTo>
                <a:cubicBezTo>
                  <a:pt x="14201" y="10108"/>
                  <a:pt x="14175" y="10162"/>
                  <a:pt x="14160" y="10192"/>
                </a:cubicBezTo>
                <a:cubicBezTo>
                  <a:pt x="14142" y="10228"/>
                  <a:pt x="14152" y="10284"/>
                  <a:pt x="14129" y="10319"/>
                </a:cubicBezTo>
                <a:cubicBezTo>
                  <a:pt x="14103" y="10357"/>
                  <a:pt x="14045" y="10359"/>
                  <a:pt x="14034" y="10382"/>
                </a:cubicBezTo>
                <a:cubicBezTo>
                  <a:pt x="14013" y="10425"/>
                  <a:pt x="14017" y="10400"/>
                  <a:pt x="14002" y="10446"/>
                </a:cubicBezTo>
                <a:cubicBezTo>
                  <a:pt x="14074" y="10446"/>
                  <a:pt x="14044" y="10421"/>
                  <a:pt x="14097" y="10414"/>
                </a:cubicBezTo>
                <a:cubicBezTo>
                  <a:pt x="14143" y="10408"/>
                  <a:pt x="14170" y="10446"/>
                  <a:pt x="14224" y="10446"/>
                </a:cubicBezTo>
                <a:cubicBezTo>
                  <a:pt x="14260" y="10446"/>
                  <a:pt x="14274" y="10443"/>
                  <a:pt x="14288" y="10414"/>
                </a:cubicBezTo>
              </a:path>
              <a:path w="4256" h="3145">
                <a:moveTo>
                  <a:pt x="14351" y="9366"/>
                </a:moveTo>
                <a:cubicBezTo>
                  <a:pt x="14402" y="9446"/>
                  <a:pt x="14423" y="9498"/>
                  <a:pt x="14446" y="9588"/>
                </a:cubicBezTo>
                <a:cubicBezTo>
                  <a:pt x="14505" y="9812"/>
                  <a:pt x="14588" y="10027"/>
                  <a:pt x="14637" y="10255"/>
                </a:cubicBezTo>
                <a:cubicBezTo>
                  <a:pt x="14675" y="10428"/>
                  <a:pt x="14741" y="10651"/>
                  <a:pt x="14732" y="10827"/>
                </a:cubicBezTo>
                <a:cubicBezTo>
                  <a:pt x="14723" y="11003"/>
                  <a:pt x="14687" y="11194"/>
                  <a:pt x="14637" y="11366"/>
                </a:cubicBezTo>
                <a:cubicBezTo>
                  <a:pt x="14594" y="11515"/>
                  <a:pt x="14545" y="11671"/>
                  <a:pt x="14478" y="11811"/>
                </a:cubicBezTo>
                <a:cubicBezTo>
                  <a:pt x="14447" y="11875"/>
                  <a:pt x="14403" y="11984"/>
                  <a:pt x="14351" y="12033"/>
                </a:cubicBezTo>
                <a:cubicBezTo>
                  <a:pt x="14337" y="12046"/>
                  <a:pt x="14274" y="12054"/>
                  <a:pt x="14256" y="12065"/>
                </a:cubicBezTo>
              </a:path>
              <a:path w="4256" h="3145">
                <a:moveTo>
                  <a:pt x="14954" y="9398"/>
                </a:moveTo>
                <a:cubicBezTo>
                  <a:pt x="14995" y="9367"/>
                  <a:pt x="15064" y="9339"/>
                  <a:pt x="15113" y="9334"/>
                </a:cubicBezTo>
                <a:cubicBezTo>
                  <a:pt x="15178" y="9327"/>
                  <a:pt x="15189" y="9349"/>
                  <a:pt x="15240" y="9366"/>
                </a:cubicBezTo>
                <a:cubicBezTo>
                  <a:pt x="15251" y="9366"/>
                  <a:pt x="15261" y="9366"/>
                  <a:pt x="15272" y="9366"/>
                </a:cubicBezTo>
                <a:cubicBezTo>
                  <a:pt x="15259" y="9431"/>
                  <a:pt x="15248" y="9507"/>
                  <a:pt x="15208" y="9557"/>
                </a:cubicBezTo>
                <a:cubicBezTo>
                  <a:pt x="15167" y="9607"/>
                  <a:pt x="15142" y="9663"/>
                  <a:pt x="15081" y="9684"/>
                </a:cubicBezTo>
                <a:cubicBezTo>
                  <a:pt x="15071" y="9684"/>
                  <a:pt x="15060" y="9684"/>
                  <a:pt x="15050" y="9684"/>
                </a:cubicBezTo>
                <a:cubicBezTo>
                  <a:pt x="15103" y="9644"/>
                  <a:pt x="15123" y="9637"/>
                  <a:pt x="15176" y="9684"/>
                </a:cubicBezTo>
                <a:cubicBezTo>
                  <a:pt x="15218" y="9722"/>
                  <a:pt x="15266" y="9756"/>
                  <a:pt x="15272" y="9811"/>
                </a:cubicBezTo>
                <a:cubicBezTo>
                  <a:pt x="15280" y="9879"/>
                  <a:pt x="15279" y="9943"/>
                  <a:pt x="15240" y="10001"/>
                </a:cubicBezTo>
                <a:cubicBezTo>
                  <a:pt x="15206" y="10051"/>
                  <a:pt x="15137" y="10109"/>
                  <a:pt x="15081" y="10128"/>
                </a:cubicBezTo>
                <a:cubicBezTo>
                  <a:pt x="15032" y="10144"/>
                  <a:pt x="14960" y="10121"/>
                  <a:pt x="14922" y="10096"/>
                </a:cubicBezTo>
                <a:cubicBezTo>
                  <a:pt x="14868" y="10061"/>
                  <a:pt x="14859" y="10029"/>
                  <a:pt x="14859" y="9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Ink 9"/>
          <p:cNvSpPr/>
          <p:nvPr/>
        </p:nvSpPr>
        <p:spPr>
          <a:xfrm>
            <a:off x="1771560" y="4308480"/>
            <a:ext cx="3040200" cy="1327320"/>
          </a:xfrm>
          <a:custGeom>
            <a:avLst/>
            <a:gdLst/>
            <a:ahLst/>
            <a:rect l="l" t="t" r="r" b="b"/>
            <a:pathLst>
              <a:path w="8447" h="3684">
                <a:moveTo>
                  <a:pt x="5778" y="11970"/>
                </a:moveTo>
                <a:cubicBezTo>
                  <a:pt x="5766" y="12031"/>
                  <a:pt x="5761" y="12099"/>
                  <a:pt x="5747" y="12160"/>
                </a:cubicBezTo>
                <a:cubicBezTo>
                  <a:pt x="5720" y="12278"/>
                  <a:pt x="5705" y="12392"/>
                  <a:pt x="5683" y="12510"/>
                </a:cubicBezTo>
                <a:cubicBezTo>
                  <a:pt x="5655" y="12661"/>
                  <a:pt x="5645" y="12805"/>
                  <a:pt x="5620" y="12954"/>
                </a:cubicBezTo>
                <a:cubicBezTo>
                  <a:pt x="5598" y="13084"/>
                  <a:pt x="5561" y="13204"/>
                  <a:pt x="5556" y="13335"/>
                </a:cubicBezTo>
                <a:cubicBezTo>
                  <a:pt x="5553" y="13411"/>
                  <a:pt x="5524" y="13634"/>
                  <a:pt x="5524" y="13557"/>
                </a:cubicBezTo>
                <a:cubicBezTo>
                  <a:pt x="5524" y="13496"/>
                  <a:pt x="5529" y="13493"/>
                  <a:pt x="5556" y="13430"/>
                </a:cubicBezTo>
              </a:path>
              <a:path w="8447" h="3684">
                <a:moveTo>
                  <a:pt x="6096" y="12160"/>
                </a:moveTo>
                <a:cubicBezTo>
                  <a:pt x="6072" y="12222"/>
                  <a:pt x="6062" y="12283"/>
                  <a:pt x="6032" y="12351"/>
                </a:cubicBezTo>
                <a:cubicBezTo>
                  <a:pt x="5975" y="12479"/>
                  <a:pt x="5969" y="12598"/>
                  <a:pt x="5937" y="12732"/>
                </a:cubicBezTo>
                <a:cubicBezTo>
                  <a:pt x="5896" y="12905"/>
                  <a:pt x="5848" y="13063"/>
                  <a:pt x="5842" y="13240"/>
                </a:cubicBezTo>
                <a:cubicBezTo>
                  <a:pt x="5837" y="13399"/>
                  <a:pt x="5852" y="13507"/>
                  <a:pt x="5906" y="13652"/>
                </a:cubicBezTo>
                <a:cubicBezTo>
                  <a:pt x="5933" y="13726"/>
                  <a:pt x="6024" y="13849"/>
                  <a:pt x="6128" y="13843"/>
                </a:cubicBezTo>
                <a:cubicBezTo>
                  <a:pt x="6217" y="13838"/>
                  <a:pt x="6275" y="13788"/>
                  <a:pt x="6318" y="13716"/>
                </a:cubicBezTo>
                <a:cubicBezTo>
                  <a:pt x="6372" y="13626"/>
                  <a:pt x="6382" y="13565"/>
                  <a:pt x="6382" y="13462"/>
                </a:cubicBezTo>
                <a:cubicBezTo>
                  <a:pt x="6382" y="13361"/>
                  <a:pt x="6353" y="13316"/>
                  <a:pt x="6286" y="13240"/>
                </a:cubicBezTo>
                <a:cubicBezTo>
                  <a:pt x="6257" y="13207"/>
                  <a:pt x="6206" y="13194"/>
                  <a:pt x="6160" y="13208"/>
                </a:cubicBezTo>
                <a:cubicBezTo>
                  <a:pt x="6122" y="13220"/>
                  <a:pt x="6017" y="13403"/>
                  <a:pt x="6001" y="13430"/>
                </a:cubicBezTo>
                <a:cubicBezTo>
                  <a:pt x="5941" y="13530"/>
                  <a:pt x="5972" y="13623"/>
                  <a:pt x="5937" y="13716"/>
                </a:cubicBezTo>
                <a:cubicBezTo>
                  <a:pt x="5906" y="13799"/>
                  <a:pt x="5917" y="13761"/>
                  <a:pt x="5937" y="13811"/>
                </a:cubicBezTo>
              </a:path>
              <a:path w="8447" h="3684">
                <a:moveTo>
                  <a:pt x="6763" y="12636"/>
                </a:moveTo>
                <a:cubicBezTo>
                  <a:pt x="6800" y="12699"/>
                  <a:pt x="6828" y="12783"/>
                  <a:pt x="6858" y="12859"/>
                </a:cubicBezTo>
                <a:cubicBezTo>
                  <a:pt x="6901" y="12968"/>
                  <a:pt x="6921" y="13093"/>
                  <a:pt x="6953" y="13208"/>
                </a:cubicBezTo>
                <a:cubicBezTo>
                  <a:pt x="6997" y="13366"/>
                  <a:pt x="7030" y="13527"/>
                  <a:pt x="7080" y="13684"/>
                </a:cubicBezTo>
                <a:cubicBezTo>
                  <a:pt x="7114" y="13791"/>
                  <a:pt x="7135" y="13937"/>
                  <a:pt x="7176" y="14034"/>
                </a:cubicBezTo>
                <a:cubicBezTo>
                  <a:pt x="7204" y="14101"/>
                  <a:pt x="7232" y="14085"/>
                  <a:pt x="7271" y="14065"/>
                </a:cubicBezTo>
              </a:path>
              <a:path w="8447" h="3684">
                <a:moveTo>
                  <a:pt x="7302" y="12700"/>
                </a:moveTo>
                <a:cubicBezTo>
                  <a:pt x="7243" y="12760"/>
                  <a:pt x="7219" y="12819"/>
                  <a:pt x="7176" y="12890"/>
                </a:cubicBezTo>
                <a:cubicBezTo>
                  <a:pt x="7089" y="13033"/>
                  <a:pt x="7050" y="13183"/>
                  <a:pt x="6985" y="13335"/>
                </a:cubicBezTo>
                <a:cubicBezTo>
                  <a:pt x="6918" y="13492"/>
                  <a:pt x="6838" y="13662"/>
                  <a:pt x="6763" y="13811"/>
                </a:cubicBezTo>
                <a:cubicBezTo>
                  <a:pt x="6722" y="13892"/>
                  <a:pt x="6668" y="13971"/>
                  <a:pt x="6604" y="14034"/>
                </a:cubicBezTo>
                <a:cubicBezTo>
                  <a:pt x="6593" y="14044"/>
                  <a:pt x="6583" y="14055"/>
                  <a:pt x="6572" y="14065"/>
                </a:cubicBezTo>
              </a:path>
              <a:path w="8447" h="3684">
                <a:moveTo>
                  <a:pt x="7620" y="12287"/>
                </a:moveTo>
                <a:cubicBezTo>
                  <a:pt x="7620" y="12342"/>
                  <a:pt x="7606" y="12396"/>
                  <a:pt x="7588" y="12446"/>
                </a:cubicBezTo>
                <a:cubicBezTo>
                  <a:pt x="7558" y="12531"/>
                  <a:pt x="7530" y="12609"/>
                  <a:pt x="7525" y="12700"/>
                </a:cubicBezTo>
                <a:cubicBezTo>
                  <a:pt x="7521" y="12778"/>
                  <a:pt x="7462" y="12873"/>
                  <a:pt x="7493" y="12954"/>
                </a:cubicBezTo>
                <a:cubicBezTo>
                  <a:pt x="7514" y="13008"/>
                  <a:pt x="7520" y="13073"/>
                  <a:pt x="7588" y="13081"/>
                </a:cubicBezTo>
                <a:cubicBezTo>
                  <a:pt x="7645" y="13087"/>
                  <a:pt x="7674" y="13085"/>
                  <a:pt x="7715" y="13049"/>
                </a:cubicBezTo>
                <a:cubicBezTo>
                  <a:pt x="7738" y="13029"/>
                  <a:pt x="7814" y="12917"/>
                  <a:pt x="7810" y="12890"/>
                </a:cubicBezTo>
                <a:cubicBezTo>
                  <a:pt x="7802" y="12834"/>
                  <a:pt x="7779" y="12821"/>
                  <a:pt x="7779" y="12764"/>
                </a:cubicBezTo>
                <a:cubicBezTo>
                  <a:pt x="7720" y="12764"/>
                  <a:pt x="7687" y="12773"/>
                  <a:pt x="7652" y="12827"/>
                </a:cubicBezTo>
                <a:cubicBezTo>
                  <a:pt x="7607" y="12896"/>
                  <a:pt x="7591" y="12953"/>
                  <a:pt x="7556" y="13018"/>
                </a:cubicBezTo>
                <a:cubicBezTo>
                  <a:pt x="7531" y="13070"/>
                  <a:pt x="7520" y="13078"/>
                  <a:pt x="7525" y="13113"/>
                </a:cubicBezTo>
              </a:path>
              <a:path w="8447" h="3684">
                <a:moveTo>
                  <a:pt x="8096" y="13018"/>
                </a:moveTo>
                <a:cubicBezTo>
                  <a:pt x="8096" y="12951"/>
                  <a:pt x="8097" y="12928"/>
                  <a:pt x="8128" y="12890"/>
                </a:cubicBezTo>
              </a:path>
              <a:path w="8447" h="3684">
                <a:moveTo>
                  <a:pt x="8192" y="12764"/>
                </a:moveTo>
                <a:cubicBezTo>
                  <a:pt x="8158" y="12814"/>
                  <a:pt x="8138" y="12800"/>
                  <a:pt x="8128" y="12859"/>
                </a:cubicBezTo>
                <a:cubicBezTo>
                  <a:pt x="8108" y="12974"/>
                  <a:pt x="8118" y="13092"/>
                  <a:pt x="8096" y="13208"/>
                </a:cubicBezTo>
                <a:cubicBezTo>
                  <a:pt x="8069" y="13353"/>
                  <a:pt x="8063" y="13475"/>
                  <a:pt x="8096" y="13621"/>
                </a:cubicBezTo>
                <a:cubicBezTo>
                  <a:pt x="8122" y="13735"/>
                  <a:pt x="8164" y="13783"/>
                  <a:pt x="8255" y="13843"/>
                </a:cubicBezTo>
                <a:cubicBezTo>
                  <a:pt x="8380" y="13924"/>
                  <a:pt x="8428" y="13798"/>
                  <a:pt x="8477" y="13716"/>
                </a:cubicBezTo>
                <a:cubicBezTo>
                  <a:pt x="8571" y="13560"/>
                  <a:pt x="8645" y="13461"/>
                  <a:pt x="8668" y="13272"/>
                </a:cubicBezTo>
                <a:cubicBezTo>
                  <a:pt x="8681" y="13163"/>
                  <a:pt x="8673" y="13028"/>
                  <a:pt x="8700" y="12922"/>
                </a:cubicBezTo>
                <a:cubicBezTo>
                  <a:pt x="8725" y="12870"/>
                  <a:pt x="8736" y="12862"/>
                  <a:pt x="8731" y="12827"/>
                </a:cubicBezTo>
                <a:cubicBezTo>
                  <a:pt x="8692" y="12932"/>
                  <a:pt x="8689" y="13034"/>
                  <a:pt x="8668" y="13144"/>
                </a:cubicBezTo>
                <a:cubicBezTo>
                  <a:pt x="8628" y="13355"/>
                  <a:pt x="8633" y="13568"/>
                  <a:pt x="8604" y="13780"/>
                </a:cubicBezTo>
                <a:cubicBezTo>
                  <a:pt x="8571" y="14026"/>
                  <a:pt x="8520" y="14286"/>
                  <a:pt x="8414" y="14510"/>
                </a:cubicBezTo>
                <a:cubicBezTo>
                  <a:pt x="8349" y="14646"/>
                  <a:pt x="8285" y="14813"/>
                  <a:pt x="8192" y="14922"/>
                </a:cubicBezTo>
                <a:cubicBezTo>
                  <a:pt x="8115" y="15012"/>
                  <a:pt x="8021" y="15044"/>
                  <a:pt x="7906" y="15050"/>
                </a:cubicBezTo>
                <a:cubicBezTo>
                  <a:pt x="7798" y="15056"/>
                  <a:pt x="7799" y="15005"/>
                  <a:pt x="7779" y="14922"/>
                </a:cubicBezTo>
              </a:path>
              <a:path w="8447" h="3684">
                <a:moveTo>
                  <a:pt x="9239" y="12478"/>
                </a:moveTo>
                <a:cubicBezTo>
                  <a:pt x="9239" y="12408"/>
                  <a:pt x="9219" y="12372"/>
                  <a:pt x="9208" y="12319"/>
                </a:cubicBezTo>
                <a:cubicBezTo>
                  <a:pt x="9188" y="12222"/>
                  <a:pt x="9183" y="12240"/>
                  <a:pt x="9112" y="12192"/>
                </a:cubicBezTo>
                <a:cubicBezTo>
                  <a:pt x="9034" y="12140"/>
                  <a:pt x="9016" y="12161"/>
                  <a:pt x="8954" y="12224"/>
                </a:cubicBezTo>
                <a:cubicBezTo>
                  <a:pt x="8895" y="12283"/>
                  <a:pt x="8868" y="12360"/>
                  <a:pt x="8890" y="12446"/>
                </a:cubicBezTo>
                <a:cubicBezTo>
                  <a:pt x="8920" y="12564"/>
                  <a:pt x="8982" y="12669"/>
                  <a:pt x="9049" y="12764"/>
                </a:cubicBezTo>
                <a:cubicBezTo>
                  <a:pt x="9111" y="12851"/>
                  <a:pt x="9159" y="12947"/>
                  <a:pt x="9176" y="13049"/>
                </a:cubicBezTo>
                <a:cubicBezTo>
                  <a:pt x="9182" y="13086"/>
                  <a:pt x="9176" y="13137"/>
                  <a:pt x="9176" y="13176"/>
                </a:cubicBezTo>
                <a:cubicBezTo>
                  <a:pt x="9116" y="13176"/>
                  <a:pt x="9094" y="13184"/>
                  <a:pt x="9049" y="13144"/>
                </a:cubicBezTo>
                <a:cubicBezTo>
                  <a:pt x="8980" y="13083"/>
                  <a:pt x="8981" y="13063"/>
                  <a:pt x="8954" y="12986"/>
                </a:cubicBezTo>
                <a:cubicBezTo>
                  <a:pt x="8918" y="12885"/>
                  <a:pt x="8910" y="12834"/>
                  <a:pt x="8954" y="12732"/>
                </a:cubicBezTo>
                <a:cubicBezTo>
                  <a:pt x="8994" y="12641"/>
                  <a:pt x="9050" y="12552"/>
                  <a:pt x="9112" y="12478"/>
                </a:cubicBezTo>
                <a:cubicBezTo>
                  <a:pt x="9182" y="12408"/>
                  <a:pt x="9209" y="12383"/>
                  <a:pt x="9271" y="12351"/>
                </a:cubicBezTo>
              </a:path>
              <a:path w="8447" h="3684">
                <a:moveTo>
                  <a:pt x="9874" y="13430"/>
                </a:moveTo>
                <a:cubicBezTo>
                  <a:pt x="9874" y="13507"/>
                  <a:pt x="9838" y="13495"/>
                  <a:pt x="9811" y="13557"/>
                </a:cubicBezTo>
                <a:cubicBezTo>
                  <a:pt x="9805" y="13571"/>
                  <a:pt x="9754" y="13664"/>
                  <a:pt x="9779" y="13684"/>
                </a:cubicBezTo>
                <a:cubicBezTo>
                  <a:pt x="9790" y="13684"/>
                  <a:pt x="9800" y="13684"/>
                  <a:pt x="9811" y="13684"/>
                </a:cubicBezTo>
                <a:cubicBezTo>
                  <a:pt x="9847" y="13671"/>
                  <a:pt x="9865" y="13657"/>
                  <a:pt x="9906" y="13621"/>
                </a:cubicBezTo>
                <a:cubicBezTo>
                  <a:pt x="9927" y="13603"/>
                  <a:pt x="9982" y="13522"/>
                  <a:pt x="9970" y="13494"/>
                </a:cubicBezTo>
                <a:cubicBezTo>
                  <a:pt x="9944" y="13437"/>
                  <a:pt x="9934" y="13430"/>
                  <a:pt x="9874" y="13430"/>
                </a:cubicBezTo>
                <a:cubicBezTo>
                  <a:pt x="9823" y="13447"/>
                  <a:pt x="9842" y="13481"/>
                  <a:pt x="9811" y="13526"/>
                </a:cubicBezTo>
                <a:cubicBezTo>
                  <a:pt x="9776" y="13578"/>
                  <a:pt x="9806" y="13613"/>
                  <a:pt x="9874" y="13621"/>
                </a:cubicBezTo>
                <a:cubicBezTo>
                  <a:pt x="9919" y="13626"/>
                  <a:pt x="9920" y="13581"/>
                  <a:pt x="9938" y="13557"/>
                </a:cubicBezTo>
                <a:cubicBezTo>
                  <a:pt x="9967" y="13529"/>
                  <a:pt x="9978" y="13523"/>
                  <a:pt x="9970" y="13494"/>
                </a:cubicBezTo>
                <a:cubicBezTo>
                  <a:pt x="9954" y="13446"/>
                  <a:pt x="9931" y="13462"/>
                  <a:pt x="9874" y="13462"/>
                </a:cubicBezTo>
                <a:cubicBezTo>
                  <a:pt x="9813" y="13462"/>
                  <a:pt x="9810" y="13516"/>
                  <a:pt x="9779" y="13557"/>
                </a:cubicBezTo>
                <a:cubicBezTo>
                  <a:pt x="9852" y="13581"/>
                  <a:pt x="9788" y="13586"/>
                  <a:pt x="9874" y="13557"/>
                </a:cubicBezTo>
                <a:cubicBezTo>
                  <a:pt x="9926" y="13540"/>
                  <a:pt x="9955" y="13538"/>
                  <a:pt x="9970" y="13494"/>
                </a:cubicBezTo>
              </a:path>
              <a:path w="8447" h="3684">
                <a:moveTo>
                  <a:pt x="11240" y="12636"/>
                </a:moveTo>
                <a:cubicBezTo>
                  <a:pt x="11199" y="12612"/>
                  <a:pt x="11199" y="12624"/>
                  <a:pt x="11144" y="12605"/>
                </a:cubicBezTo>
                <a:cubicBezTo>
                  <a:pt x="11094" y="12587"/>
                  <a:pt x="11064" y="12569"/>
                  <a:pt x="11017" y="12541"/>
                </a:cubicBezTo>
                <a:cubicBezTo>
                  <a:pt x="10975" y="12516"/>
                  <a:pt x="10915" y="12500"/>
                  <a:pt x="10858" y="12510"/>
                </a:cubicBezTo>
                <a:cubicBezTo>
                  <a:pt x="10793" y="12521"/>
                  <a:pt x="10752" y="12544"/>
                  <a:pt x="10700" y="12573"/>
                </a:cubicBezTo>
                <a:cubicBezTo>
                  <a:pt x="10622" y="12617"/>
                  <a:pt x="10572" y="12667"/>
                  <a:pt x="10509" y="12732"/>
                </a:cubicBezTo>
                <a:cubicBezTo>
                  <a:pt x="10486" y="12755"/>
                  <a:pt x="10412" y="12829"/>
                  <a:pt x="10414" y="12859"/>
                </a:cubicBezTo>
                <a:cubicBezTo>
                  <a:pt x="10416" y="12896"/>
                  <a:pt x="10446" y="12963"/>
                  <a:pt x="10478" y="12986"/>
                </a:cubicBezTo>
                <a:cubicBezTo>
                  <a:pt x="10552" y="13040"/>
                  <a:pt x="10600" y="13088"/>
                  <a:pt x="10668" y="13144"/>
                </a:cubicBezTo>
                <a:cubicBezTo>
                  <a:pt x="10704" y="13174"/>
                  <a:pt x="10805" y="13295"/>
                  <a:pt x="10827" y="13335"/>
                </a:cubicBezTo>
                <a:cubicBezTo>
                  <a:pt x="10890" y="13451"/>
                  <a:pt x="10887" y="13592"/>
                  <a:pt x="10922" y="13716"/>
                </a:cubicBezTo>
                <a:cubicBezTo>
                  <a:pt x="10950" y="13815"/>
                  <a:pt x="10976" y="13929"/>
                  <a:pt x="10954" y="14034"/>
                </a:cubicBezTo>
                <a:cubicBezTo>
                  <a:pt x="10940" y="14099"/>
                  <a:pt x="10930" y="14174"/>
                  <a:pt x="10890" y="14224"/>
                </a:cubicBezTo>
                <a:cubicBezTo>
                  <a:pt x="10858" y="14264"/>
                  <a:pt x="10819" y="14307"/>
                  <a:pt x="10763" y="14288"/>
                </a:cubicBezTo>
                <a:cubicBezTo>
                  <a:pt x="10708" y="14269"/>
                  <a:pt x="10630" y="14173"/>
                  <a:pt x="10604" y="14129"/>
                </a:cubicBezTo>
                <a:cubicBezTo>
                  <a:pt x="10553" y="14041"/>
                  <a:pt x="10545" y="13911"/>
                  <a:pt x="10541" y="13811"/>
                </a:cubicBezTo>
                <a:cubicBezTo>
                  <a:pt x="10535" y="13655"/>
                  <a:pt x="10558" y="13518"/>
                  <a:pt x="10573" y="13367"/>
                </a:cubicBezTo>
                <a:cubicBezTo>
                  <a:pt x="10587" y="13229"/>
                  <a:pt x="10616" y="13134"/>
                  <a:pt x="10700" y="13018"/>
                </a:cubicBezTo>
                <a:cubicBezTo>
                  <a:pt x="10747" y="12952"/>
                  <a:pt x="10814" y="12921"/>
                  <a:pt x="10858" y="12859"/>
                </a:cubicBezTo>
                <a:cubicBezTo>
                  <a:pt x="10913" y="12781"/>
                  <a:pt x="10964" y="12749"/>
                  <a:pt x="11049" y="12700"/>
                </a:cubicBezTo>
              </a:path>
              <a:path w="8447" h="3684">
                <a:moveTo>
                  <a:pt x="11303" y="13272"/>
                </a:moveTo>
                <a:cubicBezTo>
                  <a:pt x="11262" y="13326"/>
                  <a:pt x="11279" y="13364"/>
                  <a:pt x="11303" y="13430"/>
                </a:cubicBezTo>
                <a:cubicBezTo>
                  <a:pt x="11344" y="13546"/>
                  <a:pt x="11396" y="13660"/>
                  <a:pt x="11430" y="13780"/>
                </a:cubicBezTo>
                <a:cubicBezTo>
                  <a:pt x="11472" y="13929"/>
                  <a:pt x="11526" y="14052"/>
                  <a:pt x="11589" y="14192"/>
                </a:cubicBezTo>
                <a:cubicBezTo>
                  <a:pt x="11622" y="14265"/>
                  <a:pt x="11665" y="14375"/>
                  <a:pt x="11684" y="14446"/>
                </a:cubicBezTo>
                <a:cubicBezTo>
                  <a:pt x="11684" y="14467"/>
                  <a:pt x="11684" y="14489"/>
                  <a:pt x="11684" y="14510"/>
                </a:cubicBezTo>
              </a:path>
              <a:path w="8447" h="3684">
                <a:moveTo>
                  <a:pt x="11589" y="13176"/>
                </a:moveTo>
                <a:cubicBezTo>
                  <a:pt x="11525" y="13304"/>
                  <a:pt x="11521" y="13416"/>
                  <a:pt x="11494" y="13557"/>
                </a:cubicBezTo>
                <a:cubicBezTo>
                  <a:pt x="11455" y="13759"/>
                  <a:pt x="11414" y="13960"/>
                  <a:pt x="11366" y="14160"/>
                </a:cubicBezTo>
                <a:cubicBezTo>
                  <a:pt x="11331" y="14305"/>
                  <a:pt x="11309" y="14465"/>
                  <a:pt x="11271" y="14605"/>
                </a:cubicBezTo>
                <a:cubicBezTo>
                  <a:pt x="11241" y="14666"/>
                  <a:pt x="11231" y="14685"/>
                  <a:pt x="11240" y="14732"/>
                </a:cubicBezTo>
              </a:path>
              <a:path w="8447" h="3684">
                <a:moveTo>
                  <a:pt x="11779" y="12764"/>
                </a:moveTo>
                <a:cubicBezTo>
                  <a:pt x="11779" y="12712"/>
                  <a:pt x="11774" y="12762"/>
                  <a:pt x="11779" y="12764"/>
                </a:cubicBezTo>
                <a:cubicBezTo>
                  <a:pt x="11817" y="12779"/>
                  <a:pt x="11831" y="12717"/>
                  <a:pt x="11843" y="12700"/>
                </a:cubicBezTo>
                <a:cubicBezTo>
                  <a:pt x="11879" y="12650"/>
                  <a:pt x="11909" y="12584"/>
                  <a:pt x="11938" y="12541"/>
                </a:cubicBezTo>
                <a:cubicBezTo>
                  <a:pt x="11967" y="12513"/>
                  <a:pt x="11973" y="12503"/>
                  <a:pt x="12002" y="12510"/>
                </a:cubicBezTo>
                <a:cubicBezTo>
                  <a:pt x="12002" y="12602"/>
                  <a:pt x="12004" y="12675"/>
                  <a:pt x="11970" y="12764"/>
                </a:cubicBezTo>
                <a:cubicBezTo>
                  <a:pt x="11937" y="12849"/>
                  <a:pt x="11916" y="12948"/>
                  <a:pt x="11874" y="13018"/>
                </a:cubicBezTo>
                <a:cubicBezTo>
                  <a:pt x="11882" y="12985"/>
                  <a:pt x="11901" y="12908"/>
                  <a:pt x="11938" y="12890"/>
                </a:cubicBezTo>
                <a:cubicBezTo>
                  <a:pt x="12007" y="12855"/>
                  <a:pt x="12002" y="12870"/>
                  <a:pt x="12065" y="12890"/>
                </a:cubicBezTo>
                <a:cubicBezTo>
                  <a:pt x="12101" y="12902"/>
                  <a:pt x="12124" y="12934"/>
                  <a:pt x="12128" y="12986"/>
                </a:cubicBezTo>
                <a:cubicBezTo>
                  <a:pt x="12132" y="13050"/>
                  <a:pt x="12122" y="13154"/>
                  <a:pt x="12097" y="13208"/>
                </a:cubicBezTo>
                <a:cubicBezTo>
                  <a:pt x="12078" y="13248"/>
                  <a:pt x="12016" y="13346"/>
                  <a:pt x="11970" y="13367"/>
                </a:cubicBezTo>
                <a:cubicBezTo>
                  <a:pt x="11949" y="13376"/>
                  <a:pt x="11897" y="13367"/>
                  <a:pt x="11874" y="13367"/>
                </a:cubicBezTo>
              </a:path>
              <a:path w="8447" h="3684">
                <a:moveTo>
                  <a:pt x="12382" y="13176"/>
                </a:moveTo>
                <a:cubicBezTo>
                  <a:pt x="12366" y="13203"/>
                  <a:pt x="12336" y="13228"/>
                  <a:pt x="12351" y="13303"/>
                </a:cubicBezTo>
                <a:cubicBezTo>
                  <a:pt x="12370" y="13400"/>
                  <a:pt x="12355" y="13525"/>
                  <a:pt x="12382" y="13621"/>
                </a:cubicBezTo>
                <a:cubicBezTo>
                  <a:pt x="12411" y="13723"/>
                  <a:pt x="12418" y="13837"/>
                  <a:pt x="12446" y="13938"/>
                </a:cubicBezTo>
                <a:cubicBezTo>
                  <a:pt x="12469" y="14022"/>
                  <a:pt x="12499" y="14102"/>
                  <a:pt x="12510" y="14192"/>
                </a:cubicBezTo>
                <a:cubicBezTo>
                  <a:pt x="12510" y="14245"/>
                  <a:pt x="12499" y="14266"/>
                  <a:pt x="12541" y="14256"/>
                </a:cubicBezTo>
                <a:cubicBezTo>
                  <a:pt x="12607" y="14199"/>
                  <a:pt x="12606" y="14227"/>
                  <a:pt x="12636" y="14129"/>
                </a:cubicBezTo>
                <a:cubicBezTo>
                  <a:pt x="12680" y="13986"/>
                  <a:pt x="12644" y="13860"/>
                  <a:pt x="12668" y="13716"/>
                </a:cubicBezTo>
                <a:cubicBezTo>
                  <a:pt x="12690" y="13586"/>
                  <a:pt x="12724" y="13440"/>
                  <a:pt x="12700" y="13303"/>
                </a:cubicBezTo>
                <a:cubicBezTo>
                  <a:pt x="12682" y="13200"/>
                  <a:pt x="12668" y="13124"/>
                  <a:pt x="12668" y="13018"/>
                </a:cubicBezTo>
                <a:cubicBezTo>
                  <a:pt x="12668" y="13007"/>
                  <a:pt x="12668" y="12997"/>
                  <a:pt x="12668" y="12986"/>
                </a:cubicBezTo>
                <a:cubicBezTo>
                  <a:pt x="12644" y="13046"/>
                  <a:pt x="12661" y="12968"/>
                  <a:pt x="12668" y="13081"/>
                </a:cubicBezTo>
                <a:cubicBezTo>
                  <a:pt x="12675" y="13192"/>
                  <a:pt x="12713" y="13319"/>
                  <a:pt x="12732" y="13430"/>
                </a:cubicBezTo>
                <a:cubicBezTo>
                  <a:pt x="12765" y="13621"/>
                  <a:pt x="12816" y="13813"/>
                  <a:pt x="12859" y="14002"/>
                </a:cubicBezTo>
                <a:cubicBezTo>
                  <a:pt x="12902" y="14189"/>
                  <a:pt x="12941" y="14382"/>
                  <a:pt x="12954" y="14573"/>
                </a:cubicBezTo>
                <a:cubicBezTo>
                  <a:pt x="12968" y="14776"/>
                  <a:pt x="12968" y="14945"/>
                  <a:pt x="12954" y="15145"/>
                </a:cubicBezTo>
                <a:cubicBezTo>
                  <a:pt x="12943" y="15294"/>
                  <a:pt x="12976" y="15453"/>
                  <a:pt x="12890" y="15589"/>
                </a:cubicBezTo>
                <a:cubicBezTo>
                  <a:pt x="12855" y="15644"/>
                  <a:pt x="12797" y="15673"/>
                  <a:pt x="12732" y="15653"/>
                </a:cubicBezTo>
                <a:cubicBezTo>
                  <a:pt x="12625" y="15620"/>
                  <a:pt x="12600" y="15496"/>
                  <a:pt x="12573" y="15399"/>
                </a:cubicBezTo>
                <a:cubicBezTo>
                  <a:pt x="12520" y="15211"/>
                  <a:pt x="12491" y="15017"/>
                  <a:pt x="12446" y="14827"/>
                </a:cubicBezTo>
              </a:path>
              <a:path w="8447" h="3684">
                <a:moveTo>
                  <a:pt x="13018" y="12827"/>
                </a:moveTo>
                <a:cubicBezTo>
                  <a:pt x="13018" y="12817"/>
                  <a:pt x="13018" y="12712"/>
                  <a:pt x="13018" y="12795"/>
                </a:cubicBezTo>
                <a:cubicBezTo>
                  <a:pt x="13018" y="12909"/>
                  <a:pt x="13032" y="13007"/>
                  <a:pt x="13049" y="13113"/>
                </a:cubicBezTo>
                <a:cubicBezTo>
                  <a:pt x="13063" y="13199"/>
                  <a:pt x="13053" y="13285"/>
                  <a:pt x="13081" y="13367"/>
                </a:cubicBezTo>
                <a:cubicBezTo>
                  <a:pt x="13103" y="13434"/>
                  <a:pt x="13099" y="13517"/>
                  <a:pt x="13176" y="13526"/>
                </a:cubicBezTo>
                <a:cubicBezTo>
                  <a:pt x="13202" y="13529"/>
                  <a:pt x="13241" y="13572"/>
                  <a:pt x="13272" y="13526"/>
                </a:cubicBezTo>
                <a:cubicBezTo>
                  <a:pt x="13301" y="13483"/>
                  <a:pt x="13312" y="13436"/>
                  <a:pt x="13335" y="13367"/>
                </a:cubicBezTo>
                <a:cubicBezTo>
                  <a:pt x="13368" y="13269"/>
                  <a:pt x="13367" y="13186"/>
                  <a:pt x="13367" y="13081"/>
                </a:cubicBezTo>
                <a:cubicBezTo>
                  <a:pt x="13367" y="12965"/>
                  <a:pt x="13344" y="13016"/>
                  <a:pt x="13303" y="12954"/>
                </a:cubicBezTo>
                <a:cubicBezTo>
                  <a:pt x="13303" y="12943"/>
                  <a:pt x="13303" y="12933"/>
                  <a:pt x="13303" y="12922"/>
                </a:cubicBezTo>
                <a:cubicBezTo>
                  <a:pt x="13258" y="12968"/>
                  <a:pt x="13220" y="13014"/>
                  <a:pt x="13208" y="13081"/>
                </a:cubicBezTo>
                <a:cubicBezTo>
                  <a:pt x="13186" y="13201"/>
                  <a:pt x="13195" y="13387"/>
                  <a:pt x="13240" y="13494"/>
                </a:cubicBezTo>
                <a:cubicBezTo>
                  <a:pt x="13251" y="13515"/>
                  <a:pt x="13261" y="13536"/>
                  <a:pt x="13272" y="13557"/>
                </a:cubicBezTo>
              </a:path>
              <a:path w="8447" h="3684">
                <a:moveTo>
                  <a:pt x="4985" y="13748"/>
                </a:moveTo>
                <a:cubicBezTo>
                  <a:pt x="4956" y="13777"/>
                  <a:pt x="4950" y="13788"/>
                  <a:pt x="4921" y="13780"/>
                </a:cubicBezTo>
                <a:cubicBezTo>
                  <a:pt x="4975" y="13833"/>
                  <a:pt x="5013" y="13871"/>
                  <a:pt x="5080" y="13906"/>
                </a:cubicBezTo>
                <a:cubicBezTo>
                  <a:pt x="5190" y="13964"/>
                  <a:pt x="5320" y="13977"/>
                  <a:pt x="5429" y="14034"/>
                </a:cubicBezTo>
                <a:cubicBezTo>
                  <a:pt x="5547" y="14095"/>
                  <a:pt x="5673" y="14172"/>
                  <a:pt x="5810" y="14192"/>
                </a:cubicBezTo>
                <a:cubicBezTo>
                  <a:pt x="5915" y="14207"/>
                  <a:pt x="6022" y="14216"/>
                  <a:pt x="6128" y="14224"/>
                </a:cubicBezTo>
              </a:path>
              <a:path w="8447" h="3684">
                <a:moveTo>
                  <a:pt x="9938" y="14700"/>
                </a:moveTo>
                <a:cubicBezTo>
                  <a:pt x="10122" y="14700"/>
                  <a:pt x="10298" y="14692"/>
                  <a:pt x="10478" y="14732"/>
                </a:cubicBezTo>
                <a:cubicBezTo>
                  <a:pt x="10605" y="14764"/>
                  <a:pt x="10647" y="14775"/>
                  <a:pt x="10732" y="14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Ink 10"/>
          <p:cNvSpPr/>
          <p:nvPr/>
        </p:nvSpPr>
        <p:spPr>
          <a:xfrm>
            <a:off x="5132520" y="4686480"/>
            <a:ext cx="307800" cy="217440"/>
          </a:xfrm>
          <a:custGeom>
            <a:avLst/>
            <a:gdLst/>
            <a:ahLst/>
            <a:rect l="l" t="t" r="r" b="b"/>
            <a:pathLst>
              <a:path w="858" h="604">
                <a:moveTo>
                  <a:pt x="14256" y="13113"/>
                </a:moveTo>
                <a:cubicBezTo>
                  <a:pt x="14316" y="13068"/>
                  <a:pt x="14367" y="13081"/>
                  <a:pt x="14446" y="13081"/>
                </a:cubicBezTo>
                <a:cubicBezTo>
                  <a:pt x="14540" y="13081"/>
                  <a:pt x="14610" y="13056"/>
                  <a:pt x="14700" y="13049"/>
                </a:cubicBezTo>
                <a:cubicBezTo>
                  <a:pt x="14767" y="13044"/>
                  <a:pt x="14819" y="13018"/>
                  <a:pt x="14891" y="13018"/>
                </a:cubicBezTo>
                <a:cubicBezTo>
                  <a:pt x="14922" y="13018"/>
                  <a:pt x="14932" y="13018"/>
                  <a:pt x="14922" y="13049"/>
                </a:cubicBezTo>
              </a:path>
              <a:path w="858" h="604">
                <a:moveTo>
                  <a:pt x="14478" y="13621"/>
                </a:moveTo>
                <a:cubicBezTo>
                  <a:pt x="14564" y="13621"/>
                  <a:pt x="14653" y="13615"/>
                  <a:pt x="14732" y="13589"/>
                </a:cubicBezTo>
                <a:cubicBezTo>
                  <a:pt x="14840" y="13553"/>
                  <a:pt x="14934" y="13557"/>
                  <a:pt x="15050" y="13557"/>
                </a:cubicBezTo>
                <a:cubicBezTo>
                  <a:pt x="15071" y="13557"/>
                  <a:pt x="15092" y="13557"/>
                  <a:pt x="15113" y="135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Ink 11"/>
          <p:cNvSpPr/>
          <p:nvPr/>
        </p:nvSpPr>
        <p:spPr>
          <a:xfrm>
            <a:off x="5715000" y="3978360"/>
            <a:ext cx="1898640" cy="1531800"/>
          </a:xfrm>
          <a:custGeom>
            <a:avLst/>
            <a:gdLst/>
            <a:ahLst/>
            <a:rect l="l" t="t" r="r" b="b"/>
            <a:pathLst>
              <a:path w="5272" h="4256">
                <a:moveTo>
                  <a:pt x="15907" y="12065"/>
                </a:moveTo>
                <a:cubicBezTo>
                  <a:pt x="15874" y="12151"/>
                  <a:pt x="15856" y="12255"/>
                  <a:pt x="15875" y="12351"/>
                </a:cubicBezTo>
                <a:cubicBezTo>
                  <a:pt x="15914" y="12553"/>
                  <a:pt x="15886" y="12748"/>
                  <a:pt x="15907" y="12954"/>
                </a:cubicBezTo>
                <a:cubicBezTo>
                  <a:pt x="15930" y="13177"/>
                  <a:pt x="15965" y="13396"/>
                  <a:pt x="15970" y="13621"/>
                </a:cubicBezTo>
                <a:cubicBezTo>
                  <a:pt x="15974" y="13808"/>
                  <a:pt x="15980" y="13978"/>
                  <a:pt x="16002" y="14160"/>
                </a:cubicBezTo>
                <a:cubicBezTo>
                  <a:pt x="16007" y="14200"/>
                  <a:pt x="16002" y="14247"/>
                  <a:pt x="16002" y="14288"/>
                </a:cubicBezTo>
              </a:path>
              <a:path w="5272" h="4256">
                <a:moveTo>
                  <a:pt x="16256" y="12541"/>
                </a:moveTo>
                <a:cubicBezTo>
                  <a:pt x="16309" y="12411"/>
                  <a:pt x="16358" y="12288"/>
                  <a:pt x="16415" y="12160"/>
                </a:cubicBezTo>
                <a:cubicBezTo>
                  <a:pt x="16453" y="12076"/>
                  <a:pt x="16495" y="11991"/>
                  <a:pt x="16574" y="11938"/>
                </a:cubicBezTo>
                <a:cubicBezTo>
                  <a:pt x="16636" y="11896"/>
                  <a:pt x="16696" y="11894"/>
                  <a:pt x="16732" y="11970"/>
                </a:cubicBezTo>
                <a:cubicBezTo>
                  <a:pt x="16803" y="12120"/>
                  <a:pt x="16743" y="12262"/>
                  <a:pt x="16732" y="12414"/>
                </a:cubicBezTo>
                <a:cubicBezTo>
                  <a:pt x="16717" y="12621"/>
                  <a:pt x="16678" y="12813"/>
                  <a:pt x="16637" y="13018"/>
                </a:cubicBezTo>
                <a:cubicBezTo>
                  <a:pt x="16584" y="13283"/>
                  <a:pt x="16494" y="13548"/>
                  <a:pt x="16446" y="13811"/>
                </a:cubicBezTo>
                <a:cubicBezTo>
                  <a:pt x="16436" y="13868"/>
                  <a:pt x="16433" y="13889"/>
                  <a:pt x="16415" y="13938"/>
                </a:cubicBezTo>
                <a:cubicBezTo>
                  <a:pt x="16424" y="13872"/>
                  <a:pt x="16433" y="13840"/>
                  <a:pt x="16478" y="13780"/>
                </a:cubicBezTo>
                <a:cubicBezTo>
                  <a:pt x="16535" y="13705"/>
                  <a:pt x="16566" y="13745"/>
                  <a:pt x="16637" y="13716"/>
                </a:cubicBezTo>
                <a:cubicBezTo>
                  <a:pt x="16694" y="13693"/>
                  <a:pt x="16761" y="13704"/>
                  <a:pt x="16828" y="13748"/>
                </a:cubicBezTo>
                <a:cubicBezTo>
                  <a:pt x="16884" y="13785"/>
                  <a:pt x="16949" y="13859"/>
                  <a:pt x="17018" y="13875"/>
                </a:cubicBezTo>
                <a:cubicBezTo>
                  <a:pt x="17072" y="13888"/>
                  <a:pt x="17107" y="13874"/>
                  <a:pt x="17145" y="13843"/>
                </a:cubicBezTo>
                <a:cubicBezTo>
                  <a:pt x="17156" y="13832"/>
                  <a:pt x="17166" y="13822"/>
                  <a:pt x="17177" y="13811"/>
                </a:cubicBezTo>
              </a:path>
              <a:path w="5272" h="4256">
                <a:moveTo>
                  <a:pt x="17685" y="11906"/>
                </a:moveTo>
                <a:cubicBezTo>
                  <a:pt x="17654" y="11854"/>
                  <a:pt x="17655" y="11724"/>
                  <a:pt x="17621" y="11684"/>
                </a:cubicBezTo>
                <a:cubicBezTo>
                  <a:pt x="17577" y="11632"/>
                  <a:pt x="17474" y="11662"/>
                  <a:pt x="17431" y="11684"/>
                </a:cubicBezTo>
                <a:cubicBezTo>
                  <a:pt x="17342" y="11729"/>
                  <a:pt x="17230" y="11880"/>
                  <a:pt x="17208" y="11970"/>
                </a:cubicBezTo>
                <a:cubicBezTo>
                  <a:pt x="17192" y="12035"/>
                  <a:pt x="17151" y="12155"/>
                  <a:pt x="17177" y="12224"/>
                </a:cubicBezTo>
                <a:cubicBezTo>
                  <a:pt x="17208" y="12306"/>
                  <a:pt x="17290" y="12356"/>
                  <a:pt x="17336" y="12414"/>
                </a:cubicBezTo>
                <a:cubicBezTo>
                  <a:pt x="17398" y="12492"/>
                  <a:pt x="17452" y="12540"/>
                  <a:pt x="17526" y="12605"/>
                </a:cubicBezTo>
                <a:cubicBezTo>
                  <a:pt x="17620" y="12687"/>
                  <a:pt x="17674" y="12807"/>
                  <a:pt x="17716" y="12922"/>
                </a:cubicBezTo>
                <a:cubicBezTo>
                  <a:pt x="17759" y="13039"/>
                  <a:pt x="17776" y="13179"/>
                  <a:pt x="17780" y="13303"/>
                </a:cubicBezTo>
                <a:cubicBezTo>
                  <a:pt x="17783" y="13398"/>
                  <a:pt x="17755" y="13536"/>
                  <a:pt x="17716" y="13621"/>
                </a:cubicBezTo>
                <a:cubicBezTo>
                  <a:pt x="17690" y="13678"/>
                  <a:pt x="17615" y="13702"/>
                  <a:pt x="17558" y="13684"/>
                </a:cubicBezTo>
                <a:cubicBezTo>
                  <a:pt x="17484" y="13661"/>
                  <a:pt x="17447" y="13519"/>
                  <a:pt x="17431" y="13462"/>
                </a:cubicBezTo>
                <a:cubicBezTo>
                  <a:pt x="17377" y="13276"/>
                  <a:pt x="17367" y="13114"/>
                  <a:pt x="17367" y="12922"/>
                </a:cubicBezTo>
                <a:cubicBezTo>
                  <a:pt x="17367" y="12732"/>
                  <a:pt x="17391" y="12536"/>
                  <a:pt x="17431" y="12351"/>
                </a:cubicBezTo>
                <a:cubicBezTo>
                  <a:pt x="17459" y="12221"/>
                  <a:pt x="17489" y="12019"/>
                  <a:pt x="17558" y="11906"/>
                </a:cubicBezTo>
                <a:cubicBezTo>
                  <a:pt x="17579" y="11885"/>
                  <a:pt x="17600" y="11864"/>
                  <a:pt x="17621" y="11843"/>
                </a:cubicBezTo>
              </a:path>
              <a:path w="5272" h="4256">
                <a:moveTo>
                  <a:pt x="18034" y="12192"/>
                </a:moveTo>
                <a:cubicBezTo>
                  <a:pt x="17945" y="12103"/>
                  <a:pt x="18120" y="12305"/>
                  <a:pt x="18129" y="12319"/>
                </a:cubicBezTo>
                <a:cubicBezTo>
                  <a:pt x="18205" y="12433"/>
                  <a:pt x="18275" y="12603"/>
                  <a:pt x="18320" y="12732"/>
                </a:cubicBezTo>
                <a:cubicBezTo>
                  <a:pt x="18401" y="12967"/>
                  <a:pt x="18493" y="13194"/>
                  <a:pt x="18574" y="13430"/>
                </a:cubicBezTo>
                <a:cubicBezTo>
                  <a:pt x="18635" y="13606"/>
                  <a:pt x="18675" y="13796"/>
                  <a:pt x="18732" y="13970"/>
                </a:cubicBezTo>
                <a:cubicBezTo>
                  <a:pt x="18732" y="13892"/>
                  <a:pt x="18732" y="13858"/>
                  <a:pt x="18732" y="13780"/>
                </a:cubicBezTo>
              </a:path>
              <a:path w="5272" h="4256">
                <a:moveTo>
                  <a:pt x="18606" y="11874"/>
                </a:moveTo>
                <a:cubicBezTo>
                  <a:pt x="18644" y="11939"/>
                  <a:pt x="18632" y="11970"/>
                  <a:pt x="18606" y="12097"/>
                </a:cubicBezTo>
                <a:cubicBezTo>
                  <a:pt x="18552" y="12362"/>
                  <a:pt x="18507" y="12629"/>
                  <a:pt x="18447" y="12890"/>
                </a:cubicBezTo>
                <a:cubicBezTo>
                  <a:pt x="18374" y="13205"/>
                  <a:pt x="18329" y="13528"/>
                  <a:pt x="18256" y="13843"/>
                </a:cubicBezTo>
                <a:cubicBezTo>
                  <a:pt x="18196" y="14053"/>
                  <a:pt x="18177" y="14115"/>
                  <a:pt x="18161" y="14256"/>
                </a:cubicBezTo>
              </a:path>
              <a:path w="5272" h="4256">
                <a:moveTo>
                  <a:pt x="19399" y="11398"/>
                </a:moveTo>
                <a:cubicBezTo>
                  <a:pt x="19385" y="11354"/>
                  <a:pt x="19355" y="11359"/>
                  <a:pt x="19336" y="11303"/>
                </a:cubicBezTo>
                <a:cubicBezTo>
                  <a:pt x="19320" y="11254"/>
                  <a:pt x="19308" y="11267"/>
                  <a:pt x="19272" y="11240"/>
                </a:cubicBezTo>
                <a:cubicBezTo>
                  <a:pt x="19256" y="11228"/>
                  <a:pt x="19171" y="11175"/>
                  <a:pt x="19145" y="11208"/>
                </a:cubicBezTo>
                <a:cubicBezTo>
                  <a:pt x="19118" y="11242"/>
                  <a:pt x="19129" y="11295"/>
                  <a:pt x="19114" y="11335"/>
                </a:cubicBezTo>
                <a:cubicBezTo>
                  <a:pt x="19087" y="11411"/>
                  <a:pt x="19082" y="11442"/>
                  <a:pt x="19082" y="11525"/>
                </a:cubicBezTo>
                <a:cubicBezTo>
                  <a:pt x="19082" y="11635"/>
                  <a:pt x="19084" y="11720"/>
                  <a:pt x="19114" y="11811"/>
                </a:cubicBezTo>
                <a:cubicBezTo>
                  <a:pt x="19114" y="11822"/>
                  <a:pt x="19114" y="11832"/>
                  <a:pt x="19114" y="11843"/>
                </a:cubicBezTo>
                <a:cubicBezTo>
                  <a:pt x="19182" y="11843"/>
                  <a:pt x="19191" y="11827"/>
                  <a:pt x="19240" y="11779"/>
                </a:cubicBezTo>
                <a:cubicBezTo>
                  <a:pt x="19311" y="11709"/>
                  <a:pt x="19301" y="11633"/>
                  <a:pt x="19336" y="11557"/>
                </a:cubicBezTo>
                <a:cubicBezTo>
                  <a:pt x="19356" y="11513"/>
                  <a:pt x="19378" y="11436"/>
                  <a:pt x="19399" y="11398"/>
                </a:cubicBezTo>
                <a:cubicBezTo>
                  <a:pt x="19433" y="11336"/>
                  <a:pt x="19446" y="11365"/>
                  <a:pt x="19399" y="11303"/>
                </a:cubicBezTo>
                <a:cubicBezTo>
                  <a:pt x="19409" y="11333"/>
                  <a:pt x="19411" y="11362"/>
                  <a:pt x="19431" y="11398"/>
                </a:cubicBezTo>
                <a:cubicBezTo>
                  <a:pt x="19471" y="11469"/>
                  <a:pt x="19463" y="11532"/>
                  <a:pt x="19463" y="11620"/>
                </a:cubicBezTo>
                <a:cubicBezTo>
                  <a:pt x="19463" y="11766"/>
                  <a:pt x="19465" y="11897"/>
                  <a:pt x="19431" y="12033"/>
                </a:cubicBezTo>
                <a:cubicBezTo>
                  <a:pt x="19418" y="12084"/>
                  <a:pt x="19352" y="12136"/>
                  <a:pt x="19399" y="12160"/>
                </a:cubicBezTo>
                <a:cubicBezTo>
                  <a:pt x="19410" y="12160"/>
                  <a:pt x="19420" y="12160"/>
                  <a:pt x="19431" y="12160"/>
                </a:cubicBezTo>
              </a:path>
              <a:path w="5272" h="4256">
                <a:moveTo>
                  <a:pt x="19812" y="12002"/>
                </a:moveTo>
                <a:cubicBezTo>
                  <a:pt x="19745" y="11957"/>
                  <a:pt x="19761" y="11910"/>
                  <a:pt x="19748" y="12002"/>
                </a:cubicBezTo>
                <a:cubicBezTo>
                  <a:pt x="19707" y="12288"/>
                  <a:pt x="19752" y="12609"/>
                  <a:pt x="19780" y="12890"/>
                </a:cubicBezTo>
                <a:cubicBezTo>
                  <a:pt x="19793" y="13020"/>
                  <a:pt x="19818" y="13116"/>
                  <a:pt x="19844" y="13240"/>
                </a:cubicBezTo>
                <a:cubicBezTo>
                  <a:pt x="19861" y="13319"/>
                  <a:pt x="19881" y="13327"/>
                  <a:pt x="19907" y="13367"/>
                </a:cubicBezTo>
                <a:cubicBezTo>
                  <a:pt x="19945" y="13362"/>
                  <a:pt x="19993" y="13359"/>
                  <a:pt x="20002" y="13335"/>
                </a:cubicBezTo>
                <a:cubicBezTo>
                  <a:pt x="20037" y="13244"/>
                  <a:pt x="20015" y="13151"/>
                  <a:pt x="20034" y="13049"/>
                </a:cubicBezTo>
                <a:cubicBezTo>
                  <a:pt x="20062" y="12898"/>
                  <a:pt x="20066" y="12761"/>
                  <a:pt x="20066" y="12605"/>
                </a:cubicBezTo>
                <a:cubicBezTo>
                  <a:pt x="20066" y="12471"/>
                  <a:pt x="20092" y="12355"/>
                  <a:pt x="20098" y="12224"/>
                </a:cubicBezTo>
                <a:cubicBezTo>
                  <a:pt x="20102" y="12132"/>
                  <a:pt x="20107" y="12078"/>
                  <a:pt x="20130" y="12033"/>
                </a:cubicBezTo>
                <a:cubicBezTo>
                  <a:pt x="20167" y="12108"/>
                  <a:pt x="20173" y="12171"/>
                  <a:pt x="20193" y="12256"/>
                </a:cubicBezTo>
                <a:cubicBezTo>
                  <a:pt x="20234" y="12434"/>
                  <a:pt x="20237" y="12584"/>
                  <a:pt x="20256" y="12764"/>
                </a:cubicBezTo>
                <a:cubicBezTo>
                  <a:pt x="20283" y="13020"/>
                  <a:pt x="20315" y="13268"/>
                  <a:pt x="20320" y="13526"/>
                </a:cubicBezTo>
                <a:cubicBezTo>
                  <a:pt x="20324" y="13761"/>
                  <a:pt x="20352" y="13987"/>
                  <a:pt x="20352" y="14224"/>
                </a:cubicBezTo>
                <a:cubicBezTo>
                  <a:pt x="20352" y="14426"/>
                  <a:pt x="20353" y="14630"/>
                  <a:pt x="20320" y="14827"/>
                </a:cubicBezTo>
                <a:cubicBezTo>
                  <a:pt x="20302" y="14935"/>
                  <a:pt x="20255" y="15114"/>
                  <a:pt x="20193" y="15208"/>
                </a:cubicBezTo>
                <a:cubicBezTo>
                  <a:pt x="20140" y="15261"/>
                  <a:pt x="20130" y="15272"/>
                  <a:pt x="20098" y="15304"/>
                </a:cubicBezTo>
                <a:cubicBezTo>
                  <a:pt x="20044" y="15290"/>
                  <a:pt x="20004" y="15306"/>
                  <a:pt x="19971" y="15240"/>
                </a:cubicBezTo>
                <a:cubicBezTo>
                  <a:pt x="19897" y="15092"/>
                  <a:pt x="19880" y="14892"/>
                  <a:pt x="19876" y="14732"/>
                </a:cubicBezTo>
                <a:cubicBezTo>
                  <a:pt x="19870" y="14463"/>
                  <a:pt x="19890" y="14203"/>
                  <a:pt x="19907" y="13938"/>
                </a:cubicBezTo>
                <a:cubicBezTo>
                  <a:pt x="19919" y="13758"/>
                  <a:pt x="19932" y="13537"/>
                  <a:pt x="20002" y="13367"/>
                </a:cubicBezTo>
                <a:cubicBezTo>
                  <a:pt x="20041" y="13271"/>
                  <a:pt x="20108" y="13139"/>
                  <a:pt x="20161" y="13049"/>
                </a:cubicBezTo>
                <a:cubicBezTo>
                  <a:pt x="20198" y="12986"/>
                  <a:pt x="20241" y="12956"/>
                  <a:pt x="20288" y="12922"/>
                </a:cubicBezTo>
              </a:path>
              <a:path w="5272" h="4256">
                <a:moveTo>
                  <a:pt x="20638" y="11208"/>
                </a:moveTo>
                <a:cubicBezTo>
                  <a:pt x="20638" y="11291"/>
                  <a:pt x="20666" y="11350"/>
                  <a:pt x="20669" y="11430"/>
                </a:cubicBezTo>
                <a:cubicBezTo>
                  <a:pt x="20678" y="11645"/>
                  <a:pt x="20671" y="11861"/>
                  <a:pt x="20638" y="12065"/>
                </a:cubicBezTo>
                <a:cubicBezTo>
                  <a:pt x="20632" y="12103"/>
                  <a:pt x="20638" y="12153"/>
                  <a:pt x="20638" y="12192"/>
                </a:cubicBezTo>
              </a:path>
              <a:path w="5272" h="4256">
                <a:moveTo>
                  <a:pt x="20892" y="11303"/>
                </a:moveTo>
                <a:cubicBezTo>
                  <a:pt x="20892" y="11405"/>
                  <a:pt x="20898" y="11491"/>
                  <a:pt x="20860" y="11589"/>
                </a:cubicBezTo>
                <a:cubicBezTo>
                  <a:pt x="20833" y="11658"/>
                  <a:pt x="20831" y="11721"/>
                  <a:pt x="20796" y="11779"/>
                </a:cubicBezTo>
                <a:cubicBezTo>
                  <a:pt x="20846" y="11767"/>
                  <a:pt x="20867" y="11748"/>
                  <a:pt x="20923" y="11748"/>
                </a:cubicBezTo>
                <a:cubicBezTo>
                  <a:pt x="20987" y="11748"/>
                  <a:pt x="20992" y="11766"/>
                  <a:pt x="21018" y="11779"/>
                </a:cubicBezTo>
                <a:cubicBezTo>
                  <a:pt x="21054" y="11779"/>
                  <a:pt x="21068" y="11782"/>
                  <a:pt x="21082" y="11811"/>
                </a:cubicBezTo>
                <a:cubicBezTo>
                  <a:pt x="21125" y="11797"/>
                  <a:pt x="21111" y="11794"/>
                  <a:pt x="21146" y="11748"/>
                </a:cubicBezTo>
              </a:path>
              <a:path w="5272" h="4256">
                <a:moveTo>
                  <a:pt x="21114" y="11049"/>
                </a:moveTo>
                <a:cubicBezTo>
                  <a:pt x="21114" y="11255"/>
                  <a:pt x="21110" y="11448"/>
                  <a:pt x="21082" y="11652"/>
                </a:cubicBezTo>
                <a:cubicBezTo>
                  <a:pt x="21047" y="11905"/>
                  <a:pt x="21030" y="12159"/>
                  <a:pt x="21018" y="12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Ink 12"/>
          <p:cNvSpPr/>
          <p:nvPr/>
        </p:nvSpPr>
        <p:spPr>
          <a:xfrm>
            <a:off x="6583320" y="925560"/>
            <a:ext cx="228600" cy="241200"/>
          </a:xfrm>
          <a:custGeom>
            <a:avLst/>
            <a:gdLst/>
            <a:ahLst/>
            <a:rect l="l" t="t" r="r" b="b"/>
            <a:pathLst>
              <a:path w="636" h="667">
                <a:moveTo>
                  <a:pt x="18288" y="3207"/>
                </a:moveTo>
                <a:cubicBezTo>
                  <a:pt x="18344" y="3248"/>
                  <a:pt x="18373" y="3238"/>
                  <a:pt x="18447" y="3238"/>
                </a:cubicBezTo>
                <a:cubicBezTo>
                  <a:pt x="18543" y="3238"/>
                  <a:pt x="18612" y="3222"/>
                  <a:pt x="18701" y="3207"/>
                </a:cubicBezTo>
                <a:cubicBezTo>
                  <a:pt x="18771" y="3196"/>
                  <a:pt x="18852" y="3207"/>
                  <a:pt x="18923" y="3207"/>
                </a:cubicBezTo>
              </a:path>
              <a:path w="636" h="667">
                <a:moveTo>
                  <a:pt x="18669" y="2572"/>
                </a:moveTo>
                <a:cubicBezTo>
                  <a:pt x="18669" y="2679"/>
                  <a:pt x="18641" y="2757"/>
                  <a:pt x="18637" y="2858"/>
                </a:cubicBezTo>
                <a:cubicBezTo>
                  <a:pt x="18633" y="2955"/>
                  <a:pt x="18638" y="2992"/>
                  <a:pt x="18606" y="3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OC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al 1.01a Ex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Laws of Expon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Ink 4"/>
          <p:cNvSpPr/>
          <p:nvPr/>
        </p:nvSpPr>
        <p:spPr>
          <a:xfrm>
            <a:off x="297000" y="1120680"/>
            <a:ext cx="823680" cy="411120"/>
          </a:xfrm>
          <a:custGeom>
            <a:avLst/>
            <a:gdLst/>
            <a:ahLst/>
            <a:rect l="l" t="t" r="r" b="b"/>
            <a:pathLst>
              <a:path w="2287" h="1143">
                <a:moveTo>
                  <a:pt x="952" y="3175"/>
                </a:moveTo>
                <a:cubicBezTo>
                  <a:pt x="1011" y="3175"/>
                  <a:pt x="1028" y="3149"/>
                  <a:pt x="1080" y="3143"/>
                </a:cubicBezTo>
                <a:cubicBezTo>
                  <a:pt x="1173" y="3132"/>
                  <a:pt x="1244" y="3132"/>
                  <a:pt x="1334" y="3112"/>
                </a:cubicBezTo>
                <a:cubicBezTo>
                  <a:pt x="1406" y="3096"/>
                  <a:pt x="1458" y="3137"/>
                  <a:pt x="1524" y="3143"/>
                </a:cubicBezTo>
                <a:cubicBezTo>
                  <a:pt x="1565" y="3147"/>
                  <a:pt x="1660" y="3141"/>
                  <a:pt x="1683" y="3175"/>
                </a:cubicBezTo>
                <a:cubicBezTo>
                  <a:pt x="1731" y="3248"/>
                  <a:pt x="1640" y="3287"/>
                  <a:pt x="1619" y="3334"/>
                </a:cubicBezTo>
                <a:cubicBezTo>
                  <a:pt x="1601" y="3374"/>
                  <a:pt x="1533" y="3489"/>
                  <a:pt x="1492" y="3524"/>
                </a:cubicBezTo>
                <a:cubicBezTo>
                  <a:pt x="1420" y="3586"/>
                  <a:pt x="1373" y="3685"/>
                  <a:pt x="1302" y="3746"/>
                </a:cubicBezTo>
                <a:cubicBezTo>
                  <a:pt x="1227" y="3811"/>
                  <a:pt x="1176" y="3859"/>
                  <a:pt x="1111" y="3937"/>
                </a:cubicBezTo>
                <a:cubicBezTo>
                  <a:pt x="1043" y="4019"/>
                  <a:pt x="917" y="4083"/>
                  <a:pt x="857" y="4159"/>
                </a:cubicBezTo>
                <a:cubicBezTo>
                  <a:pt x="857" y="4191"/>
                  <a:pt x="857" y="4201"/>
                  <a:pt x="826" y="4191"/>
                </a:cubicBezTo>
                <a:cubicBezTo>
                  <a:pt x="834" y="4167"/>
                  <a:pt x="881" y="4114"/>
                  <a:pt x="921" y="4096"/>
                </a:cubicBezTo>
                <a:cubicBezTo>
                  <a:pt x="952" y="4082"/>
                  <a:pt x="1017" y="4067"/>
                  <a:pt x="1048" y="4064"/>
                </a:cubicBezTo>
                <a:cubicBezTo>
                  <a:pt x="1124" y="4056"/>
                  <a:pt x="1149" y="4077"/>
                  <a:pt x="1206" y="4096"/>
                </a:cubicBezTo>
                <a:cubicBezTo>
                  <a:pt x="1249" y="4111"/>
                  <a:pt x="1326" y="4135"/>
                  <a:pt x="1365" y="4159"/>
                </a:cubicBezTo>
                <a:cubicBezTo>
                  <a:pt x="1409" y="4186"/>
                  <a:pt x="1439" y="4217"/>
                  <a:pt x="1492" y="4223"/>
                </a:cubicBezTo>
                <a:cubicBezTo>
                  <a:pt x="1545" y="4229"/>
                  <a:pt x="1571" y="4249"/>
                  <a:pt x="1619" y="4254"/>
                </a:cubicBezTo>
                <a:cubicBezTo>
                  <a:pt x="1630" y="4254"/>
                  <a:pt x="1640" y="4254"/>
                  <a:pt x="1651" y="4254"/>
                </a:cubicBezTo>
              </a:path>
              <a:path w="2287" h="1143">
                <a:moveTo>
                  <a:pt x="1746" y="3874"/>
                </a:moveTo>
                <a:cubicBezTo>
                  <a:pt x="1854" y="3874"/>
                  <a:pt x="1941" y="3872"/>
                  <a:pt x="2032" y="3842"/>
                </a:cubicBezTo>
                <a:cubicBezTo>
                  <a:pt x="2105" y="3818"/>
                  <a:pt x="2156" y="3786"/>
                  <a:pt x="2159" y="3715"/>
                </a:cubicBezTo>
                <a:cubicBezTo>
                  <a:pt x="2163" y="3634"/>
                  <a:pt x="2152" y="3566"/>
                  <a:pt x="2064" y="3556"/>
                </a:cubicBezTo>
                <a:cubicBezTo>
                  <a:pt x="1994" y="3548"/>
                  <a:pt x="1910" y="3631"/>
                  <a:pt x="1873" y="3683"/>
                </a:cubicBezTo>
                <a:cubicBezTo>
                  <a:pt x="1811" y="3771"/>
                  <a:pt x="1783" y="3827"/>
                  <a:pt x="1778" y="3937"/>
                </a:cubicBezTo>
                <a:cubicBezTo>
                  <a:pt x="1774" y="4015"/>
                  <a:pt x="1777" y="4103"/>
                  <a:pt x="1842" y="4159"/>
                </a:cubicBezTo>
                <a:cubicBezTo>
                  <a:pt x="1888" y="4199"/>
                  <a:pt x="1978" y="4218"/>
                  <a:pt x="2032" y="4223"/>
                </a:cubicBezTo>
                <a:cubicBezTo>
                  <a:pt x="2077" y="4223"/>
                  <a:pt x="2099" y="4217"/>
                  <a:pt x="2127" y="4191"/>
                </a:cubicBezTo>
              </a:path>
              <a:path w="2287" h="1143">
                <a:moveTo>
                  <a:pt x="2318" y="3620"/>
                </a:moveTo>
                <a:cubicBezTo>
                  <a:pt x="2318" y="3784"/>
                  <a:pt x="2314" y="3941"/>
                  <a:pt x="2350" y="4096"/>
                </a:cubicBezTo>
                <a:cubicBezTo>
                  <a:pt x="2350" y="4138"/>
                  <a:pt x="2350" y="4159"/>
                  <a:pt x="2350" y="4191"/>
                </a:cubicBezTo>
                <a:cubicBezTo>
                  <a:pt x="2350" y="4048"/>
                  <a:pt x="2358" y="3904"/>
                  <a:pt x="2381" y="3778"/>
                </a:cubicBezTo>
                <a:cubicBezTo>
                  <a:pt x="2390" y="3727"/>
                  <a:pt x="2415" y="3592"/>
                  <a:pt x="2445" y="3556"/>
                </a:cubicBezTo>
                <a:cubicBezTo>
                  <a:pt x="2465" y="3532"/>
                  <a:pt x="2535" y="3524"/>
                  <a:pt x="2572" y="3524"/>
                </a:cubicBezTo>
              </a:path>
              <a:path w="2287" h="1143">
                <a:moveTo>
                  <a:pt x="2921" y="3588"/>
                </a:moveTo>
                <a:cubicBezTo>
                  <a:pt x="2855" y="3538"/>
                  <a:pt x="2851" y="3564"/>
                  <a:pt x="2794" y="3620"/>
                </a:cubicBezTo>
                <a:cubicBezTo>
                  <a:pt x="2754" y="3659"/>
                  <a:pt x="2681" y="3726"/>
                  <a:pt x="2667" y="3778"/>
                </a:cubicBezTo>
                <a:cubicBezTo>
                  <a:pt x="2649" y="3844"/>
                  <a:pt x="2618" y="4006"/>
                  <a:pt x="2667" y="4064"/>
                </a:cubicBezTo>
                <a:cubicBezTo>
                  <a:pt x="2710" y="4115"/>
                  <a:pt x="2804" y="4185"/>
                  <a:pt x="2858" y="4191"/>
                </a:cubicBezTo>
                <a:cubicBezTo>
                  <a:pt x="2957" y="4203"/>
                  <a:pt x="2998" y="4180"/>
                  <a:pt x="3048" y="4096"/>
                </a:cubicBezTo>
                <a:cubicBezTo>
                  <a:pt x="3097" y="4013"/>
                  <a:pt x="3108" y="3874"/>
                  <a:pt x="3112" y="3778"/>
                </a:cubicBezTo>
                <a:cubicBezTo>
                  <a:pt x="3115" y="3699"/>
                  <a:pt x="3106" y="3626"/>
                  <a:pt x="3016" y="3620"/>
                </a:cubicBezTo>
                <a:cubicBezTo>
                  <a:pt x="2944" y="3615"/>
                  <a:pt x="2940" y="3614"/>
                  <a:pt x="2889" y="36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nk 5"/>
          <p:cNvSpPr/>
          <p:nvPr/>
        </p:nvSpPr>
        <p:spPr>
          <a:xfrm>
            <a:off x="1336680" y="1292400"/>
            <a:ext cx="766800" cy="274320"/>
          </a:xfrm>
          <a:custGeom>
            <a:avLst/>
            <a:gdLst/>
            <a:ahLst/>
            <a:rect l="l" t="t" r="r" b="b"/>
            <a:pathLst>
              <a:path w="2128" h="763">
                <a:moveTo>
                  <a:pt x="4096" y="3810"/>
                </a:moveTo>
                <a:cubicBezTo>
                  <a:pt x="4096" y="3799"/>
                  <a:pt x="4096" y="3789"/>
                  <a:pt x="4096" y="3778"/>
                </a:cubicBezTo>
              </a:path>
              <a:path w="2128" h="763">
                <a:moveTo>
                  <a:pt x="4064" y="3683"/>
                </a:moveTo>
                <a:cubicBezTo>
                  <a:pt x="4040" y="3665"/>
                  <a:pt x="3970" y="3606"/>
                  <a:pt x="3937" y="3620"/>
                </a:cubicBezTo>
                <a:cubicBezTo>
                  <a:pt x="3870" y="3649"/>
                  <a:pt x="3815" y="3717"/>
                  <a:pt x="3778" y="3778"/>
                </a:cubicBezTo>
                <a:cubicBezTo>
                  <a:pt x="3738" y="3844"/>
                  <a:pt x="3689" y="3952"/>
                  <a:pt x="3715" y="4032"/>
                </a:cubicBezTo>
                <a:cubicBezTo>
                  <a:pt x="3735" y="4094"/>
                  <a:pt x="3786" y="4141"/>
                  <a:pt x="3842" y="4159"/>
                </a:cubicBezTo>
                <a:cubicBezTo>
                  <a:pt x="3930" y="4187"/>
                  <a:pt x="3965" y="4079"/>
                  <a:pt x="4000" y="4032"/>
                </a:cubicBezTo>
                <a:cubicBezTo>
                  <a:pt x="4054" y="3959"/>
                  <a:pt x="4054" y="3880"/>
                  <a:pt x="4096" y="3810"/>
                </a:cubicBezTo>
                <a:cubicBezTo>
                  <a:pt x="4096" y="3732"/>
                  <a:pt x="4070" y="3957"/>
                  <a:pt x="4064" y="4000"/>
                </a:cubicBezTo>
                <a:cubicBezTo>
                  <a:pt x="4052" y="4081"/>
                  <a:pt x="4049" y="4140"/>
                  <a:pt x="4128" y="4159"/>
                </a:cubicBezTo>
              </a:path>
              <a:path w="2128" h="763">
                <a:moveTo>
                  <a:pt x="4540" y="3746"/>
                </a:moveTo>
                <a:cubicBezTo>
                  <a:pt x="4562" y="3669"/>
                  <a:pt x="4571" y="3649"/>
                  <a:pt x="4508" y="3620"/>
                </a:cubicBezTo>
                <a:cubicBezTo>
                  <a:pt x="4406" y="3573"/>
                  <a:pt x="4349" y="3614"/>
                  <a:pt x="4286" y="3683"/>
                </a:cubicBezTo>
                <a:cubicBezTo>
                  <a:pt x="4228" y="3746"/>
                  <a:pt x="4262" y="3745"/>
                  <a:pt x="4286" y="3778"/>
                </a:cubicBezTo>
                <a:cubicBezTo>
                  <a:pt x="4341" y="3854"/>
                  <a:pt x="4420" y="3870"/>
                  <a:pt x="4477" y="3937"/>
                </a:cubicBezTo>
                <a:cubicBezTo>
                  <a:pt x="4503" y="3968"/>
                  <a:pt x="4553" y="4091"/>
                  <a:pt x="4540" y="4128"/>
                </a:cubicBezTo>
                <a:cubicBezTo>
                  <a:pt x="4524" y="4174"/>
                  <a:pt x="4422" y="4216"/>
                  <a:pt x="4382" y="4223"/>
                </a:cubicBezTo>
                <a:cubicBezTo>
                  <a:pt x="4330" y="4232"/>
                  <a:pt x="4241" y="4224"/>
                  <a:pt x="4223" y="4159"/>
                </a:cubicBezTo>
                <a:cubicBezTo>
                  <a:pt x="4223" y="4138"/>
                  <a:pt x="4223" y="4117"/>
                  <a:pt x="4223" y="4096"/>
                </a:cubicBezTo>
              </a:path>
              <a:path w="2128" h="763">
                <a:moveTo>
                  <a:pt x="5144" y="3683"/>
                </a:moveTo>
                <a:cubicBezTo>
                  <a:pt x="5103" y="3669"/>
                  <a:pt x="5081" y="3644"/>
                  <a:pt x="5016" y="3683"/>
                </a:cubicBezTo>
                <a:cubicBezTo>
                  <a:pt x="4953" y="3721"/>
                  <a:pt x="4912" y="3843"/>
                  <a:pt x="4890" y="3905"/>
                </a:cubicBezTo>
                <a:cubicBezTo>
                  <a:pt x="4856" y="3999"/>
                  <a:pt x="4827" y="4111"/>
                  <a:pt x="4890" y="4191"/>
                </a:cubicBezTo>
                <a:cubicBezTo>
                  <a:pt x="4912" y="4219"/>
                  <a:pt x="4979" y="4244"/>
                  <a:pt x="5016" y="4223"/>
                </a:cubicBezTo>
                <a:cubicBezTo>
                  <a:pt x="5082" y="4186"/>
                  <a:pt x="5113" y="4095"/>
                  <a:pt x="5144" y="4032"/>
                </a:cubicBezTo>
                <a:cubicBezTo>
                  <a:pt x="5182" y="3955"/>
                  <a:pt x="5200" y="3875"/>
                  <a:pt x="5239" y="3810"/>
                </a:cubicBezTo>
                <a:cubicBezTo>
                  <a:pt x="5239" y="3723"/>
                  <a:pt x="5239" y="3947"/>
                  <a:pt x="5239" y="3969"/>
                </a:cubicBezTo>
                <a:cubicBezTo>
                  <a:pt x="5239" y="3990"/>
                  <a:pt x="5239" y="4011"/>
                  <a:pt x="5239" y="4032"/>
                </a:cubicBezTo>
              </a:path>
              <a:path w="2128" h="763">
                <a:moveTo>
                  <a:pt x="5398" y="3715"/>
                </a:moveTo>
                <a:cubicBezTo>
                  <a:pt x="5445" y="3731"/>
                  <a:pt x="5429" y="3754"/>
                  <a:pt x="5429" y="3810"/>
                </a:cubicBezTo>
                <a:cubicBezTo>
                  <a:pt x="5429" y="3916"/>
                  <a:pt x="5429" y="4022"/>
                  <a:pt x="5429" y="4128"/>
                </a:cubicBezTo>
                <a:cubicBezTo>
                  <a:pt x="5429" y="4025"/>
                  <a:pt x="5454" y="3939"/>
                  <a:pt x="5493" y="3842"/>
                </a:cubicBezTo>
                <a:cubicBezTo>
                  <a:pt x="5527" y="3758"/>
                  <a:pt x="5560" y="3682"/>
                  <a:pt x="5652" y="3651"/>
                </a:cubicBezTo>
                <a:cubicBezTo>
                  <a:pt x="5727" y="3626"/>
                  <a:pt x="5782" y="3708"/>
                  <a:pt x="5778" y="3778"/>
                </a:cubicBezTo>
                <a:cubicBezTo>
                  <a:pt x="5773" y="3864"/>
                  <a:pt x="5747" y="3990"/>
                  <a:pt x="5747" y="4096"/>
                </a:cubicBezTo>
                <a:cubicBezTo>
                  <a:pt x="5747" y="4169"/>
                  <a:pt x="5767" y="4264"/>
                  <a:pt x="5810" y="4318"/>
                </a:cubicBezTo>
                <a:cubicBezTo>
                  <a:pt x="5821" y="4329"/>
                  <a:pt x="5831" y="4339"/>
                  <a:pt x="5842" y="4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nk 6"/>
          <p:cNvSpPr/>
          <p:nvPr/>
        </p:nvSpPr>
        <p:spPr>
          <a:xfrm>
            <a:off x="835200" y="1577880"/>
            <a:ext cx="1554120" cy="457200"/>
          </a:xfrm>
          <a:custGeom>
            <a:avLst/>
            <a:gdLst/>
            <a:ahLst/>
            <a:rect l="l" t="t" r="r" b="b"/>
            <a:pathLst>
              <a:path w="4319" h="1271">
                <a:moveTo>
                  <a:pt x="2794" y="4636"/>
                </a:moveTo>
                <a:cubicBezTo>
                  <a:pt x="2836" y="4608"/>
                  <a:pt x="2849" y="4620"/>
                  <a:pt x="2826" y="4636"/>
                </a:cubicBezTo>
                <a:cubicBezTo>
                  <a:pt x="2766" y="4677"/>
                  <a:pt x="2727" y="4677"/>
                  <a:pt x="2667" y="4699"/>
                </a:cubicBezTo>
                <a:cubicBezTo>
                  <a:pt x="2566" y="4736"/>
                  <a:pt x="2560" y="4728"/>
                  <a:pt x="2476" y="4699"/>
                </a:cubicBezTo>
                <a:cubicBezTo>
                  <a:pt x="2434" y="4685"/>
                  <a:pt x="2391" y="4678"/>
                  <a:pt x="2350" y="4667"/>
                </a:cubicBezTo>
                <a:cubicBezTo>
                  <a:pt x="2376" y="4721"/>
                  <a:pt x="2420" y="4891"/>
                  <a:pt x="2413" y="4953"/>
                </a:cubicBezTo>
                <a:cubicBezTo>
                  <a:pt x="2404" y="5037"/>
                  <a:pt x="2381" y="5114"/>
                  <a:pt x="2381" y="5207"/>
                </a:cubicBezTo>
                <a:cubicBezTo>
                  <a:pt x="2381" y="5291"/>
                  <a:pt x="2358" y="5351"/>
                  <a:pt x="2350" y="5429"/>
                </a:cubicBezTo>
                <a:cubicBezTo>
                  <a:pt x="2350" y="5440"/>
                  <a:pt x="2350" y="5450"/>
                  <a:pt x="2350" y="5461"/>
                </a:cubicBezTo>
                <a:cubicBezTo>
                  <a:pt x="2421" y="5461"/>
                  <a:pt x="2451" y="5413"/>
                  <a:pt x="2508" y="5398"/>
                </a:cubicBezTo>
                <a:cubicBezTo>
                  <a:pt x="2612" y="5371"/>
                  <a:pt x="2672" y="5433"/>
                  <a:pt x="2762" y="5461"/>
                </a:cubicBezTo>
                <a:cubicBezTo>
                  <a:pt x="2818" y="5478"/>
                  <a:pt x="2873" y="5512"/>
                  <a:pt x="2921" y="5556"/>
                </a:cubicBezTo>
                <a:cubicBezTo>
                  <a:pt x="2973" y="5603"/>
                  <a:pt x="2933" y="5574"/>
                  <a:pt x="2984" y="5556"/>
                </a:cubicBezTo>
              </a:path>
              <a:path w="4319" h="1271">
                <a:moveTo>
                  <a:pt x="2318" y="5175"/>
                </a:moveTo>
                <a:cubicBezTo>
                  <a:pt x="2318" y="5165"/>
                  <a:pt x="2318" y="5154"/>
                  <a:pt x="2318" y="5144"/>
                </a:cubicBezTo>
                <a:cubicBezTo>
                  <a:pt x="2379" y="5129"/>
                  <a:pt x="2440" y="5091"/>
                  <a:pt x="2508" y="5080"/>
                </a:cubicBezTo>
                <a:cubicBezTo>
                  <a:pt x="2574" y="5080"/>
                  <a:pt x="2598" y="5079"/>
                  <a:pt x="2635" y="5048"/>
                </a:cubicBezTo>
              </a:path>
              <a:path w="4319" h="1271">
                <a:moveTo>
                  <a:pt x="3016" y="4921"/>
                </a:moveTo>
                <a:cubicBezTo>
                  <a:pt x="3027" y="4921"/>
                  <a:pt x="3037" y="4921"/>
                  <a:pt x="3048" y="4921"/>
                </a:cubicBezTo>
                <a:cubicBezTo>
                  <a:pt x="3059" y="4965"/>
                  <a:pt x="3115" y="5112"/>
                  <a:pt x="3143" y="5144"/>
                </a:cubicBezTo>
                <a:cubicBezTo>
                  <a:pt x="3196" y="5204"/>
                  <a:pt x="3266" y="5251"/>
                  <a:pt x="3334" y="5302"/>
                </a:cubicBezTo>
                <a:cubicBezTo>
                  <a:pt x="3363" y="5331"/>
                  <a:pt x="3369" y="5341"/>
                  <a:pt x="3397" y="5334"/>
                </a:cubicBezTo>
              </a:path>
              <a:path w="4319" h="1271">
                <a:moveTo>
                  <a:pt x="3461" y="4858"/>
                </a:moveTo>
                <a:cubicBezTo>
                  <a:pt x="3399" y="4919"/>
                  <a:pt x="3349" y="4976"/>
                  <a:pt x="3302" y="5048"/>
                </a:cubicBezTo>
                <a:cubicBezTo>
                  <a:pt x="3222" y="5170"/>
                  <a:pt x="3124" y="5275"/>
                  <a:pt x="3048" y="5398"/>
                </a:cubicBezTo>
                <a:cubicBezTo>
                  <a:pt x="3008" y="5462"/>
                  <a:pt x="2946" y="5505"/>
                  <a:pt x="2921" y="5556"/>
                </a:cubicBezTo>
              </a:path>
              <a:path w="4319" h="1271">
                <a:moveTo>
                  <a:pt x="3651" y="4953"/>
                </a:moveTo>
                <a:cubicBezTo>
                  <a:pt x="3710" y="5031"/>
                  <a:pt x="3663" y="5055"/>
                  <a:pt x="3651" y="5144"/>
                </a:cubicBezTo>
                <a:cubicBezTo>
                  <a:pt x="3637" y="5251"/>
                  <a:pt x="3606" y="5369"/>
                  <a:pt x="3588" y="5461"/>
                </a:cubicBezTo>
                <a:cubicBezTo>
                  <a:pt x="3575" y="5527"/>
                  <a:pt x="3564" y="5585"/>
                  <a:pt x="3556" y="5652"/>
                </a:cubicBezTo>
                <a:cubicBezTo>
                  <a:pt x="3556" y="5446"/>
                  <a:pt x="3563" y="5251"/>
                  <a:pt x="3588" y="5048"/>
                </a:cubicBezTo>
                <a:cubicBezTo>
                  <a:pt x="3599" y="4959"/>
                  <a:pt x="3621" y="4895"/>
                  <a:pt x="3683" y="4826"/>
                </a:cubicBezTo>
                <a:cubicBezTo>
                  <a:pt x="3741" y="4762"/>
                  <a:pt x="3815" y="4794"/>
                  <a:pt x="3874" y="4826"/>
                </a:cubicBezTo>
                <a:cubicBezTo>
                  <a:pt x="3970" y="4878"/>
                  <a:pt x="3996" y="4969"/>
                  <a:pt x="3969" y="5080"/>
                </a:cubicBezTo>
                <a:cubicBezTo>
                  <a:pt x="3947" y="5173"/>
                  <a:pt x="3892" y="5280"/>
                  <a:pt x="3810" y="5334"/>
                </a:cubicBezTo>
                <a:cubicBezTo>
                  <a:pt x="3784" y="5351"/>
                  <a:pt x="3653" y="5455"/>
                  <a:pt x="3620" y="5429"/>
                </a:cubicBezTo>
                <a:cubicBezTo>
                  <a:pt x="3620" y="5419"/>
                  <a:pt x="3620" y="5408"/>
                  <a:pt x="3620" y="5398"/>
                </a:cubicBezTo>
              </a:path>
              <a:path w="4319" h="1271">
                <a:moveTo>
                  <a:pt x="4254" y="4953"/>
                </a:moveTo>
                <a:cubicBezTo>
                  <a:pt x="4325" y="4953"/>
                  <a:pt x="4184" y="4986"/>
                  <a:pt x="4159" y="5016"/>
                </a:cubicBezTo>
                <a:cubicBezTo>
                  <a:pt x="4097" y="5089"/>
                  <a:pt x="4069" y="5211"/>
                  <a:pt x="4064" y="5302"/>
                </a:cubicBezTo>
                <a:cubicBezTo>
                  <a:pt x="4060" y="5371"/>
                  <a:pt x="4088" y="5421"/>
                  <a:pt x="4159" y="5429"/>
                </a:cubicBezTo>
                <a:cubicBezTo>
                  <a:pt x="4270" y="5441"/>
                  <a:pt x="4260" y="5412"/>
                  <a:pt x="4318" y="5334"/>
                </a:cubicBezTo>
                <a:cubicBezTo>
                  <a:pt x="4374" y="5260"/>
                  <a:pt x="4378" y="5114"/>
                  <a:pt x="4382" y="5016"/>
                </a:cubicBezTo>
                <a:cubicBezTo>
                  <a:pt x="4385" y="4955"/>
                  <a:pt x="4402" y="4915"/>
                  <a:pt x="4413" y="4858"/>
                </a:cubicBezTo>
                <a:cubicBezTo>
                  <a:pt x="4441" y="4867"/>
                  <a:pt x="4496" y="4940"/>
                  <a:pt x="4508" y="4985"/>
                </a:cubicBezTo>
                <a:cubicBezTo>
                  <a:pt x="4535" y="5087"/>
                  <a:pt x="4540" y="5194"/>
                  <a:pt x="4540" y="5302"/>
                </a:cubicBezTo>
                <a:cubicBezTo>
                  <a:pt x="4540" y="5348"/>
                  <a:pt x="4517" y="5385"/>
                  <a:pt x="4508" y="5429"/>
                </a:cubicBezTo>
                <a:cubicBezTo>
                  <a:pt x="4522" y="5322"/>
                  <a:pt x="4540" y="5218"/>
                  <a:pt x="4572" y="5112"/>
                </a:cubicBezTo>
                <a:cubicBezTo>
                  <a:pt x="4598" y="5024"/>
                  <a:pt x="4674" y="4902"/>
                  <a:pt x="4762" y="4858"/>
                </a:cubicBezTo>
                <a:cubicBezTo>
                  <a:pt x="4794" y="4858"/>
                  <a:pt x="4805" y="4858"/>
                  <a:pt x="4826" y="4858"/>
                </a:cubicBezTo>
                <a:cubicBezTo>
                  <a:pt x="4851" y="4958"/>
                  <a:pt x="4843" y="4962"/>
                  <a:pt x="4826" y="5080"/>
                </a:cubicBezTo>
                <a:cubicBezTo>
                  <a:pt x="4814" y="5161"/>
                  <a:pt x="4815" y="5264"/>
                  <a:pt x="4858" y="5334"/>
                </a:cubicBezTo>
                <a:cubicBezTo>
                  <a:pt x="4882" y="5372"/>
                  <a:pt x="4976" y="5383"/>
                  <a:pt x="5016" y="5366"/>
                </a:cubicBezTo>
                <a:cubicBezTo>
                  <a:pt x="5095" y="5333"/>
                  <a:pt x="5172" y="5254"/>
                  <a:pt x="5207" y="5175"/>
                </a:cubicBezTo>
                <a:cubicBezTo>
                  <a:pt x="5223" y="5139"/>
                  <a:pt x="5318" y="4961"/>
                  <a:pt x="5302" y="4921"/>
                </a:cubicBezTo>
                <a:cubicBezTo>
                  <a:pt x="5291" y="4911"/>
                  <a:pt x="5281" y="4900"/>
                  <a:pt x="5270" y="4890"/>
                </a:cubicBezTo>
                <a:cubicBezTo>
                  <a:pt x="5204" y="4906"/>
                  <a:pt x="5160" y="4977"/>
                  <a:pt x="5144" y="5048"/>
                </a:cubicBezTo>
                <a:cubicBezTo>
                  <a:pt x="5126" y="5129"/>
                  <a:pt x="5090" y="5202"/>
                  <a:pt x="5144" y="5270"/>
                </a:cubicBezTo>
                <a:cubicBezTo>
                  <a:pt x="5188" y="5326"/>
                  <a:pt x="5225" y="5305"/>
                  <a:pt x="5270" y="5270"/>
                </a:cubicBezTo>
              </a:path>
              <a:path w="4319" h="1271">
                <a:moveTo>
                  <a:pt x="5524" y="4794"/>
                </a:moveTo>
                <a:cubicBezTo>
                  <a:pt x="5485" y="4848"/>
                  <a:pt x="5471" y="4947"/>
                  <a:pt x="5461" y="5016"/>
                </a:cubicBezTo>
                <a:cubicBezTo>
                  <a:pt x="5446" y="5117"/>
                  <a:pt x="5461" y="5232"/>
                  <a:pt x="5461" y="5334"/>
                </a:cubicBezTo>
                <a:cubicBezTo>
                  <a:pt x="5461" y="5230"/>
                  <a:pt x="5491" y="5147"/>
                  <a:pt x="5524" y="5048"/>
                </a:cubicBezTo>
                <a:cubicBezTo>
                  <a:pt x="5535" y="5016"/>
                  <a:pt x="5545" y="4985"/>
                  <a:pt x="5556" y="4953"/>
                </a:cubicBezTo>
              </a:path>
              <a:path w="4319" h="1271">
                <a:moveTo>
                  <a:pt x="5683" y="4762"/>
                </a:moveTo>
                <a:cubicBezTo>
                  <a:pt x="5744" y="4762"/>
                  <a:pt x="5757" y="4749"/>
                  <a:pt x="5778" y="4794"/>
                </a:cubicBezTo>
                <a:cubicBezTo>
                  <a:pt x="5822" y="4889"/>
                  <a:pt x="5810" y="4975"/>
                  <a:pt x="5810" y="5080"/>
                </a:cubicBezTo>
                <a:cubicBezTo>
                  <a:pt x="5810" y="5169"/>
                  <a:pt x="5787" y="5266"/>
                  <a:pt x="5842" y="5334"/>
                </a:cubicBezTo>
                <a:cubicBezTo>
                  <a:pt x="5873" y="5372"/>
                  <a:pt x="5914" y="5418"/>
                  <a:pt x="5969" y="5398"/>
                </a:cubicBezTo>
                <a:cubicBezTo>
                  <a:pt x="6024" y="5370"/>
                  <a:pt x="6039" y="5365"/>
                  <a:pt x="6064" y="5334"/>
                </a:cubicBezTo>
              </a:path>
              <a:path w="4319" h="1271">
                <a:moveTo>
                  <a:pt x="5906" y="4858"/>
                </a:moveTo>
                <a:cubicBezTo>
                  <a:pt x="6012" y="4858"/>
                  <a:pt x="6093" y="4843"/>
                  <a:pt x="6191" y="4826"/>
                </a:cubicBezTo>
                <a:cubicBezTo>
                  <a:pt x="6244" y="4826"/>
                  <a:pt x="6254" y="4826"/>
                  <a:pt x="6286" y="4826"/>
                </a:cubicBezTo>
              </a:path>
              <a:path w="4319" h="1271">
                <a:moveTo>
                  <a:pt x="6191" y="4382"/>
                </a:moveTo>
                <a:cubicBezTo>
                  <a:pt x="6150" y="4465"/>
                  <a:pt x="6133" y="4567"/>
                  <a:pt x="6128" y="4667"/>
                </a:cubicBezTo>
                <a:cubicBezTo>
                  <a:pt x="6122" y="4787"/>
                  <a:pt x="6080" y="4899"/>
                  <a:pt x="6064" y="5016"/>
                </a:cubicBezTo>
                <a:cubicBezTo>
                  <a:pt x="6054" y="5088"/>
                  <a:pt x="6003" y="5195"/>
                  <a:pt x="6032" y="5270"/>
                </a:cubicBezTo>
                <a:cubicBezTo>
                  <a:pt x="6050" y="5315"/>
                  <a:pt x="6078" y="5360"/>
                  <a:pt x="6128" y="5366"/>
                </a:cubicBezTo>
                <a:cubicBezTo>
                  <a:pt x="6167" y="5370"/>
                  <a:pt x="6210" y="5423"/>
                  <a:pt x="6255" y="5398"/>
                </a:cubicBezTo>
                <a:cubicBezTo>
                  <a:pt x="6304" y="5370"/>
                  <a:pt x="6291" y="5366"/>
                  <a:pt x="6350" y="5366"/>
                </a:cubicBezTo>
              </a:path>
              <a:path w="4319" h="1271">
                <a:moveTo>
                  <a:pt x="6572" y="4731"/>
                </a:moveTo>
                <a:lnTo>
                  <a:pt x="6572" y="4731"/>
                </a:lnTo>
              </a:path>
              <a:path w="4319" h="1271">
                <a:moveTo>
                  <a:pt x="6636" y="5016"/>
                </a:moveTo>
                <a:lnTo>
                  <a:pt x="6636" y="501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Ink 7"/>
          <p:cNvSpPr/>
          <p:nvPr/>
        </p:nvSpPr>
        <p:spPr>
          <a:xfrm>
            <a:off x="2754360" y="1154160"/>
            <a:ext cx="2035080" cy="743040"/>
          </a:xfrm>
          <a:custGeom>
            <a:avLst/>
            <a:gdLst/>
            <a:ahLst/>
            <a:rect l="l" t="t" r="r" b="b"/>
            <a:pathLst>
              <a:path w="5652" h="2064">
                <a:moveTo>
                  <a:pt x="7810" y="3461"/>
                </a:moveTo>
                <a:lnTo>
                  <a:pt x="7810" y="3461"/>
                </a:lnTo>
              </a:path>
              <a:path w="5652" h="2064">
                <a:moveTo>
                  <a:pt x="7810" y="3461"/>
                </a:moveTo>
                <a:cubicBezTo>
                  <a:pt x="7810" y="3471"/>
                  <a:pt x="7810" y="3482"/>
                  <a:pt x="7810" y="3492"/>
                </a:cubicBezTo>
              </a:path>
              <a:path w="5652" h="2064">
                <a:moveTo>
                  <a:pt x="7810" y="3492"/>
                </a:moveTo>
                <a:cubicBezTo>
                  <a:pt x="7859" y="3589"/>
                  <a:pt x="7818" y="3641"/>
                  <a:pt x="7810" y="3746"/>
                </a:cubicBezTo>
                <a:cubicBezTo>
                  <a:pt x="7804" y="3820"/>
                  <a:pt x="7802" y="3900"/>
                  <a:pt x="7779" y="3969"/>
                </a:cubicBezTo>
                <a:cubicBezTo>
                  <a:pt x="7761" y="4024"/>
                  <a:pt x="7705" y="4110"/>
                  <a:pt x="7684" y="4128"/>
                </a:cubicBezTo>
                <a:cubicBezTo>
                  <a:pt x="7673" y="4138"/>
                  <a:pt x="7663" y="4149"/>
                  <a:pt x="7652" y="4159"/>
                </a:cubicBezTo>
                <a:cubicBezTo>
                  <a:pt x="7697" y="4081"/>
                  <a:pt x="7718" y="4073"/>
                  <a:pt x="7779" y="4032"/>
                </a:cubicBezTo>
                <a:cubicBezTo>
                  <a:pt x="7830" y="3997"/>
                  <a:pt x="7852" y="3996"/>
                  <a:pt x="7906" y="4032"/>
                </a:cubicBezTo>
                <a:cubicBezTo>
                  <a:pt x="7948" y="4060"/>
                  <a:pt x="7981" y="4090"/>
                  <a:pt x="8033" y="4096"/>
                </a:cubicBezTo>
                <a:cubicBezTo>
                  <a:pt x="8092" y="4103"/>
                  <a:pt x="8100" y="4148"/>
                  <a:pt x="8128" y="4064"/>
                </a:cubicBezTo>
                <a:cubicBezTo>
                  <a:pt x="8128" y="4053"/>
                  <a:pt x="8128" y="4043"/>
                  <a:pt x="8128" y="4032"/>
                </a:cubicBezTo>
              </a:path>
              <a:path w="5652" h="2064">
                <a:moveTo>
                  <a:pt x="8223" y="3397"/>
                </a:moveTo>
                <a:cubicBezTo>
                  <a:pt x="8207" y="3493"/>
                  <a:pt x="8189" y="3589"/>
                  <a:pt x="8160" y="3683"/>
                </a:cubicBezTo>
                <a:cubicBezTo>
                  <a:pt x="8120" y="3812"/>
                  <a:pt x="8079" y="3929"/>
                  <a:pt x="8064" y="4064"/>
                </a:cubicBezTo>
                <a:cubicBezTo>
                  <a:pt x="8050" y="4194"/>
                  <a:pt x="8033" y="4312"/>
                  <a:pt x="8033" y="4445"/>
                </a:cubicBezTo>
                <a:cubicBezTo>
                  <a:pt x="8033" y="4519"/>
                  <a:pt x="8033" y="4593"/>
                  <a:pt x="8033" y="4667"/>
                </a:cubicBezTo>
              </a:path>
              <a:path w="5652" h="2064">
                <a:moveTo>
                  <a:pt x="8446" y="3874"/>
                </a:moveTo>
                <a:cubicBezTo>
                  <a:pt x="8463" y="3960"/>
                  <a:pt x="8503" y="4047"/>
                  <a:pt x="8541" y="4128"/>
                </a:cubicBezTo>
                <a:cubicBezTo>
                  <a:pt x="8587" y="4226"/>
                  <a:pt x="8643" y="4295"/>
                  <a:pt x="8700" y="4382"/>
                </a:cubicBezTo>
                <a:cubicBezTo>
                  <a:pt x="8746" y="4451"/>
                  <a:pt x="8767" y="4512"/>
                  <a:pt x="8826" y="4572"/>
                </a:cubicBezTo>
                <a:cubicBezTo>
                  <a:pt x="8829" y="4575"/>
                  <a:pt x="8932" y="4689"/>
                  <a:pt x="8890" y="4604"/>
                </a:cubicBezTo>
                <a:cubicBezTo>
                  <a:pt x="8879" y="4593"/>
                  <a:pt x="8869" y="4583"/>
                  <a:pt x="8858" y="4572"/>
                </a:cubicBezTo>
              </a:path>
              <a:path w="5652" h="2064">
                <a:moveTo>
                  <a:pt x="8763" y="3778"/>
                </a:moveTo>
                <a:cubicBezTo>
                  <a:pt x="8748" y="3897"/>
                  <a:pt x="8679" y="3981"/>
                  <a:pt x="8636" y="4096"/>
                </a:cubicBezTo>
                <a:cubicBezTo>
                  <a:pt x="8587" y="4228"/>
                  <a:pt x="8525" y="4346"/>
                  <a:pt x="8477" y="4477"/>
                </a:cubicBezTo>
                <a:cubicBezTo>
                  <a:pt x="8445" y="4563"/>
                  <a:pt x="8418" y="4685"/>
                  <a:pt x="8382" y="4762"/>
                </a:cubicBezTo>
                <a:cubicBezTo>
                  <a:pt x="8350" y="4794"/>
                  <a:pt x="8339" y="4805"/>
                  <a:pt x="8318" y="4826"/>
                </a:cubicBezTo>
              </a:path>
              <a:path w="5652" h="2064">
                <a:moveTo>
                  <a:pt x="9208" y="3397"/>
                </a:moveTo>
                <a:cubicBezTo>
                  <a:pt x="9164" y="3451"/>
                  <a:pt x="9103" y="3520"/>
                  <a:pt x="9080" y="3588"/>
                </a:cubicBezTo>
                <a:cubicBezTo>
                  <a:pt x="9060" y="3647"/>
                  <a:pt x="9046" y="3695"/>
                  <a:pt x="9080" y="3746"/>
                </a:cubicBezTo>
                <a:cubicBezTo>
                  <a:pt x="9112" y="3793"/>
                  <a:pt x="9159" y="3778"/>
                  <a:pt x="9208" y="3778"/>
                </a:cubicBezTo>
                <a:cubicBezTo>
                  <a:pt x="9323" y="3778"/>
                  <a:pt x="9304" y="3734"/>
                  <a:pt x="9334" y="3651"/>
                </a:cubicBezTo>
                <a:cubicBezTo>
                  <a:pt x="9353" y="3598"/>
                  <a:pt x="9359" y="3496"/>
                  <a:pt x="9334" y="3429"/>
                </a:cubicBezTo>
                <a:cubicBezTo>
                  <a:pt x="9315" y="3379"/>
                  <a:pt x="9248" y="3397"/>
                  <a:pt x="9208" y="3397"/>
                </a:cubicBezTo>
                <a:cubicBezTo>
                  <a:pt x="9197" y="3397"/>
                  <a:pt x="9187" y="3397"/>
                  <a:pt x="9176" y="3397"/>
                </a:cubicBezTo>
              </a:path>
              <a:path w="5652" h="2064">
                <a:moveTo>
                  <a:pt x="9525" y="4191"/>
                </a:moveTo>
                <a:cubicBezTo>
                  <a:pt x="9602" y="4191"/>
                  <a:pt x="9652" y="4178"/>
                  <a:pt x="9716" y="4159"/>
                </a:cubicBezTo>
                <a:cubicBezTo>
                  <a:pt x="9784" y="4138"/>
                  <a:pt x="9897" y="4159"/>
                  <a:pt x="9970" y="4159"/>
                </a:cubicBezTo>
                <a:cubicBezTo>
                  <a:pt x="9970" y="4191"/>
                  <a:pt x="9970" y="4201"/>
                  <a:pt x="10001" y="4191"/>
                </a:cubicBezTo>
              </a:path>
              <a:path w="5652" h="2064">
                <a:moveTo>
                  <a:pt x="9652" y="4508"/>
                </a:moveTo>
                <a:cubicBezTo>
                  <a:pt x="9652" y="4519"/>
                  <a:pt x="9652" y="4529"/>
                  <a:pt x="9652" y="4540"/>
                </a:cubicBezTo>
                <a:cubicBezTo>
                  <a:pt x="9740" y="4540"/>
                  <a:pt x="9791" y="4529"/>
                  <a:pt x="9874" y="4508"/>
                </a:cubicBezTo>
                <a:cubicBezTo>
                  <a:pt x="9922" y="4496"/>
                  <a:pt x="9978" y="4540"/>
                  <a:pt x="10033" y="4540"/>
                </a:cubicBezTo>
                <a:cubicBezTo>
                  <a:pt x="10044" y="4540"/>
                  <a:pt x="10054" y="4540"/>
                  <a:pt x="10065" y="4540"/>
                </a:cubicBezTo>
              </a:path>
              <a:path w="5652" h="2064">
                <a:moveTo>
                  <a:pt x="10541" y="3556"/>
                </a:moveTo>
                <a:cubicBezTo>
                  <a:pt x="10541" y="3647"/>
                  <a:pt x="10515" y="3722"/>
                  <a:pt x="10509" y="3810"/>
                </a:cubicBezTo>
                <a:cubicBezTo>
                  <a:pt x="10504" y="3892"/>
                  <a:pt x="10491" y="3965"/>
                  <a:pt x="10478" y="4032"/>
                </a:cubicBezTo>
                <a:cubicBezTo>
                  <a:pt x="10463" y="4107"/>
                  <a:pt x="10468" y="4159"/>
                  <a:pt x="10446" y="4223"/>
                </a:cubicBezTo>
                <a:cubicBezTo>
                  <a:pt x="10434" y="4259"/>
                  <a:pt x="10432" y="4321"/>
                  <a:pt x="10446" y="4286"/>
                </a:cubicBezTo>
                <a:cubicBezTo>
                  <a:pt x="10465" y="4239"/>
                  <a:pt x="10482" y="4254"/>
                  <a:pt x="10541" y="4254"/>
                </a:cubicBezTo>
                <a:cubicBezTo>
                  <a:pt x="10610" y="4254"/>
                  <a:pt x="10650" y="4241"/>
                  <a:pt x="10700" y="4286"/>
                </a:cubicBezTo>
                <a:cubicBezTo>
                  <a:pt x="10744" y="4325"/>
                  <a:pt x="10781" y="4336"/>
                  <a:pt x="10827" y="4382"/>
                </a:cubicBezTo>
                <a:cubicBezTo>
                  <a:pt x="10847" y="4375"/>
                  <a:pt x="10905" y="4352"/>
                  <a:pt x="10922" y="4318"/>
                </a:cubicBezTo>
                <a:cubicBezTo>
                  <a:pt x="10943" y="4276"/>
                  <a:pt x="10926" y="4237"/>
                  <a:pt x="10954" y="4191"/>
                </a:cubicBezTo>
              </a:path>
              <a:path w="5652" h="2064">
                <a:moveTo>
                  <a:pt x="10827" y="3429"/>
                </a:moveTo>
                <a:cubicBezTo>
                  <a:pt x="10878" y="3464"/>
                  <a:pt x="10858" y="3570"/>
                  <a:pt x="10858" y="3651"/>
                </a:cubicBezTo>
                <a:cubicBezTo>
                  <a:pt x="10858" y="3929"/>
                  <a:pt x="10850" y="4205"/>
                  <a:pt x="10827" y="4477"/>
                </a:cubicBezTo>
                <a:cubicBezTo>
                  <a:pt x="10814" y="4633"/>
                  <a:pt x="10827" y="4796"/>
                  <a:pt x="10827" y="4953"/>
                </a:cubicBezTo>
              </a:path>
              <a:path w="5652" h="2064">
                <a:moveTo>
                  <a:pt x="11430" y="3207"/>
                </a:moveTo>
                <a:cubicBezTo>
                  <a:pt x="11370" y="3266"/>
                  <a:pt x="11341" y="3321"/>
                  <a:pt x="11303" y="3397"/>
                </a:cubicBezTo>
                <a:cubicBezTo>
                  <a:pt x="11243" y="3516"/>
                  <a:pt x="11172" y="3626"/>
                  <a:pt x="11112" y="3746"/>
                </a:cubicBezTo>
                <a:cubicBezTo>
                  <a:pt x="11048" y="3874"/>
                  <a:pt x="11041" y="3993"/>
                  <a:pt x="11017" y="4128"/>
                </a:cubicBezTo>
                <a:cubicBezTo>
                  <a:pt x="10988" y="4291"/>
                  <a:pt x="11000" y="4382"/>
                  <a:pt x="11017" y="4540"/>
                </a:cubicBezTo>
                <a:cubicBezTo>
                  <a:pt x="11030" y="4657"/>
                  <a:pt x="11013" y="4778"/>
                  <a:pt x="11049" y="4890"/>
                </a:cubicBezTo>
                <a:cubicBezTo>
                  <a:pt x="11069" y="4952"/>
                  <a:pt x="11078" y="5104"/>
                  <a:pt x="11112" y="5048"/>
                </a:cubicBezTo>
                <a:cubicBezTo>
                  <a:pt x="11112" y="5016"/>
                  <a:pt x="11112" y="5006"/>
                  <a:pt x="11112" y="4985"/>
                </a:cubicBezTo>
              </a:path>
              <a:path w="5652" h="2064">
                <a:moveTo>
                  <a:pt x="11335" y="3842"/>
                </a:moveTo>
                <a:cubicBezTo>
                  <a:pt x="11335" y="4006"/>
                  <a:pt x="11349" y="4159"/>
                  <a:pt x="11366" y="4318"/>
                </a:cubicBezTo>
                <a:cubicBezTo>
                  <a:pt x="11378" y="4426"/>
                  <a:pt x="11392" y="4532"/>
                  <a:pt x="11398" y="4636"/>
                </a:cubicBezTo>
                <a:cubicBezTo>
                  <a:pt x="11398" y="4699"/>
                  <a:pt x="11398" y="4720"/>
                  <a:pt x="11398" y="4762"/>
                </a:cubicBezTo>
              </a:path>
              <a:path w="5652" h="2064">
                <a:moveTo>
                  <a:pt x="11589" y="3397"/>
                </a:moveTo>
                <a:cubicBezTo>
                  <a:pt x="11543" y="3397"/>
                  <a:pt x="11607" y="3415"/>
                  <a:pt x="11620" y="3492"/>
                </a:cubicBezTo>
                <a:cubicBezTo>
                  <a:pt x="11643" y="3625"/>
                  <a:pt x="11708" y="3713"/>
                  <a:pt x="11748" y="3842"/>
                </a:cubicBezTo>
                <a:cubicBezTo>
                  <a:pt x="11794" y="3992"/>
                  <a:pt x="11854" y="4162"/>
                  <a:pt x="11874" y="4318"/>
                </a:cubicBezTo>
                <a:cubicBezTo>
                  <a:pt x="11894" y="4477"/>
                  <a:pt x="11888" y="4674"/>
                  <a:pt x="11843" y="4826"/>
                </a:cubicBezTo>
                <a:cubicBezTo>
                  <a:pt x="11813" y="4928"/>
                  <a:pt x="11766" y="4984"/>
                  <a:pt x="11716" y="5048"/>
                </a:cubicBezTo>
                <a:cubicBezTo>
                  <a:pt x="11676" y="5099"/>
                  <a:pt x="11666" y="5089"/>
                  <a:pt x="11652" y="5048"/>
                </a:cubicBezTo>
              </a:path>
              <a:path w="5652" h="2064">
                <a:moveTo>
                  <a:pt x="12128" y="4096"/>
                </a:moveTo>
                <a:cubicBezTo>
                  <a:pt x="12174" y="4050"/>
                  <a:pt x="12209" y="4035"/>
                  <a:pt x="12256" y="4000"/>
                </a:cubicBezTo>
                <a:cubicBezTo>
                  <a:pt x="12311" y="4034"/>
                  <a:pt x="12347" y="4032"/>
                  <a:pt x="12414" y="4032"/>
                </a:cubicBezTo>
                <a:cubicBezTo>
                  <a:pt x="12435" y="4032"/>
                  <a:pt x="12457" y="4032"/>
                  <a:pt x="12478" y="4032"/>
                </a:cubicBezTo>
              </a:path>
              <a:path w="5652" h="2064">
                <a:moveTo>
                  <a:pt x="12256" y="4508"/>
                </a:moveTo>
                <a:cubicBezTo>
                  <a:pt x="12284" y="4529"/>
                  <a:pt x="12339" y="4564"/>
                  <a:pt x="12382" y="4540"/>
                </a:cubicBezTo>
                <a:cubicBezTo>
                  <a:pt x="12393" y="4529"/>
                  <a:pt x="12403" y="4519"/>
                  <a:pt x="12414" y="4508"/>
                </a:cubicBezTo>
              </a:path>
              <a:path w="5652" h="2064">
                <a:moveTo>
                  <a:pt x="12827" y="3492"/>
                </a:moveTo>
                <a:cubicBezTo>
                  <a:pt x="12764" y="3513"/>
                  <a:pt x="12795" y="3609"/>
                  <a:pt x="12795" y="3683"/>
                </a:cubicBezTo>
                <a:cubicBezTo>
                  <a:pt x="12795" y="3785"/>
                  <a:pt x="12777" y="3870"/>
                  <a:pt x="12764" y="3969"/>
                </a:cubicBezTo>
                <a:cubicBezTo>
                  <a:pt x="12748" y="4086"/>
                  <a:pt x="12717" y="4202"/>
                  <a:pt x="12700" y="4318"/>
                </a:cubicBezTo>
                <a:cubicBezTo>
                  <a:pt x="12689" y="4395"/>
                  <a:pt x="12653" y="4409"/>
                  <a:pt x="12636" y="4477"/>
                </a:cubicBezTo>
                <a:cubicBezTo>
                  <a:pt x="12650" y="4436"/>
                  <a:pt x="12694" y="4411"/>
                  <a:pt x="12732" y="4382"/>
                </a:cubicBezTo>
                <a:cubicBezTo>
                  <a:pt x="12798" y="4331"/>
                  <a:pt x="12799" y="4318"/>
                  <a:pt x="12890" y="4318"/>
                </a:cubicBezTo>
                <a:cubicBezTo>
                  <a:pt x="12963" y="4318"/>
                  <a:pt x="13236" y="4359"/>
                  <a:pt x="13272" y="4286"/>
                </a:cubicBezTo>
                <a:cubicBezTo>
                  <a:pt x="13272" y="4241"/>
                  <a:pt x="13278" y="4219"/>
                  <a:pt x="13303" y="4191"/>
                </a:cubicBezTo>
              </a:path>
              <a:path w="5652" h="2064">
                <a:moveTo>
                  <a:pt x="13144" y="3238"/>
                </a:moveTo>
                <a:cubicBezTo>
                  <a:pt x="13144" y="3391"/>
                  <a:pt x="13172" y="3530"/>
                  <a:pt x="13176" y="3683"/>
                </a:cubicBezTo>
                <a:cubicBezTo>
                  <a:pt x="13190" y="4211"/>
                  <a:pt x="13176" y="4742"/>
                  <a:pt x="13176" y="52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Ink 8"/>
          <p:cNvSpPr/>
          <p:nvPr/>
        </p:nvSpPr>
        <p:spPr>
          <a:xfrm>
            <a:off x="5246640" y="1428840"/>
            <a:ext cx="1909800" cy="903240"/>
          </a:xfrm>
          <a:custGeom>
            <a:avLst/>
            <a:gdLst/>
            <a:ahLst/>
            <a:rect l="l" t="t" r="r" b="b"/>
            <a:pathLst>
              <a:path w="5304" h="2509">
                <a:moveTo>
                  <a:pt x="14891" y="4191"/>
                </a:moveTo>
                <a:cubicBezTo>
                  <a:pt x="14891" y="4345"/>
                  <a:pt x="14908" y="4488"/>
                  <a:pt x="14922" y="4636"/>
                </a:cubicBezTo>
                <a:cubicBezTo>
                  <a:pt x="14936" y="4787"/>
                  <a:pt x="14970" y="4932"/>
                  <a:pt x="14986" y="5080"/>
                </a:cubicBezTo>
                <a:cubicBezTo>
                  <a:pt x="14994" y="5156"/>
                  <a:pt x="15019" y="5378"/>
                  <a:pt x="14954" y="5334"/>
                </a:cubicBezTo>
              </a:path>
              <a:path w="5304" h="2509">
                <a:moveTo>
                  <a:pt x="14605" y="4032"/>
                </a:moveTo>
                <a:cubicBezTo>
                  <a:pt x="14594" y="4021"/>
                  <a:pt x="14584" y="4011"/>
                  <a:pt x="14573" y="4000"/>
                </a:cubicBezTo>
              </a:path>
              <a:path w="5304" h="2509">
                <a:moveTo>
                  <a:pt x="15208" y="4286"/>
                </a:moveTo>
                <a:cubicBezTo>
                  <a:pt x="15345" y="4388"/>
                  <a:pt x="15441" y="4468"/>
                  <a:pt x="15494" y="4636"/>
                </a:cubicBezTo>
                <a:cubicBezTo>
                  <a:pt x="15550" y="4813"/>
                  <a:pt x="15535" y="4947"/>
                  <a:pt x="15462" y="5112"/>
                </a:cubicBezTo>
                <a:cubicBezTo>
                  <a:pt x="15400" y="5252"/>
                  <a:pt x="15321" y="5394"/>
                  <a:pt x="15176" y="5461"/>
                </a:cubicBezTo>
                <a:cubicBezTo>
                  <a:pt x="15038" y="5525"/>
                  <a:pt x="15071" y="5509"/>
                  <a:pt x="14986" y="5461"/>
                </a:cubicBezTo>
                <a:cubicBezTo>
                  <a:pt x="14975" y="5461"/>
                  <a:pt x="14965" y="5461"/>
                  <a:pt x="14954" y="5461"/>
                </a:cubicBezTo>
              </a:path>
              <a:path w="5304" h="2509">
                <a:moveTo>
                  <a:pt x="15684" y="4413"/>
                </a:moveTo>
                <a:cubicBezTo>
                  <a:pt x="15684" y="4557"/>
                  <a:pt x="15700" y="4688"/>
                  <a:pt x="15716" y="4826"/>
                </a:cubicBezTo>
                <a:cubicBezTo>
                  <a:pt x="15727" y="4926"/>
                  <a:pt x="15764" y="5026"/>
                  <a:pt x="15780" y="5112"/>
                </a:cubicBezTo>
                <a:cubicBezTo>
                  <a:pt x="15791" y="5170"/>
                  <a:pt x="15799" y="5188"/>
                  <a:pt x="15812" y="5239"/>
                </a:cubicBezTo>
              </a:path>
              <a:path w="5304" h="2509">
                <a:moveTo>
                  <a:pt x="15843" y="4445"/>
                </a:moveTo>
                <a:cubicBezTo>
                  <a:pt x="15910" y="4462"/>
                  <a:pt x="15929" y="4532"/>
                  <a:pt x="15938" y="4604"/>
                </a:cubicBezTo>
                <a:cubicBezTo>
                  <a:pt x="15955" y="4737"/>
                  <a:pt x="15981" y="4858"/>
                  <a:pt x="16034" y="4985"/>
                </a:cubicBezTo>
                <a:cubicBezTo>
                  <a:pt x="16066" y="5061"/>
                  <a:pt x="16091" y="5144"/>
                  <a:pt x="16129" y="5207"/>
                </a:cubicBezTo>
                <a:cubicBezTo>
                  <a:pt x="16182" y="5172"/>
                  <a:pt x="16161" y="5067"/>
                  <a:pt x="16161" y="4985"/>
                </a:cubicBezTo>
                <a:cubicBezTo>
                  <a:pt x="16161" y="4840"/>
                  <a:pt x="16177" y="4711"/>
                  <a:pt x="16192" y="4572"/>
                </a:cubicBezTo>
                <a:cubicBezTo>
                  <a:pt x="16203" y="4472"/>
                  <a:pt x="16194" y="4458"/>
                  <a:pt x="16256" y="4382"/>
                </a:cubicBezTo>
              </a:path>
              <a:path w="5304" h="2509">
                <a:moveTo>
                  <a:pt x="16478" y="4318"/>
                </a:moveTo>
                <a:cubicBezTo>
                  <a:pt x="16478" y="4433"/>
                  <a:pt x="16498" y="4523"/>
                  <a:pt x="16510" y="4636"/>
                </a:cubicBezTo>
                <a:cubicBezTo>
                  <a:pt x="16524" y="4773"/>
                  <a:pt x="16513" y="4914"/>
                  <a:pt x="16542" y="5048"/>
                </a:cubicBezTo>
                <a:cubicBezTo>
                  <a:pt x="16557" y="5117"/>
                  <a:pt x="16602" y="5247"/>
                  <a:pt x="16637" y="5270"/>
                </a:cubicBezTo>
              </a:path>
              <a:path w="5304" h="2509">
                <a:moveTo>
                  <a:pt x="16986" y="3969"/>
                </a:moveTo>
                <a:cubicBezTo>
                  <a:pt x="16997" y="3969"/>
                  <a:pt x="17007" y="3969"/>
                  <a:pt x="17018" y="3969"/>
                </a:cubicBezTo>
              </a:path>
              <a:path w="5304" h="2509">
                <a:moveTo>
                  <a:pt x="16986" y="3969"/>
                </a:moveTo>
                <a:cubicBezTo>
                  <a:pt x="17028" y="4032"/>
                  <a:pt x="17071" y="4096"/>
                  <a:pt x="17113" y="4159"/>
                </a:cubicBezTo>
              </a:path>
              <a:path w="5304" h="2509">
                <a:moveTo>
                  <a:pt x="17113" y="4159"/>
                </a:moveTo>
                <a:cubicBezTo>
                  <a:pt x="17113" y="4324"/>
                  <a:pt x="17128" y="4477"/>
                  <a:pt x="17145" y="4636"/>
                </a:cubicBezTo>
                <a:cubicBezTo>
                  <a:pt x="17155" y="4730"/>
                  <a:pt x="17159" y="4801"/>
                  <a:pt x="17177" y="4890"/>
                </a:cubicBezTo>
                <a:cubicBezTo>
                  <a:pt x="17116" y="4889"/>
                  <a:pt x="17097" y="4793"/>
                  <a:pt x="17050" y="4699"/>
                </a:cubicBezTo>
              </a:path>
              <a:path w="5304" h="2509">
                <a:moveTo>
                  <a:pt x="16764" y="4826"/>
                </a:moveTo>
                <a:cubicBezTo>
                  <a:pt x="16764" y="4947"/>
                  <a:pt x="16757" y="5040"/>
                  <a:pt x="16828" y="5144"/>
                </a:cubicBezTo>
                <a:cubicBezTo>
                  <a:pt x="16898" y="5246"/>
                  <a:pt x="16965" y="5186"/>
                  <a:pt x="17050" y="5175"/>
                </a:cubicBezTo>
                <a:cubicBezTo>
                  <a:pt x="17191" y="5157"/>
                  <a:pt x="17233" y="5087"/>
                  <a:pt x="17336" y="4985"/>
                </a:cubicBezTo>
              </a:path>
              <a:path w="5304" h="2509">
                <a:moveTo>
                  <a:pt x="17590" y="4223"/>
                </a:moveTo>
                <a:cubicBezTo>
                  <a:pt x="17607" y="4309"/>
                  <a:pt x="17607" y="4389"/>
                  <a:pt x="17621" y="4477"/>
                </a:cubicBezTo>
                <a:cubicBezTo>
                  <a:pt x="17644" y="4619"/>
                  <a:pt x="17650" y="4784"/>
                  <a:pt x="17685" y="4921"/>
                </a:cubicBezTo>
                <a:cubicBezTo>
                  <a:pt x="17703" y="4991"/>
                  <a:pt x="17732" y="5049"/>
                  <a:pt x="17748" y="5112"/>
                </a:cubicBezTo>
              </a:path>
              <a:path w="5304" h="2509">
                <a:moveTo>
                  <a:pt x="17970" y="4286"/>
                </a:moveTo>
                <a:cubicBezTo>
                  <a:pt x="17988" y="4378"/>
                  <a:pt x="18002" y="4440"/>
                  <a:pt x="18002" y="4540"/>
                </a:cubicBezTo>
                <a:cubicBezTo>
                  <a:pt x="18002" y="4620"/>
                  <a:pt x="17955" y="4904"/>
                  <a:pt x="18034" y="4953"/>
                </a:cubicBezTo>
                <a:cubicBezTo>
                  <a:pt x="18045" y="4953"/>
                  <a:pt x="18055" y="4953"/>
                  <a:pt x="18066" y="4953"/>
                </a:cubicBezTo>
                <a:cubicBezTo>
                  <a:pt x="18066" y="4766"/>
                  <a:pt x="18037" y="4559"/>
                  <a:pt x="18098" y="4382"/>
                </a:cubicBezTo>
                <a:cubicBezTo>
                  <a:pt x="18122" y="4313"/>
                  <a:pt x="18190" y="4249"/>
                  <a:pt x="18256" y="4223"/>
                </a:cubicBezTo>
                <a:cubicBezTo>
                  <a:pt x="18344" y="4189"/>
                  <a:pt x="18393" y="4327"/>
                  <a:pt x="18415" y="4382"/>
                </a:cubicBezTo>
                <a:cubicBezTo>
                  <a:pt x="18483" y="4555"/>
                  <a:pt x="18514" y="4744"/>
                  <a:pt x="18574" y="4921"/>
                </a:cubicBezTo>
                <a:cubicBezTo>
                  <a:pt x="18607" y="5018"/>
                  <a:pt x="18631" y="5074"/>
                  <a:pt x="18701" y="5144"/>
                </a:cubicBezTo>
                <a:cubicBezTo>
                  <a:pt x="18729" y="5172"/>
                  <a:pt x="18736" y="5183"/>
                  <a:pt x="18764" y="5175"/>
                </a:cubicBezTo>
              </a:path>
              <a:path w="5304" h="2509">
                <a:moveTo>
                  <a:pt x="19177" y="4413"/>
                </a:moveTo>
                <a:cubicBezTo>
                  <a:pt x="19167" y="4337"/>
                  <a:pt x="19152" y="4242"/>
                  <a:pt x="19082" y="4191"/>
                </a:cubicBezTo>
                <a:cubicBezTo>
                  <a:pt x="19029" y="4152"/>
                  <a:pt x="18950" y="4136"/>
                  <a:pt x="18891" y="4191"/>
                </a:cubicBezTo>
                <a:cubicBezTo>
                  <a:pt x="18808" y="4268"/>
                  <a:pt x="18828" y="4410"/>
                  <a:pt x="18828" y="4508"/>
                </a:cubicBezTo>
                <a:cubicBezTo>
                  <a:pt x="18828" y="4577"/>
                  <a:pt x="18837" y="4700"/>
                  <a:pt x="18923" y="4731"/>
                </a:cubicBezTo>
                <a:cubicBezTo>
                  <a:pt x="18982" y="4753"/>
                  <a:pt x="19073" y="4708"/>
                  <a:pt x="19114" y="4667"/>
                </a:cubicBezTo>
                <a:cubicBezTo>
                  <a:pt x="19175" y="4606"/>
                  <a:pt x="19211" y="4492"/>
                  <a:pt x="19240" y="4413"/>
                </a:cubicBezTo>
                <a:cubicBezTo>
                  <a:pt x="19265" y="4340"/>
                  <a:pt x="19275" y="4331"/>
                  <a:pt x="19272" y="4286"/>
                </a:cubicBezTo>
                <a:cubicBezTo>
                  <a:pt x="19272" y="4352"/>
                  <a:pt x="19282" y="4351"/>
                  <a:pt x="19304" y="4413"/>
                </a:cubicBezTo>
                <a:cubicBezTo>
                  <a:pt x="19355" y="4558"/>
                  <a:pt x="19393" y="4709"/>
                  <a:pt x="19431" y="4858"/>
                </a:cubicBezTo>
                <a:cubicBezTo>
                  <a:pt x="19476" y="5032"/>
                  <a:pt x="19539" y="5220"/>
                  <a:pt x="19558" y="5398"/>
                </a:cubicBezTo>
                <a:cubicBezTo>
                  <a:pt x="19579" y="5591"/>
                  <a:pt x="19615" y="5805"/>
                  <a:pt x="19590" y="6001"/>
                </a:cubicBezTo>
                <a:cubicBezTo>
                  <a:pt x="19571" y="6151"/>
                  <a:pt x="19524" y="6317"/>
                  <a:pt x="19399" y="6414"/>
                </a:cubicBezTo>
                <a:cubicBezTo>
                  <a:pt x="19294" y="6495"/>
                  <a:pt x="19125" y="6487"/>
                  <a:pt x="19018" y="6414"/>
                </a:cubicBezTo>
                <a:cubicBezTo>
                  <a:pt x="18896" y="6331"/>
                  <a:pt x="18785" y="6144"/>
                  <a:pt x="18764" y="6001"/>
                </a:cubicBezTo>
                <a:cubicBezTo>
                  <a:pt x="18764" y="5873"/>
                  <a:pt x="18764" y="5829"/>
                  <a:pt x="18796" y="5747"/>
                </a:cubicBezTo>
              </a:path>
              <a:path w="5304" h="2509">
                <a:moveTo>
                  <a:pt x="17113" y="4762"/>
                </a:moveTo>
                <a:cubicBezTo>
                  <a:pt x="17099" y="4707"/>
                  <a:pt x="17087" y="4650"/>
                  <a:pt x="17050" y="4604"/>
                </a:cubicBezTo>
                <a:cubicBezTo>
                  <a:pt x="17008" y="4551"/>
                  <a:pt x="16966" y="4566"/>
                  <a:pt x="16923" y="4604"/>
                </a:cubicBezTo>
                <a:cubicBezTo>
                  <a:pt x="16857" y="4663"/>
                  <a:pt x="16833" y="4705"/>
                  <a:pt x="16828" y="4794"/>
                </a:cubicBezTo>
                <a:cubicBezTo>
                  <a:pt x="16822" y="4902"/>
                  <a:pt x="16816" y="5014"/>
                  <a:pt x="16859" y="5112"/>
                </a:cubicBezTo>
                <a:cubicBezTo>
                  <a:pt x="16897" y="5199"/>
                  <a:pt x="16928" y="5232"/>
                  <a:pt x="17018" y="5239"/>
                </a:cubicBezTo>
                <a:cubicBezTo>
                  <a:pt x="17060" y="5239"/>
                  <a:pt x="17081" y="5239"/>
                  <a:pt x="17113" y="5239"/>
                </a:cubicBezTo>
              </a:path>
              <a:path w="5304" h="2509">
                <a:moveTo>
                  <a:pt x="19780" y="4223"/>
                </a:moveTo>
                <a:lnTo>
                  <a:pt x="19780" y="4223"/>
                </a:lnTo>
              </a:path>
              <a:path w="5304" h="2509">
                <a:moveTo>
                  <a:pt x="19876" y="4667"/>
                </a:moveTo>
                <a:lnTo>
                  <a:pt x="19876" y="466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Ink 9"/>
          <p:cNvSpPr/>
          <p:nvPr/>
        </p:nvSpPr>
        <p:spPr>
          <a:xfrm>
            <a:off x="7589880" y="1039680"/>
            <a:ext cx="1235160" cy="538200"/>
          </a:xfrm>
          <a:custGeom>
            <a:avLst/>
            <a:gdLst/>
            <a:ahLst/>
            <a:rect l="l" t="t" r="r" b="b"/>
            <a:pathLst>
              <a:path w="3430" h="1494">
                <a:moveTo>
                  <a:pt x="21209" y="3556"/>
                </a:moveTo>
                <a:cubicBezTo>
                  <a:pt x="21241" y="3613"/>
                  <a:pt x="21289" y="3737"/>
                  <a:pt x="21336" y="3778"/>
                </a:cubicBezTo>
                <a:cubicBezTo>
                  <a:pt x="21369" y="3807"/>
                  <a:pt x="21419" y="3861"/>
                  <a:pt x="21463" y="3905"/>
                </a:cubicBezTo>
                <a:cubicBezTo>
                  <a:pt x="21495" y="3937"/>
                  <a:pt x="21526" y="3969"/>
                  <a:pt x="21558" y="4000"/>
                </a:cubicBezTo>
              </a:path>
              <a:path w="3430" h="1494">
                <a:moveTo>
                  <a:pt x="21526" y="3366"/>
                </a:moveTo>
                <a:cubicBezTo>
                  <a:pt x="21483" y="3424"/>
                  <a:pt x="21432" y="3519"/>
                  <a:pt x="21400" y="3588"/>
                </a:cubicBezTo>
                <a:cubicBezTo>
                  <a:pt x="21344" y="3710"/>
                  <a:pt x="21297" y="3819"/>
                  <a:pt x="21241" y="3937"/>
                </a:cubicBezTo>
                <a:cubicBezTo>
                  <a:pt x="21210" y="4002"/>
                  <a:pt x="21166" y="4070"/>
                  <a:pt x="21114" y="4096"/>
                </a:cubicBezTo>
              </a:path>
              <a:path w="3430" h="1494">
                <a:moveTo>
                  <a:pt x="21400" y="3334"/>
                </a:moveTo>
                <a:cubicBezTo>
                  <a:pt x="21441" y="3404"/>
                  <a:pt x="21453" y="3533"/>
                  <a:pt x="21463" y="3620"/>
                </a:cubicBezTo>
                <a:cubicBezTo>
                  <a:pt x="21476" y="3736"/>
                  <a:pt x="21463" y="3842"/>
                  <a:pt x="21431" y="3937"/>
                </a:cubicBezTo>
                <a:cubicBezTo>
                  <a:pt x="21431" y="3948"/>
                  <a:pt x="21431" y="3958"/>
                  <a:pt x="21431" y="3969"/>
                </a:cubicBezTo>
              </a:path>
              <a:path w="3430" h="1494">
                <a:moveTo>
                  <a:pt x="21082" y="3874"/>
                </a:moveTo>
                <a:cubicBezTo>
                  <a:pt x="21127" y="3840"/>
                  <a:pt x="21180" y="3814"/>
                  <a:pt x="21241" y="3810"/>
                </a:cubicBezTo>
                <a:cubicBezTo>
                  <a:pt x="21346" y="3803"/>
                  <a:pt x="21426" y="3812"/>
                  <a:pt x="21526" y="3778"/>
                </a:cubicBezTo>
              </a:path>
              <a:path w="3430" h="1494">
                <a:moveTo>
                  <a:pt x="22034" y="3461"/>
                </a:moveTo>
                <a:cubicBezTo>
                  <a:pt x="21988" y="3461"/>
                  <a:pt x="21924" y="3467"/>
                  <a:pt x="21908" y="3524"/>
                </a:cubicBezTo>
                <a:cubicBezTo>
                  <a:pt x="21891" y="3585"/>
                  <a:pt x="21850" y="3712"/>
                  <a:pt x="21876" y="3778"/>
                </a:cubicBezTo>
                <a:cubicBezTo>
                  <a:pt x="21902" y="3845"/>
                  <a:pt x="21908" y="3878"/>
                  <a:pt x="21971" y="3905"/>
                </a:cubicBezTo>
                <a:cubicBezTo>
                  <a:pt x="22026" y="3929"/>
                  <a:pt x="22096" y="3980"/>
                  <a:pt x="22130" y="4032"/>
                </a:cubicBezTo>
                <a:cubicBezTo>
                  <a:pt x="22167" y="4090"/>
                  <a:pt x="22183" y="4188"/>
                  <a:pt x="22162" y="4254"/>
                </a:cubicBezTo>
                <a:cubicBezTo>
                  <a:pt x="22143" y="4315"/>
                  <a:pt x="22079" y="4408"/>
                  <a:pt x="22003" y="4382"/>
                </a:cubicBezTo>
                <a:cubicBezTo>
                  <a:pt x="21965" y="4344"/>
                  <a:pt x="21950" y="4325"/>
                  <a:pt x="21939" y="4286"/>
                </a:cubicBezTo>
              </a:path>
              <a:path w="3430" h="1494">
                <a:moveTo>
                  <a:pt x="22225" y="3651"/>
                </a:moveTo>
                <a:cubicBezTo>
                  <a:pt x="22261" y="3747"/>
                  <a:pt x="22234" y="3809"/>
                  <a:pt x="22257" y="3905"/>
                </a:cubicBezTo>
                <a:cubicBezTo>
                  <a:pt x="22278" y="3993"/>
                  <a:pt x="22332" y="4071"/>
                  <a:pt x="22352" y="4159"/>
                </a:cubicBezTo>
                <a:cubicBezTo>
                  <a:pt x="22352" y="4195"/>
                  <a:pt x="22355" y="4209"/>
                  <a:pt x="22384" y="4223"/>
                </a:cubicBezTo>
                <a:cubicBezTo>
                  <a:pt x="22454" y="4170"/>
                  <a:pt x="22447" y="4097"/>
                  <a:pt x="22447" y="4000"/>
                </a:cubicBezTo>
                <a:cubicBezTo>
                  <a:pt x="22447" y="3905"/>
                  <a:pt x="22447" y="3873"/>
                  <a:pt x="22447" y="3810"/>
                </a:cubicBezTo>
              </a:path>
              <a:path w="3430" h="1494">
                <a:moveTo>
                  <a:pt x="22479" y="3588"/>
                </a:moveTo>
                <a:cubicBezTo>
                  <a:pt x="22449" y="3588"/>
                  <a:pt x="22479" y="3598"/>
                  <a:pt x="22479" y="3683"/>
                </a:cubicBezTo>
                <a:cubicBezTo>
                  <a:pt x="22479" y="3785"/>
                  <a:pt x="22523" y="3836"/>
                  <a:pt x="22542" y="3937"/>
                </a:cubicBezTo>
                <a:cubicBezTo>
                  <a:pt x="22556" y="4014"/>
                  <a:pt x="22557" y="4044"/>
                  <a:pt x="22638" y="4064"/>
                </a:cubicBezTo>
              </a:path>
              <a:path w="3430" h="1494">
                <a:moveTo>
                  <a:pt x="22638" y="3397"/>
                </a:moveTo>
                <a:cubicBezTo>
                  <a:pt x="22676" y="3509"/>
                  <a:pt x="22674" y="3636"/>
                  <a:pt x="22733" y="3746"/>
                </a:cubicBezTo>
                <a:cubicBezTo>
                  <a:pt x="22770" y="3815"/>
                  <a:pt x="22786" y="3885"/>
                  <a:pt x="22796" y="3969"/>
                </a:cubicBezTo>
                <a:cubicBezTo>
                  <a:pt x="22796" y="3887"/>
                  <a:pt x="22775" y="3825"/>
                  <a:pt x="22765" y="3746"/>
                </a:cubicBezTo>
              </a:path>
              <a:path w="3430" h="1494">
                <a:moveTo>
                  <a:pt x="22955" y="3778"/>
                </a:moveTo>
                <a:cubicBezTo>
                  <a:pt x="22941" y="3848"/>
                  <a:pt x="22931" y="3938"/>
                  <a:pt x="22892" y="4000"/>
                </a:cubicBezTo>
                <a:cubicBezTo>
                  <a:pt x="22860" y="4051"/>
                  <a:pt x="22816" y="4092"/>
                  <a:pt x="22796" y="4032"/>
                </a:cubicBezTo>
              </a:path>
              <a:path w="3430" h="1494">
                <a:moveTo>
                  <a:pt x="23082" y="3270"/>
                </a:moveTo>
                <a:cubicBezTo>
                  <a:pt x="23082" y="3383"/>
                  <a:pt x="23102" y="3480"/>
                  <a:pt x="23114" y="3588"/>
                </a:cubicBezTo>
                <a:cubicBezTo>
                  <a:pt x="23125" y="3689"/>
                  <a:pt x="23161" y="3788"/>
                  <a:pt x="23178" y="3874"/>
                </a:cubicBezTo>
                <a:cubicBezTo>
                  <a:pt x="23191" y="3938"/>
                  <a:pt x="23195" y="3975"/>
                  <a:pt x="23209" y="4032"/>
                </a:cubicBezTo>
              </a:path>
              <a:path w="3430" h="1494">
                <a:moveTo>
                  <a:pt x="22765" y="3651"/>
                </a:moveTo>
                <a:cubicBezTo>
                  <a:pt x="22779" y="3593"/>
                  <a:pt x="22820" y="3542"/>
                  <a:pt x="22860" y="3492"/>
                </a:cubicBezTo>
                <a:cubicBezTo>
                  <a:pt x="22887" y="3501"/>
                  <a:pt x="22930" y="3519"/>
                  <a:pt x="22955" y="3556"/>
                </a:cubicBezTo>
                <a:cubicBezTo>
                  <a:pt x="22991" y="3608"/>
                  <a:pt x="23035" y="3718"/>
                  <a:pt x="23019" y="3778"/>
                </a:cubicBezTo>
                <a:cubicBezTo>
                  <a:pt x="23009" y="3816"/>
                  <a:pt x="22952" y="3905"/>
                  <a:pt x="22924" y="3937"/>
                </a:cubicBezTo>
                <a:cubicBezTo>
                  <a:pt x="22895" y="3966"/>
                  <a:pt x="22889" y="3977"/>
                  <a:pt x="22860" y="3969"/>
                </a:cubicBezTo>
              </a:path>
              <a:path w="3430" h="1494">
                <a:moveTo>
                  <a:pt x="23178" y="3620"/>
                </a:moveTo>
                <a:cubicBezTo>
                  <a:pt x="23222" y="3564"/>
                  <a:pt x="23236" y="3509"/>
                  <a:pt x="23304" y="3492"/>
                </a:cubicBezTo>
              </a:path>
              <a:path w="3430" h="1494">
                <a:moveTo>
                  <a:pt x="23336" y="3461"/>
                </a:moveTo>
                <a:cubicBezTo>
                  <a:pt x="23352" y="3524"/>
                  <a:pt x="23371" y="3585"/>
                  <a:pt x="23400" y="3651"/>
                </a:cubicBezTo>
                <a:cubicBezTo>
                  <a:pt x="23428" y="3714"/>
                  <a:pt x="23482" y="3768"/>
                  <a:pt x="23495" y="3810"/>
                </a:cubicBezTo>
                <a:cubicBezTo>
                  <a:pt x="23495" y="3831"/>
                  <a:pt x="23495" y="3853"/>
                  <a:pt x="23495" y="3874"/>
                </a:cubicBezTo>
                <a:cubicBezTo>
                  <a:pt x="23479" y="3794"/>
                  <a:pt x="23436" y="3736"/>
                  <a:pt x="23432" y="3651"/>
                </a:cubicBezTo>
                <a:cubicBezTo>
                  <a:pt x="23428" y="3553"/>
                  <a:pt x="23438" y="3506"/>
                  <a:pt x="23463" y="3429"/>
                </a:cubicBezTo>
                <a:cubicBezTo>
                  <a:pt x="23463" y="3393"/>
                  <a:pt x="23466" y="3379"/>
                  <a:pt x="23495" y="3366"/>
                </a:cubicBezTo>
              </a:path>
              <a:path w="3430" h="1494">
                <a:moveTo>
                  <a:pt x="23749" y="3429"/>
                </a:moveTo>
                <a:cubicBezTo>
                  <a:pt x="23736" y="3378"/>
                  <a:pt x="23737" y="3379"/>
                  <a:pt x="23686" y="3366"/>
                </a:cubicBezTo>
                <a:cubicBezTo>
                  <a:pt x="23648" y="3415"/>
                  <a:pt x="23610" y="3485"/>
                  <a:pt x="23622" y="3556"/>
                </a:cubicBezTo>
                <a:cubicBezTo>
                  <a:pt x="23632" y="3611"/>
                  <a:pt x="23660" y="3746"/>
                  <a:pt x="23717" y="3778"/>
                </a:cubicBezTo>
                <a:cubicBezTo>
                  <a:pt x="23728" y="3778"/>
                  <a:pt x="23738" y="3778"/>
                  <a:pt x="23749" y="3778"/>
                </a:cubicBezTo>
                <a:cubicBezTo>
                  <a:pt x="23766" y="3728"/>
                  <a:pt x="23792" y="3732"/>
                  <a:pt x="23812" y="3651"/>
                </a:cubicBezTo>
                <a:cubicBezTo>
                  <a:pt x="23831" y="3574"/>
                  <a:pt x="23806" y="3498"/>
                  <a:pt x="23781" y="3429"/>
                </a:cubicBezTo>
                <a:cubicBezTo>
                  <a:pt x="23789" y="3521"/>
                  <a:pt x="23796" y="3676"/>
                  <a:pt x="23876" y="3746"/>
                </a:cubicBezTo>
                <a:cubicBezTo>
                  <a:pt x="23887" y="3746"/>
                  <a:pt x="23897" y="3746"/>
                  <a:pt x="23908" y="3746"/>
                </a:cubicBezTo>
              </a:path>
              <a:path w="3430" h="1494">
                <a:moveTo>
                  <a:pt x="24035" y="3207"/>
                </a:moveTo>
                <a:cubicBezTo>
                  <a:pt x="23981" y="3287"/>
                  <a:pt x="23952" y="3397"/>
                  <a:pt x="23940" y="3492"/>
                </a:cubicBezTo>
                <a:cubicBezTo>
                  <a:pt x="23930" y="3573"/>
                  <a:pt x="23944" y="3673"/>
                  <a:pt x="24035" y="3683"/>
                </a:cubicBezTo>
                <a:cubicBezTo>
                  <a:pt x="24090" y="3689"/>
                  <a:pt x="24161" y="3589"/>
                  <a:pt x="24194" y="3556"/>
                </a:cubicBezTo>
                <a:cubicBezTo>
                  <a:pt x="24235" y="3513"/>
                  <a:pt x="24257" y="3492"/>
                  <a:pt x="24289" y="3461"/>
                </a:cubicBezTo>
              </a:path>
              <a:path w="3430" h="1494">
                <a:moveTo>
                  <a:pt x="24320" y="2889"/>
                </a:moveTo>
                <a:cubicBezTo>
                  <a:pt x="24276" y="2949"/>
                  <a:pt x="24281" y="2980"/>
                  <a:pt x="24257" y="3048"/>
                </a:cubicBezTo>
                <a:cubicBezTo>
                  <a:pt x="24234" y="3114"/>
                  <a:pt x="24235" y="3224"/>
                  <a:pt x="24257" y="3302"/>
                </a:cubicBezTo>
                <a:cubicBezTo>
                  <a:pt x="24273" y="3358"/>
                  <a:pt x="24324" y="3450"/>
                  <a:pt x="24352" y="3492"/>
                </a:cubicBezTo>
                <a:cubicBezTo>
                  <a:pt x="24390" y="3530"/>
                  <a:pt x="24405" y="3549"/>
                  <a:pt x="24416" y="3588"/>
                </a:cubicBezTo>
              </a:path>
              <a:path w="3430" h="1494">
                <a:moveTo>
                  <a:pt x="24225" y="3429"/>
                </a:moveTo>
                <a:cubicBezTo>
                  <a:pt x="24236" y="3429"/>
                  <a:pt x="24246" y="3429"/>
                  <a:pt x="24257" y="3429"/>
                </a:cubicBezTo>
                <a:cubicBezTo>
                  <a:pt x="24275" y="3359"/>
                  <a:pt x="24318" y="3337"/>
                  <a:pt x="24384" y="3302"/>
                </a:cubicBezTo>
                <a:cubicBezTo>
                  <a:pt x="24453" y="3267"/>
                  <a:pt x="24479" y="3253"/>
                  <a:pt x="24511" y="32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Ink 10"/>
          <p:cNvSpPr/>
          <p:nvPr/>
        </p:nvSpPr>
        <p:spPr>
          <a:xfrm>
            <a:off x="297000" y="2343240"/>
            <a:ext cx="2766960" cy="685800"/>
          </a:xfrm>
          <a:custGeom>
            <a:avLst/>
            <a:gdLst/>
            <a:ahLst/>
            <a:rect l="l" t="t" r="r" b="b"/>
            <a:pathLst>
              <a:path w="7684" h="1906">
                <a:moveTo>
                  <a:pt x="826" y="7239"/>
                </a:moveTo>
                <a:cubicBezTo>
                  <a:pt x="846" y="7288"/>
                  <a:pt x="857" y="7287"/>
                  <a:pt x="857" y="7398"/>
                </a:cubicBezTo>
                <a:cubicBezTo>
                  <a:pt x="857" y="7578"/>
                  <a:pt x="857" y="7758"/>
                  <a:pt x="857" y="7938"/>
                </a:cubicBezTo>
                <a:cubicBezTo>
                  <a:pt x="838" y="7840"/>
                  <a:pt x="826" y="7758"/>
                  <a:pt x="826" y="7652"/>
                </a:cubicBezTo>
                <a:cubicBezTo>
                  <a:pt x="826" y="7496"/>
                  <a:pt x="841" y="7356"/>
                  <a:pt x="857" y="7207"/>
                </a:cubicBezTo>
                <a:cubicBezTo>
                  <a:pt x="869" y="7100"/>
                  <a:pt x="883" y="6993"/>
                  <a:pt x="889" y="6890"/>
                </a:cubicBezTo>
                <a:cubicBezTo>
                  <a:pt x="892" y="6829"/>
                  <a:pt x="902" y="6813"/>
                  <a:pt x="921" y="6763"/>
                </a:cubicBezTo>
                <a:cubicBezTo>
                  <a:pt x="952" y="6802"/>
                  <a:pt x="960" y="6852"/>
                  <a:pt x="984" y="6922"/>
                </a:cubicBezTo>
                <a:cubicBezTo>
                  <a:pt x="1024" y="7041"/>
                  <a:pt x="1045" y="7151"/>
                  <a:pt x="1080" y="7271"/>
                </a:cubicBezTo>
                <a:cubicBezTo>
                  <a:pt x="1119" y="7404"/>
                  <a:pt x="1193" y="7518"/>
                  <a:pt x="1238" y="7652"/>
                </a:cubicBezTo>
                <a:cubicBezTo>
                  <a:pt x="1270" y="7747"/>
                  <a:pt x="1325" y="7852"/>
                  <a:pt x="1365" y="7938"/>
                </a:cubicBezTo>
                <a:cubicBezTo>
                  <a:pt x="1376" y="7948"/>
                  <a:pt x="1386" y="7959"/>
                  <a:pt x="1397" y="7969"/>
                </a:cubicBezTo>
                <a:cubicBezTo>
                  <a:pt x="1384" y="7863"/>
                  <a:pt x="1344" y="7760"/>
                  <a:pt x="1334" y="7652"/>
                </a:cubicBezTo>
                <a:cubicBezTo>
                  <a:pt x="1317" y="7467"/>
                  <a:pt x="1278" y="7267"/>
                  <a:pt x="1302" y="7080"/>
                </a:cubicBezTo>
                <a:cubicBezTo>
                  <a:pt x="1322" y="6922"/>
                  <a:pt x="1338" y="6755"/>
                  <a:pt x="1397" y="6604"/>
                </a:cubicBezTo>
                <a:cubicBezTo>
                  <a:pt x="1425" y="6548"/>
                  <a:pt x="1429" y="6533"/>
                  <a:pt x="1460" y="6509"/>
                </a:cubicBezTo>
              </a:path>
              <a:path w="7684" h="1906">
                <a:moveTo>
                  <a:pt x="1556" y="7556"/>
                </a:moveTo>
                <a:cubicBezTo>
                  <a:pt x="1566" y="7528"/>
                  <a:pt x="1610" y="7487"/>
                  <a:pt x="1651" y="7461"/>
                </a:cubicBezTo>
                <a:cubicBezTo>
                  <a:pt x="1722" y="7415"/>
                  <a:pt x="1780" y="7390"/>
                  <a:pt x="1810" y="7302"/>
                </a:cubicBezTo>
                <a:cubicBezTo>
                  <a:pt x="1832" y="7236"/>
                  <a:pt x="1842" y="7192"/>
                  <a:pt x="1842" y="7112"/>
                </a:cubicBezTo>
                <a:cubicBezTo>
                  <a:pt x="1842" y="7061"/>
                  <a:pt x="1783" y="7048"/>
                  <a:pt x="1746" y="7080"/>
                </a:cubicBezTo>
                <a:cubicBezTo>
                  <a:pt x="1657" y="7157"/>
                  <a:pt x="1625" y="7259"/>
                  <a:pt x="1588" y="7366"/>
                </a:cubicBezTo>
                <a:cubicBezTo>
                  <a:pt x="1550" y="7475"/>
                  <a:pt x="1517" y="7644"/>
                  <a:pt x="1588" y="7747"/>
                </a:cubicBezTo>
                <a:cubicBezTo>
                  <a:pt x="1642" y="7825"/>
                  <a:pt x="1667" y="7831"/>
                  <a:pt x="1746" y="7842"/>
                </a:cubicBezTo>
              </a:path>
              <a:path w="7684" h="1906">
                <a:moveTo>
                  <a:pt x="2159" y="7366"/>
                </a:moveTo>
                <a:cubicBezTo>
                  <a:pt x="2159" y="7285"/>
                  <a:pt x="2173" y="7241"/>
                  <a:pt x="2127" y="7207"/>
                </a:cubicBezTo>
                <a:cubicBezTo>
                  <a:pt x="2117" y="7197"/>
                  <a:pt x="2106" y="7186"/>
                  <a:pt x="2096" y="7176"/>
                </a:cubicBezTo>
                <a:cubicBezTo>
                  <a:pt x="2032" y="7191"/>
                  <a:pt x="1980" y="7263"/>
                  <a:pt x="1968" y="7334"/>
                </a:cubicBezTo>
                <a:cubicBezTo>
                  <a:pt x="1950" y="7438"/>
                  <a:pt x="1935" y="7665"/>
                  <a:pt x="2000" y="7747"/>
                </a:cubicBezTo>
                <a:cubicBezTo>
                  <a:pt x="2011" y="7758"/>
                  <a:pt x="2021" y="7768"/>
                  <a:pt x="2032" y="7779"/>
                </a:cubicBezTo>
                <a:cubicBezTo>
                  <a:pt x="2062" y="7769"/>
                  <a:pt x="2100" y="7726"/>
                  <a:pt x="2127" y="7684"/>
                </a:cubicBezTo>
                <a:cubicBezTo>
                  <a:pt x="2178" y="7604"/>
                  <a:pt x="2186" y="7460"/>
                  <a:pt x="2191" y="7366"/>
                </a:cubicBezTo>
                <a:cubicBezTo>
                  <a:pt x="2191" y="7313"/>
                  <a:pt x="2191" y="7303"/>
                  <a:pt x="2191" y="7271"/>
                </a:cubicBezTo>
                <a:cubicBezTo>
                  <a:pt x="2191" y="7487"/>
                  <a:pt x="2200" y="7696"/>
                  <a:pt x="2222" y="7906"/>
                </a:cubicBezTo>
                <a:cubicBezTo>
                  <a:pt x="2234" y="8018"/>
                  <a:pt x="2261" y="8262"/>
                  <a:pt x="2191" y="8350"/>
                </a:cubicBezTo>
                <a:cubicBezTo>
                  <a:pt x="2165" y="8382"/>
                  <a:pt x="2113" y="8441"/>
                  <a:pt x="2064" y="8414"/>
                </a:cubicBezTo>
                <a:cubicBezTo>
                  <a:pt x="2026" y="8376"/>
                  <a:pt x="2011" y="8357"/>
                  <a:pt x="2000" y="8318"/>
                </a:cubicBezTo>
              </a:path>
              <a:path w="7684" h="1906">
                <a:moveTo>
                  <a:pt x="2540" y="7398"/>
                </a:moveTo>
                <a:cubicBezTo>
                  <a:pt x="2540" y="7319"/>
                  <a:pt x="2553" y="7267"/>
                  <a:pt x="2508" y="7207"/>
                </a:cubicBezTo>
                <a:cubicBezTo>
                  <a:pt x="2420" y="7207"/>
                  <a:pt x="2419" y="7256"/>
                  <a:pt x="2381" y="7334"/>
                </a:cubicBezTo>
                <a:cubicBezTo>
                  <a:pt x="2326" y="7445"/>
                  <a:pt x="2318" y="7530"/>
                  <a:pt x="2318" y="7652"/>
                </a:cubicBezTo>
                <a:cubicBezTo>
                  <a:pt x="2318" y="7730"/>
                  <a:pt x="2306" y="7750"/>
                  <a:pt x="2350" y="7779"/>
                </a:cubicBezTo>
                <a:cubicBezTo>
                  <a:pt x="2403" y="7779"/>
                  <a:pt x="2467" y="7791"/>
                  <a:pt x="2508" y="7747"/>
                </a:cubicBezTo>
                <a:cubicBezTo>
                  <a:pt x="2570" y="7680"/>
                  <a:pt x="2553" y="7541"/>
                  <a:pt x="2572" y="7461"/>
                </a:cubicBezTo>
                <a:cubicBezTo>
                  <a:pt x="2605" y="7318"/>
                  <a:pt x="2648" y="7271"/>
                  <a:pt x="2604" y="7430"/>
                </a:cubicBezTo>
                <a:cubicBezTo>
                  <a:pt x="2571" y="7547"/>
                  <a:pt x="2578" y="7596"/>
                  <a:pt x="2604" y="7715"/>
                </a:cubicBezTo>
                <a:cubicBezTo>
                  <a:pt x="2604" y="7747"/>
                  <a:pt x="2604" y="7758"/>
                  <a:pt x="2604" y="7779"/>
                </a:cubicBezTo>
              </a:path>
              <a:path w="7684" h="1906">
                <a:moveTo>
                  <a:pt x="2794" y="6985"/>
                </a:moveTo>
                <a:cubicBezTo>
                  <a:pt x="2813" y="7059"/>
                  <a:pt x="2844" y="7114"/>
                  <a:pt x="2826" y="7207"/>
                </a:cubicBezTo>
                <a:cubicBezTo>
                  <a:pt x="2799" y="7348"/>
                  <a:pt x="2794" y="7473"/>
                  <a:pt x="2794" y="7620"/>
                </a:cubicBezTo>
                <a:cubicBezTo>
                  <a:pt x="2794" y="7702"/>
                  <a:pt x="2811" y="7737"/>
                  <a:pt x="2826" y="7810"/>
                </a:cubicBezTo>
              </a:path>
              <a:path w="7684" h="1906">
                <a:moveTo>
                  <a:pt x="2699" y="7430"/>
                </a:moveTo>
                <a:cubicBezTo>
                  <a:pt x="2755" y="7430"/>
                  <a:pt x="2843" y="7419"/>
                  <a:pt x="2889" y="7398"/>
                </a:cubicBezTo>
                <a:cubicBezTo>
                  <a:pt x="2925" y="7362"/>
                  <a:pt x="2942" y="7351"/>
                  <a:pt x="2984" y="7366"/>
                </a:cubicBezTo>
              </a:path>
              <a:path w="7684" h="1906">
                <a:moveTo>
                  <a:pt x="3080" y="7112"/>
                </a:moveTo>
                <a:cubicBezTo>
                  <a:pt x="3092" y="7194"/>
                  <a:pt x="3112" y="7243"/>
                  <a:pt x="3112" y="7334"/>
                </a:cubicBezTo>
                <a:cubicBezTo>
                  <a:pt x="3112" y="7445"/>
                  <a:pt x="3143" y="7537"/>
                  <a:pt x="3143" y="7652"/>
                </a:cubicBezTo>
                <a:cubicBezTo>
                  <a:pt x="3143" y="7694"/>
                  <a:pt x="3143" y="7737"/>
                  <a:pt x="3143" y="7779"/>
                </a:cubicBezTo>
              </a:path>
              <a:path w="7684" h="1906">
                <a:moveTo>
                  <a:pt x="3302" y="7176"/>
                </a:moveTo>
                <a:cubicBezTo>
                  <a:pt x="3302" y="7257"/>
                  <a:pt x="3330" y="7314"/>
                  <a:pt x="3334" y="7398"/>
                </a:cubicBezTo>
                <a:cubicBezTo>
                  <a:pt x="3339" y="7506"/>
                  <a:pt x="3371" y="7687"/>
                  <a:pt x="3429" y="7779"/>
                </a:cubicBezTo>
                <a:cubicBezTo>
                  <a:pt x="3458" y="7807"/>
                  <a:pt x="3469" y="7813"/>
                  <a:pt x="3461" y="7842"/>
                </a:cubicBezTo>
                <a:cubicBezTo>
                  <a:pt x="3522" y="7821"/>
                  <a:pt x="3492" y="7724"/>
                  <a:pt x="3492" y="7652"/>
                </a:cubicBezTo>
                <a:cubicBezTo>
                  <a:pt x="3492" y="7500"/>
                  <a:pt x="3485" y="7348"/>
                  <a:pt x="3556" y="7207"/>
                </a:cubicBezTo>
                <a:cubicBezTo>
                  <a:pt x="3576" y="7168"/>
                  <a:pt x="3627" y="7120"/>
                  <a:pt x="3651" y="7112"/>
                </a:cubicBezTo>
              </a:path>
              <a:path w="7684" h="1906">
                <a:moveTo>
                  <a:pt x="3683" y="7620"/>
                </a:moveTo>
                <a:cubicBezTo>
                  <a:pt x="3708" y="7670"/>
                  <a:pt x="3725" y="7616"/>
                  <a:pt x="3746" y="7588"/>
                </a:cubicBezTo>
                <a:cubicBezTo>
                  <a:pt x="3795" y="7522"/>
                  <a:pt x="3836" y="7475"/>
                  <a:pt x="3874" y="7398"/>
                </a:cubicBezTo>
                <a:cubicBezTo>
                  <a:pt x="3895" y="7355"/>
                  <a:pt x="3985" y="7191"/>
                  <a:pt x="3937" y="7144"/>
                </a:cubicBezTo>
                <a:cubicBezTo>
                  <a:pt x="3926" y="7144"/>
                  <a:pt x="3916" y="7144"/>
                  <a:pt x="3905" y="7144"/>
                </a:cubicBezTo>
                <a:cubicBezTo>
                  <a:pt x="3842" y="7160"/>
                  <a:pt x="3784" y="7245"/>
                  <a:pt x="3746" y="7302"/>
                </a:cubicBezTo>
                <a:cubicBezTo>
                  <a:pt x="3676" y="7408"/>
                  <a:pt x="3661" y="7562"/>
                  <a:pt x="3683" y="7684"/>
                </a:cubicBezTo>
                <a:cubicBezTo>
                  <a:pt x="3703" y="7795"/>
                  <a:pt x="3769" y="7868"/>
                  <a:pt x="3874" y="7874"/>
                </a:cubicBezTo>
                <a:cubicBezTo>
                  <a:pt x="3940" y="7874"/>
                  <a:pt x="3963" y="7873"/>
                  <a:pt x="4000" y="7842"/>
                </a:cubicBezTo>
              </a:path>
              <a:path w="7684" h="1906">
                <a:moveTo>
                  <a:pt x="4921" y="6953"/>
                </a:moveTo>
                <a:cubicBezTo>
                  <a:pt x="4921" y="6911"/>
                  <a:pt x="4921" y="6868"/>
                  <a:pt x="4921" y="6826"/>
                </a:cubicBezTo>
                <a:cubicBezTo>
                  <a:pt x="4854" y="6826"/>
                  <a:pt x="4789" y="6814"/>
                  <a:pt x="4731" y="6858"/>
                </a:cubicBezTo>
                <a:cubicBezTo>
                  <a:pt x="4666" y="6908"/>
                  <a:pt x="4590" y="7031"/>
                  <a:pt x="4572" y="7112"/>
                </a:cubicBezTo>
                <a:cubicBezTo>
                  <a:pt x="4559" y="7169"/>
                  <a:pt x="4563" y="7281"/>
                  <a:pt x="4636" y="7302"/>
                </a:cubicBezTo>
                <a:cubicBezTo>
                  <a:pt x="4704" y="7321"/>
                  <a:pt x="4806" y="7308"/>
                  <a:pt x="4858" y="7271"/>
                </a:cubicBezTo>
                <a:cubicBezTo>
                  <a:pt x="4835" y="7202"/>
                  <a:pt x="4738" y="7288"/>
                  <a:pt x="4699" y="7334"/>
                </a:cubicBezTo>
                <a:cubicBezTo>
                  <a:pt x="4635" y="7408"/>
                  <a:pt x="4561" y="7521"/>
                  <a:pt x="4540" y="7620"/>
                </a:cubicBezTo>
                <a:cubicBezTo>
                  <a:pt x="4526" y="7689"/>
                  <a:pt x="4534" y="7803"/>
                  <a:pt x="4604" y="7842"/>
                </a:cubicBezTo>
                <a:cubicBezTo>
                  <a:pt x="4661" y="7874"/>
                  <a:pt x="4810" y="7839"/>
                  <a:pt x="4858" y="7810"/>
                </a:cubicBezTo>
                <a:cubicBezTo>
                  <a:pt x="4894" y="7775"/>
                  <a:pt x="4911" y="7764"/>
                  <a:pt x="4953" y="7779"/>
                </a:cubicBezTo>
              </a:path>
              <a:path w="7684" h="1906">
                <a:moveTo>
                  <a:pt x="4985" y="7239"/>
                </a:moveTo>
                <a:cubicBezTo>
                  <a:pt x="5034" y="7350"/>
                  <a:pt x="5078" y="7399"/>
                  <a:pt x="5144" y="7493"/>
                </a:cubicBezTo>
                <a:cubicBezTo>
                  <a:pt x="5187" y="7554"/>
                  <a:pt x="5200" y="7677"/>
                  <a:pt x="5270" y="7715"/>
                </a:cubicBezTo>
                <a:cubicBezTo>
                  <a:pt x="5281" y="7715"/>
                  <a:pt x="5291" y="7715"/>
                  <a:pt x="5302" y="7715"/>
                </a:cubicBezTo>
              </a:path>
              <a:path w="7684" h="1906">
                <a:moveTo>
                  <a:pt x="5302" y="7207"/>
                </a:moveTo>
                <a:cubicBezTo>
                  <a:pt x="5287" y="7252"/>
                  <a:pt x="5270" y="7296"/>
                  <a:pt x="5239" y="7366"/>
                </a:cubicBezTo>
                <a:cubicBezTo>
                  <a:pt x="5191" y="7476"/>
                  <a:pt x="5144" y="7583"/>
                  <a:pt x="5080" y="7684"/>
                </a:cubicBezTo>
                <a:cubicBezTo>
                  <a:pt x="5013" y="7789"/>
                  <a:pt x="4955" y="7901"/>
                  <a:pt x="4890" y="8001"/>
                </a:cubicBezTo>
              </a:path>
              <a:path w="7684" h="1906">
                <a:moveTo>
                  <a:pt x="5461" y="7302"/>
                </a:moveTo>
                <a:cubicBezTo>
                  <a:pt x="5461" y="7467"/>
                  <a:pt x="5447" y="7620"/>
                  <a:pt x="5429" y="7779"/>
                </a:cubicBezTo>
                <a:cubicBezTo>
                  <a:pt x="5417" y="7882"/>
                  <a:pt x="5429" y="7993"/>
                  <a:pt x="5429" y="8096"/>
                </a:cubicBezTo>
                <a:cubicBezTo>
                  <a:pt x="5429" y="8160"/>
                  <a:pt x="5429" y="8033"/>
                  <a:pt x="5429" y="7969"/>
                </a:cubicBezTo>
                <a:cubicBezTo>
                  <a:pt x="5429" y="7822"/>
                  <a:pt x="5430" y="7668"/>
                  <a:pt x="5461" y="7525"/>
                </a:cubicBezTo>
                <a:cubicBezTo>
                  <a:pt x="5474" y="7466"/>
                  <a:pt x="5501" y="7326"/>
                  <a:pt x="5524" y="7271"/>
                </a:cubicBezTo>
                <a:cubicBezTo>
                  <a:pt x="5549" y="7211"/>
                  <a:pt x="5654" y="7158"/>
                  <a:pt x="5715" y="7176"/>
                </a:cubicBezTo>
                <a:cubicBezTo>
                  <a:pt x="5764" y="7191"/>
                  <a:pt x="5862" y="7313"/>
                  <a:pt x="5874" y="7366"/>
                </a:cubicBezTo>
                <a:cubicBezTo>
                  <a:pt x="5895" y="7455"/>
                  <a:pt x="5835" y="7558"/>
                  <a:pt x="5778" y="7620"/>
                </a:cubicBezTo>
                <a:cubicBezTo>
                  <a:pt x="5707" y="7697"/>
                  <a:pt x="5645" y="7711"/>
                  <a:pt x="5556" y="7747"/>
                </a:cubicBezTo>
                <a:cubicBezTo>
                  <a:pt x="5487" y="7775"/>
                  <a:pt x="5481" y="7806"/>
                  <a:pt x="5461" y="7747"/>
                </a:cubicBezTo>
              </a:path>
              <a:path w="7684" h="1906">
                <a:moveTo>
                  <a:pt x="6064" y="7302"/>
                </a:moveTo>
                <a:cubicBezTo>
                  <a:pt x="5963" y="7243"/>
                  <a:pt x="5975" y="7291"/>
                  <a:pt x="5906" y="7366"/>
                </a:cubicBezTo>
                <a:cubicBezTo>
                  <a:pt x="5821" y="7458"/>
                  <a:pt x="5785" y="7558"/>
                  <a:pt x="5778" y="7684"/>
                </a:cubicBezTo>
                <a:cubicBezTo>
                  <a:pt x="5775" y="7743"/>
                  <a:pt x="5822" y="7843"/>
                  <a:pt x="5906" y="7810"/>
                </a:cubicBezTo>
                <a:cubicBezTo>
                  <a:pt x="5973" y="7784"/>
                  <a:pt x="6036" y="7720"/>
                  <a:pt x="6064" y="7652"/>
                </a:cubicBezTo>
                <a:cubicBezTo>
                  <a:pt x="6096" y="7573"/>
                  <a:pt x="6168" y="7413"/>
                  <a:pt x="6160" y="7334"/>
                </a:cubicBezTo>
                <a:cubicBezTo>
                  <a:pt x="6155" y="7289"/>
                  <a:pt x="6128" y="7226"/>
                  <a:pt x="6128" y="7271"/>
                </a:cubicBezTo>
                <a:cubicBezTo>
                  <a:pt x="6205" y="7309"/>
                  <a:pt x="6196" y="7355"/>
                  <a:pt x="6223" y="7430"/>
                </a:cubicBezTo>
                <a:cubicBezTo>
                  <a:pt x="6258" y="7527"/>
                  <a:pt x="6255" y="7610"/>
                  <a:pt x="6255" y="7715"/>
                </a:cubicBezTo>
                <a:cubicBezTo>
                  <a:pt x="6255" y="7747"/>
                  <a:pt x="6255" y="7778"/>
                  <a:pt x="6255" y="7810"/>
                </a:cubicBezTo>
                <a:cubicBezTo>
                  <a:pt x="6203" y="7793"/>
                  <a:pt x="6223" y="7749"/>
                  <a:pt x="6223" y="7684"/>
                </a:cubicBezTo>
                <a:cubicBezTo>
                  <a:pt x="6223" y="7576"/>
                  <a:pt x="6275" y="7465"/>
                  <a:pt x="6318" y="7366"/>
                </a:cubicBezTo>
                <a:cubicBezTo>
                  <a:pt x="6329" y="7345"/>
                  <a:pt x="6339" y="7323"/>
                  <a:pt x="6350" y="7302"/>
                </a:cubicBezTo>
              </a:path>
              <a:path w="7684" h="1906">
                <a:moveTo>
                  <a:pt x="6414" y="7207"/>
                </a:moveTo>
                <a:cubicBezTo>
                  <a:pt x="6463" y="7207"/>
                  <a:pt x="6497" y="7215"/>
                  <a:pt x="6509" y="7271"/>
                </a:cubicBezTo>
                <a:cubicBezTo>
                  <a:pt x="6542" y="7422"/>
                  <a:pt x="6456" y="7609"/>
                  <a:pt x="6540" y="7747"/>
                </a:cubicBezTo>
                <a:cubicBezTo>
                  <a:pt x="6559" y="7778"/>
                  <a:pt x="6634" y="7799"/>
                  <a:pt x="6668" y="7779"/>
                </a:cubicBezTo>
                <a:cubicBezTo>
                  <a:pt x="6754" y="7730"/>
                  <a:pt x="6779" y="7633"/>
                  <a:pt x="6826" y="7556"/>
                </a:cubicBezTo>
                <a:cubicBezTo>
                  <a:pt x="6886" y="7459"/>
                  <a:pt x="6910" y="7413"/>
                  <a:pt x="6922" y="7302"/>
                </a:cubicBezTo>
              </a:path>
              <a:path w="7684" h="1906">
                <a:moveTo>
                  <a:pt x="6953" y="7239"/>
                </a:moveTo>
                <a:cubicBezTo>
                  <a:pt x="6887" y="7199"/>
                  <a:pt x="6843" y="7194"/>
                  <a:pt x="6794" y="7271"/>
                </a:cubicBezTo>
                <a:cubicBezTo>
                  <a:pt x="6747" y="7345"/>
                  <a:pt x="6736" y="7470"/>
                  <a:pt x="6731" y="7556"/>
                </a:cubicBezTo>
                <a:cubicBezTo>
                  <a:pt x="6727" y="7634"/>
                  <a:pt x="6757" y="7667"/>
                  <a:pt x="6826" y="7684"/>
                </a:cubicBezTo>
              </a:path>
              <a:path w="7684" h="1906">
                <a:moveTo>
                  <a:pt x="7112" y="7207"/>
                </a:moveTo>
                <a:cubicBezTo>
                  <a:pt x="7112" y="7321"/>
                  <a:pt x="7096" y="7414"/>
                  <a:pt x="7080" y="7525"/>
                </a:cubicBezTo>
                <a:cubicBezTo>
                  <a:pt x="7068" y="7606"/>
                  <a:pt x="7080" y="7696"/>
                  <a:pt x="7080" y="7779"/>
                </a:cubicBezTo>
                <a:cubicBezTo>
                  <a:pt x="7080" y="7864"/>
                  <a:pt x="7076" y="7669"/>
                  <a:pt x="7080" y="7652"/>
                </a:cubicBezTo>
                <a:cubicBezTo>
                  <a:pt x="7098" y="7571"/>
                  <a:pt x="7151" y="7366"/>
                  <a:pt x="7207" y="7302"/>
                </a:cubicBezTo>
                <a:cubicBezTo>
                  <a:pt x="7245" y="7259"/>
                  <a:pt x="7312" y="7239"/>
                  <a:pt x="7366" y="7239"/>
                </a:cubicBezTo>
                <a:cubicBezTo>
                  <a:pt x="7411" y="7298"/>
                  <a:pt x="7414" y="7383"/>
                  <a:pt x="7398" y="7461"/>
                </a:cubicBezTo>
                <a:cubicBezTo>
                  <a:pt x="7377" y="7559"/>
                  <a:pt x="7338" y="7675"/>
                  <a:pt x="7366" y="7779"/>
                </a:cubicBezTo>
                <a:cubicBezTo>
                  <a:pt x="7376" y="7818"/>
                  <a:pt x="7445" y="7888"/>
                  <a:pt x="7493" y="7874"/>
                </a:cubicBezTo>
                <a:cubicBezTo>
                  <a:pt x="7573" y="7851"/>
                  <a:pt x="7628" y="7771"/>
                  <a:pt x="7684" y="7715"/>
                </a:cubicBezTo>
              </a:path>
              <a:path w="7684" h="1906">
                <a:moveTo>
                  <a:pt x="7842" y="7080"/>
                </a:moveTo>
                <a:cubicBezTo>
                  <a:pt x="7831" y="7069"/>
                  <a:pt x="7821" y="7059"/>
                  <a:pt x="7810" y="7048"/>
                </a:cubicBezTo>
              </a:path>
              <a:path w="7684" h="1906">
                <a:moveTo>
                  <a:pt x="7842" y="7080"/>
                </a:moveTo>
                <a:cubicBezTo>
                  <a:pt x="7831" y="7101"/>
                  <a:pt x="7821" y="7123"/>
                  <a:pt x="7810" y="7144"/>
                </a:cubicBezTo>
              </a:path>
              <a:path w="7684" h="1906">
                <a:moveTo>
                  <a:pt x="7810" y="7144"/>
                </a:moveTo>
                <a:cubicBezTo>
                  <a:pt x="7810" y="7289"/>
                  <a:pt x="7820" y="7420"/>
                  <a:pt x="7842" y="7556"/>
                </a:cubicBezTo>
                <a:cubicBezTo>
                  <a:pt x="7853" y="7626"/>
                  <a:pt x="7842" y="7708"/>
                  <a:pt x="7842" y="7779"/>
                </a:cubicBezTo>
              </a:path>
              <a:path w="7684" h="1906">
                <a:moveTo>
                  <a:pt x="7525" y="7398"/>
                </a:moveTo>
                <a:cubicBezTo>
                  <a:pt x="7608" y="7398"/>
                  <a:pt x="7666" y="7370"/>
                  <a:pt x="7747" y="7366"/>
                </a:cubicBezTo>
                <a:cubicBezTo>
                  <a:pt x="7842" y="7366"/>
                  <a:pt x="7874" y="7366"/>
                  <a:pt x="7938" y="7366"/>
                </a:cubicBezTo>
              </a:path>
              <a:path w="7684" h="1906">
                <a:moveTo>
                  <a:pt x="8255" y="7144"/>
                </a:moveTo>
                <a:cubicBezTo>
                  <a:pt x="8237" y="7091"/>
                  <a:pt x="8194" y="7112"/>
                  <a:pt x="8128" y="7112"/>
                </a:cubicBezTo>
                <a:cubicBezTo>
                  <a:pt x="8075" y="7112"/>
                  <a:pt x="8036" y="7157"/>
                  <a:pt x="8033" y="7207"/>
                </a:cubicBezTo>
                <a:cubicBezTo>
                  <a:pt x="8027" y="7289"/>
                  <a:pt x="8092" y="7352"/>
                  <a:pt x="8160" y="7398"/>
                </a:cubicBezTo>
                <a:cubicBezTo>
                  <a:pt x="8223" y="7440"/>
                  <a:pt x="8309" y="7474"/>
                  <a:pt x="8318" y="7556"/>
                </a:cubicBezTo>
                <a:cubicBezTo>
                  <a:pt x="8324" y="7615"/>
                  <a:pt x="8316" y="7645"/>
                  <a:pt x="8255" y="7652"/>
                </a:cubicBezTo>
                <a:cubicBezTo>
                  <a:pt x="8181" y="7660"/>
                  <a:pt x="8132" y="7636"/>
                  <a:pt x="8064" y="7620"/>
                </a:cubicBezTo>
                <a:cubicBezTo>
                  <a:pt x="8003" y="7606"/>
                  <a:pt x="7999" y="7632"/>
                  <a:pt x="7969" y="7588"/>
                </a:cubicBezTo>
              </a:path>
              <a:path w="7684" h="1906">
                <a:moveTo>
                  <a:pt x="8446" y="7144"/>
                </a:moveTo>
                <a:cubicBezTo>
                  <a:pt x="8496" y="7144"/>
                  <a:pt x="8462" y="7160"/>
                  <a:pt x="8509" y="7176"/>
                </a:cubicBezTo>
              </a:path>
              <a:path w="7684" h="1906">
                <a:moveTo>
                  <a:pt x="8446" y="7525"/>
                </a:moveTo>
                <a:cubicBezTo>
                  <a:pt x="8446" y="7556"/>
                  <a:pt x="8446" y="7567"/>
                  <a:pt x="8446" y="75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Ink 11"/>
          <p:cNvSpPr/>
          <p:nvPr/>
        </p:nvSpPr>
        <p:spPr>
          <a:xfrm>
            <a:off x="6126120" y="2274840"/>
            <a:ext cx="2332080" cy="1497240"/>
          </a:xfrm>
          <a:custGeom>
            <a:avLst/>
            <a:gdLst/>
            <a:ahLst/>
            <a:rect l="l" t="t" r="r" b="b"/>
            <a:pathLst>
              <a:path w="6478" h="4161">
                <a:moveTo>
                  <a:pt x="17018" y="8541"/>
                </a:moveTo>
                <a:cubicBezTo>
                  <a:pt x="17123" y="8501"/>
                  <a:pt x="17225" y="8509"/>
                  <a:pt x="17336" y="8477"/>
                </a:cubicBezTo>
                <a:cubicBezTo>
                  <a:pt x="17479" y="8435"/>
                  <a:pt x="17663" y="8397"/>
                  <a:pt x="17812" y="8382"/>
                </a:cubicBezTo>
                <a:cubicBezTo>
                  <a:pt x="18012" y="8362"/>
                  <a:pt x="18215" y="8331"/>
                  <a:pt x="18415" y="8318"/>
                </a:cubicBezTo>
                <a:cubicBezTo>
                  <a:pt x="18681" y="8300"/>
                  <a:pt x="18943" y="8241"/>
                  <a:pt x="19209" y="8223"/>
                </a:cubicBezTo>
                <a:cubicBezTo>
                  <a:pt x="19391" y="8211"/>
                  <a:pt x="19564" y="8192"/>
                  <a:pt x="19748" y="8192"/>
                </a:cubicBezTo>
                <a:cubicBezTo>
                  <a:pt x="19916" y="8192"/>
                  <a:pt x="20109" y="8169"/>
                  <a:pt x="20256" y="8223"/>
                </a:cubicBezTo>
              </a:path>
              <a:path w="6478" h="4161">
                <a:moveTo>
                  <a:pt x="18478" y="8668"/>
                </a:moveTo>
                <a:lnTo>
                  <a:pt x="18478" y="8668"/>
                </a:lnTo>
              </a:path>
              <a:path w="6478" h="4161">
                <a:moveTo>
                  <a:pt x="18478" y="8668"/>
                </a:moveTo>
                <a:cubicBezTo>
                  <a:pt x="18478" y="8679"/>
                  <a:pt x="18478" y="8689"/>
                  <a:pt x="18478" y="8700"/>
                </a:cubicBezTo>
              </a:path>
              <a:path w="6478" h="4161">
                <a:moveTo>
                  <a:pt x="18478" y="8700"/>
                </a:moveTo>
                <a:cubicBezTo>
                  <a:pt x="18427" y="8725"/>
                  <a:pt x="18373" y="8764"/>
                  <a:pt x="18320" y="8795"/>
                </a:cubicBezTo>
                <a:cubicBezTo>
                  <a:pt x="18242" y="8841"/>
                  <a:pt x="18151" y="8847"/>
                  <a:pt x="18066" y="8890"/>
                </a:cubicBezTo>
                <a:cubicBezTo>
                  <a:pt x="17988" y="8929"/>
                  <a:pt x="17941" y="8939"/>
                  <a:pt x="17875" y="8890"/>
                </a:cubicBezTo>
                <a:cubicBezTo>
                  <a:pt x="17832" y="8859"/>
                  <a:pt x="17835" y="8849"/>
                  <a:pt x="17812" y="8826"/>
                </a:cubicBezTo>
                <a:cubicBezTo>
                  <a:pt x="17812" y="8920"/>
                  <a:pt x="17790" y="8990"/>
                  <a:pt x="17780" y="9080"/>
                </a:cubicBezTo>
                <a:cubicBezTo>
                  <a:pt x="17761" y="9242"/>
                  <a:pt x="17707" y="9396"/>
                  <a:pt x="17685" y="9557"/>
                </a:cubicBezTo>
                <a:cubicBezTo>
                  <a:pt x="17679" y="9603"/>
                  <a:pt x="17685" y="9605"/>
                  <a:pt x="17685" y="9652"/>
                </a:cubicBezTo>
                <a:cubicBezTo>
                  <a:pt x="17707" y="9624"/>
                  <a:pt x="17750" y="9575"/>
                  <a:pt x="17780" y="9525"/>
                </a:cubicBezTo>
                <a:cubicBezTo>
                  <a:pt x="17840" y="9427"/>
                  <a:pt x="17873" y="9381"/>
                  <a:pt x="17939" y="9303"/>
                </a:cubicBezTo>
                <a:cubicBezTo>
                  <a:pt x="17989" y="9245"/>
                  <a:pt x="18068" y="9166"/>
                  <a:pt x="18161" y="9176"/>
                </a:cubicBezTo>
                <a:cubicBezTo>
                  <a:pt x="18268" y="9188"/>
                  <a:pt x="18319" y="9231"/>
                  <a:pt x="18383" y="9303"/>
                </a:cubicBezTo>
                <a:cubicBezTo>
                  <a:pt x="18461" y="9391"/>
                  <a:pt x="18493" y="9491"/>
                  <a:pt x="18478" y="9620"/>
                </a:cubicBezTo>
                <a:cubicBezTo>
                  <a:pt x="18460" y="9769"/>
                  <a:pt x="18425" y="9902"/>
                  <a:pt x="18352" y="10033"/>
                </a:cubicBezTo>
                <a:cubicBezTo>
                  <a:pt x="18295" y="10135"/>
                  <a:pt x="18227" y="10262"/>
                  <a:pt x="18129" y="10319"/>
                </a:cubicBezTo>
                <a:cubicBezTo>
                  <a:pt x="18051" y="10365"/>
                  <a:pt x="18041" y="10399"/>
                  <a:pt x="17970" y="10350"/>
                </a:cubicBezTo>
                <a:cubicBezTo>
                  <a:pt x="17910" y="10308"/>
                  <a:pt x="17915" y="10254"/>
                  <a:pt x="17907" y="10192"/>
                </a:cubicBezTo>
              </a:path>
              <a:path w="6478" h="4161">
                <a:moveTo>
                  <a:pt x="18637" y="8985"/>
                </a:moveTo>
                <a:cubicBezTo>
                  <a:pt x="18722" y="9006"/>
                  <a:pt x="18733" y="9059"/>
                  <a:pt x="18764" y="9144"/>
                </a:cubicBezTo>
                <a:cubicBezTo>
                  <a:pt x="18812" y="9277"/>
                  <a:pt x="18816" y="9419"/>
                  <a:pt x="18860" y="9557"/>
                </a:cubicBezTo>
                <a:cubicBezTo>
                  <a:pt x="18898" y="9676"/>
                  <a:pt x="18943" y="9790"/>
                  <a:pt x="18986" y="9906"/>
                </a:cubicBezTo>
                <a:cubicBezTo>
                  <a:pt x="19022" y="10002"/>
                  <a:pt x="19043" y="10057"/>
                  <a:pt x="19114" y="10128"/>
                </a:cubicBezTo>
              </a:path>
              <a:path w="6478" h="4161">
                <a:moveTo>
                  <a:pt x="19240" y="8731"/>
                </a:moveTo>
                <a:cubicBezTo>
                  <a:pt x="19205" y="8872"/>
                  <a:pt x="19162" y="9005"/>
                  <a:pt x="19114" y="9144"/>
                </a:cubicBezTo>
                <a:cubicBezTo>
                  <a:pt x="19033" y="9375"/>
                  <a:pt x="18926" y="9607"/>
                  <a:pt x="18860" y="9842"/>
                </a:cubicBezTo>
                <a:cubicBezTo>
                  <a:pt x="18810" y="10020"/>
                  <a:pt x="18743" y="10179"/>
                  <a:pt x="18669" y="10350"/>
                </a:cubicBezTo>
                <a:cubicBezTo>
                  <a:pt x="18628" y="10444"/>
                  <a:pt x="18623" y="10458"/>
                  <a:pt x="18574" y="10446"/>
                </a:cubicBezTo>
              </a:path>
              <a:path w="6478" h="4161">
                <a:moveTo>
                  <a:pt x="19399" y="8477"/>
                </a:moveTo>
                <a:cubicBezTo>
                  <a:pt x="19443" y="8463"/>
                  <a:pt x="19439" y="8433"/>
                  <a:pt x="19494" y="8414"/>
                </a:cubicBezTo>
                <a:cubicBezTo>
                  <a:pt x="19563" y="8391"/>
                  <a:pt x="19587" y="8472"/>
                  <a:pt x="19590" y="8509"/>
                </a:cubicBezTo>
                <a:cubicBezTo>
                  <a:pt x="19597" y="8590"/>
                  <a:pt x="19583" y="8689"/>
                  <a:pt x="19558" y="8763"/>
                </a:cubicBezTo>
                <a:cubicBezTo>
                  <a:pt x="19539" y="8818"/>
                  <a:pt x="19490" y="8928"/>
                  <a:pt x="19431" y="8954"/>
                </a:cubicBezTo>
                <a:cubicBezTo>
                  <a:pt x="19420" y="8954"/>
                  <a:pt x="19410" y="8954"/>
                  <a:pt x="19399" y="8954"/>
                </a:cubicBezTo>
                <a:cubicBezTo>
                  <a:pt x="19376" y="8942"/>
                  <a:pt x="19382" y="8892"/>
                  <a:pt x="19431" y="8858"/>
                </a:cubicBezTo>
                <a:cubicBezTo>
                  <a:pt x="19488" y="8818"/>
                  <a:pt x="19524" y="8795"/>
                  <a:pt x="19590" y="8795"/>
                </a:cubicBezTo>
                <a:cubicBezTo>
                  <a:pt x="19651" y="8795"/>
                  <a:pt x="19700" y="8826"/>
                  <a:pt x="19717" y="8890"/>
                </a:cubicBezTo>
                <a:cubicBezTo>
                  <a:pt x="19737" y="8964"/>
                  <a:pt x="19696" y="9025"/>
                  <a:pt x="19685" y="9080"/>
                </a:cubicBezTo>
                <a:cubicBezTo>
                  <a:pt x="19667" y="9171"/>
                  <a:pt x="19657" y="9204"/>
                  <a:pt x="19590" y="9271"/>
                </a:cubicBezTo>
                <a:cubicBezTo>
                  <a:pt x="19536" y="9325"/>
                  <a:pt x="19513" y="9314"/>
                  <a:pt x="19463" y="9303"/>
                </a:cubicBezTo>
                <a:cubicBezTo>
                  <a:pt x="19431" y="9303"/>
                  <a:pt x="19420" y="9303"/>
                  <a:pt x="19431" y="9271"/>
                </a:cubicBezTo>
              </a:path>
              <a:path w="6478" h="4161">
                <a:moveTo>
                  <a:pt x="20510" y="8033"/>
                </a:moveTo>
                <a:cubicBezTo>
                  <a:pt x="20510" y="8043"/>
                  <a:pt x="20510" y="8054"/>
                  <a:pt x="20510" y="8064"/>
                </a:cubicBezTo>
                <a:cubicBezTo>
                  <a:pt x="20569" y="8064"/>
                  <a:pt x="20586" y="8090"/>
                  <a:pt x="20638" y="8096"/>
                </a:cubicBezTo>
                <a:cubicBezTo>
                  <a:pt x="20734" y="8107"/>
                  <a:pt x="20814" y="8088"/>
                  <a:pt x="20892" y="8064"/>
                </a:cubicBezTo>
                <a:cubicBezTo>
                  <a:pt x="20902" y="8064"/>
                  <a:pt x="20913" y="8064"/>
                  <a:pt x="20923" y="8064"/>
                </a:cubicBezTo>
              </a:path>
              <a:path w="6478" h="4161">
                <a:moveTo>
                  <a:pt x="20574" y="8446"/>
                </a:moveTo>
                <a:cubicBezTo>
                  <a:pt x="20653" y="8430"/>
                  <a:pt x="20711" y="8414"/>
                  <a:pt x="20796" y="8414"/>
                </a:cubicBezTo>
                <a:cubicBezTo>
                  <a:pt x="20841" y="8414"/>
                  <a:pt x="20864" y="8420"/>
                  <a:pt x="20892" y="8446"/>
                </a:cubicBezTo>
              </a:path>
              <a:path w="6478" h="4161">
                <a:moveTo>
                  <a:pt x="22098" y="6858"/>
                </a:moveTo>
                <a:cubicBezTo>
                  <a:pt x="22042" y="6886"/>
                  <a:pt x="21972" y="6921"/>
                  <a:pt x="21908" y="6953"/>
                </a:cubicBezTo>
                <a:cubicBezTo>
                  <a:pt x="21820" y="6997"/>
                  <a:pt x="21740" y="7010"/>
                  <a:pt x="21654" y="7048"/>
                </a:cubicBezTo>
                <a:cubicBezTo>
                  <a:pt x="21567" y="7087"/>
                  <a:pt x="21495" y="7080"/>
                  <a:pt x="21400" y="7080"/>
                </a:cubicBezTo>
                <a:cubicBezTo>
                  <a:pt x="21368" y="7080"/>
                  <a:pt x="21336" y="7080"/>
                  <a:pt x="21304" y="7080"/>
                </a:cubicBezTo>
                <a:cubicBezTo>
                  <a:pt x="21317" y="7156"/>
                  <a:pt x="21356" y="7200"/>
                  <a:pt x="21368" y="7271"/>
                </a:cubicBezTo>
                <a:cubicBezTo>
                  <a:pt x="21396" y="7439"/>
                  <a:pt x="21353" y="7618"/>
                  <a:pt x="21336" y="7779"/>
                </a:cubicBezTo>
                <a:cubicBezTo>
                  <a:pt x="21325" y="7884"/>
                  <a:pt x="21310" y="7992"/>
                  <a:pt x="21304" y="8096"/>
                </a:cubicBezTo>
                <a:cubicBezTo>
                  <a:pt x="21302" y="8138"/>
                  <a:pt x="21304" y="8181"/>
                  <a:pt x="21304" y="8223"/>
                </a:cubicBezTo>
                <a:cubicBezTo>
                  <a:pt x="21351" y="8171"/>
                  <a:pt x="21388" y="8116"/>
                  <a:pt x="21431" y="8064"/>
                </a:cubicBezTo>
                <a:cubicBezTo>
                  <a:pt x="21504" y="7977"/>
                  <a:pt x="21553" y="7899"/>
                  <a:pt x="21654" y="7842"/>
                </a:cubicBezTo>
                <a:cubicBezTo>
                  <a:pt x="21754" y="7786"/>
                  <a:pt x="21774" y="7772"/>
                  <a:pt x="21876" y="7810"/>
                </a:cubicBezTo>
                <a:cubicBezTo>
                  <a:pt x="21993" y="7853"/>
                  <a:pt x="22034" y="7953"/>
                  <a:pt x="22066" y="8064"/>
                </a:cubicBezTo>
                <a:cubicBezTo>
                  <a:pt x="22120" y="8250"/>
                  <a:pt x="22140" y="8383"/>
                  <a:pt x="22098" y="8572"/>
                </a:cubicBezTo>
                <a:cubicBezTo>
                  <a:pt x="22059" y="8749"/>
                  <a:pt x="22013" y="8899"/>
                  <a:pt x="21908" y="9049"/>
                </a:cubicBezTo>
                <a:cubicBezTo>
                  <a:pt x="21783" y="9227"/>
                  <a:pt x="21652" y="9281"/>
                  <a:pt x="21495" y="9398"/>
                </a:cubicBezTo>
                <a:cubicBezTo>
                  <a:pt x="21427" y="9449"/>
                  <a:pt x="21243" y="9587"/>
                  <a:pt x="21146" y="9462"/>
                </a:cubicBezTo>
                <a:cubicBezTo>
                  <a:pt x="21117" y="9376"/>
                  <a:pt x="21111" y="9353"/>
                  <a:pt x="21082" y="9303"/>
                </a:cubicBezTo>
              </a:path>
              <a:path w="6478" h="4161">
                <a:moveTo>
                  <a:pt x="22257" y="7525"/>
                </a:moveTo>
                <a:cubicBezTo>
                  <a:pt x="22230" y="7525"/>
                  <a:pt x="22269" y="7577"/>
                  <a:pt x="22320" y="7620"/>
                </a:cubicBezTo>
                <a:cubicBezTo>
                  <a:pt x="22400" y="7689"/>
                  <a:pt x="22429" y="7741"/>
                  <a:pt x="22479" y="7842"/>
                </a:cubicBezTo>
                <a:cubicBezTo>
                  <a:pt x="22539" y="7962"/>
                  <a:pt x="22601" y="8061"/>
                  <a:pt x="22638" y="8192"/>
                </a:cubicBezTo>
                <a:cubicBezTo>
                  <a:pt x="22675" y="8323"/>
                  <a:pt x="22707" y="8449"/>
                  <a:pt x="22765" y="8572"/>
                </a:cubicBezTo>
                <a:cubicBezTo>
                  <a:pt x="22799" y="8645"/>
                  <a:pt x="22815" y="8739"/>
                  <a:pt x="22860" y="8795"/>
                </a:cubicBezTo>
                <a:cubicBezTo>
                  <a:pt x="22913" y="8860"/>
                  <a:pt x="22892" y="8800"/>
                  <a:pt x="22892" y="8763"/>
                </a:cubicBezTo>
              </a:path>
              <a:path w="6478" h="4161">
                <a:moveTo>
                  <a:pt x="22892" y="7334"/>
                </a:moveTo>
                <a:cubicBezTo>
                  <a:pt x="22866" y="7437"/>
                  <a:pt x="22848" y="7542"/>
                  <a:pt x="22828" y="7652"/>
                </a:cubicBezTo>
                <a:cubicBezTo>
                  <a:pt x="22784" y="7899"/>
                  <a:pt x="22739" y="8173"/>
                  <a:pt x="22670" y="8414"/>
                </a:cubicBezTo>
                <a:cubicBezTo>
                  <a:pt x="22610" y="8622"/>
                  <a:pt x="22560" y="8847"/>
                  <a:pt x="22479" y="9049"/>
                </a:cubicBezTo>
                <a:cubicBezTo>
                  <a:pt x="22456" y="9107"/>
                  <a:pt x="22375" y="9329"/>
                  <a:pt x="22320" y="9366"/>
                </a:cubicBezTo>
                <a:cubicBezTo>
                  <a:pt x="22309" y="9366"/>
                  <a:pt x="22299" y="9366"/>
                  <a:pt x="22288" y="9366"/>
                </a:cubicBezTo>
              </a:path>
              <a:path w="6478" h="4161">
                <a:moveTo>
                  <a:pt x="23241" y="6445"/>
                </a:moveTo>
                <a:cubicBezTo>
                  <a:pt x="23241" y="6566"/>
                  <a:pt x="23252" y="6679"/>
                  <a:pt x="23209" y="6794"/>
                </a:cubicBezTo>
                <a:cubicBezTo>
                  <a:pt x="23176" y="6881"/>
                  <a:pt x="23170" y="6968"/>
                  <a:pt x="23114" y="7048"/>
                </a:cubicBezTo>
                <a:cubicBezTo>
                  <a:pt x="23063" y="7121"/>
                  <a:pt x="23064" y="7086"/>
                  <a:pt x="23114" y="7080"/>
                </a:cubicBezTo>
                <a:cubicBezTo>
                  <a:pt x="23211" y="7068"/>
                  <a:pt x="23317" y="7087"/>
                  <a:pt x="23368" y="7112"/>
                </a:cubicBezTo>
                <a:cubicBezTo>
                  <a:pt x="23417" y="7136"/>
                  <a:pt x="23485" y="7111"/>
                  <a:pt x="23495" y="7080"/>
                </a:cubicBezTo>
              </a:path>
              <a:path w="6478" h="4161">
                <a:moveTo>
                  <a:pt x="23463" y="6318"/>
                </a:moveTo>
                <a:cubicBezTo>
                  <a:pt x="23463" y="6417"/>
                  <a:pt x="23435" y="6502"/>
                  <a:pt x="23432" y="6604"/>
                </a:cubicBezTo>
                <a:cubicBezTo>
                  <a:pt x="23427" y="6797"/>
                  <a:pt x="23404" y="6983"/>
                  <a:pt x="23400" y="7176"/>
                </a:cubicBezTo>
                <a:cubicBezTo>
                  <a:pt x="23400" y="7356"/>
                  <a:pt x="23400" y="7409"/>
                  <a:pt x="23400" y="7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Ink 12"/>
          <p:cNvSpPr/>
          <p:nvPr/>
        </p:nvSpPr>
        <p:spPr>
          <a:xfrm>
            <a:off x="1292400" y="2982960"/>
            <a:ext cx="811080" cy="720720"/>
          </a:xfrm>
          <a:custGeom>
            <a:avLst/>
            <a:gdLst/>
            <a:ahLst/>
            <a:rect l="l" t="t" r="r" b="b"/>
            <a:pathLst>
              <a:path w="2255" h="2001">
                <a:moveTo>
                  <a:pt x="3746" y="8509"/>
                </a:moveTo>
                <a:cubicBezTo>
                  <a:pt x="3746" y="8621"/>
                  <a:pt x="3728" y="8722"/>
                  <a:pt x="3715" y="8826"/>
                </a:cubicBezTo>
                <a:cubicBezTo>
                  <a:pt x="3700" y="8946"/>
                  <a:pt x="3710" y="9060"/>
                  <a:pt x="3683" y="9176"/>
                </a:cubicBezTo>
                <a:cubicBezTo>
                  <a:pt x="3659" y="9278"/>
                  <a:pt x="3629" y="9389"/>
                  <a:pt x="3620" y="9493"/>
                </a:cubicBezTo>
                <a:cubicBezTo>
                  <a:pt x="3620" y="9504"/>
                  <a:pt x="3620" y="9514"/>
                  <a:pt x="3620" y="9525"/>
                </a:cubicBezTo>
                <a:cubicBezTo>
                  <a:pt x="3612" y="9521"/>
                  <a:pt x="3597" y="9454"/>
                  <a:pt x="3620" y="9398"/>
                </a:cubicBezTo>
                <a:cubicBezTo>
                  <a:pt x="3632" y="9368"/>
                  <a:pt x="3699" y="9336"/>
                  <a:pt x="3715" y="9334"/>
                </a:cubicBezTo>
                <a:cubicBezTo>
                  <a:pt x="3775" y="9326"/>
                  <a:pt x="3789" y="9362"/>
                  <a:pt x="3842" y="9366"/>
                </a:cubicBezTo>
                <a:cubicBezTo>
                  <a:pt x="3963" y="9375"/>
                  <a:pt x="3908" y="9461"/>
                  <a:pt x="4000" y="9493"/>
                </a:cubicBezTo>
                <a:cubicBezTo>
                  <a:pt x="4061" y="9514"/>
                  <a:pt x="4122" y="9525"/>
                  <a:pt x="4191" y="9525"/>
                </a:cubicBezTo>
                <a:cubicBezTo>
                  <a:pt x="4315" y="9525"/>
                  <a:pt x="4295" y="9458"/>
                  <a:pt x="4350" y="9366"/>
                </a:cubicBezTo>
                <a:cubicBezTo>
                  <a:pt x="4361" y="9355"/>
                  <a:pt x="4371" y="9345"/>
                  <a:pt x="4382" y="9334"/>
                </a:cubicBezTo>
              </a:path>
              <a:path w="2255" h="2001">
                <a:moveTo>
                  <a:pt x="4318" y="8446"/>
                </a:moveTo>
                <a:lnTo>
                  <a:pt x="4318" y="8509"/>
                </a:lnTo>
                <a:lnTo>
                  <a:pt x="4318" y="8541"/>
                </a:lnTo>
                <a:lnTo>
                  <a:pt x="4318" y="8636"/>
                </a:lnTo>
                <a:lnTo>
                  <a:pt x="4318" y="8731"/>
                </a:lnTo>
                <a:lnTo>
                  <a:pt x="4318" y="8826"/>
                </a:lnTo>
                <a:lnTo>
                  <a:pt x="4286" y="8922"/>
                </a:lnTo>
                <a:lnTo>
                  <a:pt x="4286" y="9049"/>
                </a:lnTo>
                <a:lnTo>
                  <a:pt x="4286" y="9176"/>
                </a:lnTo>
                <a:lnTo>
                  <a:pt x="4254" y="9303"/>
                </a:lnTo>
                <a:lnTo>
                  <a:pt x="4254" y="9462"/>
                </a:lnTo>
                <a:lnTo>
                  <a:pt x="4223" y="9557"/>
                </a:lnTo>
                <a:lnTo>
                  <a:pt x="4223" y="9684"/>
                </a:lnTo>
                <a:lnTo>
                  <a:pt x="4223" y="9811"/>
                </a:lnTo>
                <a:lnTo>
                  <a:pt x="4191" y="9906"/>
                </a:lnTo>
                <a:lnTo>
                  <a:pt x="4191" y="10001"/>
                </a:lnTo>
                <a:lnTo>
                  <a:pt x="4191" y="10065"/>
                </a:lnTo>
                <a:lnTo>
                  <a:pt x="4159" y="10128"/>
                </a:lnTo>
                <a:lnTo>
                  <a:pt x="4159" y="10192"/>
                </a:lnTo>
                <a:lnTo>
                  <a:pt x="4159" y="10224"/>
                </a:lnTo>
                <a:lnTo>
                  <a:pt x="4159" y="10192"/>
                </a:lnTo>
              </a:path>
              <a:path w="2255" h="2001">
                <a:moveTo>
                  <a:pt x="4731" y="9017"/>
                </a:moveTo>
                <a:cubicBezTo>
                  <a:pt x="4731" y="9078"/>
                  <a:pt x="4744" y="9153"/>
                  <a:pt x="4762" y="9208"/>
                </a:cubicBezTo>
                <a:cubicBezTo>
                  <a:pt x="4793" y="9301"/>
                  <a:pt x="4874" y="9451"/>
                  <a:pt x="4921" y="9525"/>
                </a:cubicBezTo>
                <a:cubicBezTo>
                  <a:pt x="4980" y="9619"/>
                  <a:pt x="5073" y="9726"/>
                  <a:pt x="5144" y="9811"/>
                </a:cubicBezTo>
                <a:cubicBezTo>
                  <a:pt x="5187" y="9862"/>
                  <a:pt x="5282" y="9978"/>
                  <a:pt x="5302" y="9938"/>
                </a:cubicBezTo>
              </a:path>
              <a:path w="2255" h="2001">
                <a:moveTo>
                  <a:pt x="5144" y="9080"/>
                </a:moveTo>
                <a:cubicBezTo>
                  <a:pt x="5107" y="9108"/>
                  <a:pt x="5011" y="9272"/>
                  <a:pt x="4985" y="9334"/>
                </a:cubicBezTo>
                <a:cubicBezTo>
                  <a:pt x="4921" y="9488"/>
                  <a:pt x="4857" y="9605"/>
                  <a:pt x="4762" y="9747"/>
                </a:cubicBezTo>
                <a:cubicBezTo>
                  <a:pt x="4681" y="9868"/>
                  <a:pt x="4615" y="10001"/>
                  <a:pt x="4540" y="10128"/>
                </a:cubicBezTo>
                <a:cubicBezTo>
                  <a:pt x="4505" y="10188"/>
                  <a:pt x="4483" y="10236"/>
                  <a:pt x="4445" y="10287"/>
                </a:cubicBezTo>
              </a:path>
              <a:path w="2255" h="2001">
                <a:moveTo>
                  <a:pt x="5398" y="8795"/>
                </a:moveTo>
                <a:cubicBezTo>
                  <a:pt x="5470" y="8795"/>
                  <a:pt x="5497" y="8783"/>
                  <a:pt x="5556" y="8763"/>
                </a:cubicBezTo>
                <a:cubicBezTo>
                  <a:pt x="5588" y="8763"/>
                  <a:pt x="5599" y="8763"/>
                  <a:pt x="5620" y="8763"/>
                </a:cubicBezTo>
              </a:path>
              <a:path w="2255" h="2001">
                <a:moveTo>
                  <a:pt x="5842" y="8477"/>
                </a:moveTo>
                <a:cubicBezTo>
                  <a:pt x="5842" y="8547"/>
                  <a:pt x="5815" y="8597"/>
                  <a:pt x="5810" y="8668"/>
                </a:cubicBezTo>
                <a:cubicBezTo>
                  <a:pt x="5803" y="8759"/>
                  <a:pt x="5783" y="8834"/>
                  <a:pt x="5778" y="8922"/>
                </a:cubicBezTo>
                <a:cubicBezTo>
                  <a:pt x="5778" y="8985"/>
                  <a:pt x="5778" y="9007"/>
                  <a:pt x="5778" y="9049"/>
                </a:cubicBezTo>
              </a:path>
              <a:path w="2255" h="2001">
                <a:moveTo>
                  <a:pt x="5556" y="8382"/>
                </a:moveTo>
                <a:cubicBezTo>
                  <a:pt x="5556" y="8463"/>
                  <a:pt x="5546" y="8506"/>
                  <a:pt x="5524" y="8572"/>
                </a:cubicBezTo>
                <a:cubicBezTo>
                  <a:pt x="5524" y="8604"/>
                  <a:pt x="5524" y="8615"/>
                  <a:pt x="5524" y="8636"/>
                </a:cubicBezTo>
                <a:cubicBezTo>
                  <a:pt x="5603" y="8636"/>
                  <a:pt x="5822" y="8665"/>
                  <a:pt x="5842" y="8604"/>
                </a:cubicBezTo>
              </a:path>
              <a:path w="2255" h="2001">
                <a:moveTo>
                  <a:pt x="5778" y="8287"/>
                </a:moveTo>
                <a:cubicBezTo>
                  <a:pt x="5734" y="8346"/>
                  <a:pt x="5747" y="8399"/>
                  <a:pt x="5747" y="8477"/>
                </a:cubicBezTo>
                <a:cubicBezTo>
                  <a:pt x="5747" y="8646"/>
                  <a:pt x="5747" y="8816"/>
                  <a:pt x="5747" y="8985"/>
                </a:cubicBezTo>
              </a:path>
              <a:path w="2255" h="2001">
                <a:moveTo>
                  <a:pt x="5270" y="8763"/>
                </a:moveTo>
                <a:cubicBezTo>
                  <a:pt x="5355" y="8763"/>
                  <a:pt x="5439" y="8763"/>
                  <a:pt x="5524" y="87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Ink 13"/>
          <p:cNvSpPr/>
          <p:nvPr/>
        </p:nvSpPr>
        <p:spPr>
          <a:xfrm>
            <a:off x="2297160" y="3371760"/>
            <a:ext cx="309600" cy="195480"/>
          </a:xfrm>
          <a:custGeom>
            <a:avLst/>
            <a:gdLst/>
            <a:ahLst/>
            <a:rect l="l" t="t" r="r" b="b"/>
            <a:pathLst>
              <a:path w="858" h="541">
                <a:moveTo>
                  <a:pt x="6382" y="9366"/>
                </a:moveTo>
                <a:cubicBezTo>
                  <a:pt x="6598" y="9366"/>
                  <a:pt x="6811" y="9365"/>
                  <a:pt x="7017" y="9398"/>
                </a:cubicBezTo>
                <a:cubicBezTo>
                  <a:pt x="7110" y="9413"/>
                  <a:pt x="7138" y="9462"/>
                  <a:pt x="7239" y="9462"/>
                </a:cubicBezTo>
              </a:path>
              <a:path w="858" h="541">
                <a:moveTo>
                  <a:pt x="6445" y="9779"/>
                </a:moveTo>
                <a:cubicBezTo>
                  <a:pt x="6473" y="9821"/>
                  <a:pt x="6562" y="9838"/>
                  <a:pt x="6636" y="9842"/>
                </a:cubicBezTo>
                <a:cubicBezTo>
                  <a:pt x="6757" y="9849"/>
                  <a:pt x="6866" y="9869"/>
                  <a:pt x="6985" y="9874"/>
                </a:cubicBezTo>
                <a:cubicBezTo>
                  <a:pt x="7055" y="9877"/>
                  <a:pt x="7107" y="9897"/>
                  <a:pt x="7176" y="9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Ink 14"/>
          <p:cNvSpPr/>
          <p:nvPr/>
        </p:nvSpPr>
        <p:spPr>
          <a:xfrm>
            <a:off x="2846520" y="2879640"/>
            <a:ext cx="720720" cy="995400"/>
          </a:xfrm>
          <a:custGeom>
            <a:avLst/>
            <a:gdLst/>
            <a:ahLst/>
            <a:rect l="l" t="t" r="r" b="b"/>
            <a:pathLst>
              <a:path w="2001" h="2763">
                <a:moveTo>
                  <a:pt x="8509" y="8033"/>
                </a:moveTo>
                <a:cubicBezTo>
                  <a:pt x="8449" y="8052"/>
                  <a:pt x="8477" y="8153"/>
                  <a:pt x="8477" y="8223"/>
                </a:cubicBezTo>
                <a:cubicBezTo>
                  <a:pt x="8477" y="8338"/>
                  <a:pt x="8451" y="8433"/>
                  <a:pt x="8446" y="8541"/>
                </a:cubicBezTo>
                <a:cubicBezTo>
                  <a:pt x="8442" y="8637"/>
                  <a:pt x="8439" y="8766"/>
                  <a:pt x="8446" y="8763"/>
                </a:cubicBezTo>
                <a:cubicBezTo>
                  <a:pt x="8478" y="8750"/>
                  <a:pt x="8502" y="8752"/>
                  <a:pt x="8541" y="8731"/>
                </a:cubicBezTo>
                <a:cubicBezTo>
                  <a:pt x="8615" y="8690"/>
                  <a:pt x="8612" y="8725"/>
                  <a:pt x="8700" y="8731"/>
                </a:cubicBezTo>
                <a:cubicBezTo>
                  <a:pt x="8782" y="8736"/>
                  <a:pt x="8830" y="8763"/>
                  <a:pt x="8922" y="8763"/>
                </a:cubicBezTo>
                <a:cubicBezTo>
                  <a:pt x="8979" y="8763"/>
                  <a:pt x="9044" y="8783"/>
                  <a:pt x="9080" y="8731"/>
                </a:cubicBezTo>
                <a:cubicBezTo>
                  <a:pt x="9112" y="8668"/>
                  <a:pt x="9123" y="8646"/>
                  <a:pt x="9144" y="8604"/>
                </a:cubicBezTo>
              </a:path>
              <a:path w="2001" h="2763">
                <a:moveTo>
                  <a:pt x="9049" y="8001"/>
                </a:moveTo>
                <a:cubicBezTo>
                  <a:pt x="8990" y="8021"/>
                  <a:pt x="9017" y="8122"/>
                  <a:pt x="9017" y="8192"/>
                </a:cubicBezTo>
                <a:cubicBezTo>
                  <a:pt x="9017" y="8376"/>
                  <a:pt x="9001" y="8553"/>
                  <a:pt x="8985" y="8731"/>
                </a:cubicBezTo>
                <a:cubicBezTo>
                  <a:pt x="8972" y="8868"/>
                  <a:pt x="8990" y="9012"/>
                  <a:pt x="8954" y="9144"/>
                </a:cubicBezTo>
                <a:cubicBezTo>
                  <a:pt x="8931" y="9227"/>
                  <a:pt x="8902" y="9218"/>
                  <a:pt x="8890" y="9303"/>
                </a:cubicBezTo>
              </a:path>
              <a:path w="2001" h="2763">
                <a:moveTo>
                  <a:pt x="7906" y="9366"/>
                </a:moveTo>
                <a:cubicBezTo>
                  <a:pt x="8192" y="9366"/>
                  <a:pt x="9854" y="9489"/>
                  <a:pt x="9906" y="9334"/>
                </a:cubicBezTo>
              </a:path>
              <a:path w="2001" h="2763">
                <a:moveTo>
                  <a:pt x="8636" y="9684"/>
                </a:moveTo>
                <a:cubicBezTo>
                  <a:pt x="8636" y="9749"/>
                  <a:pt x="8638" y="9758"/>
                  <a:pt x="8668" y="9811"/>
                </a:cubicBezTo>
                <a:cubicBezTo>
                  <a:pt x="8715" y="9893"/>
                  <a:pt x="8729" y="10004"/>
                  <a:pt x="8763" y="10096"/>
                </a:cubicBezTo>
                <a:cubicBezTo>
                  <a:pt x="8809" y="10219"/>
                  <a:pt x="8886" y="10306"/>
                  <a:pt x="8954" y="10414"/>
                </a:cubicBezTo>
                <a:cubicBezTo>
                  <a:pt x="8994" y="10478"/>
                  <a:pt x="9083" y="10538"/>
                  <a:pt x="9112" y="10604"/>
                </a:cubicBezTo>
                <a:cubicBezTo>
                  <a:pt x="9125" y="10634"/>
                  <a:pt x="9156" y="10670"/>
                  <a:pt x="9112" y="10604"/>
                </a:cubicBezTo>
              </a:path>
              <a:path w="2001" h="2763">
                <a:moveTo>
                  <a:pt x="9017" y="9779"/>
                </a:moveTo>
                <a:cubicBezTo>
                  <a:pt x="9017" y="9844"/>
                  <a:pt x="9001" y="9909"/>
                  <a:pt x="8985" y="9970"/>
                </a:cubicBezTo>
                <a:cubicBezTo>
                  <a:pt x="8955" y="10089"/>
                  <a:pt x="8861" y="10214"/>
                  <a:pt x="8795" y="10319"/>
                </a:cubicBezTo>
                <a:cubicBezTo>
                  <a:pt x="8720" y="10438"/>
                  <a:pt x="8643" y="10554"/>
                  <a:pt x="8572" y="10668"/>
                </a:cubicBezTo>
                <a:cubicBezTo>
                  <a:pt x="8545" y="10724"/>
                  <a:pt x="8541" y="10739"/>
                  <a:pt x="8509" y="10763"/>
                </a:cubicBezTo>
              </a:path>
              <a:path w="2001" h="2763">
                <a:moveTo>
                  <a:pt x="9366" y="9684"/>
                </a:moveTo>
                <a:cubicBezTo>
                  <a:pt x="9366" y="9756"/>
                  <a:pt x="9341" y="9726"/>
                  <a:pt x="9334" y="9779"/>
                </a:cubicBezTo>
                <a:cubicBezTo>
                  <a:pt x="9329" y="9821"/>
                  <a:pt x="9266" y="9855"/>
                  <a:pt x="9303" y="9874"/>
                </a:cubicBezTo>
                <a:cubicBezTo>
                  <a:pt x="9336" y="9891"/>
                  <a:pt x="9397" y="9801"/>
                  <a:pt x="9430" y="9842"/>
                </a:cubicBezTo>
                <a:cubicBezTo>
                  <a:pt x="9440" y="9855"/>
                  <a:pt x="9490" y="9900"/>
                  <a:pt x="9493" y="9906"/>
                </a:cubicBezTo>
                <a:cubicBezTo>
                  <a:pt x="9493" y="9938"/>
                  <a:pt x="9493" y="9949"/>
                  <a:pt x="9525" y="9938"/>
                </a:cubicBezTo>
                <a:cubicBezTo>
                  <a:pt x="9535" y="9900"/>
                  <a:pt x="9547" y="9880"/>
                  <a:pt x="9557" y="9842"/>
                </a:cubicBezTo>
              </a:path>
              <a:path w="2001" h="2763">
                <a:moveTo>
                  <a:pt x="9588" y="9588"/>
                </a:moveTo>
                <a:cubicBezTo>
                  <a:pt x="9571" y="9594"/>
                  <a:pt x="9503" y="9649"/>
                  <a:pt x="9493" y="9684"/>
                </a:cubicBezTo>
                <a:cubicBezTo>
                  <a:pt x="9458" y="9804"/>
                  <a:pt x="9508" y="9950"/>
                  <a:pt x="9525" y="10065"/>
                </a:cubicBezTo>
                <a:cubicBezTo>
                  <a:pt x="9534" y="10125"/>
                  <a:pt x="9525" y="10194"/>
                  <a:pt x="9525" y="10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Ink 15"/>
          <p:cNvSpPr/>
          <p:nvPr/>
        </p:nvSpPr>
        <p:spPr>
          <a:xfrm>
            <a:off x="4754520" y="3578400"/>
            <a:ext cx="4127400" cy="811080"/>
          </a:xfrm>
          <a:custGeom>
            <a:avLst/>
            <a:gdLst/>
            <a:ahLst/>
            <a:rect l="l" t="t" r="r" b="b"/>
            <a:pathLst>
              <a:path w="11463" h="2255">
                <a:moveTo>
                  <a:pt x="13589" y="10160"/>
                </a:moveTo>
                <a:cubicBezTo>
                  <a:pt x="13589" y="10264"/>
                  <a:pt x="13588" y="10345"/>
                  <a:pt x="13557" y="10446"/>
                </a:cubicBezTo>
                <a:cubicBezTo>
                  <a:pt x="13514" y="10587"/>
                  <a:pt x="13498" y="10743"/>
                  <a:pt x="13494" y="10890"/>
                </a:cubicBezTo>
                <a:cubicBezTo>
                  <a:pt x="13490" y="11066"/>
                  <a:pt x="13464" y="11258"/>
                  <a:pt x="13430" y="11430"/>
                </a:cubicBezTo>
                <a:cubicBezTo>
                  <a:pt x="13405" y="11558"/>
                  <a:pt x="13362" y="11688"/>
                  <a:pt x="13335" y="11811"/>
                </a:cubicBezTo>
                <a:cubicBezTo>
                  <a:pt x="13335" y="11822"/>
                  <a:pt x="13335" y="11832"/>
                  <a:pt x="13335" y="11843"/>
                </a:cubicBezTo>
              </a:path>
              <a:path w="11463" h="2255">
                <a:moveTo>
                  <a:pt x="13208" y="10255"/>
                </a:moveTo>
                <a:cubicBezTo>
                  <a:pt x="13208" y="10193"/>
                  <a:pt x="13209" y="10116"/>
                  <a:pt x="13240" y="10065"/>
                </a:cubicBezTo>
                <a:cubicBezTo>
                  <a:pt x="13290" y="9983"/>
                  <a:pt x="13361" y="10002"/>
                  <a:pt x="13430" y="9970"/>
                </a:cubicBezTo>
                <a:cubicBezTo>
                  <a:pt x="13494" y="9940"/>
                  <a:pt x="13636" y="9961"/>
                  <a:pt x="13716" y="10001"/>
                </a:cubicBezTo>
                <a:cubicBezTo>
                  <a:pt x="13852" y="10069"/>
                  <a:pt x="13977" y="10231"/>
                  <a:pt x="14002" y="10382"/>
                </a:cubicBezTo>
                <a:cubicBezTo>
                  <a:pt x="14021" y="10496"/>
                  <a:pt x="14000" y="10595"/>
                  <a:pt x="13906" y="10668"/>
                </a:cubicBezTo>
                <a:cubicBezTo>
                  <a:pt x="13823" y="10732"/>
                  <a:pt x="13709" y="10763"/>
                  <a:pt x="13621" y="10795"/>
                </a:cubicBezTo>
                <a:cubicBezTo>
                  <a:pt x="13536" y="10826"/>
                  <a:pt x="13443" y="10867"/>
                  <a:pt x="13367" y="10890"/>
                </a:cubicBezTo>
                <a:cubicBezTo>
                  <a:pt x="13335" y="10890"/>
                  <a:pt x="13324" y="10890"/>
                  <a:pt x="13303" y="10890"/>
                </a:cubicBezTo>
              </a:path>
              <a:path w="11463" h="2255">
                <a:moveTo>
                  <a:pt x="14065" y="10763"/>
                </a:moveTo>
                <a:cubicBezTo>
                  <a:pt x="14032" y="10831"/>
                  <a:pt x="13956" y="10831"/>
                  <a:pt x="13906" y="10890"/>
                </a:cubicBezTo>
                <a:cubicBezTo>
                  <a:pt x="13824" y="10987"/>
                  <a:pt x="13788" y="11122"/>
                  <a:pt x="13748" y="11240"/>
                </a:cubicBezTo>
                <a:cubicBezTo>
                  <a:pt x="13719" y="11327"/>
                  <a:pt x="13689" y="11463"/>
                  <a:pt x="13716" y="11557"/>
                </a:cubicBezTo>
                <a:cubicBezTo>
                  <a:pt x="13748" y="11670"/>
                  <a:pt x="13825" y="11658"/>
                  <a:pt x="13906" y="11620"/>
                </a:cubicBezTo>
                <a:cubicBezTo>
                  <a:pt x="14010" y="11572"/>
                  <a:pt x="14107" y="11482"/>
                  <a:pt x="14129" y="11366"/>
                </a:cubicBezTo>
                <a:cubicBezTo>
                  <a:pt x="14156" y="11226"/>
                  <a:pt x="14165" y="11061"/>
                  <a:pt x="14129" y="10922"/>
                </a:cubicBezTo>
                <a:cubicBezTo>
                  <a:pt x="14107" y="10836"/>
                  <a:pt x="14064" y="10762"/>
                  <a:pt x="14002" y="10700"/>
                </a:cubicBezTo>
              </a:path>
              <a:path w="11463" h="2255">
                <a:moveTo>
                  <a:pt x="14224" y="10732"/>
                </a:moveTo>
                <a:cubicBezTo>
                  <a:pt x="14266" y="10801"/>
                  <a:pt x="14256" y="10867"/>
                  <a:pt x="14256" y="10954"/>
                </a:cubicBezTo>
                <a:cubicBezTo>
                  <a:pt x="14256" y="11076"/>
                  <a:pt x="14306" y="11182"/>
                  <a:pt x="14319" y="11303"/>
                </a:cubicBezTo>
                <a:cubicBezTo>
                  <a:pt x="14331" y="11410"/>
                  <a:pt x="14359" y="11488"/>
                  <a:pt x="14383" y="11589"/>
                </a:cubicBezTo>
                <a:cubicBezTo>
                  <a:pt x="14383" y="11599"/>
                  <a:pt x="14383" y="11610"/>
                  <a:pt x="14383" y="11620"/>
                </a:cubicBezTo>
                <a:cubicBezTo>
                  <a:pt x="14439" y="11601"/>
                  <a:pt x="14414" y="11528"/>
                  <a:pt x="14414" y="11462"/>
                </a:cubicBezTo>
                <a:cubicBezTo>
                  <a:pt x="14414" y="11329"/>
                  <a:pt x="14460" y="11210"/>
                  <a:pt x="14478" y="11081"/>
                </a:cubicBezTo>
                <a:cubicBezTo>
                  <a:pt x="14489" y="10998"/>
                  <a:pt x="14520" y="10929"/>
                  <a:pt x="14542" y="10858"/>
                </a:cubicBezTo>
                <a:cubicBezTo>
                  <a:pt x="14542" y="10848"/>
                  <a:pt x="14542" y="10837"/>
                  <a:pt x="14542" y="10827"/>
                </a:cubicBezTo>
                <a:cubicBezTo>
                  <a:pt x="14580" y="10890"/>
                  <a:pt x="14601" y="10969"/>
                  <a:pt x="14605" y="11049"/>
                </a:cubicBezTo>
                <a:cubicBezTo>
                  <a:pt x="14611" y="11181"/>
                  <a:pt x="14654" y="11301"/>
                  <a:pt x="14668" y="11430"/>
                </a:cubicBezTo>
                <a:cubicBezTo>
                  <a:pt x="14678" y="11517"/>
                  <a:pt x="14696" y="11637"/>
                  <a:pt x="14732" y="11716"/>
                </a:cubicBezTo>
                <a:cubicBezTo>
                  <a:pt x="14761" y="11745"/>
                  <a:pt x="14771" y="11751"/>
                  <a:pt x="14764" y="11779"/>
                </a:cubicBezTo>
                <a:cubicBezTo>
                  <a:pt x="14789" y="11767"/>
                  <a:pt x="14764" y="11696"/>
                  <a:pt x="14764" y="11620"/>
                </a:cubicBezTo>
                <a:cubicBezTo>
                  <a:pt x="14764" y="11485"/>
                  <a:pt x="14774" y="11310"/>
                  <a:pt x="14796" y="11176"/>
                </a:cubicBezTo>
                <a:cubicBezTo>
                  <a:pt x="14819" y="11036"/>
                  <a:pt x="14812" y="10881"/>
                  <a:pt x="14891" y="10763"/>
                </a:cubicBezTo>
              </a:path>
              <a:path w="11463" h="2255">
                <a:moveTo>
                  <a:pt x="14986" y="11271"/>
                </a:moveTo>
                <a:cubicBezTo>
                  <a:pt x="15014" y="11354"/>
                  <a:pt x="15057" y="11254"/>
                  <a:pt x="15081" y="11208"/>
                </a:cubicBezTo>
                <a:cubicBezTo>
                  <a:pt x="15120" y="11134"/>
                  <a:pt x="15190" y="11035"/>
                  <a:pt x="15208" y="10954"/>
                </a:cubicBezTo>
                <a:cubicBezTo>
                  <a:pt x="15225" y="10879"/>
                  <a:pt x="15254" y="10855"/>
                  <a:pt x="15208" y="10795"/>
                </a:cubicBezTo>
                <a:cubicBezTo>
                  <a:pt x="15193" y="10857"/>
                  <a:pt x="15140" y="10889"/>
                  <a:pt x="15113" y="10954"/>
                </a:cubicBezTo>
                <a:cubicBezTo>
                  <a:pt x="15062" y="11078"/>
                  <a:pt x="15024" y="11203"/>
                  <a:pt x="15018" y="11335"/>
                </a:cubicBezTo>
                <a:cubicBezTo>
                  <a:pt x="15015" y="11394"/>
                  <a:pt x="15014" y="11524"/>
                  <a:pt x="15081" y="11557"/>
                </a:cubicBezTo>
                <a:cubicBezTo>
                  <a:pt x="15140" y="11587"/>
                  <a:pt x="15211" y="11598"/>
                  <a:pt x="15272" y="11557"/>
                </a:cubicBezTo>
                <a:cubicBezTo>
                  <a:pt x="15320" y="11525"/>
                  <a:pt x="15340" y="11477"/>
                  <a:pt x="15367" y="11430"/>
                </a:cubicBezTo>
              </a:path>
              <a:path w="11463" h="2255">
                <a:moveTo>
                  <a:pt x="15462" y="10890"/>
                </a:moveTo>
                <a:cubicBezTo>
                  <a:pt x="15462" y="11013"/>
                  <a:pt x="15443" y="11121"/>
                  <a:pt x="15430" y="11240"/>
                </a:cubicBezTo>
                <a:cubicBezTo>
                  <a:pt x="15414" y="11383"/>
                  <a:pt x="15430" y="11515"/>
                  <a:pt x="15399" y="11652"/>
                </a:cubicBezTo>
                <a:cubicBezTo>
                  <a:pt x="15397" y="11661"/>
                  <a:pt x="15399" y="11770"/>
                  <a:pt x="15399" y="11684"/>
                </a:cubicBezTo>
                <a:cubicBezTo>
                  <a:pt x="15399" y="11582"/>
                  <a:pt x="15419" y="11496"/>
                  <a:pt x="15430" y="11398"/>
                </a:cubicBezTo>
                <a:cubicBezTo>
                  <a:pt x="15430" y="11366"/>
                  <a:pt x="15430" y="11335"/>
                  <a:pt x="15430" y="11303"/>
                </a:cubicBezTo>
              </a:path>
              <a:path w="11463" h="2255">
                <a:moveTo>
                  <a:pt x="15462" y="11208"/>
                </a:moveTo>
                <a:cubicBezTo>
                  <a:pt x="15501" y="11073"/>
                  <a:pt x="15529" y="10964"/>
                  <a:pt x="15621" y="10858"/>
                </a:cubicBezTo>
                <a:cubicBezTo>
                  <a:pt x="15650" y="10825"/>
                  <a:pt x="15685" y="10794"/>
                  <a:pt x="15716" y="10763"/>
                </a:cubicBezTo>
                <a:cubicBezTo>
                  <a:pt x="15740" y="10771"/>
                  <a:pt x="15793" y="10811"/>
                  <a:pt x="15780" y="10858"/>
                </a:cubicBezTo>
                <a:cubicBezTo>
                  <a:pt x="15745" y="10980"/>
                  <a:pt x="15655" y="11076"/>
                  <a:pt x="15589" y="11176"/>
                </a:cubicBezTo>
                <a:cubicBezTo>
                  <a:pt x="15560" y="11220"/>
                  <a:pt x="15476" y="11311"/>
                  <a:pt x="15462" y="11335"/>
                </a:cubicBezTo>
                <a:cubicBezTo>
                  <a:pt x="15440" y="11373"/>
                  <a:pt x="15462" y="11472"/>
                  <a:pt x="15494" y="11494"/>
                </a:cubicBezTo>
                <a:cubicBezTo>
                  <a:pt x="15568" y="11545"/>
                  <a:pt x="15622" y="11584"/>
                  <a:pt x="15684" y="11620"/>
                </a:cubicBezTo>
                <a:cubicBezTo>
                  <a:pt x="15751" y="11659"/>
                  <a:pt x="15771" y="11664"/>
                  <a:pt x="15843" y="11620"/>
                </a:cubicBezTo>
              </a:path>
              <a:path w="11463" h="2255">
                <a:moveTo>
                  <a:pt x="16351" y="10446"/>
                </a:moveTo>
                <a:cubicBezTo>
                  <a:pt x="16394" y="10474"/>
                  <a:pt x="16397" y="10594"/>
                  <a:pt x="16383" y="10668"/>
                </a:cubicBezTo>
                <a:cubicBezTo>
                  <a:pt x="16354" y="10817"/>
                  <a:pt x="16325" y="10957"/>
                  <a:pt x="16320" y="11112"/>
                </a:cubicBezTo>
                <a:cubicBezTo>
                  <a:pt x="16315" y="11260"/>
                  <a:pt x="16320" y="11409"/>
                  <a:pt x="16320" y="11557"/>
                </a:cubicBezTo>
              </a:path>
              <a:path w="11463" h="2255">
                <a:moveTo>
                  <a:pt x="16161" y="11049"/>
                </a:moveTo>
                <a:cubicBezTo>
                  <a:pt x="16246" y="11049"/>
                  <a:pt x="16330" y="11049"/>
                  <a:pt x="16415" y="11049"/>
                </a:cubicBezTo>
              </a:path>
              <a:path w="11463" h="2255">
                <a:moveTo>
                  <a:pt x="16669" y="10890"/>
                </a:moveTo>
                <a:cubicBezTo>
                  <a:pt x="16611" y="10948"/>
                  <a:pt x="16572" y="11004"/>
                  <a:pt x="16542" y="11081"/>
                </a:cubicBezTo>
                <a:cubicBezTo>
                  <a:pt x="16513" y="11154"/>
                  <a:pt x="16441" y="11285"/>
                  <a:pt x="16478" y="11366"/>
                </a:cubicBezTo>
                <a:cubicBezTo>
                  <a:pt x="16518" y="11453"/>
                  <a:pt x="16554" y="11415"/>
                  <a:pt x="16605" y="11398"/>
                </a:cubicBezTo>
                <a:cubicBezTo>
                  <a:pt x="16656" y="11381"/>
                  <a:pt x="16707" y="11300"/>
                  <a:pt x="16732" y="11240"/>
                </a:cubicBezTo>
                <a:cubicBezTo>
                  <a:pt x="16781" y="11120"/>
                  <a:pt x="16758" y="11067"/>
                  <a:pt x="16732" y="10954"/>
                </a:cubicBezTo>
                <a:cubicBezTo>
                  <a:pt x="16722" y="10912"/>
                  <a:pt x="16687" y="10885"/>
                  <a:pt x="16669" y="10922"/>
                </a:cubicBezTo>
              </a:path>
              <a:path w="11463" h="2255">
                <a:moveTo>
                  <a:pt x="17494" y="11112"/>
                </a:moveTo>
                <a:cubicBezTo>
                  <a:pt x="17494" y="11017"/>
                  <a:pt x="17487" y="10966"/>
                  <a:pt x="17462" y="10890"/>
                </a:cubicBezTo>
                <a:cubicBezTo>
                  <a:pt x="17462" y="10879"/>
                  <a:pt x="17462" y="10869"/>
                  <a:pt x="17462" y="10858"/>
                </a:cubicBezTo>
                <a:cubicBezTo>
                  <a:pt x="17387" y="10858"/>
                  <a:pt x="17413" y="10869"/>
                  <a:pt x="17367" y="10922"/>
                </a:cubicBezTo>
                <a:cubicBezTo>
                  <a:pt x="17275" y="11027"/>
                  <a:pt x="17237" y="11146"/>
                  <a:pt x="17177" y="11271"/>
                </a:cubicBezTo>
                <a:cubicBezTo>
                  <a:pt x="17147" y="11334"/>
                  <a:pt x="17145" y="11362"/>
                  <a:pt x="17145" y="11430"/>
                </a:cubicBezTo>
                <a:cubicBezTo>
                  <a:pt x="17228" y="11430"/>
                  <a:pt x="17241" y="11398"/>
                  <a:pt x="17304" y="11335"/>
                </a:cubicBezTo>
                <a:cubicBezTo>
                  <a:pt x="17377" y="11263"/>
                  <a:pt x="17392" y="11160"/>
                  <a:pt x="17431" y="11081"/>
                </a:cubicBezTo>
                <a:cubicBezTo>
                  <a:pt x="17459" y="11052"/>
                  <a:pt x="17469" y="11046"/>
                  <a:pt x="17462" y="11017"/>
                </a:cubicBezTo>
                <a:cubicBezTo>
                  <a:pt x="17462" y="11090"/>
                  <a:pt x="17442" y="11141"/>
                  <a:pt x="17431" y="11208"/>
                </a:cubicBezTo>
                <a:cubicBezTo>
                  <a:pt x="17420" y="11275"/>
                  <a:pt x="17419" y="11349"/>
                  <a:pt x="17462" y="11398"/>
                </a:cubicBezTo>
                <a:cubicBezTo>
                  <a:pt x="17518" y="11461"/>
                  <a:pt x="17596" y="11432"/>
                  <a:pt x="17653" y="11398"/>
                </a:cubicBezTo>
              </a:path>
              <a:path w="11463" h="2255">
                <a:moveTo>
                  <a:pt x="18161" y="10763"/>
                </a:moveTo>
                <a:cubicBezTo>
                  <a:pt x="18142" y="10837"/>
                  <a:pt x="18145" y="10901"/>
                  <a:pt x="18129" y="10986"/>
                </a:cubicBezTo>
                <a:cubicBezTo>
                  <a:pt x="18104" y="11120"/>
                  <a:pt x="18095" y="11265"/>
                  <a:pt x="18066" y="11398"/>
                </a:cubicBezTo>
                <a:cubicBezTo>
                  <a:pt x="18041" y="11516"/>
                  <a:pt x="18015" y="11629"/>
                  <a:pt x="18002" y="11748"/>
                </a:cubicBezTo>
                <a:cubicBezTo>
                  <a:pt x="18002" y="11840"/>
                  <a:pt x="18002" y="11590"/>
                  <a:pt x="18002" y="11589"/>
                </a:cubicBezTo>
                <a:cubicBezTo>
                  <a:pt x="18013" y="11557"/>
                  <a:pt x="18023" y="11526"/>
                  <a:pt x="18034" y="11494"/>
                </a:cubicBezTo>
              </a:path>
              <a:path w="11463" h="2255">
                <a:moveTo>
                  <a:pt x="18066" y="10573"/>
                </a:moveTo>
                <a:cubicBezTo>
                  <a:pt x="18066" y="10488"/>
                  <a:pt x="18061" y="10451"/>
                  <a:pt x="18161" y="10446"/>
                </a:cubicBezTo>
                <a:cubicBezTo>
                  <a:pt x="18306" y="10439"/>
                  <a:pt x="18360" y="10539"/>
                  <a:pt x="18447" y="10636"/>
                </a:cubicBezTo>
                <a:cubicBezTo>
                  <a:pt x="18500" y="10695"/>
                  <a:pt x="18583" y="10806"/>
                  <a:pt x="18574" y="10890"/>
                </a:cubicBezTo>
                <a:cubicBezTo>
                  <a:pt x="18564" y="10978"/>
                  <a:pt x="18451" y="11022"/>
                  <a:pt x="18383" y="11049"/>
                </a:cubicBezTo>
                <a:cubicBezTo>
                  <a:pt x="18277" y="11091"/>
                  <a:pt x="18173" y="11121"/>
                  <a:pt x="18066" y="11144"/>
                </a:cubicBezTo>
                <a:cubicBezTo>
                  <a:pt x="18034" y="11144"/>
                  <a:pt x="18023" y="11144"/>
                  <a:pt x="18066" y="11144"/>
                </a:cubicBezTo>
              </a:path>
              <a:path w="11463" h="2255">
                <a:moveTo>
                  <a:pt x="18606" y="11017"/>
                </a:moveTo>
                <a:cubicBezTo>
                  <a:pt x="18573" y="11091"/>
                  <a:pt x="18540" y="11163"/>
                  <a:pt x="18510" y="11240"/>
                </a:cubicBezTo>
                <a:cubicBezTo>
                  <a:pt x="18475" y="11328"/>
                  <a:pt x="18408" y="11500"/>
                  <a:pt x="18415" y="11589"/>
                </a:cubicBezTo>
                <a:cubicBezTo>
                  <a:pt x="18420" y="11651"/>
                  <a:pt x="18446" y="11704"/>
                  <a:pt x="18478" y="11748"/>
                </a:cubicBezTo>
                <a:cubicBezTo>
                  <a:pt x="18568" y="11726"/>
                  <a:pt x="18568" y="11674"/>
                  <a:pt x="18606" y="11589"/>
                </a:cubicBezTo>
                <a:cubicBezTo>
                  <a:pt x="18663" y="11461"/>
                  <a:pt x="18673" y="11338"/>
                  <a:pt x="18701" y="11208"/>
                </a:cubicBezTo>
                <a:cubicBezTo>
                  <a:pt x="18728" y="11083"/>
                  <a:pt x="18701" y="11029"/>
                  <a:pt x="18669" y="10922"/>
                </a:cubicBezTo>
                <a:cubicBezTo>
                  <a:pt x="18661" y="10896"/>
                  <a:pt x="18637" y="10835"/>
                  <a:pt x="18637" y="10890"/>
                </a:cubicBezTo>
                <a:cubicBezTo>
                  <a:pt x="18656" y="10967"/>
                  <a:pt x="18701" y="10970"/>
                  <a:pt x="18764" y="11017"/>
                </a:cubicBezTo>
                <a:cubicBezTo>
                  <a:pt x="18808" y="11050"/>
                  <a:pt x="18842" y="11084"/>
                  <a:pt x="18860" y="11112"/>
                </a:cubicBezTo>
                <a:cubicBezTo>
                  <a:pt x="18904" y="11180"/>
                  <a:pt x="18892" y="11269"/>
                  <a:pt x="18923" y="11335"/>
                </a:cubicBezTo>
                <a:cubicBezTo>
                  <a:pt x="18957" y="11407"/>
                  <a:pt x="18955" y="11471"/>
                  <a:pt x="18955" y="11557"/>
                </a:cubicBezTo>
                <a:cubicBezTo>
                  <a:pt x="18955" y="11623"/>
                  <a:pt x="18973" y="11629"/>
                  <a:pt x="18986" y="11684"/>
                </a:cubicBezTo>
                <a:cubicBezTo>
                  <a:pt x="19031" y="11623"/>
                  <a:pt x="19031" y="11568"/>
                  <a:pt x="19050" y="11494"/>
                </a:cubicBezTo>
                <a:cubicBezTo>
                  <a:pt x="19081" y="11378"/>
                  <a:pt x="19131" y="11259"/>
                  <a:pt x="19145" y="11144"/>
                </a:cubicBezTo>
                <a:cubicBezTo>
                  <a:pt x="19151" y="11096"/>
                  <a:pt x="19145" y="11036"/>
                  <a:pt x="19145" y="10986"/>
                </a:cubicBezTo>
                <a:cubicBezTo>
                  <a:pt x="19194" y="11066"/>
                  <a:pt x="19191" y="11144"/>
                  <a:pt x="19209" y="11240"/>
                </a:cubicBezTo>
                <a:cubicBezTo>
                  <a:pt x="19236" y="11382"/>
                  <a:pt x="19248" y="11516"/>
                  <a:pt x="19304" y="11652"/>
                </a:cubicBezTo>
                <a:cubicBezTo>
                  <a:pt x="19329" y="11712"/>
                  <a:pt x="19360" y="11761"/>
                  <a:pt x="19399" y="11811"/>
                </a:cubicBezTo>
                <a:cubicBezTo>
                  <a:pt x="19441" y="11742"/>
                  <a:pt x="19455" y="11611"/>
                  <a:pt x="19463" y="11525"/>
                </a:cubicBezTo>
                <a:cubicBezTo>
                  <a:pt x="19481" y="11330"/>
                  <a:pt x="19455" y="11141"/>
                  <a:pt x="19494" y="10954"/>
                </a:cubicBezTo>
                <a:cubicBezTo>
                  <a:pt x="19506" y="10895"/>
                  <a:pt x="19533" y="10872"/>
                  <a:pt x="19590" y="10858"/>
                </a:cubicBezTo>
              </a:path>
              <a:path w="11463" h="2255">
                <a:moveTo>
                  <a:pt x="19685" y="11366"/>
                </a:moveTo>
                <a:cubicBezTo>
                  <a:pt x="19718" y="11366"/>
                  <a:pt x="19797" y="11357"/>
                  <a:pt x="19812" y="11335"/>
                </a:cubicBezTo>
                <a:cubicBezTo>
                  <a:pt x="19837" y="11298"/>
                  <a:pt x="19891" y="11225"/>
                  <a:pt x="19907" y="11176"/>
                </a:cubicBezTo>
                <a:cubicBezTo>
                  <a:pt x="19931" y="11103"/>
                  <a:pt x="19939" y="11031"/>
                  <a:pt x="19939" y="10954"/>
                </a:cubicBezTo>
                <a:cubicBezTo>
                  <a:pt x="19856" y="10954"/>
                  <a:pt x="19817" y="10968"/>
                  <a:pt x="19780" y="11049"/>
                </a:cubicBezTo>
                <a:cubicBezTo>
                  <a:pt x="19726" y="11167"/>
                  <a:pt x="19690" y="11302"/>
                  <a:pt x="19685" y="11430"/>
                </a:cubicBezTo>
                <a:cubicBezTo>
                  <a:pt x="19679" y="11581"/>
                  <a:pt x="19671" y="11601"/>
                  <a:pt x="19780" y="11684"/>
                </a:cubicBezTo>
                <a:cubicBezTo>
                  <a:pt x="19835" y="11725"/>
                  <a:pt x="19927" y="11682"/>
                  <a:pt x="19971" y="11620"/>
                </a:cubicBezTo>
                <a:cubicBezTo>
                  <a:pt x="19981" y="11599"/>
                  <a:pt x="19992" y="11578"/>
                  <a:pt x="20002" y="11557"/>
                </a:cubicBezTo>
              </a:path>
              <a:path w="11463" h="2255">
                <a:moveTo>
                  <a:pt x="20193" y="11112"/>
                </a:moveTo>
                <a:cubicBezTo>
                  <a:pt x="20193" y="11217"/>
                  <a:pt x="20173" y="11298"/>
                  <a:pt x="20161" y="11398"/>
                </a:cubicBezTo>
                <a:cubicBezTo>
                  <a:pt x="20150" y="11492"/>
                  <a:pt x="20138" y="11591"/>
                  <a:pt x="20130" y="11684"/>
                </a:cubicBezTo>
                <a:cubicBezTo>
                  <a:pt x="20129" y="11694"/>
                  <a:pt x="20130" y="11802"/>
                  <a:pt x="20130" y="11716"/>
                </a:cubicBezTo>
                <a:cubicBezTo>
                  <a:pt x="20130" y="11593"/>
                  <a:pt x="20129" y="11487"/>
                  <a:pt x="20161" y="11366"/>
                </a:cubicBezTo>
                <a:cubicBezTo>
                  <a:pt x="20197" y="11230"/>
                  <a:pt x="20249" y="11129"/>
                  <a:pt x="20320" y="11017"/>
                </a:cubicBezTo>
                <a:cubicBezTo>
                  <a:pt x="20360" y="10954"/>
                  <a:pt x="20349" y="10939"/>
                  <a:pt x="20415" y="10922"/>
                </a:cubicBezTo>
                <a:cubicBezTo>
                  <a:pt x="20497" y="10983"/>
                  <a:pt x="20464" y="10938"/>
                  <a:pt x="20447" y="11017"/>
                </a:cubicBezTo>
                <a:cubicBezTo>
                  <a:pt x="20422" y="11132"/>
                  <a:pt x="20356" y="11145"/>
                  <a:pt x="20288" y="11240"/>
                </a:cubicBezTo>
                <a:cubicBezTo>
                  <a:pt x="20248" y="11296"/>
                  <a:pt x="20168" y="11365"/>
                  <a:pt x="20161" y="11430"/>
                </a:cubicBezTo>
                <a:cubicBezTo>
                  <a:pt x="20156" y="11477"/>
                  <a:pt x="20151" y="11527"/>
                  <a:pt x="20193" y="11557"/>
                </a:cubicBezTo>
                <a:cubicBezTo>
                  <a:pt x="20262" y="11605"/>
                  <a:pt x="20335" y="11633"/>
                  <a:pt x="20415" y="11652"/>
                </a:cubicBezTo>
                <a:cubicBezTo>
                  <a:pt x="20486" y="11668"/>
                  <a:pt x="20541" y="11629"/>
                  <a:pt x="20606" y="11620"/>
                </a:cubicBezTo>
              </a:path>
              <a:path w="11463" h="2255">
                <a:moveTo>
                  <a:pt x="20892" y="11017"/>
                </a:moveTo>
                <a:cubicBezTo>
                  <a:pt x="20892" y="11028"/>
                  <a:pt x="20892" y="11038"/>
                  <a:pt x="20892" y="11049"/>
                </a:cubicBezTo>
              </a:path>
              <a:path w="11463" h="2255">
                <a:moveTo>
                  <a:pt x="20923" y="11271"/>
                </a:moveTo>
                <a:cubicBezTo>
                  <a:pt x="20923" y="11307"/>
                  <a:pt x="20926" y="11321"/>
                  <a:pt x="20955" y="11335"/>
                </a:cubicBezTo>
              </a:path>
              <a:path w="11463" h="2255">
                <a:moveTo>
                  <a:pt x="21400" y="10636"/>
                </a:moveTo>
                <a:cubicBezTo>
                  <a:pt x="21400" y="10647"/>
                  <a:pt x="21400" y="10657"/>
                  <a:pt x="21400" y="10668"/>
                </a:cubicBezTo>
                <a:cubicBezTo>
                  <a:pt x="21446" y="10684"/>
                  <a:pt x="21434" y="10742"/>
                  <a:pt x="21463" y="10795"/>
                </a:cubicBezTo>
                <a:cubicBezTo>
                  <a:pt x="21514" y="10889"/>
                  <a:pt x="21564" y="10963"/>
                  <a:pt x="21622" y="11049"/>
                </a:cubicBezTo>
                <a:cubicBezTo>
                  <a:pt x="21669" y="11118"/>
                  <a:pt x="21689" y="11180"/>
                  <a:pt x="21749" y="11240"/>
                </a:cubicBezTo>
                <a:cubicBezTo>
                  <a:pt x="21759" y="11250"/>
                  <a:pt x="21770" y="11261"/>
                  <a:pt x="21780" y="11271"/>
                </a:cubicBezTo>
              </a:path>
              <a:path w="11463" h="2255">
                <a:moveTo>
                  <a:pt x="21717" y="10668"/>
                </a:moveTo>
                <a:cubicBezTo>
                  <a:pt x="21701" y="10730"/>
                  <a:pt x="21654" y="10795"/>
                  <a:pt x="21622" y="10858"/>
                </a:cubicBezTo>
                <a:cubicBezTo>
                  <a:pt x="21575" y="10951"/>
                  <a:pt x="21497" y="11062"/>
                  <a:pt x="21431" y="11144"/>
                </a:cubicBezTo>
                <a:cubicBezTo>
                  <a:pt x="21387" y="11199"/>
                  <a:pt x="21347" y="11249"/>
                  <a:pt x="21304" y="11303"/>
                </a:cubicBezTo>
              </a:path>
              <a:path w="11463" h="2255">
                <a:moveTo>
                  <a:pt x="21717" y="10604"/>
                </a:moveTo>
                <a:cubicBezTo>
                  <a:pt x="21717" y="10679"/>
                  <a:pt x="21688" y="10727"/>
                  <a:pt x="21654" y="10795"/>
                </a:cubicBezTo>
                <a:cubicBezTo>
                  <a:pt x="21612" y="10878"/>
                  <a:pt x="21572" y="11050"/>
                  <a:pt x="21526" y="11112"/>
                </a:cubicBezTo>
                <a:cubicBezTo>
                  <a:pt x="21516" y="11112"/>
                  <a:pt x="21505" y="11112"/>
                  <a:pt x="21495" y="11112"/>
                </a:cubicBezTo>
              </a:path>
              <a:path w="11463" h="2255">
                <a:moveTo>
                  <a:pt x="21368" y="10858"/>
                </a:moveTo>
                <a:cubicBezTo>
                  <a:pt x="21482" y="10858"/>
                  <a:pt x="21576" y="10839"/>
                  <a:pt x="21685" y="10827"/>
                </a:cubicBezTo>
                <a:cubicBezTo>
                  <a:pt x="21780" y="10827"/>
                  <a:pt x="21812" y="10827"/>
                  <a:pt x="21876" y="10827"/>
                </a:cubicBezTo>
              </a:path>
              <a:path w="11463" h="2255">
                <a:moveTo>
                  <a:pt x="22162" y="11398"/>
                </a:moveTo>
                <a:cubicBezTo>
                  <a:pt x="22162" y="11326"/>
                  <a:pt x="22182" y="11274"/>
                  <a:pt x="22193" y="11208"/>
                </a:cubicBezTo>
                <a:cubicBezTo>
                  <a:pt x="22209" y="11111"/>
                  <a:pt x="22243" y="11021"/>
                  <a:pt x="22257" y="10922"/>
                </a:cubicBezTo>
                <a:cubicBezTo>
                  <a:pt x="22270" y="10835"/>
                  <a:pt x="22264" y="10720"/>
                  <a:pt x="22288" y="10636"/>
                </a:cubicBezTo>
                <a:cubicBezTo>
                  <a:pt x="22305" y="10576"/>
                  <a:pt x="22323" y="10526"/>
                  <a:pt x="22352" y="10478"/>
                </a:cubicBezTo>
                <a:cubicBezTo>
                  <a:pt x="22352" y="10610"/>
                  <a:pt x="22293" y="11178"/>
                  <a:pt x="22384" y="11208"/>
                </a:cubicBezTo>
                <a:cubicBezTo>
                  <a:pt x="22400" y="11126"/>
                  <a:pt x="22439" y="11040"/>
                  <a:pt x="22447" y="10954"/>
                </a:cubicBezTo>
                <a:cubicBezTo>
                  <a:pt x="22459" y="10827"/>
                  <a:pt x="22470" y="10661"/>
                  <a:pt x="22511" y="10541"/>
                </a:cubicBezTo>
                <a:cubicBezTo>
                  <a:pt x="22521" y="10530"/>
                  <a:pt x="22532" y="10520"/>
                  <a:pt x="22542" y="10509"/>
                </a:cubicBezTo>
                <a:cubicBezTo>
                  <a:pt x="22592" y="10575"/>
                  <a:pt x="22574" y="10644"/>
                  <a:pt x="22574" y="10732"/>
                </a:cubicBezTo>
                <a:cubicBezTo>
                  <a:pt x="22574" y="10866"/>
                  <a:pt x="22592" y="10983"/>
                  <a:pt x="22606" y="11112"/>
                </a:cubicBezTo>
                <a:cubicBezTo>
                  <a:pt x="22613" y="11177"/>
                  <a:pt x="22571" y="11325"/>
                  <a:pt x="22638" y="11366"/>
                </a:cubicBezTo>
                <a:cubicBezTo>
                  <a:pt x="22649" y="11366"/>
                  <a:pt x="22659" y="11366"/>
                  <a:pt x="22670" y="11366"/>
                </a:cubicBezTo>
              </a:path>
              <a:path w="11463" h="2255">
                <a:moveTo>
                  <a:pt x="22701" y="10827"/>
                </a:moveTo>
                <a:cubicBezTo>
                  <a:pt x="22701" y="10910"/>
                  <a:pt x="22728" y="10969"/>
                  <a:pt x="22733" y="11049"/>
                </a:cubicBezTo>
                <a:cubicBezTo>
                  <a:pt x="22738" y="11137"/>
                  <a:pt x="22743" y="11198"/>
                  <a:pt x="22765" y="11271"/>
                </a:cubicBezTo>
                <a:cubicBezTo>
                  <a:pt x="22765" y="11307"/>
                  <a:pt x="22768" y="11321"/>
                  <a:pt x="22796" y="11335"/>
                </a:cubicBezTo>
                <a:cubicBezTo>
                  <a:pt x="22812" y="11271"/>
                  <a:pt x="22815" y="11217"/>
                  <a:pt x="22828" y="11144"/>
                </a:cubicBezTo>
                <a:cubicBezTo>
                  <a:pt x="22847" y="11039"/>
                  <a:pt x="22882" y="10932"/>
                  <a:pt x="22892" y="10827"/>
                </a:cubicBezTo>
                <a:cubicBezTo>
                  <a:pt x="22892" y="10816"/>
                  <a:pt x="22892" y="10806"/>
                  <a:pt x="22892" y="10795"/>
                </a:cubicBezTo>
                <a:cubicBezTo>
                  <a:pt x="22934" y="10865"/>
                  <a:pt x="22924" y="10930"/>
                  <a:pt x="22924" y="11017"/>
                </a:cubicBezTo>
                <a:cubicBezTo>
                  <a:pt x="22924" y="11103"/>
                  <a:pt x="22955" y="11158"/>
                  <a:pt x="22955" y="11240"/>
                </a:cubicBezTo>
                <a:cubicBezTo>
                  <a:pt x="22955" y="11321"/>
                  <a:pt x="23011" y="11253"/>
                  <a:pt x="23019" y="11208"/>
                </a:cubicBezTo>
              </a:path>
              <a:path w="11463" h="2255">
                <a:moveTo>
                  <a:pt x="23082" y="10446"/>
                </a:moveTo>
                <a:cubicBezTo>
                  <a:pt x="23099" y="10513"/>
                  <a:pt x="23114" y="10555"/>
                  <a:pt x="23114" y="10636"/>
                </a:cubicBezTo>
                <a:cubicBezTo>
                  <a:pt x="23114" y="10822"/>
                  <a:pt x="23118" y="11000"/>
                  <a:pt x="23146" y="11176"/>
                </a:cubicBezTo>
                <a:cubicBezTo>
                  <a:pt x="23159" y="11257"/>
                  <a:pt x="23129" y="11302"/>
                  <a:pt x="23178" y="11366"/>
                </a:cubicBezTo>
              </a:path>
              <a:path w="11463" h="2255">
                <a:moveTo>
                  <a:pt x="23304" y="10478"/>
                </a:moveTo>
                <a:cubicBezTo>
                  <a:pt x="23304" y="10714"/>
                  <a:pt x="23298" y="10951"/>
                  <a:pt x="23336" y="11176"/>
                </a:cubicBezTo>
                <a:cubicBezTo>
                  <a:pt x="23336" y="11229"/>
                  <a:pt x="23336" y="11239"/>
                  <a:pt x="23336" y="11271"/>
                </a:cubicBezTo>
              </a:path>
              <a:path w="11463" h="2255">
                <a:moveTo>
                  <a:pt x="23241" y="10954"/>
                </a:moveTo>
                <a:cubicBezTo>
                  <a:pt x="23241" y="10914"/>
                  <a:pt x="23268" y="10918"/>
                  <a:pt x="23304" y="10890"/>
                </a:cubicBezTo>
              </a:path>
              <a:path w="11463" h="2255">
                <a:moveTo>
                  <a:pt x="23558" y="10732"/>
                </a:moveTo>
                <a:cubicBezTo>
                  <a:pt x="23558" y="10835"/>
                  <a:pt x="23576" y="10917"/>
                  <a:pt x="23590" y="11017"/>
                </a:cubicBezTo>
                <a:cubicBezTo>
                  <a:pt x="23600" y="11088"/>
                  <a:pt x="23590" y="11168"/>
                  <a:pt x="23590" y="11240"/>
                </a:cubicBezTo>
              </a:path>
              <a:path w="11463" h="2255">
                <a:moveTo>
                  <a:pt x="23749" y="10732"/>
                </a:moveTo>
                <a:cubicBezTo>
                  <a:pt x="23749" y="10928"/>
                  <a:pt x="23760" y="11113"/>
                  <a:pt x="23781" y="11303"/>
                </a:cubicBezTo>
                <a:cubicBezTo>
                  <a:pt x="23788" y="11369"/>
                  <a:pt x="23781" y="11661"/>
                  <a:pt x="23781" y="11620"/>
                </a:cubicBezTo>
                <a:cubicBezTo>
                  <a:pt x="23781" y="11539"/>
                  <a:pt x="23752" y="11483"/>
                  <a:pt x="23749" y="11398"/>
                </a:cubicBezTo>
                <a:cubicBezTo>
                  <a:pt x="23740" y="11177"/>
                  <a:pt x="23732" y="10942"/>
                  <a:pt x="23781" y="10732"/>
                </a:cubicBezTo>
                <a:cubicBezTo>
                  <a:pt x="23793" y="10680"/>
                  <a:pt x="23792" y="10681"/>
                  <a:pt x="23844" y="10668"/>
                </a:cubicBezTo>
                <a:cubicBezTo>
                  <a:pt x="23911" y="10685"/>
                  <a:pt x="23898" y="10715"/>
                  <a:pt x="23940" y="10763"/>
                </a:cubicBezTo>
                <a:cubicBezTo>
                  <a:pt x="23992" y="10822"/>
                  <a:pt x="23971" y="10909"/>
                  <a:pt x="23971" y="10986"/>
                </a:cubicBezTo>
                <a:cubicBezTo>
                  <a:pt x="23971" y="11059"/>
                  <a:pt x="23951" y="11154"/>
                  <a:pt x="23908" y="11208"/>
                </a:cubicBezTo>
                <a:cubicBezTo>
                  <a:pt x="23876" y="11240"/>
                  <a:pt x="23866" y="11250"/>
                  <a:pt x="23844" y="11271"/>
                </a:cubicBezTo>
              </a:path>
              <a:path w="11463" h="2255">
                <a:moveTo>
                  <a:pt x="24098" y="10350"/>
                </a:moveTo>
                <a:cubicBezTo>
                  <a:pt x="24098" y="10484"/>
                  <a:pt x="24111" y="10602"/>
                  <a:pt x="24130" y="10732"/>
                </a:cubicBezTo>
                <a:cubicBezTo>
                  <a:pt x="24152" y="10884"/>
                  <a:pt x="24130" y="11054"/>
                  <a:pt x="24130" y="11208"/>
                </a:cubicBezTo>
              </a:path>
              <a:path w="11463" h="2255">
                <a:moveTo>
                  <a:pt x="24257" y="10668"/>
                </a:moveTo>
                <a:cubicBezTo>
                  <a:pt x="24257" y="10612"/>
                  <a:pt x="24287" y="10675"/>
                  <a:pt x="24289" y="10700"/>
                </a:cubicBezTo>
                <a:cubicBezTo>
                  <a:pt x="24299" y="10832"/>
                  <a:pt x="24302" y="10952"/>
                  <a:pt x="24320" y="11081"/>
                </a:cubicBezTo>
                <a:cubicBezTo>
                  <a:pt x="24331" y="11160"/>
                  <a:pt x="24299" y="11187"/>
                  <a:pt x="24384" y="11208"/>
                </a:cubicBezTo>
                <a:cubicBezTo>
                  <a:pt x="24436" y="11122"/>
                  <a:pt x="24426" y="11023"/>
                  <a:pt x="24448" y="10922"/>
                </a:cubicBezTo>
                <a:cubicBezTo>
                  <a:pt x="24472" y="10811"/>
                  <a:pt x="24479" y="10719"/>
                  <a:pt x="24479" y="10604"/>
                </a:cubicBezTo>
                <a:cubicBezTo>
                  <a:pt x="24479" y="10573"/>
                  <a:pt x="24479" y="10562"/>
                  <a:pt x="24479" y="10541"/>
                </a:cubicBezTo>
                <a:cubicBezTo>
                  <a:pt x="24479" y="10643"/>
                  <a:pt x="24502" y="10730"/>
                  <a:pt x="24511" y="10827"/>
                </a:cubicBezTo>
                <a:cubicBezTo>
                  <a:pt x="24527" y="10986"/>
                  <a:pt x="24561" y="11143"/>
                  <a:pt x="24574" y="11303"/>
                </a:cubicBezTo>
                <a:cubicBezTo>
                  <a:pt x="24587" y="11464"/>
                  <a:pt x="24606" y="11616"/>
                  <a:pt x="24606" y="11779"/>
                </a:cubicBezTo>
                <a:cubicBezTo>
                  <a:pt x="24606" y="11892"/>
                  <a:pt x="24643" y="12072"/>
                  <a:pt x="24574" y="12160"/>
                </a:cubicBezTo>
                <a:cubicBezTo>
                  <a:pt x="24564" y="12171"/>
                  <a:pt x="24553" y="12181"/>
                  <a:pt x="24543" y="12192"/>
                </a:cubicBezTo>
                <a:cubicBezTo>
                  <a:pt x="24478" y="12176"/>
                  <a:pt x="24444" y="12132"/>
                  <a:pt x="24416" y="12065"/>
                </a:cubicBezTo>
                <a:cubicBezTo>
                  <a:pt x="24373" y="11961"/>
                  <a:pt x="24337" y="11795"/>
                  <a:pt x="24352" y="11684"/>
                </a:cubicBezTo>
                <a:cubicBezTo>
                  <a:pt x="24371" y="11543"/>
                  <a:pt x="24403" y="11409"/>
                  <a:pt x="24448" y="11271"/>
                </a:cubicBezTo>
                <a:cubicBezTo>
                  <a:pt x="24490" y="11143"/>
                  <a:pt x="24536" y="11091"/>
                  <a:pt x="24606" y="10986"/>
                </a:cubicBezTo>
                <a:cubicBezTo>
                  <a:pt x="24634" y="10930"/>
                  <a:pt x="24639" y="10915"/>
                  <a:pt x="24670" y="10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nk 16"/>
          <p:cNvSpPr/>
          <p:nvPr/>
        </p:nvSpPr>
        <p:spPr>
          <a:xfrm>
            <a:off x="239760" y="3921120"/>
            <a:ext cx="2413080" cy="800280"/>
          </a:xfrm>
          <a:custGeom>
            <a:avLst/>
            <a:gdLst/>
            <a:ahLst/>
            <a:rect l="l" t="t" r="r" b="b"/>
            <a:pathLst>
              <a:path w="6700" h="2224">
                <a:moveTo>
                  <a:pt x="667" y="12478"/>
                </a:moveTo>
                <a:cubicBezTo>
                  <a:pt x="715" y="12503"/>
                  <a:pt x="678" y="12519"/>
                  <a:pt x="730" y="12478"/>
                </a:cubicBezTo>
                <a:cubicBezTo>
                  <a:pt x="771" y="12446"/>
                  <a:pt x="804" y="12312"/>
                  <a:pt x="826" y="12256"/>
                </a:cubicBezTo>
                <a:cubicBezTo>
                  <a:pt x="878" y="12121"/>
                  <a:pt x="938" y="11978"/>
                  <a:pt x="984" y="11843"/>
                </a:cubicBezTo>
                <a:cubicBezTo>
                  <a:pt x="1033" y="11699"/>
                  <a:pt x="1071" y="11545"/>
                  <a:pt x="1111" y="11398"/>
                </a:cubicBezTo>
                <a:cubicBezTo>
                  <a:pt x="1145" y="11273"/>
                  <a:pt x="1138" y="11137"/>
                  <a:pt x="1175" y="11017"/>
                </a:cubicBezTo>
                <a:cubicBezTo>
                  <a:pt x="1195" y="10952"/>
                  <a:pt x="1199" y="10950"/>
                  <a:pt x="1206" y="10890"/>
                </a:cubicBezTo>
                <a:cubicBezTo>
                  <a:pt x="1198" y="10988"/>
                  <a:pt x="1178" y="11077"/>
                  <a:pt x="1175" y="11176"/>
                </a:cubicBezTo>
                <a:cubicBezTo>
                  <a:pt x="1169" y="11367"/>
                  <a:pt x="1161" y="11564"/>
                  <a:pt x="1206" y="11748"/>
                </a:cubicBezTo>
                <a:cubicBezTo>
                  <a:pt x="1227" y="11836"/>
                  <a:pt x="1266" y="12019"/>
                  <a:pt x="1365" y="12065"/>
                </a:cubicBezTo>
                <a:cubicBezTo>
                  <a:pt x="1438" y="12099"/>
                  <a:pt x="1546" y="12054"/>
                  <a:pt x="1588" y="12002"/>
                </a:cubicBezTo>
                <a:cubicBezTo>
                  <a:pt x="1667" y="11905"/>
                  <a:pt x="1712" y="11772"/>
                  <a:pt x="1746" y="11652"/>
                </a:cubicBezTo>
                <a:cubicBezTo>
                  <a:pt x="1784" y="11516"/>
                  <a:pt x="1823" y="11377"/>
                  <a:pt x="1842" y="11240"/>
                </a:cubicBezTo>
                <a:cubicBezTo>
                  <a:pt x="1847" y="11201"/>
                  <a:pt x="1842" y="11153"/>
                  <a:pt x="1842" y="11112"/>
                </a:cubicBezTo>
                <a:cubicBezTo>
                  <a:pt x="1842" y="11209"/>
                  <a:pt x="1835" y="11271"/>
                  <a:pt x="1810" y="11366"/>
                </a:cubicBezTo>
                <a:cubicBezTo>
                  <a:pt x="1771" y="11518"/>
                  <a:pt x="1751" y="11687"/>
                  <a:pt x="1746" y="11843"/>
                </a:cubicBezTo>
                <a:cubicBezTo>
                  <a:pt x="1741" y="12005"/>
                  <a:pt x="1748" y="12136"/>
                  <a:pt x="1810" y="12287"/>
                </a:cubicBezTo>
                <a:cubicBezTo>
                  <a:pt x="1834" y="12346"/>
                  <a:pt x="1863" y="12446"/>
                  <a:pt x="1937" y="12446"/>
                </a:cubicBezTo>
                <a:cubicBezTo>
                  <a:pt x="1968" y="12414"/>
                  <a:pt x="1979" y="12403"/>
                  <a:pt x="2000" y="12382"/>
                </a:cubicBezTo>
              </a:path>
              <a:path w="6700" h="2224">
                <a:moveTo>
                  <a:pt x="2127" y="11494"/>
                </a:moveTo>
                <a:cubicBezTo>
                  <a:pt x="2127" y="11588"/>
                  <a:pt x="2106" y="11658"/>
                  <a:pt x="2096" y="11748"/>
                </a:cubicBezTo>
                <a:cubicBezTo>
                  <a:pt x="2080" y="11891"/>
                  <a:pt x="2111" y="12021"/>
                  <a:pt x="2127" y="12160"/>
                </a:cubicBezTo>
                <a:cubicBezTo>
                  <a:pt x="2141" y="12280"/>
                  <a:pt x="2144" y="12343"/>
                  <a:pt x="2222" y="12414"/>
                </a:cubicBezTo>
                <a:cubicBezTo>
                  <a:pt x="2276" y="12463"/>
                  <a:pt x="2329" y="12399"/>
                  <a:pt x="2381" y="12351"/>
                </a:cubicBezTo>
                <a:cubicBezTo>
                  <a:pt x="2457" y="12281"/>
                  <a:pt x="2476" y="12129"/>
                  <a:pt x="2508" y="12033"/>
                </a:cubicBezTo>
                <a:cubicBezTo>
                  <a:pt x="2542" y="11931"/>
                  <a:pt x="2594" y="11822"/>
                  <a:pt x="2604" y="11716"/>
                </a:cubicBezTo>
                <a:cubicBezTo>
                  <a:pt x="2604" y="11705"/>
                  <a:pt x="2604" y="11695"/>
                  <a:pt x="2604" y="11684"/>
                </a:cubicBezTo>
                <a:cubicBezTo>
                  <a:pt x="2550" y="11648"/>
                  <a:pt x="2550" y="11761"/>
                  <a:pt x="2540" y="11843"/>
                </a:cubicBezTo>
                <a:cubicBezTo>
                  <a:pt x="2525" y="11973"/>
                  <a:pt x="2481" y="12123"/>
                  <a:pt x="2508" y="12256"/>
                </a:cubicBezTo>
                <a:cubicBezTo>
                  <a:pt x="2520" y="12318"/>
                  <a:pt x="2574" y="12476"/>
                  <a:pt x="2635" y="12510"/>
                </a:cubicBezTo>
                <a:cubicBezTo>
                  <a:pt x="2707" y="12550"/>
                  <a:pt x="2767" y="12459"/>
                  <a:pt x="2794" y="12414"/>
                </a:cubicBezTo>
                <a:cubicBezTo>
                  <a:pt x="2833" y="12338"/>
                  <a:pt x="2851" y="12305"/>
                  <a:pt x="2889" y="12256"/>
                </a:cubicBezTo>
              </a:path>
              <a:path w="6700" h="2224">
                <a:moveTo>
                  <a:pt x="3048" y="11208"/>
                </a:moveTo>
                <a:cubicBezTo>
                  <a:pt x="3048" y="11332"/>
                  <a:pt x="3029" y="11439"/>
                  <a:pt x="3016" y="11557"/>
                </a:cubicBezTo>
                <a:cubicBezTo>
                  <a:pt x="3000" y="11702"/>
                  <a:pt x="2988" y="11857"/>
                  <a:pt x="2984" y="12002"/>
                </a:cubicBezTo>
                <a:cubicBezTo>
                  <a:pt x="2980" y="12138"/>
                  <a:pt x="3009" y="12252"/>
                  <a:pt x="3016" y="12382"/>
                </a:cubicBezTo>
                <a:cubicBezTo>
                  <a:pt x="3016" y="12440"/>
                  <a:pt x="3012" y="12457"/>
                  <a:pt x="3048" y="12478"/>
                </a:cubicBezTo>
              </a:path>
              <a:path w="6700" h="2224">
                <a:moveTo>
                  <a:pt x="3524" y="11240"/>
                </a:moveTo>
                <a:cubicBezTo>
                  <a:pt x="3524" y="11337"/>
                  <a:pt x="3521" y="11400"/>
                  <a:pt x="3492" y="11494"/>
                </a:cubicBezTo>
                <a:cubicBezTo>
                  <a:pt x="3446" y="11644"/>
                  <a:pt x="3433" y="11813"/>
                  <a:pt x="3429" y="11970"/>
                </a:cubicBezTo>
                <a:cubicBezTo>
                  <a:pt x="3425" y="12146"/>
                  <a:pt x="3399" y="12276"/>
                  <a:pt x="3429" y="12446"/>
                </a:cubicBezTo>
                <a:cubicBezTo>
                  <a:pt x="3429" y="12478"/>
                  <a:pt x="3429" y="12489"/>
                  <a:pt x="3429" y="12510"/>
                </a:cubicBezTo>
              </a:path>
              <a:path w="6700" h="2224">
                <a:moveTo>
                  <a:pt x="3270" y="11874"/>
                </a:moveTo>
                <a:cubicBezTo>
                  <a:pt x="3270" y="11864"/>
                  <a:pt x="3270" y="11853"/>
                  <a:pt x="3270" y="11843"/>
                </a:cubicBezTo>
              </a:path>
              <a:path w="6700" h="2224">
                <a:moveTo>
                  <a:pt x="3270" y="11874"/>
                </a:moveTo>
                <a:cubicBezTo>
                  <a:pt x="3302" y="11864"/>
                  <a:pt x="3334" y="11853"/>
                  <a:pt x="3366" y="11843"/>
                </a:cubicBezTo>
              </a:path>
              <a:path w="6700" h="2224">
                <a:moveTo>
                  <a:pt x="3366" y="11843"/>
                </a:moveTo>
                <a:cubicBezTo>
                  <a:pt x="3443" y="11833"/>
                  <a:pt x="3545" y="11832"/>
                  <a:pt x="3620" y="11811"/>
                </a:cubicBezTo>
                <a:cubicBezTo>
                  <a:pt x="3641" y="11800"/>
                  <a:pt x="3662" y="11790"/>
                  <a:pt x="3683" y="11779"/>
                </a:cubicBezTo>
              </a:path>
              <a:path w="6700" h="2224">
                <a:moveTo>
                  <a:pt x="3937" y="11462"/>
                </a:moveTo>
                <a:cubicBezTo>
                  <a:pt x="3937" y="11573"/>
                  <a:pt x="3918" y="11676"/>
                  <a:pt x="3905" y="11779"/>
                </a:cubicBezTo>
                <a:cubicBezTo>
                  <a:pt x="3888" y="11917"/>
                  <a:pt x="3860" y="12055"/>
                  <a:pt x="3842" y="12192"/>
                </a:cubicBezTo>
                <a:cubicBezTo>
                  <a:pt x="3833" y="12260"/>
                  <a:pt x="3819" y="12314"/>
                  <a:pt x="3810" y="12382"/>
                </a:cubicBezTo>
              </a:path>
              <a:path w="6700" h="2224">
                <a:moveTo>
                  <a:pt x="4223" y="11557"/>
                </a:moveTo>
                <a:cubicBezTo>
                  <a:pt x="4260" y="11633"/>
                  <a:pt x="4254" y="11683"/>
                  <a:pt x="4254" y="11779"/>
                </a:cubicBezTo>
                <a:cubicBezTo>
                  <a:pt x="4254" y="11925"/>
                  <a:pt x="4223" y="12081"/>
                  <a:pt x="4191" y="12224"/>
                </a:cubicBezTo>
                <a:cubicBezTo>
                  <a:pt x="4156" y="12382"/>
                  <a:pt x="4113" y="12542"/>
                  <a:pt x="4096" y="12700"/>
                </a:cubicBezTo>
                <a:cubicBezTo>
                  <a:pt x="4096" y="12797"/>
                  <a:pt x="4095" y="12830"/>
                  <a:pt x="4064" y="12890"/>
                </a:cubicBezTo>
                <a:cubicBezTo>
                  <a:pt x="4064" y="12988"/>
                  <a:pt x="4064" y="12930"/>
                  <a:pt x="4064" y="12859"/>
                </a:cubicBezTo>
                <a:cubicBezTo>
                  <a:pt x="4064" y="12753"/>
                  <a:pt x="4079" y="12616"/>
                  <a:pt x="4096" y="12510"/>
                </a:cubicBezTo>
                <a:cubicBezTo>
                  <a:pt x="4121" y="12351"/>
                  <a:pt x="4168" y="12191"/>
                  <a:pt x="4191" y="12033"/>
                </a:cubicBezTo>
                <a:cubicBezTo>
                  <a:pt x="4208" y="11915"/>
                  <a:pt x="4218" y="11759"/>
                  <a:pt x="4286" y="11652"/>
                </a:cubicBezTo>
                <a:cubicBezTo>
                  <a:pt x="4337" y="11573"/>
                  <a:pt x="4419" y="11499"/>
                  <a:pt x="4508" y="11494"/>
                </a:cubicBezTo>
                <a:cubicBezTo>
                  <a:pt x="4595" y="11489"/>
                  <a:pt x="4608" y="11497"/>
                  <a:pt x="4667" y="11557"/>
                </a:cubicBezTo>
                <a:cubicBezTo>
                  <a:pt x="4717" y="11608"/>
                  <a:pt x="4718" y="11741"/>
                  <a:pt x="4699" y="11811"/>
                </a:cubicBezTo>
                <a:cubicBezTo>
                  <a:pt x="4676" y="11897"/>
                  <a:pt x="4622" y="12054"/>
                  <a:pt x="4572" y="12128"/>
                </a:cubicBezTo>
                <a:cubicBezTo>
                  <a:pt x="4535" y="12184"/>
                  <a:pt x="4437" y="12282"/>
                  <a:pt x="4382" y="12319"/>
                </a:cubicBezTo>
                <a:cubicBezTo>
                  <a:pt x="4318" y="12362"/>
                  <a:pt x="4264" y="12351"/>
                  <a:pt x="4191" y="12351"/>
                </a:cubicBezTo>
                <a:cubicBezTo>
                  <a:pt x="4118" y="12351"/>
                  <a:pt x="4135" y="12308"/>
                  <a:pt x="4128" y="12256"/>
                </a:cubicBezTo>
              </a:path>
              <a:path w="6700" h="2224">
                <a:moveTo>
                  <a:pt x="5016" y="11081"/>
                </a:moveTo>
                <a:cubicBezTo>
                  <a:pt x="5016" y="11193"/>
                  <a:pt x="4997" y="11290"/>
                  <a:pt x="4985" y="11398"/>
                </a:cubicBezTo>
                <a:cubicBezTo>
                  <a:pt x="4969" y="11538"/>
                  <a:pt x="4960" y="11675"/>
                  <a:pt x="4921" y="11811"/>
                </a:cubicBezTo>
                <a:cubicBezTo>
                  <a:pt x="4883" y="11944"/>
                  <a:pt x="4864" y="12086"/>
                  <a:pt x="4858" y="12224"/>
                </a:cubicBezTo>
                <a:cubicBezTo>
                  <a:pt x="4854" y="12315"/>
                  <a:pt x="4838" y="12336"/>
                  <a:pt x="4858" y="12414"/>
                </a:cubicBezTo>
              </a:path>
              <a:path w="6700" h="2224">
                <a:moveTo>
                  <a:pt x="5334" y="11430"/>
                </a:moveTo>
                <a:cubicBezTo>
                  <a:pt x="5334" y="11441"/>
                  <a:pt x="5334" y="11451"/>
                  <a:pt x="5334" y="11462"/>
                </a:cubicBezTo>
              </a:path>
              <a:path w="6700" h="2224">
                <a:moveTo>
                  <a:pt x="5334" y="11430"/>
                </a:moveTo>
                <a:cubicBezTo>
                  <a:pt x="5334" y="11472"/>
                  <a:pt x="5334" y="11515"/>
                  <a:pt x="5334" y="11557"/>
                </a:cubicBezTo>
              </a:path>
              <a:path w="6700" h="2224">
                <a:moveTo>
                  <a:pt x="5334" y="11557"/>
                </a:moveTo>
                <a:cubicBezTo>
                  <a:pt x="5315" y="11625"/>
                  <a:pt x="5279" y="11710"/>
                  <a:pt x="5270" y="11779"/>
                </a:cubicBezTo>
                <a:cubicBezTo>
                  <a:pt x="5260" y="11856"/>
                  <a:pt x="5224" y="11954"/>
                  <a:pt x="5239" y="12033"/>
                </a:cubicBezTo>
                <a:cubicBezTo>
                  <a:pt x="5249" y="12084"/>
                  <a:pt x="5262" y="12117"/>
                  <a:pt x="5302" y="12128"/>
                </a:cubicBezTo>
                <a:cubicBezTo>
                  <a:pt x="5336" y="12138"/>
                  <a:pt x="5411" y="12115"/>
                  <a:pt x="5429" y="12097"/>
                </a:cubicBezTo>
                <a:cubicBezTo>
                  <a:pt x="5495" y="12031"/>
                  <a:pt x="5543" y="11964"/>
                  <a:pt x="5588" y="11874"/>
                </a:cubicBezTo>
                <a:cubicBezTo>
                  <a:pt x="5640" y="11771"/>
                  <a:pt x="5709" y="11672"/>
                  <a:pt x="5715" y="11557"/>
                </a:cubicBezTo>
                <a:cubicBezTo>
                  <a:pt x="5718" y="11496"/>
                  <a:pt x="5724" y="11501"/>
                  <a:pt x="5747" y="11462"/>
                </a:cubicBezTo>
                <a:cubicBezTo>
                  <a:pt x="5723" y="11527"/>
                  <a:pt x="5715" y="11573"/>
                  <a:pt x="5715" y="11652"/>
                </a:cubicBezTo>
                <a:cubicBezTo>
                  <a:pt x="5715" y="11764"/>
                  <a:pt x="5687" y="11859"/>
                  <a:pt x="5683" y="11970"/>
                </a:cubicBezTo>
                <a:cubicBezTo>
                  <a:pt x="5678" y="12100"/>
                  <a:pt x="5658" y="12222"/>
                  <a:pt x="5652" y="12351"/>
                </a:cubicBezTo>
                <a:cubicBezTo>
                  <a:pt x="5647" y="12466"/>
                  <a:pt x="5621" y="12589"/>
                  <a:pt x="5588" y="12700"/>
                </a:cubicBezTo>
                <a:cubicBezTo>
                  <a:pt x="5552" y="12819"/>
                  <a:pt x="5508" y="12925"/>
                  <a:pt x="5429" y="13018"/>
                </a:cubicBezTo>
                <a:cubicBezTo>
                  <a:pt x="5375" y="13082"/>
                  <a:pt x="5347" y="13104"/>
                  <a:pt x="5270" y="13113"/>
                </a:cubicBezTo>
                <a:cubicBezTo>
                  <a:pt x="5176" y="13124"/>
                  <a:pt x="5183" y="13046"/>
                  <a:pt x="5144" y="12986"/>
                </a:cubicBezTo>
              </a:path>
              <a:path w="6700" h="2224">
                <a:moveTo>
                  <a:pt x="5969" y="11589"/>
                </a:moveTo>
                <a:cubicBezTo>
                  <a:pt x="5969" y="11659"/>
                  <a:pt x="5997" y="11708"/>
                  <a:pt x="6001" y="11779"/>
                </a:cubicBezTo>
                <a:cubicBezTo>
                  <a:pt x="6007" y="11880"/>
                  <a:pt x="5996" y="12003"/>
                  <a:pt x="5969" y="12097"/>
                </a:cubicBezTo>
                <a:cubicBezTo>
                  <a:pt x="5943" y="12149"/>
                  <a:pt x="5932" y="12157"/>
                  <a:pt x="5937" y="12192"/>
                </a:cubicBezTo>
              </a:path>
              <a:path w="6700" h="2224">
                <a:moveTo>
                  <a:pt x="6223" y="11589"/>
                </a:moveTo>
                <a:cubicBezTo>
                  <a:pt x="6240" y="11654"/>
                  <a:pt x="6255" y="11670"/>
                  <a:pt x="6255" y="11748"/>
                </a:cubicBezTo>
                <a:cubicBezTo>
                  <a:pt x="6255" y="11892"/>
                  <a:pt x="6257" y="12034"/>
                  <a:pt x="6223" y="12160"/>
                </a:cubicBezTo>
                <a:cubicBezTo>
                  <a:pt x="6223" y="12196"/>
                  <a:pt x="6226" y="12204"/>
                  <a:pt x="6255" y="12160"/>
                </a:cubicBezTo>
                <a:cubicBezTo>
                  <a:pt x="6255" y="12053"/>
                  <a:pt x="6303" y="11977"/>
                  <a:pt x="6318" y="11874"/>
                </a:cubicBezTo>
                <a:cubicBezTo>
                  <a:pt x="6334" y="11766"/>
                  <a:pt x="6368" y="11705"/>
                  <a:pt x="6445" y="11620"/>
                </a:cubicBezTo>
                <a:cubicBezTo>
                  <a:pt x="6499" y="11560"/>
                  <a:pt x="6545" y="11538"/>
                  <a:pt x="6604" y="11589"/>
                </a:cubicBezTo>
                <a:cubicBezTo>
                  <a:pt x="6689" y="11663"/>
                  <a:pt x="6715" y="11731"/>
                  <a:pt x="6731" y="11843"/>
                </a:cubicBezTo>
                <a:cubicBezTo>
                  <a:pt x="6747" y="11955"/>
                  <a:pt x="6705" y="12052"/>
                  <a:pt x="6699" y="12160"/>
                </a:cubicBezTo>
                <a:cubicBezTo>
                  <a:pt x="6699" y="12213"/>
                  <a:pt x="6699" y="12224"/>
                  <a:pt x="6699" y="12256"/>
                </a:cubicBezTo>
              </a:path>
              <a:path w="6700" h="2224">
                <a:moveTo>
                  <a:pt x="7271" y="11748"/>
                </a:moveTo>
                <a:cubicBezTo>
                  <a:pt x="7216" y="11652"/>
                  <a:pt x="7216" y="11635"/>
                  <a:pt x="7112" y="11684"/>
                </a:cubicBezTo>
                <a:cubicBezTo>
                  <a:pt x="7022" y="11727"/>
                  <a:pt x="6945" y="11840"/>
                  <a:pt x="6922" y="11938"/>
                </a:cubicBezTo>
                <a:cubicBezTo>
                  <a:pt x="6906" y="12005"/>
                  <a:pt x="6917" y="12122"/>
                  <a:pt x="6985" y="12160"/>
                </a:cubicBezTo>
                <a:cubicBezTo>
                  <a:pt x="7055" y="12199"/>
                  <a:pt x="7126" y="12127"/>
                  <a:pt x="7176" y="12097"/>
                </a:cubicBezTo>
                <a:cubicBezTo>
                  <a:pt x="7258" y="12048"/>
                  <a:pt x="7324" y="12008"/>
                  <a:pt x="7334" y="11906"/>
                </a:cubicBezTo>
                <a:cubicBezTo>
                  <a:pt x="7339" y="11858"/>
                  <a:pt x="7388" y="11874"/>
                  <a:pt x="7334" y="11874"/>
                </a:cubicBezTo>
                <a:cubicBezTo>
                  <a:pt x="7334" y="11978"/>
                  <a:pt x="7312" y="12061"/>
                  <a:pt x="7302" y="12160"/>
                </a:cubicBezTo>
                <a:cubicBezTo>
                  <a:pt x="7288" y="12307"/>
                  <a:pt x="7284" y="12462"/>
                  <a:pt x="7271" y="12605"/>
                </a:cubicBezTo>
                <a:cubicBezTo>
                  <a:pt x="7258" y="12746"/>
                  <a:pt x="7288" y="12859"/>
                  <a:pt x="7207" y="12986"/>
                </a:cubicBezTo>
                <a:cubicBezTo>
                  <a:pt x="7166" y="13051"/>
                  <a:pt x="7118" y="13075"/>
                  <a:pt x="7048" y="13081"/>
                </a:cubicBezTo>
                <a:cubicBezTo>
                  <a:pt x="6978" y="13087"/>
                  <a:pt x="6934" y="13030"/>
                  <a:pt x="6890" y="12986"/>
                </a:cubicBezTo>
                <a:cubicBezTo>
                  <a:pt x="6879" y="12975"/>
                  <a:pt x="6869" y="12965"/>
                  <a:pt x="6858" y="12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Ink 17"/>
          <p:cNvSpPr/>
          <p:nvPr/>
        </p:nvSpPr>
        <p:spPr>
          <a:xfrm>
            <a:off x="2778120" y="4022640"/>
            <a:ext cx="914400" cy="366840"/>
          </a:xfrm>
          <a:custGeom>
            <a:avLst/>
            <a:gdLst/>
            <a:ahLst/>
            <a:rect l="l" t="t" r="r" b="b"/>
            <a:pathLst>
              <a:path w="2541" h="1017">
                <a:moveTo>
                  <a:pt x="7779" y="11716"/>
                </a:moveTo>
                <a:lnTo>
                  <a:pt x="7779" y="11716"/>
                </a:lnTo>
              </a:path>
              <a:path w="2541" h="1017">
                <a:moveTo>
                  <a:pt x="7747" y="12128"/>
                </a:moveTo>
                <a:cubicBezTo>
                  <a:pt x="7722" y="12161"/>
                  <a:pt x="7715" y="12217"/>
                  <a:pt x="7715" y="12160"/>
                </a:cubicBezTo>
              </a:path>
              <a:path w="2541" h="1017">
                <a:moveTo>
                  <a:pt x="8318" y="11462"/>
                </a:moveTo>
                <a:cubicBezTo>
                  <a:pt x="8356" y="11528"/>
                  <a:pt x="8393" y="11566"/>
                  <a:pt x="8446" y="11620"/>
                </a:cubicBezTo>
                <a:cubicBezTo>
                  <a:pt x="8474" y="11649"/>
                  <a:pt x="8541" y="11764"/>
                  <a:pt x="8572" y="11779"/>
                </a:cubicBezTo>
                <a:cubicBezTo>
                  <a:pt x="8615" y="11800"/>
                  <a:pt x="8590" y="11796"/>
                  <a:pt x="8636" y="11811"/>
                </a:cubicBezTo>
              </a:path>
              <a:path w="2541" h="1017">
                <a:moveTo>
                  <a:pt x="8572" y="11208"/>
                </a:moveTo>
                <a:cubicBezTo>
                  <a:pt x="8554" y="11302"/>
                  <a:pt x="8508" y="11400"/>
                  <a:pt x="8477" y="11494"/>
                </a:cubicBezTo>
                <a:cubicBezTo>
                  <a:pt x="8428" y="11643"/>
                  <a:pt x="8384" y="11796"/>
                  <a:pt x="8318" y="11938"/>
                </a:cubicBezTo>
                <a:cubicBezTo>
                  <a:pt x="8290" y="11997"/>
                  <a:pt x="8268" y="12021"/>
                  <a:pt x="8223" y="12065"/>
                </a:cubicBezTo>
              </a:path>
              <a:path w="2541" h="1017">
                <a:moveTo>
                  <a:pt x="8414" y="11335"/>
                </a:moveTo>
                <a:cubicBezTo>
                  <a:pt x="8357" y="11353"/>
                  <a:pt x="8382" y="11426"/>
                  <a:pt x="8382" y="11494"/>
                </a:cubicBezTo>
                <a:cubicBezTo>
                  <a:pt x="8382" y="11650"/>
                  <a:pt x="8374" y="11792"/>
                  <a:pt x="8350" y="11938"/>
                </a:cubicBezTo>
                <a:cubicBezTo>
                  <a:pt x="8350" y="11991"/>
                  <a:pt x="8350" y="12001"/>
                  <a:pt x="8350" y="12033"/>
                </a:cubicBezTo>
              </a:path>
              <a:path w="2541" h="1017">
                <a:moveTo>
                  <a:pt x="8096" y="11716"/>
                </a:moveTo>
                <a:cubicBezTo>
                  <a:pt x="8165" y="11716"/>
                  <a:pt x="8185" y="11688"/>
                  <a:pt x="8255" y="11684"/>
                </a:cubicBezTo>
                <a:cubicBezTo>
                  <a:pt x="8358" y="11678"/>
                  <a:pt x="8440" y="11661"/>
                  <a:pt x="8541" y="11652"/>
                </a:cubicBezTo>
              </a:path>
              <a:path w="2541" h="1017">
                <a:moveTo>
                  <a:pt x="8954" y="11462"/>
                </a:moveTo>
                <a:cubicBezTo>
                  <a:pt x="8954" y="11542"/>
                  <a:pt x="8931" y="11612"/>
                  <a:pt x="8922" y="11684"/>
                </a:cubicBezTo>
                <a:cubicBezTo>
                  <a:pt x="8905" y="11818"/>
                  <a:pt x="8973" y="12020"/>
                  <a:pt x="8890" y="12128"/>
                </a:cubicBezTo>
                <a:cubicBezTo>
                  <a:pt x="8890" y="11975"/>
                  <a:pt x="8908" y="11831"/>
                  <a:pt x="8922" y="11684"/>
                </a:cubicBezTo>
                <a:cubicBezTo>
                  <a:pt x="8933" y="11559"/>
                  <a:pt x="8947" y="11422"/>
                  <a:pt x="8985" y="11303"/>
                </a:cubicBezTo>
                <a:cubicBezTo>
                  <a:pt x="9003" y="11246"/>
                  <a:pt x="9041" y="11216"/>
                  <a:pt x="9080" y="11176"/>
                </a:cubicBezTo>
                <a:cubicBezTo>
                  <a:pt x="9156" y="11233"/>
                  <a:pt x="9150" y="11236"/>
                  <a:pt x="9176" y="11335"/>
                </a:cubicBezTo>
                <a:cubicBezTo>
                  <a:pt x="9204" y="11440"/>
                  <a:pt x="9235" y="11543"/>
                  <a:pt x="9239" y="11652"/>
                </a:cubicBezTo>
                <a:cubicBezTo>
                  <a:pt x="9243" y="11747"/>
                  <a:pt x="9239" y="11843"/>
                  <a:pt x="9239" y="11938"/>
                </a:cubicBezTo>
              </a:path>
              <a:path w="2541" h="1017">
                <a:moveTo>
                  <a:pt x="8922" y="11684"/>
                </a:moveTo>
                <a:cubicBezTo>
                  <a:pt x="9000" y="11763"/>
                  <a:pt x="8979" y="11741"/>
                  <a:pt x="9080" y="11716"/>
                </a:cubicBezTo>
                <a:cubicBezTo>
                  <a:pt x="9125" y="11716"/>
                  <a:pt x="9148" y="11710"/>
                  <a:pt x="9176" y="11684"/>
                </a:cubicBezTo>
              </a:path>
              <a:path w="2541" h="1017">
                <a:moveTo>
                  <a:pt x="9398" y="11176"/>
                </a:moveTo>
                <a:cubicBezTo>
                  <a:pt x="9418" y="11275"/>
                  <a:pt x="9430" y="11355"/>
                  <a:pt x="9430" y="11462"/>
                </a:cubicBezTo>
                <a:cubicBezTo>
                  <a:pt x="9430" y="11607"/>
                  <a:pt x="9447" y="11736"/>
                  <a:pt x="9462" y="11874"/>
                </a:cubicBezTo>
                <a:cubicBezTo>
                  <a:pt x="9470" y="11947"/>
                  <a:pt x="9492" y="12137"/>
                  <a:pt x="9430" y="12097"/>
                </a:cubicBezTo>
              </a:path>
              <a:path w="2541" h="1017">
                <a:moveTo>
                  <a:pt x="9398" y="11494"/>
                </a:moveTo>
                <a:cubicBezTo>
                  <a:pt x="9398" y="11405"/>
                  <a:pt x="9393" y="11287"/>
                  <a:pt x="9430" y="11208"/>
                </a:cubicBezTo>
                <a:cubicBezTo>
                  <a:pt x="9445" y="11175"/>
                  <a:pt x="9525" y="11158"/>
                  <a:pt x="9557" y="11176"/>
                </a:cubicBezTo>
                <a:cubicBezTo>
                  <a:pt x="9622" y="11213"/>
                  <a:pt x="9653" y="11304"/>
                  <a:pt x="9684" y="11366"/>
                </a:cubicBezTo>
                <a:cubicBezTo>
                  <a:pt x="9723" y="11444"/>
                  <a:pt x="9760" y="11595"/>
                  <a:pt x="9747" y="11684"/>
                </a:cubicBezTo>
                <a:cubicBezTo>
                  <a:pt x="9731" y="11788"/>
                  <a:pt x="9703" y="11854"/>
                  <a:pt x="9652" y="11938"/>
                </a:cubicBezTo>
                <a:cubicBezTo>
                  <a:pt x="9607" y="12013"/>
                  <a:pt x="9610" y="12033"/>
                  <a:pt x="9525" y="12033"/>
                </a:cubicBezTo>
                <a:cubicBezTo>
                  <a:pt x="9504" y="12033"/>
                  <a:pt x="9483" y="12033"/>
                  <a:pt x="9462" y="12033"/>
                </a:cubicBezTo>
              </a:path>
              <a:path w="2541" h="1017">
                <a:moveTo>
                  <a:pt x="9874" y="11208"/>
                </a:moveTo>
                <a:cubicBezTo>
                  <a:pt x="9890" y="11271"/>
                  <a:pt x="9888" y="11327"/>
                  <a:pt x="9906" y="11398"/>
                </a:cubicBezTo>
                <a:cubicBezTo>
                  <a:pt x="9933" y="11506"/>
                  <a:pt x="9938" y="11600"/>
                  <a:pt x="9938" y="11716"/>
                </a:cubicBezTo>
                <a:cubicBezTo>
                  <a:pt x="9938" y="11818"/>
                  <a:pt x="9931" y="11886"/>
                  <a:pt x="9906" y="11970"/>
                </a:cubicBezTo>
                <a:cubicBezTo>
                  <a:pt x="9906" y="11981"/>
                  <a:pt x="9906" y="11991"/>
                  <a:pt x="9906" y="12002"/>
                </a:cubicBezTo>
                <a:cubicBezTo>
                  <a:pt x="9848" y="11930"/>
                  <a:pt x="9821" y="11841"/>
                  <a:pt x="9811" y="11748"/>
                </a:cubicBezTo>
                <a:cubicBezTo>
                  <a:pt x="9793" y="11586"/>
                  <a:pt x="9800" y="11382"/>
                  <a:pt x="9842" y="11240"/>
                </a:cubicBezTo>
                <a:cubicBezTo>
                  <a:pt x="9870" y="11145"/>
                  <a:pt x="9875" y="11194"/>
                  <a:pt x="9938" y="11208"/>
                </a:cubicBezTo>
                <a:cubicBezTo>
                  <a:pt x="10039" y="11230"/>
                  <a:pt x="10072" y="11266"/>
                  <a:pt x="10128" y="11366"/>
                </a:cubicBezTo>
                <a:cubicBezTo>
                  <a:pt x="10173" y="11446"/>
                  <a:pt x="10236" y="11528"/>
                  <a:pt x="10255" y="11620"/>
                </a:cubicBezTo>
                <a:cubicBezTo>
                  <a:pt x="10267" y="11679"/>
                  <a:pt x="10226" y="11793"/>
                  <a:pt x="10192" y="11843"/>
                </a:cubicBezTo>
                <a:cubicBezTo>
                  <a:pt x="10165" y="11882"/>
                  <a:pt x="10048" y="11959"/>
                  <a:pt x="10001" y="11970"/>
                </a:cubicBezTo>
                <a:cubicBezTo>
                  <a:pt x="9980" y="11970"/>
                  <a:pt x="9959" y="11970"/>
                  <a:pt x="9938" y="11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Ink 18"/>
          <p:cNvSpPr/>
          <p:nvPr/>
        </p:nvSpPr>
        <p:spPr>
          <a:xfrm>
            <a:off x="925560" y="4754520"/>
            <a:ext cx="1795320" cy="663480"/>
          </a:xfrm>
          <a:custGeom>
            <a:avLst/>
            <a:gdLst/>
            <a:ahLst/>
            <a:rect l="l" t="t" r="r" b="b"/>
            <a:pathLst>
              <a:path w="4985" h="1843">
                <a:moveTo>
                  <a:pt x="2572" y="13430"/>
                </a:moveTo>
                <a:cubicBezTo>
                  <a:pt x="2585" y="13342"/>
                  <a:pt x="2597" y="13345"/>
                  <a:pt x="2667" y="13303"/>
                </a:cubicBezTo>
                <a:cubicBezTo>
                  <a:pt x="2738" y="13261"/>
                  <a:pt x="2816" y="13264"/>
                  <a:pt x="2889" y="13240"/>
                </a:cubicBezTo>
                <a:cubicBezTo>
                  <a:pt x="2983" y="13208"/>
                  <a:pt x="3047" y="13208"/>
                  <a:pt x="3143" y="13240"/>
                </a:cubicBezTo>
                <a:cubicBezTo>
                  <a:pt x="3181" y="13253"/>
                  <a:pt x="3289" y="13322"/>
                  <a:pt x="3302" y="13367"/>
                </a:cubicBezTo>
                <a:cubicBezTo>
                  <a:pt x="3327" y="13453"/>
                  <a:pt x="3235" y="13494"/>
                  <a:pt x="3175" y="13526"/>
                </a:cubicBezTo>
                <a:cubicBezTo>
                  <a:pt x="3085" y="13574"/>
                  <a:pt x="2982" y="13569"/>
                  <a:pt x="2889" y="13621"/>
                </a:cubicBezTo>
                <a:cubicBezTo>
                  <a:pt x="2836" y="13651"/>
                  <a:pt x="2786" y="13663"/>
                  <a:pt x="2730" y="13684"/>
                </a:cubicBezTo>
                <a:cubicBezTo>
                  <a:pt x="2768" y="13699"/>
                  <a:pt x="2773" y="13693"/>
                  <a:pt x="2858" y="13684"/>
                </a:cubicBezTo>
                <a:cubicBezTo>
                  <a:pt x="2940" y="13676"/>
                  <a:pt x="3038" y="13691"/>
                  <a:pt x="3112" y="13716"/>
                </a:cubicBezTo>
                <a:cubicBezTo>
                  <a:pt x="3206" y="13748"/>
                  <a:pt x="3257" y="13791"/>
                  <a:pt x="3302" y="13875"/>
                </a:cubicBezTo>
                <a:cubicBezTo>
                  <a:pt x="3352" y="13969"/>
                  <a:pt x="3327" y="14061"/>
                  <a:pt x="3302" y="14160"/>
                </a:cubicBezTo>
                <a:cubicBezTo>
                  <a:pt x="3274" y="14271"/>
                  <a:pt x="3187" y="14394"/>
                  <a:pt x="3112" y="14478"/>
                </a:cubicBezTo>
                <a:cubicBezTo>
                  <a:pt x="3032" y="14568"/>
                  <a:pt x="3002" y="14594"/>
                  <a:pt x="2889" y="14605"/>
                </a:cubicBezTo>
                <a:cubicBezTo>
                  <a:pt x="2798" y="14614"/>
                  <a:pt x="2794" y="14570"/>
                  <a:pt x="2762" y="14510"/>
                </a:cubicBezTo>
                <a:cubicBezTo>
                  <a:pt x="2720" y="14431"/>
                  <a:pt x="2739" y="14434"/>
                  <a:pt x="2730" y="14351"/>
                </a:cubicBezTo>
              </a:path>
              <a:path w="4985" h="1843">
                <a:moveTo>
                  <a:pt x="3429" y="13652"/>
                </a:moveTo>
                <a:cubicBezTo>
                  <a:pt x="3447" y="13658"/>
                  <a:pt x="3514" y="13712"/>
                  <a:pt x="3524" y="13748"/>
                </a:cubicBezTo>
                <a:cubicBezTo>
                  <a:pt x="3552" y="13846"/>
                  <a:pt x="3589" y="13948"/>
                  <a:pt x="3651" y="14034"/>
                </a:cubicBezTo>
                <a:cubicBezTo>
                  <a:pt x="3718" y="14128"/>
                  <a:pt x="3785" y="14216"/>
                  <a:pt x="3842" y="14319"/>
                </a:cubicBezTo>
                <a:cubicBezTo>
                  <a:pt x="3876" y="14379"/>
                  <a:pt x="3888" y="14462"/>
                  <a:pt x="3937" y="14478"/>
                </a:cubicBezTo>
              </a:path>
              <a:path w="4985" h="1843">
                <a:moveTo>
                  <a:pt x="3905" y="13811"/>
                </a:moveTo>
                <a:cubicBezTo>
                  <a:pt x="3853" y="13878"/>
                  <a:pt x="3793" y="13943"/>
                  <a:pt x="3746" y="14002"/>
                </a:cubicBezTo>
                <a:cubicBezTo>
                  <a:pt x="3676" y="14090"/>
                  <a:pt x="3629" y="14199"/>
                  <a:pt x="3556" y="14288"/>
                </a:cubicBezTo>
                <a:cubicBezTo>
                  <a:pt x="3483" y="14377"/>
                  <a:pt x="3392" y="14504"/>
                  <a:pt x="3302" y="14573"/>
                </a:cubicBezTo>
                <a:cubicBezTo>
                  <a:pt x="3281" y="14584"/>
                  <a:pt x="3259" y="14594"/>
                  <a:pt x="3238" y="14605"/>
                </a:cubicBezTo>
              </a:path>
              <a:path w="4985" h="1843">
                <a:moveTo>
                  <a:pt x="4128" y="13367"/>
                </a:moveTo>
                <a:cubicBezTo>
                  <a:pt x="4139" y="13332"/>
                  <a:pt x="4150" y="13308"/>
                  <a:pt x="4191" y="13303"/>
                </a:cubicBezTo>
                <a:cubicBezTo>
                  <a:pt x="4261" y="13294"/>
                  <a:pt x="4263" y="13315"/>
                  <a:pt x="4286" y="13367"/>
                </a:cubicBezTo>
                <a:cubicBezTo>
                  <a:pt x="4316" y="13437"/>
                  <a:pt x="4327" y="13466"/>
                  <a:pt x="4286" y="13526"/>
                </a:cubicBezTo>
                <a:cubicBezTo>
                  <a:pt x="4268" y="13552"/>
                  <a:pt x="4215" y="13640"/>
                  <a:pt x="4191" y="13652"/>
                </a:cubicBezTo>
                <a:cubicBezTo>
                  <a:pt x="4159" y="13652"/>
                  <a:pt x="4148" y="13652"/>
                  <a:pt x="4159" y="13684"/>
                </a:cubicBezTo>
                <a:cubicBezTo>
                  <a:pt x="4244" y="13684"/>
                  <a:pt x="4328" y="13684"/>
                  <a:pt x="4413" y="13684"/>
                </a:cubicBezTo>
              </a:path>
              <a:path w="4985" h="1843">
                <a:moveTo>
                  <a:pt x="4699" y="14002"/>
                </a:moveTo>
                <a:cubicBezTo>
                  <a:pt x="4699" y="13917"/>
                  <a:pt x="4699" y="14050"/>
                  <a:pt x="4699" y="14065"/>
                </a:cubicBezTo>
                <a:cubicBezTo>
                  <a:pt x="4699" y="14076"/>
                  <a:pt x="4699" y="14086"/>
                  <a:pt x="4699" y="14097"/>
                </a:cubicBezTo>
                <a:cubicBezTo>
                  <a:pt x="4716" y="14080"/>
                  <a:pt x="4804" y="14005"/>
                  <a:pt x="4762" y="13970"/>
                </a:cubicBezTo>
                <a:cubicBezTo>
                  <a:pt x="4752" y="13970"/>
                  <a:pt x="4741" y="13970"/>
                  <a:pt x="4731" y="13970"/>
                </a:cubicBezTo>
                <a:cubicBezTo>
                  <a:pt x="4722" y="13973"/>
                  <a:pt x="4641" y="14015"/>
                  <a:pt x="4667" y="14034"/>
                </a:cubicBezTo>
                <a:cubicBezTo>
                  <a:pt x="4678" y="14034"/>
                  <a:pt x="4688" y="14034"/>
                  <a:pt x="4699" y="14034"/>
                </a:cubicBezTo>
              </a:path>
              <a:path w="4985" h="1843">
                <a:moveTo>
                  <a:pt x="5524" y="13335"/>
                </a:moveTo>
                <a:cubicBezTo>
                  <a:pt x="5507" y="13425"/>
                  <a:pt x="5491" y="13458"/>
                  <a:pt x="5429" y="13526"/>
                </a:cubicBezTo>
                <a:cubicBezTo>
                  <a:pt x="5363" y="13598"/>
                  <a:pt x="5334" y="13689"/>
                  <a:pt x="5302" y="13780"/>
                </a:cubicBezTo>
                <a:cubicBezTo>
                  <a:pt x="5254" y="13918"/>
                  <a:pt x="5212" y="14045"/>
                  <a:pt x="5207" y="14192"/>
                </a:cubicBezTo>
                <a:cubicBezTo>
                  <a:pt x="5203" y="14315"/>
                  <a:pt x="5201" y="14464"/>
                  <a:pt x="5270" y="14573"/>
                </a:cubicBezTo>
                <a:cubicBezTo>
                  <a:pt x="5319" y="14650"/>
                  <a:pt x="5398" y="14743"/>
                  <a:pt x="5493" y="14764"/>
                </a:cubicBezTo>
                <a:cubicBezTo>
                  <a:pt x="5555" y="14778"/>
                  <a:pt x="5675" y="14715"/>
                  <a:pt x="5715" y="14668"/>
                </a:cubicBezTo>
                <a:cubicBezTo>
                  <a:pt x="5752" y="14625"/>
                  <a:pt x="5790" y="14468"/>
                  <a:pt x="5778" y="14414"/>
                </a:cubicBezTo>
                <a:cubicBezTo>
                  <a:pt x="5764" y="14350"/>
                  <a:pt x="5718" y="14263"/>
                  <a:pt x="5652" y="14256"/>
                </a:cubicBezTo>
                <a:cubicBezTo>
                  <a:pt x="5591" y="14249"/>
                  <a:pt x="5542" y="14283"/>
                  <a:pt x="5493" y="14319"/>
                </a:cubicBezTo>
                <a:cubicBezTo>
                  <a:pt x="5420" y="14374"/>
                  <a:pt x="5429" y="14447"/>
                  <a:pt x="5398" y="14510"/>
                </a:cubicBezTo>
                <a:cubicBezTo>
                  <a:pt x="5374" y="14559"/>
                  <a:pt x="5333" y="14583"/>
                  <a:pt x="5398" y="14605"/>
                </a:cubicBezTo>
              </a:path>
              <a:path w="4985" h="1843">
                <a:moveTo>
                  <a:pt x="5906" y="13748"/>
                </a:moveTo>
                <a:cubicBezTo>
                  <a:pt x="5906" y="13823"/>
                  <a:pt x="5913" y="13867"/>
                  <a:pt x="5937" y="13938"/>
                </a:cubicBezTo>
                <a:cubicBezTo>
                  <a:pt x="5997" y="14111"/>
                  <a:pt x="6060" y="14277"/>
                  <a:pt x="6128" y="14446"/>
                </a:cubicBezTo>
                <a:cubicBezTo>
                  <a:pt x="6175" y="14562"/>
                  <a:pt x="6202" y="14683"/>
                  <a:pt x="6255" y="14796"/>
                </a:cubicBezTo>
                <a:cubicBezTo>
                  <a:pt x="6286" y="14862"/>
                  <a:pt x="6288" y="14876"/>
                  <a:pt x="6350" y="14891"/>
                </a:cubicBezTo>
              </a:path>
              <a:path w="4985" h="1843">
                <a:moveTo>
                  <a:pt x="6445" y="14192"/>
                </a:moveTo>
                <a:cubicBezTo>
                  <a:pt x="6416" y="14202"/>
                  <a:pt x="6377" y="14247"/>
                  <a:pt x="6350" y="14288"/>
                </a:cubicBezTo>
                <a:cubicBezTo>
                  <a:pt x="6295" y="14372"/>
                  <a:pt x="6255" y="14465"/>
                  <a:pt x="6191" y="14542"/>
                </a:cubicBezTo>
                <a:cubicBezTo>
                  <a:pt x="6114" y="14634"/>
                  <a:pt x="6044" y="14736"/>
                  <a:pt x="5969" y="14827"/>
                </a:cubicBezTo>
                <a:cubicBezTo>
                  <a:pt x="5921" y="14885"/>
                  <a:pt x="5864" y="14951"/>
                  <a:pt x="5842" y="15018"/>
                </a:cubicBezTo>
                <a:cubicBezTo>
                  <a:pt x="5842" y="15029"/>
                  <a:pt x="5842" y="15039"/>
                  <a:pt x="5842" y="15050"/>
                </a:cubicBezTo>
              </a:path>
              <a:path w="4985" h="1843">
                <a:moveTo>
                  <a:pt x="6763" y="13430"/>
                </a:moveTo>
                <a:cubicBezTo>
                  <a:pt x="6828" y="13430"/>
                  <a:pt x="6873" y="13418"/>
                  <a:pt x="6922" y="13462"/>
                </a:cubicBezTo>
                <a:cubicBezTo>
                  <a:pt x="6938" y="13477"/>
                  <a:pt x="6982" y="13565"/>
                  <a:pt x="6953" y="13589"/>
                </a:cubicBezTo>
                <a:cubicBezTo>
                  <a:pt x="6913" y="13621"/>
                  <a:pt x="6852" y="13652"/>
                  <a:pt x="6794" y="13652"/>
                </a:cubicBezTo>
                <a:cubicBezTo>
                  <a:pt x="6859" y="13605"/>
                  <a:pt x="6863" y="13608"/>
                  <a:pt x="6922" y="13621"/>
                </a:cubicBezTo>
                <a:cubicBezTo>
                  <a:pt x="6965" y="13631"/>
                  <a:pt x="6968" y="13648"/>
                  <a:pt x="6985" y="13684"/>
                </a:cubicBezTo>
                <a:cubicBezTo>
                  <a:pt x="7034" y="13789"/>
                  <a:pt x="6995" y="13753"/>
                  <a:pt x="6985" y="13843"/>
                </a:cubicBezTo>
                <a:cubicBezTo>
                  <a:pt x="6979" y="13897"/>
                  <a:pt x="6944" y="13932"/>
                  <a:pt x="6890" y="13938"/>
                </a:cubicBezTo>
                <a:cubicBezTo>
                  <a:pt x="6831" y="13945"/>
                  <a:pt x="6805" y="13887"/>
                  <a:pt x="6794" y="13843"/>
                </a:cubicBezTo>
              </a:path>
              <a:path w="4985" h="1843">
                <a:moveTo>
                  <a:pt x="7207" y="14129"/>
                </a:moveTo>
                <a:cubicBezTo>
                  <a:pt x="7207" y="14118"/>
                  <a:pt x="7207" y="14108"/>
                  <a:pt x="7207" y="14097"/>
                </a:cubicBezTo>
                <a:cubicBezTo>
                  <a:pt x="7313" y="14097"/>
                  <a:pt x="7419" y="14097"/>
                  <a:pt x="7525" y="14097"/>
                </a:cubicBezTo>
              </a:path>
              <a:path w="4985" h="1843">
                <a:moveTo>
                  <a:pt x="7176" y="14414"/>
                </a:moveTo>
                <a:cubicBezTo>
                  <a:pt x="7235" y="14460"/>
                  <a:pt x="7287" y="14446"/>
                  <a:pt x="7366" y="14446"/>
                </a:cubicBezTo>
                <a:cubicBezTo>
                  <a:pt x="7429" y="14446"/>
                  <a:pt x="7493" y="14446"/>
                  <a:pt x="7556" y="14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Ink 19"/>
          <p:cNvSpPr/>
          <p:nvPr/>
        </p:nvSpPr>
        <p:spPr>
          <a:xfrm>
            <a:off x="2949480" y="4525920"/>
            <a:ext cx="719280" cy="870120"/>
          </a:xfrm>
          <a:custGeom>
            <a:avLst/>
            <a:gdLst/>
            <a:ahLst/>
            <a:rect l="l" t="t" r="r" b="b"/>
            <a:pathLst>
              <a:path w="2001" h="2414">
                <a:moveTo>
                  <a:pt x="8287" y="13144"/>
                </a:moveTo>
                <a:cubicBezTo>
                  <a:pt x="8287" y="13404"/>
                  <a:pt x="8322" y="13686"/>
                  <a:pt x="8255" y="13938"/>
                </a:cubicBezTo>
                <a:cubicBezTo>
                  <a:pt x="8222" y="14060"/>
                  <a:pt x="8207" y="14199"/>
                  <a:pt x="8192" y="14319"/>
                </a:cubicBezTo>
                <a:cubicBezTo>
                  <a:pt x="8182" y="14399"/>
                  <a:pt x="8178" y="14481"/>
                  <a:pt x="8223" y="14542"/>
                </a:cubicBezTo>
              </a:path>
              <a:path w="2001" h="2414">
                <a:moveTo>
                  <a:pt x="8890" y="13621"/>
                </a:moveTo>
                <a:cubicBezTo>
                  <a:pt x="8890" y="13526"/>
                  <a:pt x="8871" y="13459"/>
                  <a:pt x="8858" y="13367"/>
                </a:cubicBezTo>
                <a:cubicBezTo>
                  <a:pt x="8847" y="13291"/>
                  <a:pt x="8834" y="13195"/>
                  <a:pt x="8763" y="13144"/>
                </a:cubicBezTo>
                <a:cubicBezTo>
                  <a:pt x="8742" y="13134"/>
                  <a:pt x="8721" y="13123"/>
                  <a:pt x="8700" y="13113"/>
                </a:cubicBezTo>
                <a:cubicBezTo>
                  <a:pt x="8617" y="13133"/>
                  <a:pt x="8609" y="13189"/>
                  <a:pt x="8604" y="13272"/>
                </a:cubicBezTo>
                <a:cubicBezTo>
                  <a:pt x="8594" y="13458"/>
                  <a:pt x="8621" y="13630"/>
                  <a:pt x="8636" y="13811"/>
                </a:cubicBezTo>
                <a:cubicBezTo>
                  <a:pt x="8648" y="13960"/>
                  <a:pt x="8637" y="14110"/>
                  <a:pt x="8668" y="14256"/>
                </a:cubicBezTo>
                <a:cubicBezTo>
                  <a:pt x="8691" y="14364"/>
                  <a:pt x="8723" y="14465"/>
                  <a:pt x="8731" y="14573"/>
                </a:cubicBezTo>
                <a:cubicBezTo>
                  <a:pt x="8731" y="14584"/>
                  <a:pt x="8731" y="14594"/>
                  <a:pt x="8731" y="14605"/>
                </a:cubicBezTo>
                <a:cubicBezTo>
                  <a:pt x="8671" y="14584"/>
                  <a:pt x="8691" y="14542"/>
                  <a:pt x="8668" y="14478"/>
                </a:cubicBezTo>
                <a:cubicBezTo>
                  <a:pt x="8633" y="14378"/>
                  <a:pt x="8636" y="14302"/>
                  <a:pt x="8636" y="14192"/>
                </a:cubicBezTo>
                <a:cubicBezTo>
                  <a:pt x="8636" y="14036"/>
                  <a:pt x="8679" y="13981"/>
                  <a:pt x="8731" y="13843"/>
                </a:cubicBezTo>
                <a:cubicBezTo>
                  <a:pt x="8792" y="13681"/>
                  <a:pt x="8869" y="13534"/>
                  <a:pt x="8922" y="13367"/>
                </a:cubicBezTo>
              </a:path>
              <a:path w="2001" h="2414">
                <a:moveTo>
                  <a:pt x="9176" y="13589"/>
                </a:moveTo>
                <a:cubicBezTo>
                  <a:pt x="9195" y="13684"/>
                  <a:pt x="9244" y="13779"/>
                  <a:pt x="9271" y="13875"/>
                </a:cubicBezTo>
                <a:cubicBezTo>
                  <a:pt x="9323" y="14058"/>
                  <a:pt x="9383" y="14231"/>
                  <a:pt x="9430" y="14414"/>
                </a:cubicBezTo>
                <a:cubicBezTo>
                  <a:pt x="9471" y="14572"/>
                  <a:pt x="9491" y="14735"/>
                  <a:pt x="9525" y="14891"/>
                </a:cubicBezTo>
                <a:cubicBezTo>
                  <a:pt x="9536" y="14923"/>
                  <a:pt x="9546" y="14954"/>
                  <a:pt x="9557" y="14986"/>
                </a:cubicBezTo>
              </a:path>
              <a:path w="2001" h="2414">
                <a:moveTo>
                  <a:pt x="9620" y="13652"/>
                </a:moveTo>
                <a:cubicBezTo>
                  <a:pt x="9541" y="13672"/>
                  <a:pt x="9543" y="13719"/>
                  <a:pt x="9493" y="13780"/>
                </a:cubicBezTo>
                <a:cubicBezTo>
                  <a:pt x="9406" y="13885"/>
                  <a:pt x="9349" y="14011"/>
                  <a:pt x="9271" y="14129"/>
                </a:cubicBezTo>
                <a:cubicBezTo>
                  <a:pt x="9139" y="14327"/>
                  <a:pt x="9018" y="14556"/>
                  <a:pt x="8858" y="14732"/>
                </a:cubicBezTo>
                <a:cubicBezTo>
                  <a:pt x="8847" y="14743"/>
                  <a:pt x="8837" y="14753"/>
                  <a:pt x="8826" y="14764"/>
                </a:cubicBezTo>
              </a:path>
              <a:path w="2001" h="2414">
                <a:moveTo>
                  <a:pt x="10192" y="12573"/>
                </a:moveTo>
                <a:cubicBezTo>
                  <a:pt x="10175" y="12624"/>
                  <a:pt x="10141" y="12605"/>
                  <a:pt x="10096" y="12636"/>
                </a:cubicBezTo>
                <a:cubicBezTo>
                  <a:pt x="10055" y="12664"/>
                  <a:pt x="10021" y="12694"/>
                  <a:pt x="9970" y="12700"/>
                </a:cubicBezTo>
                <a:cubicBezTo>
                  <a:pt x="9936" y="12704"/>
                  <a:pt x="9859" y="12707"/>
                  <a:pt x="9842" y="12732"/>
                </a:cubicBezTo>
                <a:cubicBezTo>
                  <a:pt x="9826" y="12756"/>
                  <a:pt x="9793" y="12785"/>
                  <a:pt x="9779" y="12827"/>
                </a:cubicBezTo>
                <a:cubicBezTo>
                  <a:pt x="9761" y="12882"/>
                  <a:pt x="9787" y="12869"/>
                  <a:pt x="9747" y="12922"/>
                </a:cubicBezTo>
                <a:cubicBezTo>
                  <a:pt x="9788" y="12977"/>
                  <a:pt x="9771" y="12986"/>
                  <a:pt x="9842" y="12986"/>
                </a:cubicBezTo>
                <a:cubicBezTo>
                  <a:pt x="9902" y="12986"/>
                  <a:pt x="9927" y="12923"/>
                  <a:pt x="10001" y="12954"/>
                </a:cubicBezTo>
                <a:cubicBezTo>
                  <a:pt x="10055" y="12977"/>
                  <a:pt x="10143" y="13092"/>
                  <a:pt x="10160" y="13144"/>
                </a:cubicBezTo>
                <a:cubicBezTo>
                  <a:pt x="10184" y="13216"/>
                  <a:pt x="10144" y="13281"/>
                  <a:pt x="10128" y="13335"/>
                </a:cubicBezTo>
                <a:cubicBezTo>
                  <a:pt x="10104" y="13415"/>
                  <a:pt x="10090" y="13464"/>
                  <a:pt x="10001" y="13494"/>
                </a:cubicBezTo>
                <a:cubicBezTo>
                  <a:pt x="9941" y="13514"/>
                  <a:pt x="9885" y="13494"/>
                  <a:pt x="9842" y="13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Ink 20"/>
          <p:cNvSpPr/>
          <p:nvPr/>
        </p:nvSpPr>
        <p:spPr>
          <a:xfrm>
            <a:off x="6068880" y="4149720"/>
            <a:ext cx="2961000" cy="1119240"/>
          </a:xfrm>
          <a:custGeom>
            <a:avLst/>
            <a:gdLst/>
            <a:ahLst/>
            <a:rect l="l" t="t" r="r" b="b"/>
            <a:pathLst>
              <a:path w="8224" h="3113">
                <a:moveTo>
                  <a:pt x="17208" y="12414"/>
                </a:moveTo>
                <a:cubicBezTo>
                  <a:pt x="17236" y="12435"/>
                  <a:pt x="17293" y="12470"/>
                  <a:pt x="17336" y="12446"/>
                </a:cubicBezTo>
                <a:cubicBezTo>
                  <a:pt x="17382" y="12420"/>
                  <a:pt x="17467" y="12392"/>
                  <a:pt x="17526" y="12382"/>
                </a:cubicBezTo>
                <a:cubicBezTo>
                  <a:pt x="17604" y="12368"/>
                  <a:pt x="17667" y="12351"/>
                  <a:pt x="17748" y="12351"/>
                </a:cubicBezTo>
                <a:cubicBezTo>
                  <a:pt x="17798" y="12351"/>
                  <a:pt x="17942" y="12325"/>
                  <a:pt x="17970" y="12382"/>
                </a:cubicBezTo>
                <a:cubicBezTo>
                  <a:pt x="17991" y="12424"/>
                  <a:pt x="17959" y="12510"/>
                  <a:pt x="17939" y="12541"/>
                </a:cubicBezTo>
                <a:cubicBezTo>
                  <a:pt x="17897" y="12604"/>
                  <a:pt x="17882" y="12687"/>
                  <a:pt x="17844" y="12764"/>
                </a:cubicBezTo>
                <a:cubicBezTo>
                  <a:pt x="17794" y="12864"/>
                  <a:pt x="17787" y="12946"/>
                  <a:pt x="17748" y="13049"/>
                </a:cubicBezTo>
                <a:cubicBezTo>
                  <a:pt x="17700" y="13176"/>
                  <a:pt x="17669" y="13294"/>
                  <a:pt x="17653" y="13430"/>
                </a:cubicBezTo>
                <a:cubicBezTo>
                  <a:pt x="17653" y="13451"/>
                  <a:pt x="17653" y="13473"/>
                  <a:pt x="17653" y="13494"/>
                </a:cubicBezTo>
              </a:path>
              <a:path w="8224" h="3113">
                <a:moveTo>
                  <a:pt x="18320" y="12700"/>
                </a:moveTo>
                <a:cubicBezTo>
                  <a:pt x="18288" y="12700"/>
                  <a:pt x="18277" y="12700"/>
                  <a:pt x="18256" y="12700"/>
                </a:cubicBezTo>
                <a:cubicBezTo>
                  <a:pt x="18256" y="12765"/>
                  <a:pt x="18244" y="12810"/>
                  <a:pt x="18288" y="12859"/>
                </a:cubicBezTo>
                <a:cubicBezTo>
                  <a:pt x="18330" y="12905"/>
                  <a:pt x="18381" y="12965"/>
                  <a:pt x="18415" y="13018"/>
                </a:cubicBezTo>
                <a:cubicBezTo>
                  <a:pt x="18460" y="13087"/>
                  <a:pt x="18554" y="13230"/>
                  <a:pt x="18574" y="13303"/>
                </a:cubicBezTo>
                <a:cubicBezTo>
                  <a:pt x="18596" y="13383"/>
                  <a:pt x="18617" y="13476"/>
                  <a:pt x="18637" y="13557"/>
                </a:cubicBezTo>
                <a:cubicBezTo>
                  <a:pt x="18649" y="13607"/>
                  <a:pt x="18640" y="13609"/>
                  <a:pt x="18606" y="13621"/>
                </a:cubicBezTo>
              </a:path>
              <a:path w="8224" h="3113">
                <a:moveTo>
                  <a:pt x="18447" y="12605"/>
                </a:moveTo>
                <a:cubicBezTo>
                  <a:pt x="18447" y="12708"/>
                  <a:pt x="18425" y="12791"/>
                  <a:pt x="18415" y="12890"/>
                </a:cubicBezTo>
                <a:cubicBezTo>
                  <a:pt x="18401" y="13038"/>
                  <a:pt x="18379" y="13188"/>
                  <a:pt x="18352" y="13335"/>
                </a:cubicBezTo>
                <a:cubicBezTo>
                  <a:pt x="18328" y="13465"/>
                  <a:pt x="18262" y="13563"/>
                  <a:pt x="18224" y="13684"/>
                </a:cubicBezTo>
                <a:cubicBezTo>
                  <a:pt x="18224" y="13695"/>
                  <a:pt x="18224" y="13705"/>
                  <a:pt x="18224" y="13716"/>
                </a:cubicBezTo>
              </a:path>
              <a:path w="8224" h="3113">
                <a:moveTo>
                  <a:pt x="18637" y="12192"/>
                </a:moveTo>
                <a:cubicBezTo>
                  <a:pt x="18680" y="12149"/>
                  <a:pt x="18723" y="12125"/>
                  <a:pt x="18764" y="12097"/>
                </a:cubicBezTo>
                <a:cubicBezTo>
                  <a:pt x="18775" y="12086"/>
                  <a:pt x="18785" y="12076"/>
                  <a:pt x="18796" y="12065"/>
                </a:cubicBezTo>
                <a:cubicBezTo>
                  <a:pt x="18810" y="12120"/>
                  <a:pt x="18848" y="12155"/>
                  <a:pt x="18828" y="12224"/>
                </a:cubicBezTo>
                <a:cubicBezTo>
                  <a:pt x="18811" y="12283"/>
                  <a:pt x="18794" y="12369"/>
                  <a:pt x="18764" y="12414"/>
                </a:cubicBezTo>
                <a:cubicBezTo>
                  <a:pt x="18735" y="12443"/>
                  <a:pt x="18724" y="12449"/>
                  <a:pt x="18732" y="12478"/>
                </a:cubicBezTo>
                <a:cubicBezTo>
                  <a:pt x="18783" y="12465"/>
                  <a:pt x="18813" y="12430"/>
                  <a:pt x="18860" y="12414"/>
                </a:cubicBezTo>
                <a:cubicBezTo>
                  <a:pt x="18902" y="12400"/>
                  <a:pt x="18974" y="12414"/>
                  <a:pt x="19018" y="12414"/>
                </a:cubicBezTo>
              </a:path>
              <a:path w="8224" h="3113">
                <a:moveTo>
                  <a:pt x="17113" y="12097"/>
                </a:moveTo>
                <a:cubicBezTo>
                  <a:pt x="17089" y="12126"/>
                  <a:pt x="17049" y="12163"/>
                  <a:pt x="17018" y="12224"/>
                </a:cubicBezTo>
                <a:cubicBezTo>
                  <a:pt x="16955" y="12348"/>
                  <a:pt x="16905" y="12529"/>
                  <a:pt x="16891" y="12668"/>
                </a:cubicBezTo>
                <a:cubicBezTo>
                  <a:pt x="16870" y="12881"/>
                  <a:pt x="16883" y="13096"/>
                  <a:pt x="16891" y="13303"/>
                </a:cubicBezTo>
                <a:cubicBezTo>
                  <a:pt x="16900" y="13519"/>
                  <a:pt x="16913" y="13762"/>
                  <a:pt x="16986" y="13970"/>
                </a:cubicBezTo>
                <a:cubicBezTo>
                  <a:pt x="17039" y="14122"/>
                  <a:pt x="17153" y="14279"/>
                  <a:pt x="17240" y="14414"/>
                </a:cubicBezTo>
                <a:cubicBezTo>
                  <a:pt x="17325" y="14546"/>
                  <a:pt x="17388" y="14575"/>
                  <a:pt x="17526" y="14637"/>
                </a:cubicBezTo>
              </a:path>
              <a:path w="8224" h="3113">
                <a:moveTo>
                  <a:pt x="18923" y="11874"/>
                </a:moveTo>
                <a:cubicBezTo>
                  <a:pt x="19039" y="11958"/>
                  <a:pt x="19040" y="12052"/>
                  <a:pt x="19082" y="12192"/>
                </a:cubicBezTo>
                <a:cubicBezTo>
                  <a:pt x="19132" y="12355"/>
                  <a:pt x="19203" y="12498"/>
                  <a:pt x="19240" y="12668"/>
                </a:cubicBezTo>
                <a:cubicBezTo>
                  <a:pt x="19284" y="12867"/>
                  <a:pt x="19293" y="13099"/>
                  <a:pt x="19272" y="13303"/>
                </a:cubicBezTo>
                <a:cubicBezTo>
                  <a:pt x="19248" y="13541"/>
                  <a:pt x="19222" y="13744"/>
                  <a:pt x="19145" y="13970"/>
                </a:cubicBezTo>
                <a:cubicBezTo>
                  <a:pt x="19109" y="14075"/>
                  <a:pt x="19087" y="14170"/>
                  <a:pt x="19018" y="14256"/>
                </a:cubicBezTo>
              </a:path>
              <a:path w="8224" h="3113">
                <a:moveTo>
                  <a:pt x="19304" y="12002"/>
                </a:moveTo>
                <a:cubicBezTo>
                  <a:pt x="19317" y="11964"/>
                  <a:pt x="19358" y="11948"/>
                  <a:pt x="19399" y="11906"/>
                </a:cubicBezTo>
                <a:cubicBezTo>
                  <a:pt x="19414" y="11891"/>
                  <a:pt x="19501" y="11843"/>
                  <a:pt x="19526" y="11874"/>
                </a:cubicBezTo>
                <a:cubicBezTo>
                  <a:pt x="19559" y="11916"/>
                  <a:pt x="19545" y="11980"/>
                  <a:pt x="19526" y="12033"/>
                </a:cubicBezTo>
                <a:cubicBezTo>
                  <a:pt x="19498" y="12111"/>
                  <a:pt x="19429" y="12158"/>
                  <a:pt x="19399" y="12224"/>
                </a:cubicBezTo>
                <a:cubicBezTo>
                  <a:pt x="19399" y="12256"/>
                  <a:pt x="19399" y="12266"/>
                  <a:pt x="19368" y="12256"/>
                </a:cubicBezTo>
                <a:cubicBezTo>
                  <a:pt x="19384" y="12205"/>
                  <a:pt x="19418" y="12222"/>
                  <a:pt x="19463" y="12192"/>
                </a:cubicBezTo>
                <a:cubicBezTo>
                  <a:pt x="19514" y="12157"/>
                  <a:pt x="19536" y="12156"/>
                  <a:pt x="19590" y="12192"/>
                </a:cubicBezTo>
                <a:cubicBezTo>
                  <a:pt x="19624" y="12215"/>
                  <a:pt x="19692" y="12309"/>
                  <a:pt x="19685" y="12351"/>
                </a:cubicBezTo>
                <a:cubicBezTo>
                  <a:pt x="19675" y="12411"/>
                  <a:pt x="19624" y="12484"/>
                  <a:pt x="19590" y="12541"/>
                </a:cubicBezTo>
                <a:cubicBezTo>
                  <a:pt x="19526" y="12647"/>
                  <a:pt x="19523" y="12621"/>
                  <a:pt x="19431" y="12668"/>
                </a:cubicBezTo>
                <a:cubicBezTo>
                  <a:pt x="19382" y="12693"/>
                  <a:pt x="19354" y="12690"/>
                  <a:pt x="19336" y="12636"/>
                </a:cubicBezTo>
              </a:path>
              <a:path w="8224" h="3113">
                <a:moveTo>
                  <a:pt x="19907" y="12859"/>
                </a:moveTo>
                <a:cubicBezTo>
                  <a:pt x="19965" y="12859"/>
                  <a:pt x="19982" y="12884"/>
                  <a:pt x="20034" y="12890"/>
                </a:cubicBezTo>
                <a:cubicBezTo>
                  <a:pt x="20086" y="12896"/>
                  <a:pt x="20103" y="12922"/>
                  <a:pt x="20161" y="12922"/>
                </a:cubicBezTo>
                <a:cubicBezTo>
                  <a:pt x="20193" y="12922"/>
                  <a:pt x="20204" y="12922"/>
                  <a:pt x="20225" y="12922"/>
                </a:cubicBezTo>
              </a:path>
              <a:path w="8224" h="3113">
                <a:moveTo>
                  <a:pt x="20002" y="13240"/>
                </a:moveTo>
                <a:cubicBezTo>
                  <a:pt x="20079" y="13240"/>
                  <a:pt x="20129" y="13227"/>
                  <a:pt x="20193" y="13208"/>
                </a:cubicBezTo>
                <a:cubicBezTo>
                  <a:pt x="20225" y="13208"/>
                  <a:pt x="20235" y="13208"/>
                  <a:pt x="20256" y="13208"/>
                </a:cubicBezTo>
              </a:path>
              <a:path w="8224" h="3113">
                <a:moveTo>
                  <a:pt x="20606" y="12351"/>
                </a:moveTo>
                <a:cubicBezTo>
                  <a:pt x="20617" y="12384"/>
                  <a:pt x="20651" y="12399"/>
                  <a:pt x="20701" y="12382"/>
                </a:cubicBezTo>
                <a:cubicBezTo>
                  <a:pt x="20747" y="12366"/>
                  <a:pt x="20820" y="12328"/>
                  <a:pt x="20860" y="12319"/>
                </a:cubicBezTo>
                <a:cubicBezTo>
                  <a:pt x="20955" y="12298"/>
                  <a:pt x="21079" y="12319"/>
                  <a:pt x="21177" y="12319"/>
                </a:cubicBezTo>
                <a:cubicBezTo>
                  <a:pt x="21177" y="12395"/>
                  <a:pt x="21158" y="12438"/>
                  <a:pt x="21146" y="12510"/>
                </a:cubicBezTo>
                <a:cubicBezTo>
                  <a:pt x="21131" y="12597"/>
                  <a:pt x="21096" y="12679"/>
                  <a:pt x="21082" y="12764"/>
                </a:cubicBezTo>
                <a:cubicBezTo>
                  <a:pt x="21067" y="12851"/>
                  <a:pt x="21032" y="12933"/>
                  <a:pt x="21018" y="13018"/>
                </a:cubicBezTo>
                <a:cubicBezTo>
                  <a:pt x="21002" y="13115"/>
                  <a:pt x="20960" y="13206"/>
                  <a:pt x="20955" y="13303"/>
                </a:cubicBezTo>
                <a:cubicBezTo>
                  <a:pt x="20950" y="13392"/>
                  <a:pt x="20923" y="13467"/>
                  <a:pt x="20923" y="13557"/>
                </a:cubicBezTo>
                <a:cubicBezTo>
                  <a:pt x="20923" y="13604"/>
                  <a:pt x="20892" y="13731"/>
                  <a:pt x="20892" y="13684"/>
                </a:cubicBezTo>
                <a:cubicBezTo>
                  <a:pt x="20892" y="13673"/>
                  <a:pt x="20892" y="13663"/>
                  <a:pt x="20892" y="13652"/>
                </a:cubicBezTo>
              </a:path>
              <a:path w="8224" h="3113">
                <a:moveTo>
                  <a:pt x="21272" y="12160"/>
                </a:moveTo>
                <a:cubicBezTo>
                  <a:pt x="21286" y="12104"/>
                  <a:pt x="21324" y="12076"/>
                  <a:pt x="21368" y="12033"/>
                </a:cubicBezTo>
                <a:cubicBezTo>
                  <a:pt x="21421" y="11981"/>
                  <a:pt x="21445" y="11998"/>
                  <a:pt x="21495" y="11970"/>
                </a:cubicBezTo>
                <a:cubicBezTo>
                  <a:pt x="21505" y="11959"/>
                  <a:pt x="21516" y="11949"/>
                  <a:pt x="21526" y="11938"/>
                </a:cubicBezTo>
                <a:cubicBezTo>
                  <a:pt x="21539" y="11976"/>
                  <a:pt x="21588" y="11993"/>
                  <a:pt x="21558" y="12065"/>
                </a:cubicBezTo>
                <a:cubicBezTo>
                  <a:pt x="21542" y="12104"/>
                  <a:pt x="21485" y="12153"/>
                  <a:pt x="21463" y="12160"/>
                </a:cubicBezTo>
                <a:cubicBezTo>
                  <a:pt x="21479" y="12148"/>
                  <a:pt x="21564" y="12095"/>
                  <a:pt x="21590" y="12128"/>
                </a:cubicBezTo>
                <a:cubicBezTo>
                  <a:pt x="21614" y="12158"/>
                  <a:pt x="21622" y="12213"/>
                  <a:pt x="21622" y="12256"/>
                </a:cubicBezTo>
                <a:cubicBezTo>
                  <a:pt x="21622" y="12361"/>
                  <a:pt x="21590" y="12350"/>
                  <a:pt x="21558" y="12446"/>
                </a:cubicBezTo>
                <a:cubicBezTo>
                  <a:pt x="21540" y="12501"/>
                  <a:pt x="21508" y="12528"/>
                  <a:pt x="21463" y="12573"/>
                </a:cubicBezTo>
                <a:cubicBezTo>
                  <a:pt x="21438" y="12598"/>
                  <a:pt x="21376" y="12627"/>
                  <a:pt x="21336" y="12605"/>
                </a:cubicBezTo>
                <a:cubicBezTo>
                  <a:pt x="21325" y="12594"/>
                  <a:pt x="21315" y="12584"/>
                  <a:pt x="21304" y="12573"/>
                </a:cubicBezTo>
              </a:path>
              <a:path w="8224" h="3113">
                <a:moveTo>
                  <a:pt x="21590" y="12510"/>
                </a:moveTo>
                <a:cubicBezTo>
                  <a:pt x="21590" y="12520"/>
                  <a:pt x="21590" y="12531"/>
                  <a:pt x="21590" y="12541"/>
                </a:cubicBezTo>
              </a:path>
              <a:path w="8224" h="3113">
                <a:moveTo>
                  <a:pt x="21590" y="12510"/>
                </a:moveTo>
                <a:lnTo>
                  <a:pt x="21590" y="12510"/>
                </a:lnTo>
              </a:path>
              <a:path w="8224" h="3113">
                <a:moveTo>
                  <a:pt x="21622" y="12573"/>
                </a:moveTo>
                <a:cubicBezTo>
                  <a:pt x="21703" y="12654"/>
                  <a:pt x="21751" y="12731"/>
                  <a:pt x="21812" y="12827"/>
                </a:cubicBezTo>
                <a:cubicBezTo>
                  <a:pt x="21885" y="12943"/>
                  <a:pt x="21947" y="13052"/>
                  <a:pt x="22003" y="13176"/>
                </a:cubicBezTo>
                <a:cubicBezTo>
                  <a:pt x="22046" y="13272"/>
                  <a:pt x="22089" y="13366"/>
                  <a:pt x="22130" y="13462"/>
                </a:cubicBezTo>
                <a:cubicBezTo>
                  <a:pt x="22158" y="13526"/>
                  <a:pt x="22162" y="13552"/>
                  <a:pt x="22162" y="13621"/>
                </a:cubicBezTo>
              </a:path>
              <a:path w="8224" h="3113">
                <a:moveTo>
                  <a:pt x="22193" y="12287"/>
                </a:moveTo>
                <a:cubicBezTo>
                  <a:pt x="22162" y="12326"/>
                  <a:pt x="22122" y="12397"/>
                  <a:pt x="22098" y="12478"/>
                </a:cubicBezTo>
                <a:cubicBezTo>
                  <a:pt x="22042" y="12671"/>
                  <a:pt x="21972" y="12861"/>
                  <a:pt x="21908" y="13049"/>
                </a:cubicBezTo>
                <a:cubicBezTo>
                  <a:pt x="21824" y="13296"/>
                  <a:pt x="21708" y="13533"/>
                  <a:pt x="21622" y="13780"/>
                </a:cubicBezTo>
                <a:cubicBezTo>
                  <a:pt x="21611" y="13812"/>
                  <a:pt x="21601" y="13843"/>
                  <a:pt x="21590" y="13875"/>
                </a:cubicBezTo>
              </a:path>
              <a:path w="8224" h="3113">
                <a:moveTo>
                  <a:pt x="22479" y="11938"/>
                </a:moveTo>
                <a:cubicBezTo>
                  <a:pt x="22468" y="11938"/>
                  <a:pt x="22458" y="11938"/>
                  <a:pt x="22447" y="11938"/>
                </a:cubicBezTo>
              </a:path>
              <a:path w="8224" h="3113">
                <a:moveTo>
                  <a:pt x="22479" y="11938"/>
                </a:moveTo>
                <a:cubicBezTo>
                  <a:pt x="22479" y="11959"/>
                  <a:pt x="22479" y="11981"/>
                  <a:pt x="22479" y="12002"/>
                </a:cubicBezTo>
              </a:path>
              <a:path w="8224" h="3113">
                <a:moveTo>
                  <a:pt x="22479" y="12002"/>
                </a:moveTo>
                <a:cubicBezTo>
                  <a:pt x="22465" y="12073"/>
                  <a:pt x="22447" y="12116"/>
                  <a:pt x="22447" y="12192"/>
                </a:cubicBezTo>
                <a:cubicBezTo>
                  <a:pt x="22447" y="12290"/>
                  <a:pt x="22418" y="12465"/>
                  <a:pt x="22479" y="12510"/>
                </a:cubicBezTo>
                <a:cubicBezTo>
                  <a:pt x="22546" y="12559"/>
                  <a:pt x="22562" y="12500"/>
                  <a:pt x="22606" y="12446"/>
                </a:cubicBezTo>
                <a:cubicBezTo>
                  <a:pt x="22662" y="12378"/>
                  <a:pt x="22668" y="12322"/>
                  <a:pt x="22701" y="12256"/>
                </a:cubicBezTo>
                <a:cubicBezTo>
                  <a:pt x="22728" y="12202"/>
                  <a:pt x="22733" y="12194"/>
                  <a:pt x="22733" y="12128"/>
                </a:cubicBezTo>
                <a:cubicBezTo>
                  <a:pt x="22694" y="12138"/>
                  <a:pt x="22632" y="12155"/>
                  <a:pt x="22606" y="12192"/>
                </a:cubicBezTo>
                <a:cubicBezTo>
                  <a:pt x="22568" y="12247"/>
                  <a:pt x="22565" y="12323"/>
                  <a:pt x="22542" y="12382"/>
                </a:cubicBezTo>
                <a:cubicBezTo>
                  <a:pt x="22505" y="12478"/>
                  <a:pt x="22522" y="12489"/>
                  <a:pt x="22542" y="12573"/>
                </a:cubicBezTo>
              </a:path>
              <a:path w="8224" h="3113">
                <a:moveTo>
                  <a:pt x="22733" y="12700"/>
                </a:moveTo>
                <a:cubicBezTo>
                  <a:pt x="22722" y="12700"/>
                  <a:pt x="22712" y="12700"/>
                  <a:pt x="22701" y="12700"/>
                </a:cubicBezTo>
                <a:cubicBezTo>
                  <a:pt x="22808" y="12700"/>
                  <a:pt x="22897" y="12698"/>
                  <a:pt x="22987" y="12668"/>
                </a:cubicBezTo>
                <a:cubicBezTo>
                  <a:pt x="23011" y="12660"/>
                  <a:pt x="23057" y="12668"/>
                  <a:pt x="23082" y="12668"/>
                </a:cubicBezTo>
              </a:path>
              <a:path w="8224" h="3113">
                <a:moveTo>
                  <a:pt x="22765" y="13081"/>
                </a:moveTo>
                <a:cubicBezTo>
                  <a:pt x="22858" y="13081"/>
                  <a:pt x="22942" y="13065"/>
                  <a:pt x="23019" y="13049"/>
                </a:cubicBezTo>
                <a:cubicBezTo>
                  <a:pt x="23072" y="13049"/>
                  <a:pt x="23082" y="13049"/>
                  <a:pt x="23114" y="13049"/>
                </a:cubicBezTo>
              </a:path>
              <a:path w="8224" h="3113">
                <a:moveTo>
                  <a:pt x="23400" y="12319"/>
                </a:moveTo>
                <a:cubicBezTo>
                  <a:pt x="23330" y="12296"/>
                  <a:pt x="23383" y="12274"/>
                  <a:pt x="23400" y="12224"/>
                </a:cubicBezTo>
                <a:cubicBezTo>
                  <a:pt x="23416" y="12176"/>
                  <a:pt x="23428" y="12137"/>
                  <a:pt x="23463" y="12097"/>
                </a:cubicBezTo>
                <a:cubicBezTo>
                  <a:pt x="23492" y="12068"/>
                  <a:pt x="23498" y="12057"/>
                  <a:pt x="23527" y="12065"/>
                </a:cubicBezTo>
                <a:cubicBezTo>
                  <a:pt x="23539" y="12115"/>
                  <a:pt x="23558" y="12135"/>
                  <a:pt x="23558" y="12192"/>
                </a:cubicBezTo>
                <a:cubicBezTo>
                  <a:pt x="23558" y="12277"/>
                  <a:pt x="23553" y="12368"/>
                  <a:pt x="23527" y="12446"/>
                </a:cubicBezTo>
                <a:cubicBezTo>
                  <a:pt x="23508" y="12504"/>
                  <a:pt x="23472" y="12591"/>
                  <a:pt x="23432" y="12605"/>
                </a:cubicBezTo>
                <a:cubicBezTo>
                  <a:pt x="23443" y="12570"/>
                  <a:pt x="23454" y="12546"/>
                  <a:pt x="23495" y="12541"/>
                </a:cubicBezTo>
                <a:cubicBezTo>
                  <a:pt x="23565" y="12532"/>
                  <a:pt x="23567" y="12553"/>
                  <a:pt x="23590" y="12605"/>
                </a:cubicBezTo>
                <a:cubicBezTo>
                  <a:pt x="23628" y="12693"/>
                  <a:pt x="23622" y="12763"/>
                  <a:pt x="23622" y="12859"/>
                </a:cubicBezTo>
                <a:cubicBezTo>
                  <a:pt x="23622" y="12995"/>
                  <a:pt x="23596" y="13054"/>
                  <a:pt x="23558" y="13176"/>
                </a:cubicBezTo>
                <a:cubicBezTo>
                  <a:pt x="23539" y="13238"/>
                  <a:pt x="23503" y="13280"/>
                  <a:pt x="23432" y="13303"/>
                </a:cubicBezTo>
                <a:cubicBezTo>
                  <a:pt x="23353" y="13329"/>
                  <a:pt x="23376" y="13327"/>
                  <a:pt x="23304" y="13303"/>
                </a:cubicBezTo>
                <a:cubicBezTo>
                  <a:pt x="23229" y="13277"/>
                  <a:pt x="23241" y="13259"/>
                  <a:pt x="23241" y="13176"/>
                </a:cubicBezTo>
                <a:cubicBezTo>
                  <a:pt x="23241" y="13134"/>
                  <a:pt x="23241" y="13113"/>
                  <a:pt x="23241" y="13081"/>
                </a:cubicBezTo>
              </a:path>
              <a:path w="8224" h="3113">
                <a:moveTo>
                  <a:pt x="23749" y="12224"/>
                </a:moveTo>
                <a:cubicBezTo>
                  <a:pt x="23738" y="12224"/>
                  <a:pt x="23728" y="12224"/>
                  <a:pt x="23717" y="12224"/>
                </a:cubicBezTo>
                <a:cubicBezTo>
                  <a:pt x="23758" y="12278"/>
                  <a:pt x="23749" y="12310"/>
                  <a:pt x="23749" y="12382"/>
                </a:cubicBezTo>
                <a:cubicBezTo>
                  <a:pt x="23749" y="12455"/>
                  <a:pt x="23737" y="12482"/>
                  <a:pt x="23717" y="12541"/>
                </a:cubicBezTo>
                <a:cubicBezTo>
                  <a:pt x="23699" y="12596"/>
                  <a:pt x="23743" y="12585"/>
                  <a:pt x="23686" y="12605"/>
                </a:cubicBezTo>
                <a:cubicBezTo>
                  <a:pt x="23744" y="12605"/>
                  <a:pt x="23761" y="12579"/>
                  <a:pt x="23812" y="12573"/>
                </a:cubicBezTo>
                <a:cubicBezTo>
                  <a:pt x="23853" y="12568"/>
                  <a:pt x="23898" y="12573"/>
                  <a:pt x="23940" y="12573"/>
                </a:cubicBezTo>
              </a:path>
              <a:path w="8224" h="3113">
                <a:moveTo>
                  <a:pt x="23971" y="12002"/>
                </a:moveTo>
                <a:cubicBezTo>
                  <a:pt x="23971" y="12125"/>
                  <a:pt x="23953" y="12233"/>
                  <a:pt x="23940" y="12351"/>
                </a:cubicBezTo>
                <a:cubicBezTo>
                  <a:pt x="23914" y="12591"/>
                  <a:pt x="23943" y="12852"/>
                  <a:pt x="23971" y="13081"/>
                </a:cubicBezTo>
                <a:cubicBezTo>
                  <a:pt x="23980" y="13151"/>
                  <a:pt x="23971" y="13232"/>
                  <a:pt x="23971" y="13303"/>
                </a:cubicBezTo>
              </a:path>
              <a:path w="8224" h="3113">
                <a:moveTo>
                  <a:pt x="24066" y="12351"/>
                </a:moveTo>
                <a:cubicBezTo>
                  <a:pt x="24066" y="12304"/>
                  <a:pt x="24075" y="12258"/>
                  <a:pt x="24098" y="12224"/>
                </a:cubicBezTo>
                <a:cubicBezTo>
                  <a:pt x="24127" y="12181"/>
                  <a:pt x="24169" y="12134"/>
                  <a:pt x="24194" y="12097"/>
                </a:cubicBezTo>
                <a:cubicBezTo>
                  <a:pt x="24221" y="12056"/>
                  <a:pt x="24248" y="12043"/>
                  <a:pt x="24289" y="12033"/>
                </a:cubicBezTo>
                <a:cubicBezTo>
                  <a:pt x="24289" y="12099"/>
                  <a:pt x="24265" y="12130"/>
                  <a:pt x="24257" y="12192"/>
                </a:cubicBezTo>
                <a:cubicBezTo>
                  <a:pt x="24243" y="12296"/>
                  <a:pt x="24216" y="12378"/>
                  <a:pt x="24194" y="12478"/>
                </a:cubicBezTo>
                <a:cubicBezTo>
                  <a:pt x="24179" y="12547"/>
                  <a:pt x="24140" y="12550"/>
                  <a:pt x="24162" y="12541"/>
                </a:cubicBezTo>
                <a:cubicBezTo>
                  <a:pt x="24211" y="12521"/>
                  <a:pt x="24194" y="12492"/>
                  <a:pt x="24225" y="12446"/>
                </a:cubicBezTo>
                <a:cubicBezTo>
                  <a:pt x="24236" y="12435"/>
                  <a:pt x="24246" y="12425"/>
                  <a:pt x="24257" y="12414"/>
                </a:cubicBezTo>
                <a:cubicBezTo>
                  <a:pt x="24310" y="12427"/>
                  <a:pt x="24345" y="12451"/>
                  <a:pt x="24352" y="12510"/>
                </a:cubicBezTo>
                <a:cubicBezTo>
                  <a:pt x="24364" y="12612"/>
                  <a:pt x="24369" y="12630"/>
                  <a:pt x="24352" y="12732"/>
                </a:cubicBezTo>
                <a:cubicBezTo>
                  <a:pt x="24338" y="12813"/>
                  <a:pt x="24308" y="12875"/>
                  <a:pt x="24289" y="12954"/>
                </a:cubicBezTo>
                <a:cubicBezTo>
                  <a:pt x="24280" y="12991"/>
                  <a:pt x="24243" y="13012"/>
                  <a:pt x="24194" y="13018"/>
                </a:cubicBezTo>
                <a:cubicBezTo>
                  <a:pt x="24162" y="13018"/>
                  <a:pt x="24151" y="13018"/>
                  <a:pt x="24130" y="13018"/>
                </a:cubicBezTo>
              </a:path>
              <a:path w="8224" h="3113">
                <a:moveTo>
                  <a:pt x="24448" y="12382"/>
                </a:moveTo>
                <a:cubicBezTo>
                  <a:pt x="24448" y="12438"/>
                  <a:pt x="24459" y="12492"/>
                  <a:pt x="24479" y="12541"/>
                </a:cubicBezTo>
                <a:cubicBezTo>
                  <a:pt x="24508" y="12613"/>
                  <a:pt x="24535" y="12700"/>
                  <a:pt x="24574" y="12764"/>
                </a:cubicBezTo>
                <a:cubicBezTo>
                  <a:pt x="24606" y="12815"/>
                  <a:pt x="24634" y="12888"/>
                  <a:pt x="24638" y="12954"/>
                </a:cubicBezTo>
                <a:cubicBezTo>
                  <a:pt x="24643" y="13024"/>
                  <a:pt x="24670" y="13044"/>
                  <a:pt x="24670" y="13113"/>
                </a:cubicBezTo>
              </a:path>
              <a:path w="8224" h="3113">
                <a:moveTo>
                  <a:pt x="24733" y="12192"/>
                </a:moveTo>
                <a:cubicBezTo>
                  <a:pt x="24719" y="12307"/>
                  <a:pt x="24701" y="12425"/>
                  <a:pt x="24670" y="12541"/>
                </a:cubicBezTo>
                <a:cubicBezTo>
                  <a:pt x="24629" y="12693"/>
                  <a:pt x="24604" y="12836"/>
                  <a:pt x="24574" y="12986"/>
                </a:cubicBezTo>
                <a:cubicBezTo>
                  <a:pt x="24557" y="13073"/>
                  <a:pt x="24509" y="13191"/>
                  <a:pt x="24479" y="13272"/>
                </a:cubicBezTo>
                <a:cubicBezTo>
                  <a:pt x="24450" y="13349"/>
                  <a:pt x="24448" y="13395"/>
                  <a:pt x="24448" y="13303"/>
                </a:cubicBezTo>
              </a:path>
              <a:path w="8224" h="3113">
                <a:moveTo>
                  <a:pt x="24987" y="11525"/>
                </a:moveTo>
                <a:cubicBezTo>
                  <a:pt x="24950" y="11576"/>
                  <a:pt x="24939" y="11652"/>
                  <a:pt x="24924" y="11716"/>
                </a:cubicBezTo>
                <a:cubicBezTo>
                  <a:pt x="24909" y="11782"/>
                  <a:pt x="24897" y="11841"/>
                  <a:pt x="24892" y="11906"/>
                </a:cubicBezTo>
                <a:cubicBezTo>
                  <a:pt x="24886" y="11973"/>
                  <a:pt x="24908" y="12012"/>
                  <a:pt x="24924" y="12065"/>
                </a:cubicBezTo>
                <a:cubicBezTo>
                  <a:pt x="24941" y="12121"/>
                  <a:pt x="24916" y="12107"/>
                  <a:pt x="24956" y="12160"/>
                </a:cubicBezTo>
                <a:cubicBezTo>
                  <a:pt x="25023" y="12143"/>
                  <a:pt x="25020" y="12112"/>
                  <a:pt x="25051" y="12065"/>
                </a:cubicBezTo>
                <a:cubicBezTo>
                  <a:pt x="25084" y="12015"/>
                  <a:pt x="25082" y="12001"/>
                  <a:pt x="25082" y="11938"/>
                </a:cubicBezTo>
                <a:cubicBezTo>
                  <a:pt x="25082" y="11906"/>
                  <a:pt x="25082" y="11875"/>
                  <a:pt x="25082" y="11843"/>
                </a:cubicBezTo>
                <a:cubicBezTo>
                  <a:pt x="25019" y="11843"/>
                  <a:pt x="25018" y="11850"/>
                  <a:pt x="24987" y="11906"/>
                </a:cubicBezTo>
                <a:cubicBezTo>
                  <a:pt x="24946" y="11978"/>
                  <a:pt x="24949" y="12054"/>
                  <a:pt x="24924" y="12128"/>
                </a:cubicBezTo>
                <a:cubicBezTo>
                  <a:pt x="24893" y="12190"/>
                  <a:pt x="24882" y="12209"/>
                  <a:pt x="24892" y="12256"/>
                </a:cubicBezTo>
              </a:path>
              <a:path w="8224" h="3113">
                <a:moveTo>
                  <a:pt x="24574" y="13716"/>
                </a:moveTo>
                <a:lnTo>
                  <a:pt x="24574" y="13716"/>
                </a:lnTo>
              </a:path>
              <a:path w="8224" h="3113">
                <a:moveTo>
                  <a:pt x="24574" y="13716"/>
                </a:moveTo>
                <a:cubicBezTo>
                  <a:pt x="24574" y="13727"/>
                  <a:pt x="24574" y="13737"/>
                  <a:pt x="24574" y="13748"/>
                </a:cubicBezTo>
              </a:path>
              <a:path w="8224" h="3113">
                <a:moveTo>
                  <a:pt x="24574" y="13748"/>
                </a:moveTo>
                <a:cubicBezTo>
                  <a:pt x="24551" y="13787"/>
                  <a:pt x="24520" y="13864"/>
                  <a:pt x="24511" y="13906"/>
                </a:cubicBezTo>
                <a:cubicBezTo>
                  <a:pt x="24494" y="13983"/>
                  <a:pt x="24498" y="13996"/>
                  <a:pt x="24479" y="14034"/>
                </a:cubicBezTo>
                <a:cubicBezTo>
                  <a:pt x="24457" y="14078"/>
                  <a:pt x="24534" y="14045"/>
                  <a:pt x="24543" y="14034"/>
                </a:cubicBezTo>
                <a:cubicBezTo>
                  <a:pt x="24564" y="14008"/>
                  <a:pt x="24600" y="13975"/>
                  <a:pt x="24638" y="13970"/>
                </a:cubicBezTo>
                <a:cubicBezTo>
                  <a:pt x="24700" y="13962"/>
                  <a:pt x="24746" y="13994"/>
                  <a:pt x="24765" y="13938"/>
                </a:cubicBezTo>
              </a:path>
              <a:path w="8224" h="3113">
                <a:moveTo>
                  <a:pt x="24765" y="13430"/>
                </a:moveTo>
                <a:cubicBezTo>
                  <a:pt x="24765" y="13716"/>
                  <a:pt x="24765" y="14002"/>
                  <a:pt x="24765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Ink 21"/>
          <p:cNvSpPr/>
          <p:nvPr/>
        </p:nvSpPr>
        <p:spPr>
          <a:xfrm>
            <a:off x="5315040" y="5029200"/>
            <a:ext cx="3611520" cy="1496880"/>
          </a:xfrm>
          <a:custGeom>
            <a:avLst/>
            <a:gdLst/>
            <a:ahLst/>
            <a:rect l="l" t="t" r="r" b="b"/>
            <a:pathLst>
              <a:path w="10034" h="4160">
                <a:moveTo>
                  <a:pt x="15462" y="14256"/>
                </a:moveTo>
                <a:cubicBezTo>
                  <a:pt x="15432" y="14286"/>
                  <a:pt x="15420" y="14311"/>
                  <a:pt x="15399" y="14351"/>
                </a:cubicBezTo>
                <a:cubicBezTo>
                  <a:pt x="15371" y="14403"/>
                  <a:pt x="15345" y="14460"/>
                  <a:pt x="15304" y="14510"/>
                </a:cubicBezTo>
                <a:cubicBezTo>
                  <a:pt x="15217" y="14617"/>
                  <a:pt x="15180" y="14738"/>
                  <a:pt x="15113" y="14859"/>
                </a:cubicBezTo>
                <a:cubicBezTo>
                  <a:pt x="15023" y="15021"/>
                  <a:pt x="14914" y="15189"/>
                  <a:pt x="14859" y="15367"/>
                </a:cubicBezTo>
                <a:cubicBezTo>
                  <a:pt x="14794" y="15579"/>
                  <a:pt x="14746" y="15846"/>
                  <a:pt x="14764" y="16066"/>
                </a:cubicBezTo>
                <a:cubicBezTo>
                  <a:pt x="14782" y="16285"/>
                  <a:pt x="14808" y="16560"/>
                  <a:pt x="14891" y="16764"/>
                </a:cubicBezTo>
                <a:cubicBezTo>
                  <a:pt x="14986" y="16997"/>
                  <a:pt x="15110" y="17298"/>
                  <a:pt x="15272" y="17494"/>
                </a:cubicBezTo>
                <a:cubicBezTo>
                  <a:pt x="15333" y="17567"/>
                  <a:pt x="15392" y="17600"/>
                  <a:pt x="15462" y="17653"/>
                </a:cubicBezTo>
              </a:path>
              <a:path w="10034" h="4160">
                <a:moveTo>
                  <a:pt x="15462" y="14922"/>
                </a:moveTo>
                <a:cubicBezTo>
                  <a:pt x="15388" y="14898"/>
                  <a:pt x="15451" y="14877"/>
                  <a:pt x="15462" y="14827"/>
                </a:cubicBezTo>
                <a:cubicBezTo>
                  <a:pt x="15475" y="14765"/>
                  <a:pt x="15525" y="14682"/>
                  <a:pt x="15589" y="14637"/>
                </a:cubicBezTo>
                <a:cubicBezTo>
                  <a:pt x="15646" y="14597"/>
                  <a:pt x="15682" y="14573"/>
                  <a:pt x="15748" y="14573"/>
                </a:cubicBezTo>
                <a:cubicBezTo>
                  <a:pt x="15759" y="14573"/>
                  <a:pt x="15769" y="14573"/>
                  <a:pt x="15780" y="14573"/>
                </a:cubicBezTo>
                <a:cubicBezTo>
                  <a:pt x="15780" y="14674"/>
                  <a:pt x="15760" y="14766"/>
                  <a:pt x="15748" y="14859"/>
                </a:cubicBezTo>
                <a:cubicBezTo>
                  <a:pt x="15731" y="14993"/>
                  <a:pt x="15677" y="15108"/>
                  <a:pt x="15653" y="15240"/>
                </a:cubicBezTo>
                <a:cubicBezTo>
                  <a:pt x="15641" y="15309"/>
                  <a:pt x="15625" y="15401"/>
                  <a:pt x="15589" y="15462"/>
                </a:cubicBezTo>
                <a:cubicBezTo>
                  <a:pt x="15566" y="15502"/>
                  <a:pt x="15554" y="15521"/>
                  <a:pt x="15526" y="15558"/>
                </a:cubicBezTo>
                <a:cubicBezTo>
                  <a:pt x="15575" y="15542"/>
                  <a:pt x="15552" y="15526"/>
                  <a:pt x="15621" y="15526"/>
                </a:cubicBezTo>
                <a:cubicBezTo>
                  <a:pt x="15686" y="15526"/>
                  <a:pt x="15689" y="15545"/>
                  <a:pt x="15716" y="15558"/>
                </a:cubicBezTo>
                <a:cubicBezTo>
                  <a:pt x="15752" y="15558"/>
                  <a:pt x="15766" y="15561"/>
                  <a:pt x="15780" y="15589"/>
                </a:cubicBezTo>
              </a:path>
              <a:path w="10034" h="4160">
                <a:moveTo>
                  <a:pt x="15907" y="14796"/>
                </a:moveTo>
                <a:cubicBezTo>
                  <a:pt x="15921" y="14852"/>
                  <a:pt x="15889" y="14907"/>
                  <a:pt x="15907" y="14954"/>
                </a:cubicBezTo>
                <a:cubicBezTo>
                  <a:pt x="15929" y="15010"/>
                  <a:pt x="15938" y="15046"/>
                  <a:pt x="15938" y="15113"/>
                </a:cubicBezTo>
                <a:cubicBezTo>
                  <a:pt x="15938" y="15155"/>
                  <a:pt x="15938" y="15176"/>
                  <a:pt x="15938" y="15208"/>
                </a:cubicBezTo>
                <a:cubicBezTo>
                  <a:pt x="15973" y="15148"/>
                  <a:pt x="16003" y="15102"/>
                  <a:pt x="16066" y="15081"/>
                </a:cubicBezTo>
                <a:cubicBezTo>
                  <a:pt x="16106" y="15068"/>
                  <a:pt x="16156" y="15062"/>
                  <a:pt x="16192" y="15050"/>
                </a:cubicBezTo>
                <a:cubicBezTo>
                  <a:pt x="16203" y="15050"/>
                  <a:pt x="16213" y="15050"/>
                  <a:pt x="16224" y="15050"/>
                </a:cubicBezTo>
              </a:path>
              <a:path w="10034" h="4160">
                <a:moveTo>
                  <a:pt x="16161" y="14573"/>
                </a:moveTo>
                <a:cubicBezTo>
                  <a:pt x="16161" y="14490"/>
                  <a:pt x="16161" y="14623"/>
                  <a:pt x="16161" y="14637"/>
                </a:cubicBezTo>
                <a:cubicBezTo>
                  <a:pt x="16161" y="14780"/>
                  <a:pt x="16182" y="14910"/>
                  <a:pt x="16192" y="15050"/>
                </a:cubicBezTo>
                <a:cubicBezTo>
                  <a:pt x="16201" y="15174"/>
                  <a:pt x="16192" y="15306"/>
                  <a:pt x="16192" y="15430"/>
                </a:cubicBezTo>
              </a:path>
              <a:path w="10034" h="4160">
                <a:moveTo>
                  <a:pt x="15240" y="16066"/>
                </a:moveTo>
                <a:cubicBezTo>
                  <a:pt x="15229" y="16066"/>
                  <a:pt x="15219" y="16066"/>
                  <a:pt x="15208" y="16066"/>
                </a:cubicBezTo>
                <a:cubicBezTo>
                  <a:pt x="15248" y="16039"/>
                  <a:pt x="15258" y="16022"/>
                  <a:pt x="15335" y="16002"/>
                </a:cubicBezTo>
                <a:cubicBezTo>
                  <a:pt x="15397" y="15986"/>
                  <a:pt x="15491" y="15960"/>
                  <a:pt x="15558" y="15938"/>
                </a:cubicBezTo>
                <a:cubicBezTo>
                  <a:pt x="15665" y="15903"/>
                  <a:pt x="15764" y="15881"/>
                  <a:pt x="15875" y="15843"/>
                </a:cubicBezTo>
                <a:cubicBezTo>
                  <a:pt x="16004" y="15799"/>
                  <a:pt x="16154" y="15732"/>
                  <a:pt x="16288" y="15716"/>
                </a:cubicBezTo>
                <a:cubicBezTo>
                  <a:pt x="16448" y="15697"/>
                  <a:pt x="16601" y="15657"/>
                  <a:pt x="16764" y="15653"/>
                </a:cubicBezTo>
                <a:cubicBezTo>
                  <a:pt x="17190" y="15641"/>
                  <a:pt x="17652" y="15620"/>
                  <a:pt x="18066" y="15684"/>
                </a:cubicBezTo>
                <a:cubicBezTo>
                  <a:pt x="18165" y="15699"/>
                  <a:pt x="18282" y="15684"/>
                  <a:pt x="18383" y="15684"/>
                </a:cubicBezTo>
              </a:path>
              <a:path w="10034" h="4160">
                <a:moveTo>
                  <a:pt x="15684" y="16288"/>
                </a:moveTo>
                <a:cubicBezTo>
                  <a:pt x="15741" y="16307"/>
                  <a:pt x="15716" y="16378"/>
                  <a:pt x="15716" y="16446"/>
                </a:cubicBezTo>
                <a:cubicBezTo>
                  <a:pt x="15716" y="16540"/>
                  <a:pt x="15703" y="16703"/>
                  <a:pt x="15684" y="16796"/>
                </a:cubicBezTo>
                <a:cubicBezTo>
                  <a:pt x="15666" y="16886"/>
                  <a:pt x="15653" y="16953"/>
                  <a:pt x="15653" y="17050"/>
                </a:cubicBezTo>
                <a:cubicBezTo>
                  <a:pt x="15653" y="17109"/>
                  <a:pt x="15681" y="17197"/>
                  <a:pt x="15716" y="17240"/>
                </a:cubicBezTo>
                <a:cubicBezTo>
                  <a:pt x="15752" y="17285"/>
                  <a:pt x="15790" y="17272"/>
                  <a:pt x="15843" y="17272"/>
                </a:cubicBezTo>
                <a:cubicBezTo>
                  <a:pt x="15888" y="17272"/>
                  <a:pt x="15937" y="17237"/>
                  <a:pt x="15970" y="17208"/>
                </a:cubicBezTo>
                <a:cubicBezTo>
                  <a:pt x="16011" y="17172"/>
                  <a:pt x="16084" y="17100"/>
                  <a:pt x="16097" y="17050"/>
                </a:cubicBezTo>
                <a:cubicBezTo>
                  <a:pt x="16116" y="16977"/>
                  <a:pt x="16129" y="16906"/>
                  <a:pt x="16129" y="16828"/>
                </a:cubicBezTo>
                <a:cubicBezTo>
                  <a:pt x="16129" y="16787"/>
                  <a:pt x="16123" y="16691"/>
                  <a:pt x="16097" y="16669"/>
                </a:cubicBezTo>
                <a:cubicBezTo>
                  <a:pt x="16074" y="16650"/>
                  <a:pt x="15946" y="16665"/>
                  <a:pt x="15938" y="16700"/>
                </a:cubicBezTo>
                <a:cubicBezTo>
                  <a:pt x="15918" y="16788"/>
                  <a:pt x="15907" y="16861"/>
                  <a:pt x="15907" y="16954"/>
                </a:cubicBezTo>
                <a:cubicBezTo>
                  <a:pt x="15907" y="17039"/>
                  <a:pt x="15924" y="17108"/>
                  <a:pt x="15938" y="17177"/>
                </a:cubicBezTo>
                <a:cubicBezTo>
                  <a:pt x="15938" y="17198"/>
                  <a:pt x="15938" y="17219"/>
                  <a:pt x="15938" y="17240"/>
                </a:cubicBezTo>
              </a:path>
              <a:path w="10034" h="4160">
                <a:moveTo>
                  <a:pt x="16669" y="14764"/>
                </a:moveTo>
                <a:cubicBezTo>
                  <a:pt x="16699" y="14805"/>
                  <a:pt x="16707" y="14854"/>
                  <a:pt x="16732" y="14891"/>
                </a:cubicBezTo>
                <a:cubicBezTo>
                  <a:pt x="16773" y="14952"/>
                  <a:pt x="16815" y="15022"/>
                  <a:pt x="16859" y="15081"/>
                </a:cubicBezTo>
                <a:cubicBezTo>
                  <a:pt x="16916" y="15157"/>
                  <a:pt x="16930" y="15255"/>
                  <a:pt x="16986" y="15335"/>
                </a:cubicBezTo>
                <a:cubicBezTo>
                  <a:pt x="17029" y="15396"/>
                  <a:pt x="17063" y="15462"/>
                  <a:pt x="17082" y="15526"/>
                </a:cubicBezTo>
                <a:cubicBezTo>
                  <a:pt x="17082" y="15562"/>
                  <a:pt x="17085" y="15575"/>
                  <a:pt x="17113" y="15589"/>
                </a:cubicBezTo>
              </a:path>
              <a:path w="10034" h="4160">
                <a:moveTo>
                  <a:pt x="17050" y="14700"/>
                </a:moveTo>
                <a:cubicBezTo>
                  <a:pt x="16996" y="14773"/>
                  <a:pt x="17004" y="14830"/>
                  <a:pt x="16986" y="14922"/>
                </a:cubicBezTo>
                <a:cubicBezTo>
                  <a:pt x="16953" y="15094"/>
                  <a:pt x="16928" y="15260"/>
                  <a:pt x="16891" y="15430"/>
                </a:cubicBezTo>
                <a:cubicBezTo>
                  <a:pt x="16862" y="15564"/>
                  <a:pt x="16863" y="15714"/>
                  <a:pt x="16828" y="15843"/>
                </a:cubicBezTo>
                <a:cubicBezTo>
                  <a:pt x="16805" y="15929"/>
                  <a:pt x="16796" y="15911"/>
                  <a:pt x="16796" y="16002"/>
                </a:cubicBezTo>
              </a:path>
              <a:path w="10034" h="4160">
                <a:moveTo>
                  <a:pt x="17177" y="14414"/>
                </a:moveTo>
                <a:cubicBezTo>
                  <a:pt x="17177" y="14340"/>
                  <a:pt x="17187" y="14365"/>
                  <a:pt x="17240" y="14319"/>
                </a:cubicBezTo>
                <a:cubicBezTo>
                  <a:pt x="17275" y="14288"/>
                  <a:pt x="17322" y="14261"/>
                  <a:pt x="17367" y="14256"/>
                </a:cubicBezTo>
                <a:cubicBezTo>
                  <a:pt x="17393" y="14253"/>
                  <a:pt x="17447" y="14315"/>
                  <a:pt x="17431" y="14351"/>
                </a:cubicBezTo>
                <a:cubicBezTo>
                  <a:pt x="17400" y="14420"/>
                  <a:pt x="17392" y="14497"/>
                  <a:pt x="17367" y="14573"/>
                </a:cubicBezTo>
                <a:cubicBezTo>
                  <a:pt x="17342" y="14650"/>
                  <a:pt x="17293" y="14727"/>
                  <a:pt x="17272" y="14796"/>
                </a:cubicBezTo>
                <a:cubicBezTo>
                  <a:pt x="17255" y="14851"/>
                  <a:pt x="17242" y="14835"/>
                  <a:pt x="17272" y="14796"/>
                </a:cubicBezTo>
                <a:cubicBezTo>
                  <a:pt x="17306" y="14751"/>
                  <a:pt x="17378" y="14743"/>
                  <a:pt x="17399" y="14700"/>
                </a:cubicBezTo>
                <a:cubicBezTo>
                  <a:pt x="17421" y="14656"/>
                  <a:pt x="17432" y="14668"/>
                  <a:pt x="17494" y="14668"/>
                </a:cubicBezTo>
                <a:cubicBezTo>
                  <a:pt x="17526" y="14668"/>
                  <a:pt x="17537" y="14668"/>
                  <a:pt x="17526" y="14700"/>
                </a:cubicBezTo>
              </a:path>
              <a:path w="10034" h="4160">
                <a:moveTo>
                  <a:pt x="16796" y="16256"/>
                </a:moveTo>
                <a:cubicBezTo>
                  <a:pt x="16764" y="16256"/>
                  <a:pt x="16753" y="16256"/>
                  <a:pt x="16732" y="16256"/>
                </a:cubicBezTo>
                <a:cubicBezTo>
                  <a:pt x="16742" y="16328"/>
                  <a:pt x="16779" y="16343"/>
                  <a:pt x="16796" y="16415"/>
                </a:cubicBezTo>
                <a:cubicBezTo>
                  <a:pt x="16818" y="16508"/>
                  <a:pt x="16855" y="16578"/>
                  <a:pt x="16891" y="16669"/>
                </a:cubicBezTo>
                <a:cubicBezTo>
                  <a:pt x="16922" y="16748"/>
                  <a:pt x="16935" y="16796"/>
                  <a:pt x="16986" y="16859"/>
                </a:cubicBezTo>
                <a:cubicBezTo>
                  <a:pt x="17041" y="16770"/>
                  <a:pt x="17018" y="16652"/>
                  <a:pt x="17018" y="16542"/>
                </a:cubicBezTo>
                <a:cubicBezTo>
                  <a:pt x="17018" y="16416"/>
                  <a:pt x="17031" y="16309"/>
                  <a:pt x="17050" y="16192"/>
                </a:cubicBezTo>
                <a:cubicBezTo>
                  <a:pt x="17062" y="16114"/>
                  <a:pt x="17058" y="16121"/>
                  <a:pt x="17113" y="16066"/>
                </a:cubicBezTo>
                <a:cubicBezTo>
                  <a:pt x="17132" y="16134"/>
                  <a:pt x="17168" y="16219"/>
                  <a:pt x="17177" y="16288"/>
                </a:cubicBezTo>
                <a:cubicBezTo>
                  <a:pt x="17194" y="16419"/>
                  <a:pt x="17208" y="16541"/>
                  <a:pt x="17240" y="16669"/>
                </a:cubicBezTo>
                <a:cubicBezTo>
                  <a:pt x="17277" y="16815"/>
                  <a:pt x="17299" y="16963"/>
                  <a:pt x="17304" y="17113"/>
                </a:cubicBezTo>
                <a:cubicBezTo>
                  <a:pt x="17308" y="17233"/>
                  <a:pt x="17318" y="17353"/>
                  <a:pt x="17272" y="17462"/>
                </a:cubicBezTo>
                <a:cubicBezTo>
                  <a:pt x="17239" y="17539"/>
                  <a:pt x="17203" y="17595"/>
                  <a:pt x="17145" y="17653"/>
                </a:cubicBezTo>
                <a:cubicBezTo>
                  <a:pt x="17104" y="17694"/>
                  <a:pt x="17012" y="17703"/>
                  <a:pt x="16954" y="17685"/>
                </a:cubicBezTo>
                <a:cubicBezTo>
                  <a:pt x="16882" y="17662"/>
                  <a:pt x="16876" y="17574"/>
                  <a:pt x="16859" y="17526"/>
                </a:cubicBezTo>
                <a:cubicBezTo>
                  <a:pt x="16821" y="17416"/>
                  <a:pt x="16822" y="17352"/>
                  <a:pt x="16859" y="17240"/>
                </a:cubicBezTo>
                <a:cubicBezTo>
                  <a:pt x="16870" y="17208"/>
                  <a:pt x="16880" y="17177"/>
                  <a:pt x="16891" y="17145"/>
                </a:cubicBezTo>
              </a:path>
              <a:path w="10034" h="4160">
                <a:moveTo>
                  <a:pt x="17907" y="14446"/>
                </a:moveTo>
                <a:cubicBezTo>
                  <a:pt x="17990" y="14435"/>
                  <a:pt x="17948" y="14406"/>
                  <a:pt x="18034" y="14478"/>
                </a:cubicBezTo>
                <a:cubicBezTo>
                  <a:pt x="18121" y="14551"/>
                  <a:pt x="18163" y="14670"/>
                  <a:pt x="18224" y="14764"/>
                </a:cubicBezTo>
                <a:cubicBezTo>
                  <a:pt x="18330" y="14926"/>
                  <a:pt x="18375" y="15083"/>
                  <a:pt x="18415" y="15272"/>
                </a:cubicBezTo>
                <a:cubicBezTo>
                  <a:pt x="18461" y="15485"/>
                  <a:pt x="18505" y="15690"/>
                  <a:pt x="18510" y="15907"/>
                </a:cubicBezTo>
                <a:cubicBezTo>
                  <a:pt x="18515" y="16110"/>
                  <a:pt x="18474" y="16347"/>
                  <a:pt x="18415" y="16542"/>
                </a:cubicBezTo>
                <a:cubicBezTo>
                  <a:pt x="18350" y="16757"/>
                  <a:pt x="18305" y="16978"/>
                  <a:pt x="18193" y="17177"/>
                </a:cubicBezTo>
                <a:cubicBezTo>
                  <a:pt x="18123" y="17301"/>
                  <a:pt x="18019" y="17383"/>
                  <a:pt x="17939" y="17494"/>
                </a:cubicBezTo>
                <a:cubicBezTo>
                  <a:pt x="17904" y="17543"/>
                  <a:pt x="17881" y="17590"/>
                  <a:pt x="17812" y="17590"/>
                </a:cubicBezTo>
                <a:cubicBezTo>
                  <a:pt x="17812" y="17579"/>
                  <a:pt x="17812" y="17569"/>
                  <a:pt x="17812" y="17558"/>
                </a:cubicBezTo>
              </a:path>
              <a:path w="10034" h="4160">
                <a:moveTo>
                  <a:pt x="18288" y="14383"/>
                </a:moveTo>
                <a:cubicBezTo>
                  <a:pt x="18303" y="14338"/>
                  <a:pt x="18348" y="14342"/>
                  <a:pt x="18383" y="14288"/>
                </a:cubicBezTo>
                <a:cubicBezTo>
                  <a:pt x="18420" y="14230"/>
                  <a:pt x="18445" y="14182"/>
                  <a:pt x="18510" y="14160"/>
                </a:cubicBezTo>
                <a:cubicBezTo>
                  <a:pt x="18572" y="14139"/>
                  <a:pt x="18576" y="14184"/>
                  <a:pt x="18606" y="14224"/>
                </a:cubicBezTo>
                <a:cubicBezTo>
                  <a:pt x="18579" y="14269"/>
                  <a:pt x="18552" y="14356"/>
                  <a:pt x="18542" y="14414"/>
                </a:cubicBezTo>
                <a:cubicBezTo>
                  <a:pt x="18528" y="14493"/>
                  <a:pt x="18535" y="14485"/>
                  <a:pt x="18478" y="14542"/>
                </a:cubicBezTo>
                <a:cubicBezTo>
                  <a:pt x="18486" y="14564"/>
                  <a:pt x="18535" y="14620"/>
                  <a:pt x="18574" y="14637"/>
                </a:cubicBezTo>
                <a:cubicBezTo>
                  <a:pt x="18633" y="14663"/>
                  <a:pt x="18690" y="14619"/>
                  <a:pt x="18732" y="14605"/>
                </a:cubicBezTo>
                <a:cubicBezTo>
                  <a:pt x="18743" y="14605"/>
                  <a:pt x="18753" y="14605"/>
                  <a:pt x="18764" y="14605"/>
                </a:cubicBezTo>
              </a:path>
              <a:path w="10034" h="4160">
                <a:moveTo>
                  <a:pt x="18955" y="15304"/>
                </a:moveTo>
                <a:cubicBezTo>
                  <a:pt x="18985" y="15311"/>
                  <a:pt x="19055" y="15320"/>
                  <a:pt x="19082" y="15335"/>
                </a:cubicBezTo>
                <a:cubicBezTo>
                  <a:pt x="19147" y="15371"/>
                  <a:pt x="19196" y="15388"/>
                  <a:pt x="19272" y="15399"/>
                </a:cubicBezTo>
              </a:path>
              <a:path w="10034" h="4160">
                <a:moveTo>
                  <a:pt x="19114" y="16002"/>
                </a:moveTo>
                <a:cubicBezTo>
                  <a:pt x="19130" y="16069"/>
                  <a:pt x="19209" y="16091"/>
                  <a:pt x="19272" y="16129"/>
                </a:cubicBezTo>
                <a:cubicBezTo>
                  <a:pt x="19333" y="16160"/>
                  <a:pt x="19352" y="16170"/>
                  <a:pt x="19399" y="16161"/>
                </a:cubicBezTo>
              </a:path>
              <a:path w="10034" h="4160">
                <a:moveTo>
                  <a:pt x="20384" y="14034"/>
                </a:moveTo>
                <a:cubicBezTo>
                  <a:pt x="20334" y="14132"/>
                  <a:pt x="20305" y="14216"/>
                  <a:pt x="20256" y="14319"/>
                </a:cubicBezTo>
                <a:cubicBezTo>
                  <a:pt x="20195" y="14448"/>
                  <a:pt x="20129" y="14571"/>
                  <a:pt x="20066" y="14700"/>
                </a:cubicBezTo>
                <a:cubicBezTo>
                  <a:pt x="19972" y="14891"/>
                  <a:pt x="19889" y="15074"/>
                  <a:pt x="19812" y="15272"/>
                </a:cubicBezTo>
                <a:cubicBezTo>
                  <a:pt x="19731" y="15483"/>
                  <a:pt x="19668" y="15687"/>
                  <a:pt x="19622" y="15907"/>
                </a:cubicBezTo>
                <a:cubicBezTo>
                  <a:pt x="19572" y="16146"/>
                  <a:pt x="19580" y="16367"/>
                  <a:pt x="19590" y="16605"/>
                </a:cubicBezTo>
                <a:cubicBezTo>
                  <a:pt x="19599" y="16813"/>
                  <a:pt x="19617" y="16986"/>
                  <a:pt x="19685" y="17177"/>
                </a:cubicBezTo>
                <a:cubicBezTo>
                  <a:pt x="19730" y="17305"/>
                  <a:pt x="19781" y="17407"/>
                  <a:pt x="19844" y="17526"/>
                </a:cubicBezTo>
                <a:cubicBezTo>
                  <a:pt x="19888" y="17609"/>
                  <a:pt x="19936" y="17643"/>
                  <a:pt x="20002" y="17685"/>
                </a:cubicBezTo>
              </a:path>
              <a:path w="10034" h="4160">
                <a:moveTo>
                  <a:pt x="20384" y="14796"/>
                </a:moveTo>
                <a:cubicBezTo>
                  <a:pt x="20384" y="14919"/>
                  <a:pt x="20357" y="15026"/>
                  <a:pt x="20352" y="15145"/>
                </a:cubicBezTo>
                <a:cubicBezTo>
                  <a:pt x="20348" y="15248"/>
                  <a:pt x="20314" y="15314"/>
                  <a:pt x="20288" y="15399"/>
                </a:cubicBezTo>
                <a:cubicBezTo>
                  <a:pt x="20288" y="15409"/>
                  <a:pt x="20288" y="15420"/>
                  <a:pt x="20288" y="15430"/>
                </a:cubicBezTo>
              </a:path>
              <a:path w="10034" h="4160">
                <a:moveTo>
                  <a:pt x="20288" y="15430"/>
                </a:moveTo>
                <a:cubicBezTo>
                  <a:pt x="20317" y="15402"/>
                  <a:pt x="20323" y="15392"/>
                  <a:pt x="20352" y="15399"/>
                </a:cubicBezTo>
                <a:cubicBezTo>
                  <a:pt x="20368" y="15351"/>
                  <a:pt x="20390" y="15367"/>
                  <a:pt x="20447" y="15367"/>
                </a:cubicBezTo>
                <a:cubicBezTo>
                  <a:pt x="20511" y="15367"/>
                  <a:pt x="20522" y="15352"/>
                  <a:pt x="20574" y="15335"/>
                </a:cubicBezTo>
                <a:cubicBezTo>
                  <a:pt x="20610" y="15335"/>
                  <a:pt x="20624" y="15332"/>
                  <a:pt x="20638" y="15304"/>
                </a:cubicBezTo>
              </a:path>
              <a:path w="10034" h="4160">
                <a:moveTo>
                  <a:pt x="20701" y="14573"/>
                </a:moveTo>
                <a:cubicBezTo>
                  <a:pt x="20701" y="15071"/>
                  <a:pt x="20701" y="15568"/>
                  <a:pt x="20701" y="16066"/>
                </a:cubicBezTo>
              </a:path>
              <a:path w="10034" h="4160">
                <a:moveTo>
                  <a:pt x="21082" y="14827"/>
                </a:moveTo>
                <a:cubicBezTo>
                  <a:pt x="21005" y="14846"/>
                  <a:pt x="21018" y="14876"/>
                  <a:pt x="21018" y="14954"/>
                </a:cubicBezTo>
                <a:cubicBezTo>
                  <a:pt x="21018" y="15024"/>
                  <a:pt x="21024" y="15082"/>
                  <a:pt x="21050" y="15145"/>
                </a:cubicBezTo>
                <a:cubicBezTo>
                  <a:pt x="21100" y="15268"/>
                  <a:pt x="21175" y="15383"/>
                  <a:pt x="21241" y="15494"/>
                </a:cubicBezTo>
                <a:cubicBezTo>
                  <a:pt x="21276" y="15553"/>
                  <a:pt x="21321" y="15680"/>
                  <a:pt x="21336" y="15748"/>
                </a:cubicBezTo>
                <a:cubicBezTo>
                  <a:pt x="21354" y="15828"/>
                  <a:pt x="21319" y="15842"/>
                  <a:pt x="21368" y="15907"/>
                </a:cubicBezTo>
              </a:path>
              <a:path w="10034" h="4160">
                <a:moveTo>
                  <a:pt x="21304" y="14700"/>
                </a:moveTo>
                <a:cubicBezTo>
                  <a:pt x="21226" y="14726"/>
                  <a:pt x="21255" y="14842"/>
                  <a:pt x="21241" y="14922"/>
                </a:cubicBezTo>
                <a:cubicBezTo>
                  <a:pt x="21207" y="15112"/>
                  <a:pt x="21134" y="15301"/>
                  <a:pt x="21114" y="15494"/>
                </a:cubicBezTo>
                <a:cubicBezTo>
                  <a:pt x="21096" y="15672"/>
                  <a:pt x="21073" y="15830"/>
                  <a:pt x="21018" y="16002"/>
                </a:cubicBezTo>
                <a:cubicBezTo>
                  <a:pt x="20991" y="16088"/>
                  <a:pt x="21010" y="16166"/>
                  <a:pt x="20955" y="16129"/>
                </a:cubicBezTo>
              </a:path>
              <a:path w="10034" h="4160">
                <a:moveTo>
                  <a:pt x="21336" y="14605"/>
                </a:moveTo>
                <a:cubicBezTo>
                  <a:pt x="21349" y="14555"/>
                  <a:pt x="21390" y="14529"/>
                  <a:pt x="21400" y="14510"/>
                </a:cubicBezTo>
                <a:cubicBezTo>
                  <a:pt x="21415" y="14481"/>
                  <a:pt x="21446" y="14422"/>
                  <a:pt x="21463" y="14414"/>
                </a:cubicBezTo>
                <a:cubicBezTo>
                  <a:pt x="21474" y="14414"/>
                  <a:pt x="21484" y="14414"/>
                  <a:pt x="21495" y="14414"/>
                </a:cubicBezTo>
                <a:cubicBezTo>
                  <a:pt x="21495" y="14511"/>
                  <a:pt x="21478" y="14579"/>
                  <a:pt x="21463" y="14668"/>
                </a:cubicBezTo>
                <a:cubicBezTo>
                  <a:pt x="21453" y="14728"/>
                  <a:pt x="21444" y="14743"/>
                  <a:pt x="21431" y="14796"/>
                </a:cubicBezTo>
                <a:cubicBezTo>
                  <a:pt x="21476" y="14781"/>
                  <a:pt x="21468" y="14726"/>
                  <a:pt x="21526" y="14700"/>
                </a:cubicBezTo>
                <a:cubicBezTo>
                  <a:pt x="21563" y="14683"/>
                  <a:pt x="21569" y="14654"/>
                  <a:pt x="21622" y="14637"/>
                </a:cubicBezTo>
                <a:cubicBezTo>
                  <a:pt x="21659" y="14625"/>
                  <a:pt x="21722" y="14680"/>
                  <a:pt x="21749" y="14700"/>
                </a:cubicBezTo>
              </a:path>
              <a:path w="10034" h="4160">
                <a:moveTo>
                  <a:pt x="19939" y="16669"/>
                </a:moveTo>
                <a:cubicBezTo>
                  <a:pt x="19910" y="16697"/>
                  <a:pt x="19904" y="16707"/>
                  <a:pt x="19876" y="16700"/>
                </a:cubicBezTo>
                <a:cubicBezTo>
                  <a:pt x="19927" y="16678"/>
                  <a:pt x="19978" y="16665"/>
                  <a:pt x="20034" y="16637"/>
                </a:cubicBezTo>
                <a:cubicBezTo>
                  <a:pt x="20145" y="16581"/>
                  <a:pt x="20267" y="16549"/>
                  <a:pt x="20384" y="16510"/>
                </a:cubicBezTo>
                <a:cubicBezTo>
                  <a:pt x="20553" y="16453"/>
                  <a:pt x="20713" y="16388"/>
                  <a:pt x="20892" y="16383"/>
                </a:cubicBezTo>
                <a:cubicBezTo>
                  <a:pt x="21022" y="16379"/>
                  <a:pt x="21176" y="16374"/>
                  <a:pt x="21304" y="16351"/>
                </a:cubicBezTo>
                <a:cubicBezTo>
                  <a:pt x="21413" y="16331"/>
                  <a:pt x="21550" y="16348"/>
                  <a:pt x="21654" y="16320"/>
                </a:cubicBezTo>
                <a:cubicBezTo>
                  <a:pt x="21716" y="16303"/>
                  <a:pt x="21747" y="16294"/>
                  <a:pt x="21812" y="16288"/>
                </a:cubicBezTo>
              </a:path>
              <a:path w="10034" h="4160">
                <a:moveTo>
                  <a:pt x="20606" y="16986"/>
                </a:moveTo>
                <a:cubicBezTo>
                  <a:pt x="20595" y="16997"/>
                  <a:pt x="20585" y="17007"/>
                  <a:pt x="20574" y="17018"/>
                </a:cubicBezTo>
                <a:cubicBezTo>
                  <a:pt x="20618" y="17077"/>
                  <a:pt x="20624" y="17144"/>
                  <a:pt x="20669" y="17208"/>
                </a:cubicBezTo>
                <a:cubicBezTo>
                  <a:pt x="20727" y="17290"/>
                  <a:pt x="20753" y="17351"/>
                  <a:pt x="20796" y="17431"/>
                </a:cubicBezTo>
                <a:cubicBezTo>
                  <a:pt x="20831" y="17496"/>
                  <a:pt x="20854" y="17540"/>
                  <a:pt x="20923" y="17558"/>
                </a:cubicBezTo>
              </a:path>
              <a:path w="10034" h="4160">
                <a:moveTo>
                  <a:pt x="20987" y="16764"/>
                </a:moveTo>
                <a:cubicBezTo>
                  <a:pt x="20987" y="16994"/>
                  <a:pt x="20946" y="17238"/>
                  <a:pt x="20955" y="17462"/>
                </a:cubicBezTo>
                <a:cubicBezTo>
                  <a:pt x="20963" y="17669"/>
                  <a:pt x="20983" y="17894"/>
                  <a:pt x="21018" y="18098"/>
                </a:cubicBezTo>
              </a:path>
              <a:path w="10034" h="4160">
                <a:moveTo>
                  <a:pt x="21654" y="14129"/>
                </a:moveTo>
                <a:cubicBezTo>
                  <a:pt x="21714" y="14189"/>
                  <a:pt x="21759" y="14256"/>
                  <a:pt x="21812" y="14319"/>
                </a:cubicBezTo>
                <a:cubicBezTo>
                  <a:pt x="21886" y="14408"/>
                  <a:pt x="21981" y="14500"/>
                  <a:pt x="22034" y="14605"/>
                </a:cubicBezTo>
                <a:cubicBezTo>
                  <a:pt x="22101" y="14739"/>
                  <a:pt x="22163" y="14868"/>
                  <a:pt x="22193" y="15018"/>
                </a:cubicBezTo>
                <a:cubicBezTo>
                  <a:pt x="22233" y="15216"/>
                  <a:pt x="22280" y="15417"/>
                  <a:pt x="22257" y="15621"/>
                </a:cubicBezTo>
                <a:cubicBezTo>
                  <a:pt x="22229" y="15865"/>
                  <a:pt x="22184" y="16081"/>
                  <a:pt x="22130" y="16320"/>
                </a:cubicBezTo>
                <a:cubicBezTo>
                  <a:pt x="22075" y="16564"/>
                  <a:pt x="22033" y="16818"/>
                  <a:pt x="21939" y="17050"/>
                </a:cubicBezTo>
                <a:cubicBezTo>
                  <a:pt x="21871" y="17219"/>
                  <a:pt x="21822" y="17390"/>
                  <a:pt x="21749" y="17558"/>
                </a:cubicBezTo>
                <a:cubicBezTo>
                  <a:pt x="21714" y="17627"/>
                  <a:pt x="21699" y="17652"/>
                  <a:pt x="21654" y="17685"/>
                </a:cubicBezTo>
              </a:path>
              <a:path w="10034" h="4160">
                <a:moveTo>
                  <a:pt x="22257" y="14224"/>
                </a:moveTo>
                <a:cubicBezTo>
                  <a:pt x="22203" y="14206"/>
                  <a:pt x="22218" y="14173"/>
                  <a:pt x="22257" y="14129"/>
                </a:cubicBezTo>
                <a:cubicBezTo>
                  <a:pt x="22291" y="14091"/>
                  <a:pt x="22297" y="14026"/>
                  <a:pt x="22352" y="14002"/>
                </a:cubicBezTo>
                <a:cubicBezTo>
                  <a:pt x="22398" y="13982"/>
                  <a:pt x="22368" y="13986"/>
                  <a:pt x="22416" y="13970"/>
                </a:cubicBezTo>
                <a:cubicBezTo>
                  <a:pt x="22416" y="14036"/>
                  <a:pt x="22392" y="14067"/>
                  <a:pt x="22384" y="14129"/>
                </a:cubicBezTo>
                <a:cubicBezTo>
                  <a:pt x="22371" y="14227"/>
                  <a:pt x="22361" y="14358"/>
                  <a:pt x="22320" y="14446"/>
                </a:cubicBezTo>
                <a:cubicBezTo>
                  <a:pt x="22293" y="14504"/>
                  <a:pt x="22263" y="14520"/>
                  <a:pt x="22288" y="14510"/>
                </a:cubicBezTo>
                <a:cubicBezTo>
                  <a:pt x="22361" y="14481"/>
                  <a:pt x="22325" y="14512"/>
                  <a:pt x="22384" y="14446"/>
                </a:cubicBezTo>
                <a:cubicBezTo>
                  <a:pt x="22403" y="14425"/>
                  <a:pt x="22482" y="14370"/>
                  <a:pt x="22511" y="14383"/>
                </a:cubicBezTo>
                <a:cubicBezTo>
                  <a:pt x="22521" y="14393"/>
                  <a:pt x="22532" y="14404"/>
                  <a:pt x="22542" y="14414"/>
                </a:cubicBezTo>
              </a:path>
              <a:path w="10034" h="4160">
                <a:moveTo>
                  <a:pt x="22542" y="15653"/>
                </a:moveTo>
                <a:cubicBezTo>
                  <a:pt x="22589" y="15618"/>
                  <a:pt x="22653" y="15617"/>
                  <a:pt x="22701" y="15589"/>
                </a:cubicBezTo>
                <a:cubicBezTo>
                  <a:pt x="22763" y="15553"/>
                  <a:pt x="22783" y="15532"/>
                  <a:pt x="22860" y="15526"/>
                </a:cubicBezTo>
                <a:cubicBezTo>
                  <a:pt x="22892" y="15526"/>
                  <a:pt x="22903" y="15526"/>
                  <a:pt x="22924" y="15526"/>
                </a:cubicBezTo>
              </a:path>
              <a:path w="10034" h="4160">
                <a:moveTo>
                  <a:pt x="22765" y="15843"/>
                </a:moveTo>
                <a:cubicBezTo>
                  <a:pt x="22774" y="15881"/>
                  <a:pt x="22787" y="15901"/>
                  <a:pt x="22796" y="15938"/>
                </a:cubicBezTo>
                <a:cubicBezTo>
                  <a:pt x="22851" y="15952"/>
                  <a:pt x="22903" y="15986"/>
                  <a:pt x="22955" y="16002"/>
                </a:cubicBezTo>
                <a:cubicBezTo>
                  <a:pt x="22966" y="16002"/>
                  <a:pt x="22976" y="16002"/>
                  <a:pt x="22987" y="16002"/>
                </a:cubicBezTo>
              </a:path>
              <a:path w="10034" h="4160">
                <a:moveTo>
                  <a:pt x="23400" y="14034"/>
                </a:moveTo>
                <a:cubicBezTo>
                  <a:pt x="23384" y="14098"/>
                  <a:pt x="23368" y="14115"/>
                  <a:pt x="23368" y="14192"/>
                </a:cubicBezTo>
                <a:cubicBezTo>
                  <a:pt x="23368" y="14593"/>
                  <a:pt x="23317" y="15044"/>
                  <a:pt x="23400" y="15430"/>
                </a:cubicBezTo>
                <a:cubicBezTo>
                  <a:pt x="23406" y="15458"/>
                  <a:pt x="23400" y="15497"/>
                  <a:pt x="23400" y="15526"/>
                </a:cubicBezTo>
              </a:path>
              <a:path w="10034" h="4160">
                <a:moveTo>
                  <a:pt x="23558" y="14129"/>
                </a:moveTo>
                <a:cubicBezTo>
                  <a:pt x="23558" y="14139"/>
                  <a:pt x="23558" y="14150"/>
                  <a:pt x="23558" y="14160"/>
                </a:cubicBezTo>
              </a:path>
              <a:path w="10034" h="4160">
                <a:moveTo>
                  <a:pt x="23558" y="14288"/>
                </a:moveTo>
                <a:cubicBezTo>
                  <a:pt x="23520" y="14404"/>
                  <a:pt x="23527" y="14512"/>
                  <a:pt x="23527" y="14637"/>
                </a:cubicBezTo>
                <a:cubicBezTo>
                  <a:pt x="23527" y="14791"/>
                  <a:pt x="23518" y="14937"/>
                  <a:pt x="23558" y="15081"/>
                </a:cubicBezTo>
                <a:cubicBezTo>
                  <a:pt x="23589" y="15192"/>
                  <a:pt x="23616" y="15240"/>
                  <a:pt x="23654" y="15335"/>
                </a:cubicBezTo>
                <a:cubicBezTo>
                  <a:pt x="23671" y="15377"/>
                  <a:pt x="23670" y="15363"/>
                  <a:pt x="23717" y="15399"/>
                </a:cubicBezTo>
                <a:cubicBezTo>
                  <a:pt x="23732" y="15355"/>
                  <a:pt x="23762" y="15360"/>
                  <a:pt x="23781" y="15304"/>
                </a:cubicBezTo>
                <a:cubicBezTo>
                  <a:pt x="23807" y="15227"/>
                  <a:pt x="23831" y="15129"/>
                  <a:pt x="23844" y="15050"/>
                </a:cubicBezTo>
                <a:cubicBezTo>
                  <a:pt x="23857" y="14966"/>
                  <a:pt x="23871" y="14878"/>
                  <a:pt x="23876" y="14796"/>
                </a:cubicBezTo>
                <a:cubicBezTo>
                  <a:pt x="23879" y="14744"/>
                  <a:pt x="23876" y="14690"/>
                  <a:pt x="23876" y="14637"/>
                </a:cubicBezTo>
                <a:cubicBezTo>
                  <a:pt x="23839" y="14674"/>
                  <a:pt x="23796" y="14717"/>
                  <a:pt x="23781" y="14764"/>
                </a:cubicBezTo>
                <a:cubicBezTo>
                  <a:pt x="23763" y="14821"/>
                  <a:pt x="23727" y="14904"/>
                  <a:pt x="23717" y="14954"/>
                </a:cubicBezTo>
                <a:cubicBezTo>
                  <a:pt x="23695" y="15062"/>
                  <a:pt x="23717" y="15194"/>
                  <a:pt x="23717" y="15304"/>
                </a:cubicBezTo>
              </a:path>
              <a:path w="10034" h="4160">
                <a:moveTo>
                  <a:pt x="24130" y="14224"/>
                </a:moveTo>
                <a:cubicBezTo>
                  <a:pt x="24097" y="14240"/>
                  <a:pt x="24132" y="14288"/>
                  <a:pt x="24162" y="14351"/>
                </a:cubicBezTo>
                <a:cubicBezTo>
                  <a:pt x="24206" y="14444"/>
                  <a:pt x="24194" y="14543"/>
                  <a:pt x="24225" y="14637"/>
                </a:cubicBezTo>
                <a:cubicBezTo>
                  <a:pt x="24253" y="14721"/>
                  <a:pt x="24300" y="14770"/>
                  <a:pt x="24320" y="14859"/>
                </a:cubicBezTo>
                <a:cubicBezTo>
                  <a:pt x="24332" y="14912"/>
                  <a:pt x="24362" y="15006"/>
                  <a:pt x="24384" y="15050"/>
                </a:cubicBezTo>
                <a:cubicBezTo>
                  <a:pt x="24411" y="15104"/>
                  <a:pt x="24421" y="15146"/>
                  <a:pt x="24448" y="15208"/>
                </a:cubicBezTo>
              </a:path>
              <a:path w="10034" h="4160">
                <a:moveTo>
                  <a:pt x="24448" y="14160"/>
                </a:moveTo>
                <a:cubicBezTo>
                  <a:pt x="24433" y="14220"/>
                  <a:pt x="24393" y="14284"/>
                  <a:pt x="24384" y="14351"/>
                </a:cubicBezTo>
                <a:cubicBezTo>
                  <a:pt x="24365" y="14493"/>
                  <a:pt x="24331" y="14624"/>
                  <a:pt x="24289" y="14764"/>
                </a:cubicBezTo>
                <a:cubicBezTo>
                  <a:pt x="24241" y="14926"/>
                  <a:pt x="24225" y="15079"/>
                  <a:pt x="24194" y="15240"/>
                </a:cubicBezTo>
                <a:cubicBezTo>
                  <a:pt x="24176" y="15332"/>
                  <a:pt x="24116" y="15406"/>
                  <a:pt x="24098" y="15494"/>
                </a:cubicBezTo>
              </a:path>
              <a:path w="10034" h="4160">
                <a:moveTo>
                  <a:pt x="23082" y="15907"/>
                </a:moveTo>
                <a:cubicBezTo>
                  <a:pt x="23128" y="15896"/>
                  <a:pt x="23168" y="15852"/>
                  <a:pt x="23209" y="15843"/>
                </a:cubicBezTo>
                <a:cubicBezTo>
                  <a:pt x="23298" y="15824"/>
                  <a:pt x="23375" y="15768"/>
                  <a:pt x="23463" y="15748"/>
                </a:cubicBezTo>
                <a:cubicBezTo>
                  <a:pt x="23669" y="15702"/>
                  <a:pt x="23921" y="15745"/>
                  <a:pt x="24130" y="15716"/>
                </a:cubicBezTo>
                <a:cubicBezTo>
                  <a:pt x="24237" y="15701"/>
                  <a:pt x="24341" y="15668"/>
                  <a:pt x="24448" y="15653"/>
                </a:cubicBezTo>
                <a:cubicBezTo>
                  <a:pt x="24559" y="15638"/>
                  <a:pt x="24673" y="15654"/>
                  <a:pt x="24765" y="15684"/>
                </a:cubicBezTo>
                <a:cubicBezTo>
                  <a:pt x="24776" y="15684"/>
                  <a:pt x="24786" y="15684"/>
                  <a:pt x="24797" y="15684"/>
                </a:cubicBezTo>
              </a:path>
              <a:path w="10034" h="4160">
                <a:moveTo>
                  <a:pt x="23622" y="16129"/>
                </a:moveTo>
                <a:cubicBezTo>
                  <a:pt x="23611" y="16129"/>
                  <a:pt x="23601" y="16129"/>
                  <a:pt x="23590" y="16129"/>
                </a:cubicBezTo>
                <a:cubicBezTo>
                  <a:pt x="23605" y="16174"/>
                  <a:pt x="23621" y="16187"/>
                  <a:pt x="23654" y="16256"/>
                </a:cubicBezTo>
                <a:cubicBezTo>
                  <a:pt x="23697" y="16346"/>
                  <a:pt x="23711" y="16460"/>
                  <a:pt x="23749" y="16542"/>
                </a:cubicBezTo>
                <a:cubicBezTo>
                  <a:pt x="23782" y="16613"/>
                  <a:pt x="23858" y="16682"/>
                  <a:pt x="23876" y="16764"/>
                </a:cubicBezTo>
                <a:cubicBezTo>
                  <a:pt x="23893" y="16841"/>
                  <a:pt x="23921" y="16910"/>
                  <a:pt x="23940" y="16986"/>
                </a:cubicBezTo>
                <a:cubicBezTo>
                  <a:pt x="23940" y="16997"/>
                  <a:pt x="23940" y="17007"/>
                  <a:pt x="23940" y="17018"/>
                </a:cubicBezTo>
              </a:path>
              <a:path w="10034" h="4160">
                <a:moveTo>
                  <a:pt x="24035" y="16066"/>
                </a:moveTo>
                <a:cubicBezTo>
                  <a:pt x="24035" y="16187"/>
                  <a:pt x="24013" y="16296"/>
                  <a:pt x="24003" y="16415"/>
                </a:cubicBezTo>
                <a:cubicBezTo>
                  <a:pt x="23989" y="16583"/>
                  <a:pt x="23983" y="16757"/>
                  <a:pt x="23971" y="16923"/>
                </a:cubicBezTo>
                <a:cubicBezTo>
                  <a:pt x="23957" y="17113"/>
                  <a:pt x="23954" y="17305"/>
                  <a:pt x="23940" y="17494"/>
                </a:cubicBezTo>
                <a:cubicBezTo>
                  <a:pt x="23927" y="17667"/>
                  <a:pt x="23946" y="17839"/>
                  <a:pt x="23971" y="18002"/>
                </a:cubicBezTo>
                <a:cubicBezTo>
                  <a:pt x="23977" y="18040"/>
                  <a:pt x="23971" y="18089"/>
                  <a:pt x="23971" y="18129"/>
                </a:cubicBezTo>
              </a:path>
              <a:path w="10034" h="4160">
                <a:moveTo>
                  <a:pt x="24162" y="16224"/>
                </a:moveTo>
                <a:cubicBezTo>
                  <a:pt x="24162" y="16182"/>
                  <a:pt x="24162" y="16139"/>
                  <a:pt x="24162" y="16097"/>
                </a:cubicBezTo>
              </a:path>
              <a:path w="10034" h="4160">
                <a:moveTo>
                  <a:pt x="24162" y="16034"/>
                </a:moveTo>
                <a:cubicBezTo>
                  <a:pt x="24178" y="16012"/>
                  <a:pt x="24213" y="15915"/>
                  <a:pt x="24225" y="15907"/>
                </a:cubicBezTo>
                <a:cubicBezTo>
                  <a:pt x="24257" y="15907"/>
                  <a:pt x="24268" y="15907"/>
                  <a:pt x="24289" y="15907"/>
                </a:cubicBezTo>
                <a:cubicBezTo>
                  <a:pt x="24289" y="16030"/>
                  <a:pt x="24272" y="16142"/>
                  <a:pt x="24257" y="16256"/>
                </a:cubicBezTo>
                <a:cubicBezTo>
                  <a:pt x="24242" y="16373"/>
                  <a:pt x="24269" y="16346"/>
                  <a:pt x="24225" y="16446"/>
                </a:cubicBezTo>
                <a:cubicBezTo>
                  <a:pt x="24237" y="16400"/>
                  <a:pt x="24282" y="16325"/>
                  <a:pt x="24320" y="16320"/>
                </a:cubicBezTo>
                <a:cubicBezTo>
                  <a:pt x="24384" y="16312"/>
                  <a:pt x="24431" y="16315"/>
                  <a:pt x="24479" y="16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Ink 22"/>
          <p:cNvSpPr/>
          <p:nvPr/>
        </p:nvSpPr>
        <p:spPr>
          <a:xfrm>
            <a:off x="6114960" y="2251080"/>
            <a:ext cx="1028880" cy="812880"/>
          </a:xfrm>
          <a:custGeom>
            <a:avLst/>
            <a:gdLst/>
            <a:ahLst/>
            <a:rect l="l" t="t" r="r" b="b"/>
            <a:pathLst>
              <a:path w="2859" h="2255">
                <a:moveTo>
                  <a:pt x="17240" y="6826"/>
                </a:moveTo>
                <a:cubicBezTo>
                  <a:pt x="17267" y="6773"/>
                  <a:pt x="17264" y="6714"/>
                  <a:pt x="17304" y="6668"/>
                </a:cubicBezTo>
                <a:cubicBezTo>
                  <a:pt x="17369" y="6593"/>
                  <a:pt x="17422" y="6474"/>
                  <a:pt x="17526" y="6445"/>
                </a:cubicBezTo>
                <a:cubicBezTo>
                  <a:pt x="17630" y="6416"/>
                  <a:pt x="17699" y="6457"/>
                  <a:pt x="17748" y="6540"/>
                </a:cubicBezTo>
                <a:cubicBezTo>
                  <a:pt x="17822" y="6665"/>
                  <a:pt x="17820" y="6724"/>
                  <a:pt x="17812" y="6858"/>
                </a:cubicBezTo>
                <a:cubicBezTo>
                  <a:pt x="17798" y="7076"/>
                  <a:pt x="17749" y="7232"/>
                  <a:pt x="17653" y="7430"/>
                </a:cubicBezTo>
                <a:cubicBezTo>
                  <a:pt x="17576" y="7588"/>
                  <a:pt x="17526" y="7793"/>
                  <a:pt x="17431" y="7938"/>
                </a:cubicBezTo>
                <a:cubicBezTo>
                  <a:pt x="17397" y="7991"/>
                  <a:pt x="17344" y="8046"/>
                  <a:pt x="17304" y="8096"/>
                </a:cubicBezTo>
                <a:cubicBezTo>
                  <a:pt x="17350" y="8050"/>
                  <a:pt x="17377" y="8018"/>
                  <a:pt x="17431" y="7969"/>
                </a:cubicBezTo>
                <a:cubicBezTo>
                  <a:pt x="17491" y="7915"/>
                  <a:pt x="17555" y="7911"/>
                  <a:pt x="17621" y="7938"/>
                </a:cubicBezTo>
                <a:cubicBezTo>
                  <a:pt x="17675" y="7960"/>
                  <a:pt x="17702" y="7988"/>
                  <a:pt x="17748" y="8033"/>
                </a:cubicBezTo>
                <a:cubicBezTo>
                  <a:pt x="17785" y="8070"/>
                  <a:pt x="17824" y="8108"/>
                  <a:pt x="17844" y="8128"/>
                </a:cubicBezTo>
                <a:cubicBezTo>
                  <a:pt x="17872" y="8157"/>
                  <a:pt x="17882" y="8172"/>
                  <a:pt x="17875" y="8128"/>
                </a:cubicBezTo>
              </a:path>
              <a:path w="2859" h="2255">
                <a:moveTo>
                  <a:pt x="18478" y="6509"/>
                </a:moveTo>
                <a:cubicBezTo>
                  <a:pt x="18489" y="6498"/>
                  <a:pt x="18499" y="6488"/>
                  <a:pt x="18510" y="6477"/>
                </a:cubicBezTo>
                <a:cubicBezTo>
                  <a:pt x="18481" y="6535"/>
                  <a:pt x="18477" y="6555"/>
                  <a:pt x="18415" y="6572"/>
                </a:cubicBezTo>
                <a:cubicBezTo>
                  <a:pt x="18343" y="6591"/>
                  <a:pt x="18262" y="6606"/>
                  <a:pt x="18193" y="6636"/>
                </a:cubicBezTo>
                <a:cubicBezTo>
                  <a:pt x="18097" y="6677"/>
                  <a:pt x="18083" y="6665"/>
                  <a:pt x="18034" y="6636"/>
                </a:cubicBezTo>
                <a:cubicBezTo>
                  <a:pt x="18002" y="6636"/>
                  <a:pt x="17991" y="6636"/>
                  <a:pt x="18034" y="6636"/>
                </a:cubicBezTo>
                <a:cubicBezTo>
                  <a:pt x="18027" y="6716"/>
                  <a:pt x="18006" y="6780"/>
                  <a:pt x="18002" y="6858"/>
                </a:cubicBezTo>
                <a:cubicBezTo>
                  <a:pt x="17997" y="6951"/>
                  <a:pt x="17991" y="7085"/>
                  <a:pt x="17970" y="7176"/>
                </a:cubicBezTo>
                <a:cubicBezTo>
                  <a:pt x="17945" y="7285"/>
                  <a:pt x="17930" y="7256"/>
                  <a:pt x="17970" y="7366"/>
                </a:cubicBezTo>
                <a:cubicBezTo>
                  <a:pt x="17996" y="7340"/>
                  <a:pt x="18037" y="7294"/>
                  <a:pt x="18066" y="7239"/>
                </a:cubicBezTo>
                <a:cubicBezTo>
                  <a:pt x="18116" y="7146"/>
                  <a:pt x="18174" y="7111"/>
                  <a:pt x="18256" y="7048"/>
                </a:cubicBezTo>
                <a:cubicBezTo>
                  <a:pt x="18307" y="7009"/>
                  <a:pt x="18411" y="6999"/>
                  <a:pt x="18478" y="7017"/>
                </a:cubicBezTo>
                <a:cubicBezTo>
                  <a:pt x="18557" y="7038"/>
                  <a:pt x="18656" y="7193"/>
                  <a:pt x="18669" y="7271"/>
                </a:cubicBezTo>
                <a:cubicBezTo>
                  <a:pt x="18692" y="7405"/>
                  <a:pt x="18669" y="7556"/>
                  <a:pt x="18637" y="7684"/>
                </a:cubicBezTo>
                <a:cubicBezTo>
                  <a:pt x="18610" y="7792"/>
                  <a:pt x="18563" y="7954"/>
                  <a:pt x="18478" y="8033"/>
                </a:cubicBezTo>
                <a:cubicBezTo>
                  <a:pt x="18431" y="8076"/>
                  <a:pt x="18352" y="8113"/>
                  <a:pt x="18288" y="8096"/>
                </a:cubicBezTo>
                <a:cubicBezTo>
                  <a:pt x="18235" y="8082"/>
                  <a:pt x="18190" y="7945"/>
                  <a:pt x="18193" y="7906"/>
                </a:cubicBezTo>
                <a:cubicBezTo>
                  <a:pt x="18203" y="7874"/>
                  <a:pt x="18214" y="7842"/>
                  <a:pt x="18224" y="7810"/>
                </a:cubicBezTo>
              </a:path>
              <a:path w="2859" h="2255">
                <a:moveTo>
                  <a:pt x="18764" y="6890"/>
                </a:moveTo>
                <a:cubicBezTo>
                  <a:pt x="18820" y="7057"/>
                  <a:pt x="18872" y="7212"/>
                  <a:pt x="18955" y="7366"/>
                </a:cubicBezTo>
                <a:cubicBezTo>
                  <a:pt x="19011" y="7471"/>
                  <a:pt x="19059" y="7578"/>
                  <a:pt x="19114" y="7684"/>
                </a:cubicBezTo>
                <a:cubicBezTo>
                  <a:pt x="19144" y="7740"/>
                  <a:pt x="19174" y="7845"/>
                  <a:pt x="19240" y="7874"/>
                </a:cubicBezTo>
                <a:cubicBezTo>
                  <a:pt x="19251" y="7874"/>
                  <a:pt x="19261" y="7874"/>
                  <a:pt x="19272" y="7874"/>
                </a:cubicBezTo>
              </a:path>
              <a:path w="2859" h="2255">
                <a:moveTo>
                  <a:pt x="19304" y="6731"/>
                </a:moveTo>
                <a:cubicBezTo>
                  <a:pt x="19293" y="6742"/>
                  <a:pt x="19283" y="6752"/>
                  <a:pt x="19272" y="6763"/>
                </a:cubicBezTo>
              </a:path>
              <a:path w="2859" h="2255">
                <a:moveTo>
                  <a:pt x="19177" y="6985"/>
                </a:moveTo>
                <a:cubicBezTo>
                  <a:pt x="19100" y="7172"/>
                  <a:pt x="19019" y="7362"/>
                  <a:pt x="18955" y="7556"/>
                </a:cubicBezTo>
                <a:cubicBezTo>
                  <a:pt x="18906" y="7704"/>
                  <a:pt x="18893" y="7859"/>
                  <a:pt x="18828" y="8001"/>
                </a:cubicBezTo>
                <a:cubicBezTo>
                  <a:pt x="18797" y="8062"/>
                  <a:pt x="18786" y="8081"/>
                  <a:pt x="18796" y="8128"/>
                </a:cubicBezTo>
              </a:path>
              <a:path w="2859" h="2255">
                <a:moveTo>
                  <a:pt x="19431" y="6350"/>
                </a:moveTo>
                <a:cubicBezTo>
                  <a:pt x="19463" y="6350"/>
                  <a:pt x="19474" y="6350"/>
                  <a:pt x="19463" y="6318"/>
                </a:cubicBezTo>
                <a:cubicBezTo>
                  <a:pt x="19472" y="6346"/>
                  <a:pt x="19512" y="6375"/>
                  <a:pt x="19558" y="6350"/>
                </a:cubicBezTo>
                <a:cubicBezTo>
                  <a:pt x="19599" y="6327"/>
                  <a:pt x="19672" y="6268"/>
                  <a:pt x="19717" y="6255"/>
                </a:cubicBezTo>
                <a:cubicBezTo>
                  <a:pt x="19748" y="6246"/>
                  <a:pt x="19809" y="6255"/>
                  <a:pt x="19844" y="6255"/>
                </a:cubicBezTo>
                <a:cubicBezTo>
                  <a:pt x="19844" y="6311"/>
                  <a:pt x="19833" y="6399"/>
                  <a:pt x="19812" y="6445"/>
                </a:cubicBezTo>
                <a:cubicBezTo>
                  <a:pt x="19779" y="6515"/>
                  <a:pt x="19755" y="6583"/>
                  <a:pt x="19748" y="6668"/>
                </a:cubicBezTo>
                <a:cubicBezTo>
                  <a:pt x="19744" y="6719"/>
                  <a:pt x="19717" y="6737"/>
                  <a:pt x="19717" y="6794"/>
                </a:cubicBezTo>
                <a:cubicBezTo>
                  <a:pt x="19717" y="6826"/>
                  <a:pt x="19717" y="6837"/>
                  <a:pt x="19717" y="6858"/>
                </a:cubicBezTo>
              </a:path>
              <a:path w="2859" h="2255">
                <a:moveTo>
                  <a:pt x="17018" y="8509"/>
                </a:moveTo>
                <a:cubicBezTo>
                  <a:pt x="17007" y="8509"/>
                  <a:pt x="16997" y="8509"/>
                  <a:pt x="16986" y="8509"/>
                </a:cubicBezTo>
              </a:path>
              <a:path w="2859" h="2255">
                <a:moveTo>
                  <a:pt x="17018" y="8509"/>
                </a:moveTo>
                <a:lnTo>
                  <a:pt x="17018" y="850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2209680" y="685800"/>
                <a:ext cx="30736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9" name="Ink 5"/>
          <p:cNvSpPr/>
          <p:nvPr/>
        </p:nvSpPr>
        <p:spPr>
          <a:xfrm>
            <a:off x="3268800" y="365040"/>
            <a:ext cx="1749240" cy="630360"/>
          </a:xfrm>
          <a:custGeom>
            <a:avLst/>
            <a:gdLst/>
            <a:ahLst/>
            <a:rect l="l" t="t" r="r" b="b"/>
            <a:pathLst>
              <a:path w="4859" h="1747">
                <a:moveTo>
                  <a:pt x="13938" y="2222"/>
                </a:moveTo>
                <a:cubicBezTo>
                  <a:pt x="13917" y="2138"/>
                  <a:pt x="13928" y="2135"/>
                  <a:pt x="13875" y="2064"/>
                </a:cubicBezTo>
                <a:cubicBezTo>
                  <a:pt x="13765" y="1916"/>
                  <a:pt x="13593" y="1789"/>
                  <a:pt x="13462" y="1683"/>
                </a:cubicBezTo>
                <a:cubicBezTo>
                  <a:pt x="13371" y="1609"/>
                  <a:pt x="13273" y="1559"/>
                  <a:pt x="13176" y="1492"/>
                </a:cubicBezTo>
                <a:cubicBezTo>
                  <a:pt x="13081" y="1427"/>
                  <a:pt x="12990" y="1390"/>
                  <a:pt x="12890" y="1334"/>
                </a:cubicBezTo>
                <a:cubicBezTo>
                  <a:pt x="12772" y="1268"/>
                  <a:pt x="12676" y="1208"/>
                  <a:pt x="12541" y="1175"/>
                </a:cubicBezTo>
                <a:cubicBezTo>
                  <a:pt x="12432" y="1149"/>
                  <a:pt x="12304" y="1096"/>
                  <a:pt x="12192" y="1080"/>
                </a:cubicBezTo>
                <a:cubicBezTo>
                  <a:pt x="12064" y="1061"/>
                  <a:pt x="11943" y="1048"/>
                  <a:pt x="11811" y="1048"/>
                </a:cubicBezTo>
                <a:cubicBezTo>
                  <a:pt x="11663" y="1048"/>
                  <a:pt x="11535" y="1038"/>
                  <a:pt x="11398" y="1048"/>
                </a:cubicBezTo>
                <a:cubicBezTo>
                  <a:pt x="11227" y="1061"/>
                  <a:pt x="11057" y="1062"/>
                  <a:pt x="10890" y="1080"/>
                </a:cubicBezTo>
                <a:cubicBezTo>
                  <a:pt x="10761" y="1094"/>
                  <a:pt x="10636" y="1129"/>
                  <a:pt x="10509" y="1143"/>
                </a:cubicBezTo>
                <a:cubicBezTo>
                  <a:pt x="10384" y="1157"/>
                  <a:pt x="10282" y="1197"/>
                  <a:pt x="10160" y="1238"/>
                </a:cubicBezTo>
                <a:cubicBezTo>
                  <a:pt x="10053" y="1274"/>
                  <a:pt x="9908" y="1337"/>
                  <a:pt x="9811" y="1397"/>
                </a:cubicBezTo>
                <a:cubicBezTo>
                  <a:pt x="9687" y="1473"/>
                  <a:pt x="9578" y="1568"/>
                  <a:pt x="9462" y="1651"/>
                </a:cubicBezTo>
                <a:cubicBezTo>
                  <a:pt x="9379" y="1710"/>
                  <a:pt x="9342" y="1779"/>
                  <a:pt x="9271" y="1842"/>
                </a:cubicBezTo>
                <a:cubicBezTo>
                  <a:pt x="9218" y="1889"/>
                  <a:pt x="9180" y="1923"/>
                  <a:pt x="9144" y="1968"/>
                </a:cubicBezTo>
                <a:cubicBezTo>
                  <a:pt x="9120" y="1998"/>
                  <a:pt x="9097" y="2041"/>
                  <a:pt x="9080" y="2064"/>
                </a:cubicBezTo>
              </a:path>
              <a:path w="4859" h="1747">
                <a:moveTo>
                  <a:pt x="13811" y="2350"/>
                </a:moveTo>
                <a:lnTo>
                  <a:pt x="13811" y="2350"/>
                </a:lnTo>
              </a:path>
              <a:path w="4859" h="1747">
                <a:moveTo>
                  <a:pt x="13526" y="2064"/>
                </a:moveTo>
                <a:cubicBezTo>
                  <a:pt x="13445" y="1993"/>
                  <a:pt x="13369" y="1954"/>
                  <a:pt x="13272" y="1905"/>
                </a:cubicBezTo>
                <a:cubicBezTo>
                  <a:pt x="13114" y="1826"/>
                  <a:pt x="12956" y="1752"/>
                  <a:pt x="12795" y="1683"/>
                </a:cubicBezTo>
                <a:cubicBezTo>
                  <a:pt x="12712" y="1647"/>
                  <a:pt x="12599" y="1606"/>
                  <a:pt x="12510" y="1588"/>
                </a:cubicBezTo>
                <a:cubicBezTo>
                  <a:pt x="12411" y="1568"/>
                  <a:pt x="12292" y="1561"/>
                  <a:pt x="12192" y="1556"/>
                </a:cubicBezTo>
                <a:cubicBezTo>
                  <a:pt x="11997" y="1547"/>
                  <a:pt x="11805" y="1564"/>
                  <a:pt x="11620" y="1588"/>
                </a:cubicBezTo>
                <a:cubicBezTo>
                  <a:pt x="11517" y="1602"/>
                  <a:pt x="11431" y="1608"/>
                  <a:pt x="11335" y="1651"/>
                </a:cubicBezTo>
                <a:cubicBezTo>
                  <a:pt x="11249" y="1690"/>
                  <a:pt x="11169" y="1702"/>
                  <a:pt x="11081" y="1746"/>
                </a:cubicBezTo>
                <a:cubicBezTo>
                  <a:pt x="11008" y="1783"/>
                  <a:pt x="10934" y="1805"/>
                  <a:pt x="10858" y="1842"/>
                </a:cubicBezTo>
                <a:cubicBezTo>
                  <a:pt x="10776" y="1883"/>
                  <a:pt x="10710" y="1948"/>
                  <a:pt x="10636" y="2000"/>
                </a:cubicBezTo>
                <a:cubicBezTo>
                  <a:pt x="10569" y="2047"/>
                  <a:pt x="10495" y="2061"/>
                  <a:pt x="10414" y="2096"/>
                </a:cubicBezTo>
                <a:cubicBezTo>
                  <a:pt x="10392" y="2105"/>
                  <a:pt x="10320" y="2157"/>
                  <a:pt x="10319" y="2159"/>
                </a:cubicBezTo>
                <a:cubicBezTo>
                  <a:pt x="10319" y="2180"/>
                  <a:pt x="10319" y="2201"/>
                  <a:pt x="10319" y="2222"/>
                </a:cubicBezTo>
              </a:path>
              <a:path w="4859" h="1747">
                <a:moveTo>
                  <a:pt x="13875" y="2350"/>
                </a:moveTo>
                <a:lnTo>
                  <a:pt x="13875" y="2350"/>
                </a:lnTo>
              </a:path>
              <a:path w="4859" h="1747">
                <a:moveTo>
                  <a:pt x="12065" y="2096"/>
                </a:moveTo>
                <a:cubicBezTo>
                  <a:pt x="12015" y="2125"/>
                  <a:pt x="11960" y="2167"/>
                  <a:pt x="11906" y="2191"/>
                </a:cubicBezTo>
                <a:cubicBezTo>
                  <a:pt x="11890" y="2198"/>
                  <a:pt x="11770" y="2251"/>
                  <a:pt x="11779" y="2286"/>
                </a:cubicBezTo>
                <a:cubicBezTo>
                  <a:pt x="11790" y="2286"/>
                  <a:pt x="11800" y="2286"/>
                  <a:pt x="11811" y="2286"/>
                </a:cubicBezTo>
              </a:path>
              <a:path w="4859" h="1747">
                <a:moveTo>
                  <a:pt x="13716" y="2286"/>
                </a:moveTo>
                <a:cubicBezTo>
                  <a:pt x="13716" y="2275"/>
                  <a:pt x="13716" y="2265"/>
                  <a:pt x="13716" y="2254"/>
                </a:cubicBezTo>
              </a:path>
              <a:path w="4859" h="1747">
                <a:moveTo>
                  <a:pt x="13716" y="2286"/>
                </a:moveTo>
                <a:cubicBezTo>
                  <a:pt x="13705" y="2254"/>
                  <a:pt x="13695" y="2223"/>
                  <a:pt x="13684" y="2191"/>
                </a:cubicBezTo>
              </a:path>
              <a:path w="4859" h="1747">
                <a:moveTo>
                  <a:pt x="13684" y="2191"/>
                </a:moveTo>
                <a:cubicBezTo>
                  <a:pt x="13622" y="2175"/>
                  <a:pt x="13585" y="2115"/>
                  <a:pt x="13526" y="2096"/>
                </a:cubicBezTo>
                <a:cubicBezTo>
                  <a:pt x="13477" y="2080"/>
                  <a:pt x="13415" y="2064"/>
                  <a:pt x="13367" y="2032"/>
                </a:cubicBezTo>
                <a:cubicBezTo>
                  <a:pt x="13316" y="1998"/>
                  <a:pt x="13266" y="1991"/>
                  <a:pt x="13208" y="1968"/>
                </a:cubicBezTo>
                <a:cubicBezTo>
                  <a:pt x="13131" y="1938"/>
                  <a:pt x="13070" y="1911"/>
                  <a:pt x="12986" y="1905"/>
                </a:cubicBezTo>
                <a:cubicBezTo>
                  <a:pt x="12918" y="1900"/>
                  <a:pt x="12867" y="1877"/>
                  <a:pt x="12795" y="1873"/>
                </a:cubicBezTo>
                <a:cubicBezTo>
                  <a:pt x="12707" y="1868"/>
                  <a:pt x="12654" y="1886"/>
                  <a:pt x="12573" y="1905"/>
                </a:cubicBezTo>
                <a:cubicBezTo>
                  <a:pt x="12513" y="1919"/>
                  <a:pt x="12468" y="1914"/>
                  <a:pt x="12414" y="1937"/>
                </a:cubicBezTo>
                <a:cubicBezTo>
                  <a:pt x="12357" y="1961"/>
                  <a:pt x="12305" y="1977"/>
                  <a:pt x="12256" y="2000"/>
                </a:cubicBezTo>
                <a:cubicBezTo>
                  <a:pt x="12196" y="2028"/>
                  <a:pt x="12151" y="2072"/>
                  <a:pt x="12097" y="2096"/>
                </a:cubicBezTo>
                <a:cubicBezTo>
                  <a:pt x="12055" y="2115"/>
                  <a:pt x="11985" y="2152"/>
                  <a:pt x="11970" y="2159"/>
                </a:cubicBezTo>
                <a:cubicBezTo>
                  <a:pt x="11922" y="2183"/>
                  <a:pt x="11933" y="2182"/>
                  <a:pt x="11906" y="2222"/>
                </a:cubicBezTo>
              </a:path>
              <a:path w="4859" h="1747">
                <a:moveTo>
                  <a:pt x="13875" y="2318"/>
                </a:moveTo>
                <a:cubicBezTo>
                  <a:pt x="13809" y="2301"/>
                  <a:pt x="13793" y="2254"/>
                  <a:pt x="13716" y="2254"/>
                </a:cubicBezTo>
                <a:cubicBezTo>
                  <a:pt x="13673" y="2254"/>
                  <a:pt x="13637" y="2195"/>
                  <a:pt x="13589" y="2222"/>
                </a:cubicBezTo>
                <a:cubicBezTo>
                  <a:pt x="13536" y="2252"/>
                  <a:pt x="13480" y="2229"/>
                  <a:pt x="13430" y="2254"/>
                </a:cubicBezTo>
                <a:cubicBezTo>
                  <a:pt x="13380" y="2279"/>
                  <a:pt x="13328" y="2312"/>
                  <a:pt x="13272" y="2318"/>
                </a:cubicBezTo>
                <a:cubicBezTo>
                  <a:pt x="13220" y="2324"/>
                  <a:pt x="13157" y="2329"/>
                  <a:pt x="13113" y="2350"/>
                </a:cubicBezTo>
                <a:cubicBezTo>
                  <a:pt x="13069" y="2371"/>
                  <a:pt x="13066" y="2401"/>
                  <a:pt x="13018" y="2413"/>
                </a:cubicBezTo>
                <a:cubicBezTo>
                  <a:pt x="13005" y="2465"/>
                  <a:pt x="13006" y="2463"/>
                  <a:pt x="12954" y="2476"/>
                </a:cubicBezTo>
                <a:cubicBezTo>
                  <a:pt x="12940" y="2532"/>
                  <a:pt x="12873" y="2553"/>
                  <a:pt x="12859" y="2604"/>
                </a:cubicBezTo>
                <a:cubicBezTo>
                  <a:pt x="12842" y="2666"/>
                  <a:pt x="12859" y="2741"/>
                  <a:pt x="12890" y="27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Ink 6"/>
          <p:cNvSpPr/>
          <p:nvPr/>
        </p:nvSpPr>
        <p:spPr>
          <a:xfrm>
            <a:off x="1154160" y="2286000"/>
            <a:ext cx="285840" cy="217440"/>
          </a:xfrm>
          <a:custGeom>
            <a:avLst/>
            <a:gdLst/>
            <a:ahLst/>
            <a:rect l="l" t="t" r="r" b="b"/>
            <a:pathLst>
              <a:path w="794" h="604">
                <a:moveTo>
                  <a:pt x="3207" y="6477"/>
                </a:moveTo>
                <a:cubicBezTo>
                  <a:pt x="3215" y="6452"/>
                  <a:pt x="3263" y="6422"/>
                  <a:pt x="3302" y="6414"/>
                </a:cubicBezTo>
                <a:cubicBezTo>
                  <a:pt x="3386" y="6397"/>
                  <a:pt x="3466" y="6401"/>
                  <a:pt x="3556" y="6382"/>
                </a:cubicBezTo>
                <a:cubicBezTo>
                  <a:pt x="3687" y="6354"/>
                  <a:pt x="3800" y="6350"/>
                  <a:pt x="3937" y="6350"/>
                </a:cubicBezTo>
                <a:cubicBezTo>
                  <a:pt x="3958" y="6350"/>
                  <a:pt x="3979" y="6350"/>
                  <a:pt x="4000" y="6350"/>
                </a:cubicBezTo>
              </a:path>
              <a:path w="794" h="604">
                <a:moveTo>
                  <a:pt x="3302" y="6953"/>
                </a:moveTo>
                <a:cubicBezTo>
                  <a:pt x="3370" y="6953"/>
                  <a:pt x="3391" y="6926"/>
                  <a:pt x="3461" y="6922"/>
                </a:cubicBezTo>
                <a:cubicBezTo>
                  <a:pt x="3576" y="6915"/>
                  <a:pt x="3663" y="6862"/>
                  <a:pt x="3778" y="6858"/>
                </a:cubicBezTo>
                <a:cubicBezTo>
                  <a:pt x="3863" y="6858"/>
                  <a:pt x="3884" y="6858"/>
                  <a:pt x="3937" y="6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Ink 7"/>
          <p:cNvSpPr/>
          <p:nvPr/>
        </p:nvSpPr>
        <p:spPr>
          <a:xfrm>
            <a:off x="1749600" y="1828800"/>
            <a:ext cx="3382920" cy="1371600"/>
          </a:xfrm>
          <a:custGeom>
            <a:avLst/>
            <a:gdLst/>
            <a:ahLst/>
            <a:rect l="l" t="t" r="r" b="b"/>
            <a:pathLst>
              <a:path w="9399" h="3811">
                <a:moveTo>
                  <a:pt x="5239" y="6128"/>
                </a:moveTo>
                <a:cubicBezTo>
                  <a:pt x="5413" y="6128"/>
                  <a:pt x="5591" y="6128"/>
                  <a:pt x="5747" y="6160"/>
                </a:cubicBezTo>
                <a:cubicBezTo>
                  <a:pt x="5829" y="6177"/>
                  <a:pt x="5872" y="6145"/>
                  <a:pt x="5906" y="6128"/>
                </a:cubicBezTo>
                <a:cubicBezTo>
                  <a:pt x="5916" y="6128"/>
                  <a:pt x="5927" y="6128"/>
                  <a:pt x="5937" y="6128"/>
                </a:cubicBezTo>
              </a:path>
              <a:path w="9399" h="3811">
                <a:moveTo>
                  <a:pt x="6826" y="6001"/>
                </a:moveTo>
                <a:cubicBezTo>
                  <a:pt x="6826" y="5906"/>
                  <a:pt x="6832" y="5834"/>
                  <a:pt x="6794" y="5747"/>
                </a:cubicBezTo>
                <a:cubicBezTo>
                  <a:pt x="6767" y="5686"/>
                  <a:pt x="6756" y="5682"/>
                  <a:pt x="6699" y="5652"/>
                </a:cubicBezTo>
                <a:cubicBezTo>
                  <a:pt x="6652" y="5627"/>
                  <a:pt x="6565" y="5598"/>
                  <a:pt x="6509" y="5620"/>
                </a:cubicBezTo>
                <a:cubicBezTo>
                  <a:pt x="6451" y="5642"/>
                  <a:pt x="6378" y="5730"/>
                  <a:pt x="6350" y="5778"/>
                </a:cubicBezTo>
                <a:cubicBezTo>
                  <a:pt x="6299" y="5864"/>
                  <a:pt x="6266" y="5970"/>
                  <a:pt x="6255" y="6064"/>
                </a:cubicBezTo>
                <a:cubicBezTo>
                  <a:pt x="6246" y="6134"/>
                  <a:pt x="6246" y="6292"/>
                  <a:pt x="6286" y="6350"/>
                </a:cubicBezTo>
                <a:cubicBezTo>
                  <a:pt x="6316" y="6394"/>
                  <a:pt x="6403" y="6365"/>
                  <a:pt x="6445" y="6350"/>
                </a:cubicBezTo>
                <a:cubicBezTo>
                  <a:pt x="6521" y="6323"/>
                  <a:pt x="6623" y="6217"/>
                  <a:pt x="6668" y="6160"/>
                </a:cubicBezTo>
                <a:cubicBezTo>
                  <a:pt x="6721" y="6093"/>
                  <a:pt x="6753" y="5984"/>
                  <a:pt x="6794" y="5906"/>
                </a:cubicBezTo>
                <a:cubicBezTo>
                  <a:pt x="6808" y="5879"/>
                  <a:pt x="6813" y="5839"/>
                  <a:pt x="6826" y="5810"/>
                </a:cubicBezTo>
                <a:cubicBezTo>
                  <a:pt x="6817" y="5878"/>
                  <a:pt x="6798" y="5932"/>
                  <a:pt x="6794" y="6001"/>
                </a:cubicBezTo>
                <a:cubicBezTo>
                  <a:pt x="6787" y="6120"/>
                  <a:pt x="6763" y="6227"/>
                  <a:pt x="6763" y="6350"/>
                </a:cubicBezTo>
                <a:cubicBezTo>
                  <a:pt x="6763" y="6515"/>
                  <a:pt x="6749" y="6667"/>
                  <a:pt x="6731" y="6826"/>
                </a:cubicBezTo>
                <a:cubicBezTo>
                  <a:pt x="6718" y="6947"/>
                  <a:pt x="6720" y="7070"/>
                  <a:pt x="6699" y="7176"/>
                </a:cubicBezTo>
                <a:cubicBezTo>
                  <a:pt x="6690" y="7219"/>
                  <a:pt x="6684" y="7271"/>
                  <a:pt x="6731" y="7271"/>
                </a:cubicBezTo>
                <a:cubicBezTo>
                  <a:pt x="6731" y="7260"/>
                  <a:pt x="6731" y="7250"/>
                  <a:pt x="6731" y="7239"/>
                </a:cubicBezTo>
              </a:path>
              <a:path w="9399" h="3811">
                <a:moveTo>
                  <a:pt x="7715" y="5175"/>
                </a:moveTo>
                <a:cubicBezTo>
                  <a:pt x="7724" y="5148"/>
                  <a:pt x="7771" y="5125"/>
                  <a:pt x="7810" y="5112"/>
                </a:cubicBezTo>
                <a:cubicBezTo>
                  <a:pt x="7840" y="5102"/>
                  <a:pt x="7899" y="5058"/>
                  <a:pt x="7938" y="5080"/>
                </a:cubicBezTo>
                <a:cubicBezTo>
                  <a:pt x="7995" y="5112"/>
                  <a:pt x="8032" y="5159"/>
                  <a:pt x="8001" y="5239"/>
                </a:cubicBezTo>
                <a:cubicBezTo>
                  <a:pt x="7977" y="5299"/>
                  <a:pt x="7951" y="5369"/>
                  <a:pt x="7906" y="5429"/>
                </a:cubicBezTo>
                <a:cubicBezTo>
                  <a:pt x="7871" y="5475"/>
                  <a:pt x="7824" y="5506"/>
                  <a:pt x="7779" y="5556"/>
                </a:cubicBezTo>
                <a:cubicBezTo>
                  <a:pt x="7768" y="5567"/>
                  <a:pt x="7758" y="5577"/>
                  <a:pt x="7747" y="5588"/>
                </a:cubicBezTo>
                <a:cubicBezTo>
                  <a:pt x="7789" y="5556"/>
                  <a:pt x="7804" y="5529"/>
                  <a:pt x="7842" y="5524"/>
                </a:cubicBezTo>
                <a:cubicBezTo>
                  <a:pt x="7922" y="5514"/>
                  <a:pt x="7970" y="5535"/>
                  <a:pt x="8033" y="5556"/>
                </a:cubicBezTo>
                <a:cubicBezTo>
                  <a:pt x="8063" y="5566"/>
                  <a:pt x="8092" y="5568"/>
                  <a:pt x="8128" y="5588"/>
                </a:cubicBezTo>
                <a:cubicBezTo>
                  <a:pt x="8139" y="5599"/>
                  <a:pt x="8149" y="5609"/>
                  <a:pt x="8160" y="5620"/>
                </a:cubicBezTo>
              </a:path>
              <a:path w="9399" h="3811">
                <a:moveTo>
                  <a:pt x="7112" y="5144"/>
                </a:moveTo>
                <a:cubicBezTo>
                  <a:pt x="7129" y="5188"/>
                  <a:pt x="7169" y="5260"/>
                  <a:pt x="7176" y="5302"/>
                </a:cubicBezTo>
                <a:cubicBezTo>
                  <a:pt x="7198" y="5443"/>
                  <a:pt x="7236" y="5573"/>
                  <a:pt x="7271" y="5715"/>
                </a:cubicBezTo>
                <a:cubicBezTo>
                  <a:pt x="7314" y="5890"/>
                  <a:pt x="7329" y="6075"/>
                  <a:pt x="7334" y="6255"/>
                </a:cubicBezTo>
                <a:cubicBezTo>
                  <a:pt x="7340" y="6492"/>
                  <a:pt x="7321" y="6721"/>
                  <a:pt x="7302" y="6953"/>
                </a:cubicBezTo>
                <a:cubicBezTo>
                  <a:pt x="7288" y="7121"/>
                  <a:pt x="7259" y="7267"/>
                  <a:pt x="7207" y="7430"/>
                </a:cubicBezTo>
                <a:cubicBezTo>
                  <a:pt x="7172" y="7541"/>
                  <a:pt x="7133" y="7643"/>
                  <a:pt x="7080" y="7747"/>
                </a:cubicBezTo>
                <a:cubicBezTo>
                  <a:pt x="7042" y="7822"/>
                  <a:pt x="7019" y="7843"/>
                  <a:pt x="6953" y="7874"/>
                </a:cubicBezTo>
                <a:cubicBezTo>
                  <a:pt x="6943" y="7874"/>
                  <a:pt x="6932" y="7874"/>
                  <a:pt x="6922" y="7874"/>
                </a:cubicBezTo>
              </a:path>
              <a:path w="9399" h="3811">
                <a:moveTo>
                  <a:pt x="5270" y="5207"/>
                </a:moveTo>
                <a:cubicBezTo>
                  <a:pt x="5224" y="5240"/>
                  <a:pt x="5217" y="5255"/>
                  <a:pt x="5175" y="5302"/>
                </a:cubicBezTo>
                <a:cubicBezTo>
                  <a:pt x="5109" y="5375"/>
                  <a:pt x="5052" y="5430"/>
                  <a:pt x="5016" y="5524"/>
                </a:cubicBezTo>
                <a:cubicBezTo>
                  <a:pt x="4963" y="5661"/>
                  <a:pt x="4906" y="5824"/>
                  <a:pt x="4890" y="5969"/>
                </a:cubicBezTo>
                <a:cubicBezTo>
                  <a:pt x="4870" y="6153"/>
                  <a:pt x="4836" y="6354"/>
                  <a:pt x="4858" y="6540"/>
                </a:cubicBezTo>
                <a:cubicBezTo>
                  <a:pt x="4878" y="6711"/>
                  <a:pt x="4920" y="6921"/>
                  <a:pt x="4985" y="7080"/>
                </a:cubicBezTo>
                <a:cubicBezTo>
                  <a:pt x="5051" y="7240"/>
                  <a:pt x="5151" y="7342"/>
                  <a:pt x="5270" y="7461"/>
                </a:cubicBezTo>
                <a:cubicBezTo>
                  <a:pt x="5369" y="7560"/>
                  <a:pt x="5491" y="7734"/>
                  <a:pt x="5588" y="7810"/>
                </a:cubicBezTo>
                <a:cubicBezTo>
                  <a:pt x="5599" y="7810"/>
                  <a:pt x="5609" y="7810"/>
                  <a:pt x="5620" y="7810"/>
                </a:cubicBezTo>
              </a:path>
              <a:path w="9399" h="3811">
                <a:moveTo>
                  <a:pt x="8223" y="5874"/>
                </a:moveTo>
                <a:cubicBezTo>
                  <a:pt x="8230" y="5948"/>
                  <a:pt x="8236" y="5996"/>
                  <a:pt x="8255" y="6064"/>
                </a:cubicBezTo>
                <a:cubicBezTo>
                  <a:pt x="8288" y="6183"/>
                  <a:pt x="8327" y="6336"/>
                  <a:pt x="8382" y="6445"/>
                </a:cubicBezTo>
                <a:cubicBezTo>
                  <a:pt x="8449" y="6578"/>
                  <a:pt x="8521" y="6719"/>
                  <a:pt x="8572" y="6858"/>
                </a:cubicBezTo>
                <a:cubicBezTo>
                  <a:pt x="8623" y="6998"/>
                  <a:pt x="8661" y="7107"/>
                  <a:pt x="8731" y="7239"/>
                </a:cubicBezTo>
                <a:cubicBezTo>
                  <a:pt x="8747" y="7270"/>
                  <a:pt x="8804" y="7461"/>
                  <a:pt x="8826" y="7461"/>
                </a:cubicBezTo>
                <a:cubicBezTo>
                  <a:pt x="8826" y="7451"/>
                  <a:pt x="8826" y="7440"/>
                  <a:pt x="8826" y="7430"/>
                </a:cubicBezTo>
              </a:path>
              <a:path w="9399" h="3811">
                <a:moveTo>
                  <a:pt x="8922" y="5937"/>
                </a:moveTo>
                <a:cubicBezTo>
                  <a:pt x="8906" y="6051"/>
                  <a:pt x="8816" y="6114"/>
                  <a:pt x="8763" y="6223"/>
                </a:cubicBezTo>
                <a:cubicBezTo>
                  <a:pt x="8685" y="6385"/>
                  <a:pt x="8570" y="6513"/>
                  <a:pt x="8477" y="6668"/>
                </a:cubicBezTo>
                <a:cubicBezTo>
                  <a:pt x="8379" y="6831"/>
                  <a:pt x="8255" y="6979"/>
                  <a:pt x="8160" y="7144"/>
                </a:cubicBezTo>
                <a:cubicBezTo>
                  <a:pt x="8082" y="7280"/>
                  <a:pt x="7995" y="7370"/>
                  <a:pt x="7906" y="7493"/>
                </a:cubicBezTo>
                <a:cubicBezTo>
                  <a:pt x="7869" y="7544"/>
                  <a:pt x="7850" y="7602"/>
                  <a:pt x="7810" y="7652"/>
                </a:cubicBezTo>
              </a:path>
              <a:path w="9399" h="3811">
                <a:moveTo>
                  <a:pt x="9334" y="5334"/>
                </a:moveTo>
                <a:cubicBezTo>
                  <a:pt x="9322" y="5385"/>
                  <a:pt x="9287" y="5414"/>
                  <a:pt x="9271" y="5461"/>
                </a:cubicBezTo>
                <a:cubicBezTo>
                  <a:pt x="9252" y="5517"/>
                  <a:pt x="9242" y="5592"/>
                  <a:pt x="9239" y="5652"/>
                </a:cubicBezTo>
                <a:cubicBezTo>
                  <a:pt x="9236" y="5710"/>
                  <a:pt x="9205" y="5793"/>
                  <a:pt x="9176" y="5842"/>
                </a:cubicBezTo>
                <a:cubicBezTo>
                  <a:pt x="9120" y="5935"/>
                  <a:pt x="9126" y="5867"/>
                  <a:pt x="9176" y="5842"/>
                </a:cubicBezTo>
                <a:cubicBezTo>
                  <a:pt x="9246" y="5807"/>
                  <a:pt x="9238" y="5820"/>
                  <a:pt x="9303" y="5842"/>
                </a:cubicBezTo>
                <a:cubicBezTo>
                  <a:pt x="9344" y="5856"/>
                  <a:pt x="9393" y="5862"/>
                  <a:pt x="9430" y="5874"/>
                </a:cubicBezTo>
                <a:cubicBezTo>
                  <a:pt x="9469" y="5887"/>
                  <a:pt x="9519" y="5902"/>
                  <a:pt x="9557" y="5906"/>
                </a:cubicBezTo>
                <a:cubicBezTo>
                  <a:pt x="9608" y="5912"/>
                  <a:pt x="9661" y="5894"/>
                  <a:pt x="9684" y="5842"/>
                </a:cubicBezTo>
                <a:cubicBezTo>
                  <a:pt x="9684" y="5831"/>
                  <a:pt x="9684" y="5821"/>
                  <a:pt x="9684" y="5810"/>
                </a:cubicBezTo>
              </a:path>
              <a:path w="9399" h="3811">
                <a:moveTo>
                  <a:pt x="9747" y="5270"/>
                </a:moveTo>
                <a:cubicBezTo>
                  <a:pt x="9712" y="5318"/>
                  <a:pt x="9694" y="5401"/>
                  <a:pt x="9684" y="5461"/>
                </a:cubicBezTo>
                <a:cubicBezTo>
                  <a:pt x="9663" y="5585"/>
                  <a:pt x="9675" y="5720"/>
                  <a:pt x="9652" y="5842"/>
                </a:cubicBezTo>
                <a:cubicBezTo>
                  <a:pt x="9630" y="5958"/>
                  <a:pt x="9605" y="6075"/>
                  <a:pt x="9588" y="6191"/>
                </a:cubicBezTo>
                <a:cubicBezTo>
                  <a:pt x="9588" y="6212"/>
                  <a:pt x="9588" y="6234"/>
                  <a:pt x="9588" y="6255"/>
                </a:cubicBezTo>
              </a:path>
              <a:path w="9399" h="3811">
                <a:moveTo>
                  <a:pt x="10287" y="6032"/>
                </a:moveTo>
                <a:cubicBezTo>
                  <a:pt x="10264" y="6116"/>
                  <a:pt x="10251" y="6199"/>
                  <a:pt x="10224" y="6286"/>
                </a:cubicBezTo>
                <a:cubicBezTo>
                  <a:pt x="10173" y="6453"/>
                  <a:pt x="10166" y="6653"/>
                  <a:pt x="10160" y="6826"/>
                </a:cubicBezTo>
                <a:cubicBezTo>
                  <a:pt x="10156" y="6959"/>
                  <a:pt x="10177" y="7084"/>
                  <a:pt x="10192" y="7207"/>
                </a:cubicBezTo>
                <a:cubicBezTo>
                  <a:pt x="10202" y="7286"/>
                  <a:pt x="10197" y="7387"/>
                  <a:pt x="10287" y="7430"/>
                </a:cubicBezTo>
                <a:cubicBezTo>
                  <a:pt x="10349" y="7460"/>
                  <a:pt x="10464" y="7401"/>
                  <a:pt x="10509" y="7366"/>
                </a:cubicBezTo>
                <a:cubicBezTo>
                  <a:pt x="10641" y="7263"/>
                  <a:pt x="10664" y="7121"/>
                  <a:pt x="10732" y="6985"/>
                </a:cubicBezTo>
                <a:cubicBezTo>
                  <a:pt x="10802" y="6846"/>
                  <a:pt x="10825" y="6752"/>
                  <a:pt x="10858" y="6604"/>
                </a:cubicBezTo>
                <a:cubicBezTo>
                  <a:pt x="10880" y="6504"/>
                  <a:pt x="10910" y="6418"/>
                  <a:pt x="10922" y="6318"/>
                </a:cubicBezTo>
                <a:cubicBezTo>
                  <a:pt x="10922" y="6555"/>
                  <a:pt x="10907" y="6785"/>
                  <a:pt x="10890" y="7017"/>
                </a:cubicBezTo>
                <a:cubicBezTo>
                  <a:pt x="10875" y="7228"/>
                  <a:pt x="10872" y="7443"/>
                  <a:pt x="10858" y="7652"/>
                </a:cubicBezTo>
                <a:cubicBezTo>
                  <a:pt x="10841" y="7907"/>
                  <a:pt x="10805" y="8145"/>
                  <a:pt x="10732" y="8382"/>
                </a:cubicBezTo>
                <a:cubicBezTo>
                  <a:pt x="10675" y="8570"/>
                  <a:pt x="10653" y="8633"/>
                  <a:pt x="10509" y="8763"/>
                </a:cubicBezTo>
                <a:cubicBezTo>
                  <a:pt x="10410" y="8852"/>
                  <a:pt x="10324" y="8872"/>
                  <a:pt x="10192" y="8890"/>
                </a:cubicBezTo>
                <a:cubicBezTo>
                  <a:pt x="10079" y="8905"/>
                  <a:pt x="9910" y="8820"/>
                  <a:pt x="9842" y="8731"/>
                </a:cubicBezTo>
                <a:cubicBezTo>
                  <a:pt x="9806" y="8659"/>
                  <a:pt x="9793" y="8628"/>
                  <a:pt x="9779" y="8572"/>
                </a:cubicBezTo>
              </a:path>
              <a:path w="9399" h="3811">
                <a:moveTo>
                  <a:pt x="11557" y="5302"/>
                </a:moveTo>
                <a:cubicBezTo>
                  <a:pt x="11542" y="5362"/>
                  <a:pt x="11513" y="5428"/>
                  <a:pt x="11494" y="5493"/>
                </a:cubicBezTo>
                <a:cubicBezTo>
                  <a:pt x="11460" y="5612"/>
                  <a:pt x="11405" y="5724"/>
                  <a:pt x="11366" y="5842"/>
                </a:cubicBezTo>
                <a:cubicBezTo>
                  <a:pt x="11327" y="5960"/>
                  <a:pt x="11335" y="6068"/>
                  <a:pt x="11335" y="6191"/>
                </a:cubicBezTo>
                <a:cubicBezTo>
                  <a:pt x="11335" y="6260"/>
                  <a:pt x="11358" y="6355"/>
                  <a:pt x="11398" y="6414"/>
                </a:cubicBezTo>
                <a:cubicBezTo>
                  <a:pt x="11441" y="6478"/>
                  <a:pt x="11509" y="6439"/>
                  <a:pt x="11557" y="6414"/>
                </a:cubicBezTo>
                <a:cubicBezTo>
                  <a:pt x="11633" y="6374"/>
                  <a:pt x="11672" y="6328"/>
                  <a:pt x="11716" y="6255"/>
                </a:cubicBezTo>
                <a:cubicBezTo>
                  <a:pt x="11755" y="6190"/>
                  <a:pt x="11810" y="6115"/>
                  <a:pt x="11779" y="6032"/>
                </a:cubicBezTo>
                <a:cubicBezTo>
                  <a:pt x="11754" y="5965"/>
                  <a:pt x="11654" y="6005"/>
                  <a:pt x="11620" y="6032"/>
                </a:cubicBezTo>
                <a:cubicBezTo>
                  <a:pt x="11528" y="6106"/>
                  <a:pt x="11530" y="6117"/>
                  <a:pt x="11494" y="6223"/>
                </a:cubicBezTo>
                <a:cubicBezTo>
                  <a:pt x="11469" y="6298"/>
                  <a:pt x="11440" y="6334"/>
                  <a:pt x="11430" y="6414"/>
                </a:cubicBezTo>
              </a:path>
              <a:path w="9399" h="3811">
                <a:moveTo>
                  <a:pt x="12160" y="5937"/>
                </a:moveTo>
                <a:cubicBezTo>
                  <a:pt x="12174" y="5986"/>
                  <a:pt x="12156" y="6018"/>
                  <a:pt x="12224" y="6032"/>
                </a:cubicBezTo>
                <a:cubicBezTo>
                  <a:pt x="12308" y="6049"/>
                  <a:pt x="12371" y="6013"/>
                  <a:pt x="12446" y="6001"/>
                </a:cubicBezTo>
                <a:cubicBezTo>
                  <a:pt x="12639" y="5970"/>
                  <a:pt x="12866" y="6004"/>
                  <a:pt x="13049" y="6032"/>
                </a:cubicBezTo>
                <a:cubicBezTo>
                  <a:pt x="13141" y="6046"/>
                  <a:pt x="13105" y="6028"/>
                  <a:pt x="13176" y="6064"/>
                </a:cubicBezTo>
                <a:cubicBezTo>
                  <a:pt x="13133" y="6140"/>
                  <a:pt x="13093" y="6178"/>
                  <a:pt x="13018" y="6223"/>
                </a:cubicBezTo>
                <a:cubicBezTo>
                  <a:pt x="12934" y="6273"/>
                  <a:pt x="12800" y="6343"/>
                  <a:pt x="12732" y="6414"/>
                </a:cubicBezTo>
                <a:cubicBezTo>
                  <a:pt x="12619" y="6532"/>
                  <a:pt x="12527" y="6674"/>
                  <a:pt x="12414" y="6794"/>
                </a:cubicBezTo>
                <a:cubicBezTo>
                  <a:pt x="12333" y="6880"/>
                  <a:pt x="12245" y="6939"/>
                  <a:pt x="12160" y="7017"/>
                </a:cubicBezTo>
                <a:cubicBezTo>
                  <a:pt x="12100" y="7071"/>
                  <a:pt x="12009" y="7122"/>
                  <a:pt x="11938" y="7144"/>
                </a:cubicBezTo>
                <a:cubicBezTo>
                  <a:pt x="11927" y="7144"/>
                  <a:pt x="11917" y="7144"/>
                  <a:pt x="11906" y="7144"/>
                </a:cubicBezTo>
                <a:cubicBezTo>
                  <a:pt x="11927" y="7123"/>
                  <a:pt x="11964" y="7086"/>
                  <a:pt x="12002" y="7048"/>
                </a:cubicBezTo>
                <a:cubicBezTo>
                  <a:pt x="12014" y="7036"/>
                  <a:pt x="12148" y="6983"/>
                  <a:pt x="12160" y="6985"/>
                </a:cubicBezTo>
                <a:cubicBezTo>
                  <a:pt x="12196" y="6992"/>
                  <a:pt x="12315" y="7030"/>
                  <a:pt x="12351" y="7048"/>
                </a:cubicBezTo>
                <a:cubicBezTo>
                  <a:pt x="12406" y="7076"/>
                  <a:pt x="12456" y="7144"/>
                  <a:pt x="12510" y="7176"/>
                </a:cubicBezTo>
                <a:cubicBezTo>
                  <a:pt x="12590" y="7224"/>
                  <a:pt x="12619" y="7215"/>
                  <a:pt x="12700" y="7239"/>
                </a:cubicBezTo>
                <a:cubicBezTo>
                  <a:pt x="12769" y="7260"/>
                  <a:pt x="12844" y="7261"/>
                  <a:pt x="12922" y="7239"/>
                </a:cubicBezTo>
                <a:cubicBezTo>
                  <a:pt x="12993" y="7218"/>
                  <a:pt x="13046" y="7148"/>
                  <a:pt x="13081" y="7112"/>
                </a:cubicBezTo>
              </a:path>
              <a:path w="9399" h="3811">
                <a:moveTo>
                  <a:pt x="12351" y="6604"/>
                </a:moveTo>
                <a:cubicBezTo>
                  <a:pt x="12414" y="6604"/>
                  <a:pt x="12462" y="6582"/>
                  <a:pt x="12510" y="6572"/>
                </a:cubicBezTo>
                <a:cubicBezTo>
                  <a:pt x="12531" y="6572"/>
                  <a:pt x="12552" y="6572"/>
                  <a:pt x="12573" y="6572"/>
                </a:cubicBezTo>
              </a:path>
              <a:path w="9399" h="3811">
                <a:moveTo>
                  <a:pt x="13589" y="5620"/>
                </a:moveTo>
                <a:cubicBezTo>
                  <a:pt x="13595" y="5577"/>
                  <a:pt x="13603" y="5485"/>
                  <a:pt x="13652" y="5461"/>
                </a:cubicBezTo>
                <a:cubicBezTo>
                  <a:pt x="13688" y="5443"/>
                  <a:pt x="13764" y="5405"/>
                  <a:pt x="13811" y="5429"/>
                </a:cubicBezTo>
                <a:cubicBezTo>
                  <a:pt x="13822" y="5440"/>
                  <a:pt x="13832" y="5450"/>
                  <a:pt x="13843" y="5461"/>
                </a:cubicBezTo>
                <a:cubicBezTo>
                  <a:pt x="13825" y="5533"/>
                  <a:pt x="13806" y="5605"/>
                  <a:pt x="13780" y="5683"/>
                </a:cubicBezTo>
                <a:cubicBezTo>
                  <a:pt x="13733" y="5825"/>
                  <a:pt x="13665" y="5943"/>
                  <a:pt x="13589" y="6064"/>
                </a:cubicBezTo>
                <a:cubicBezTo>
                  <a:pt x="13542" y="6138"/>
                  <a:pt x="13522" y="6220"/>
                  <a:pt x="13462" y="6286"/>
                </a:cubicBezTo>
                <a:cubicBezTo>
                  <a:pt x="13419" y="6333"/>
                  <a:pt x="13446" y="6334"/>
                  <a:pt x="13398" y="6350"/>
                </a:cubicBezTo>
                <a:cubicBezTo>
                  <a:pt x="13435" y="6300"/>
                  <a:pt x="13472" y="6313"/>
                  <a:pt x="13494" y="6286"/>
                </a:cubicBezTo>
                <a:cubicBezTo>
                  <a:pt x="13537" y="6234"/>
                  <a:pt x="13520" y="6264"/>
                  <a:pt x="13589" y="6286"/>
                </a:cubicBezTo>
                <a:cubicBezTo>
                  <a:pt x="13630" y="6299"/>
                  <a:pt x="13677" y="6342"/>
                  <a:pt x="13716" y="6350"/>
                </a:cubicBezTo>
                <a:cubicBezTo>
                  <a:pt x="13814" y="6371"/>
                  <a:pt x="13913" y="6339"/>
                  <a:pt x="14002" y="6318"/>
                </a:cubicBezTo>
                <a:cubicBezTo>
                  <a:pt x="14055" y="6306"/>
                  <a:pt x="14153" y="6268"/>
                  <a:pt x="14192" y="6223"/>
                </a:cubicBezTo>
                <a:cubicBezTo>
                  <a:pt x="14220" y="6168"/>
                  <a:pt x="14225" y="6153"/>
                  <a:pt x="14256" y="6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Ink 8"/>
          <p:cNvSpPr/>
          <p:nvPr/>
        </p:nvSpPr>
        <p:spPr>
          <a:xfrm>
            <a:off x="1143000" y="3314880"/>
            <a:ext cx="171360" cy="228600"/>
          </a:xfrm>
          <a:custGeom>
            <a:avLst/>
            <a:gdLst/>
            <a:ahLst/>
            <a:rect l="l" t="t" r="r" b="b"/>
            <a:pathLst>
              <a:path w="477" h="635">
                <a:moveTo>
                  <a:pt x="3175" y="9271"/>
                </a:moveTo>
                <a:cubicBezTo>
                  <a:pt x="3216" y="9257"/>
                  <a:pt x="3242" y="9258"/>
                  <a:pt x="3302" y="9239"/>
                </a:cubicBezTo>
                <a:cubicBezTo>
                  <a:pt x="3392" y="9210"/>
                  <a:pt x="3459" y="9208"/>
                  <a:pt x="3556" y="9208"/>
                </a:cubicBezTo>
                <a:cubicBezTo>
                  <a:pt x="3588" y="9208"/>
                  <a:pt x="3619" y="9208"/>
                  <a:pt x="3651" y="9208"/>
                </a:cubicBezTo>
              </a:path>
              <a:path w="477" h="635">
                <a:moveTo>
                  <a:pt x="3207" y="9811"/>
                </a:moveTo>
                <a:cubicBezTo>
                  <a:pt x="3256" y="9848"/>
                  <a:pt x="3330" y="9860"/>
                  <a:pt x="3397" y="9842"/>
                </a:cubicBezTo>
                <a:cubicBezTo>
                  <a:pt x="3468" y="9808"/>
                  <a:pt x="3497" y="9797"/>
                  <a:pt x="3556" y="9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Ink 9"/>
          <p:cNvSpPr/>
          <p:nvPr/>
        </p:nvSpPr>
        <p:spPr>
          <a:xfrm>
            <a:off x="2000160" y="3165480"/>
            <a:ext cx="2389320" cy="1258920"/>
          </a:xfrm>
          <a:custGeom>
            <a:avLst/>
            <a:gdLst/>
            <a:ahLst/>
            <a:rect l="l" t="t" r="r" b="b"/>
            <a:pathLst>
              <a:path w="6637" h="3493">
                <a:moveTo>
                  <a:pt x="6382" y="9557"/>
                </a:moveTo>
                <a:cubicBezTo>
                  <a:pt x="6404" y="9445"/>
                  <a:pt x="6393" y="9352"/>
                  <a:pt x="6350" y="9239"/>
                </a:cubicBezTo>
                <a:cubicBezTo>
                  <a:pt x="6319" y="9158"/>
                  <a:pt x="6265" y="9002"/>
                  <a:pt x="6191" y="8954"/>
                </a:cubicBezTo>
                <a:cubicBezTo>
                  <a:pt x="6090" y="8888"/>
                  <a:pt x="5926" y="8832"/>
                  <a:pt x="5810" y="8826"/>
                </a:cubicBezTo>
                <a:cubicBezTo>
                  <a:pt x="5748" y="8823"/>
                  <a:pt x="5666" y="8852"/>
                  <a:pt x="5620" y="8890"/>
                </a:cubicBezTo>
                <a:cubicBezTo>
                  <a:pt x="5573" y="8929"/>
                  <a:pt x="5558" y="9089"/>
                  <a:pt x="5556" y="9144"/>
                </a:cubicBezTo>
                <a:cubicBezTo>
                  <a:pt x="5550" y="9275"/>
                  <a:pt x="5614" y="9401"/>
                  <a:pt x="5652" y="9525"/>
                </a:cubicBezTo>
                <a:cubicBezTo>
                  <a:pt x="5699" y="9677"/>
                  <a:pt x="5817" y="9793"/>
                  <a:pt x="5874" y="9938"/>
                </a:cubicBezTo>
                <a:cubicBezTo>
                  <a:pt x="5935" y="10093"/>
                  <a:pt x="5984" y="10253"/>
                  <a:pt x="6032" y="10414"/>
                </a:cubicBezTo>
                <a:cubicBezTo>
                  <a:pt x="6079" y="10570"/>
                  <a:pt x="6086" y="10610"/>
                  <a:pt x="6064" y="10763"/>
                </a:cubicBezTo>
                <a:cubicBezTo>
                  <a:pt x="6049" y="10869"/>
                  <a:pt x="5996" y="10901"/>
                  <a:pt x="5906" y="10954"/>
                </a:cubicBezTo>
                <a:cubicBezTo>
                  <a:pt x="5832" y="10997"/>
                  <a:pt x="5765" y="10986"/>
                  <a:pt x="5683" y="10986"/>
                </a:cubicBezTo>
                <a:cubicBezTo>
                  <a:pt x="5599" y="10986"/>
                  <a:pt x="5571" y="10942"/>
                  <a:pt x="5556" y="10858"/>
                </a:cubicBezTo>
                <a:cubicBezTo>
                  <a:pt x="5542" y="10776"/>
                  <a:pt x="5562" y="10710"/>
                  <a:pt x="5588" y="10636"/>
                </a:cubicBezTo>
                <a:cubicBezTo>
                  <a:pt x="5630" y="10516"/>
                  <a:pt x="5695" y="10424"/>
                  <a:pt x="5747" y="10319"/>
                </a:cubicBezTo>
                <a:cubicBezTo>
                  <a:pt x="5808" y="10196"/>
                  <a:pt x="5886" y="10113"/>
                  <a:pt x="5969" y="10001"/>
                </a:cubicBezTo>
                <a:cubicBezTo>
                  <a:pt x="6041" y="9904"/>
                  <a:pt x="6121" y="9812"/>
                  <a:pt x="6191" y="9716"/>
                </a:cubicBezTo>
                <a:cubicBezTo>
                  <a:pt x="6243" y="9644"/>
                  <a:pt x="6312" y="9575"/>
                  <a:pt x="6350" y="9493"/>
                </a:cubicBezTo>
                <a:cubicBezTo>
                  <a:pt x="6361" y="9461"/>
                  <a:pt x="6371" y="9430"/>
                  <a:pt x="6382" y="9398"/>
                </a:cubicBezTo>
              </a:path>
              <a:path w="6637" h="3493">
                <a:moveTo>
                  <a:pt x="6668" y="9303"/>
                </a:moveTo>
                <a:cubicBezTo>
                  <a:pt x="6688" y="9384"/>
                  <a:pt x="6699" y="9461"/>
                  <a:pt x="6699" y="9557"/>
                </a:cubicBezTo>
                <a:cubicBezTo>
                  <a:pt x="6699" y="9731"/>
                  <a:pt x="6649" y="9894"/>
                  <a:pt x="6636" y="10065"/>
                </a:cubicBezTo>
                <a:cubicBezTo>
                  <a:pt x="6621" y="10264"/>
                  <a:pt x="6627" y="10470"/>
                  <a:pt x="6604" y="10668"/>
                </a:cubicBezTo>
                <a:cubicBezTo>
                  <a:pt x="6572" y="10826"/>
                  <a:pt x="6562" y="10878"/>
                  <a:pt x="6572" y="10986"/>
                </a:cubicBezTo>
              </a:path>
              <a:path w="6637" h="3493">
                <a:moveTo>
                  <a:pt x="7239" y="9525"/>
                </a:moveTo>
                <a:cubicBezTo>
                  <a:pt x="7253" y="9594"/>
                  <a:pt x="7253" y="9679"/>
                  <a:pt x="7271" y="9747"/>
                </a:cubicBezTo>
                <a:cubicBezTo>
                  <a:pt x="7302" y="9863"/>
                  <a:pt x="7326" y="9977"/>
                  <a:pt x="7366" y="10096"/>
                </a:cubicBezTo>
                <a:cubicBezTo>
                  <a:pt x="7415" y="10241"/>
                  <a:pt x="7473" y="10368"/>
                  <a:pt x="7525" y="10509"/>
                </a:cubicBezTo>
                <a:cubicBezTo>
                  <a:pt x="7572" y="10637"/>
                  <a:pt x="7642" y="10718"/>
                  <a:pt x="7715" y="10827"/>
                </a:cubicBezTo>
                <a:cubicBezTo>
                  <a:pt x="7744" y="10871"/>
                  <a:pt x="7768" y="10909"/>
                  <a:pt x="7779" y="10954"/>
                </a:cubicBezTo>
              </a:path>
              <a:path w="6637" h="3493">
                <a:moveTo>
                  <a:pt x="7842" y="9588"/>
                </a:moveTo>
                <a:cubicBezTo>
                  <a:pt x="7814" y="9644"/>
                  <a:pt x="7773" y="9714"/>
                  <a:pt x="7747" y="9779"/>
                </a:cubicBezTo>
                <a:cubicBezTo>
                  <a:pt x="7689" y="9926"/>
                  <a:pt x="7601" y="10053"/>
                  <a:pt x="7525" y="10192"/>
                </a:cubicBezTo>
                <a:cubicBezTo>
                  <a:pt x="7436" y="10354"/>
                  <a:pt x="7339" y="10512"/>
                  <a:pt x="7239" y="10668"/>
                </a:cubicBezTo>
                <a:cubicBezTo>
                  <a:pt x="7179" y="10761"/>
                  <a:pt x="7074" y="10882"/>
                  <a:pt x="7048" y="10986"/>
                </a:cubicBezTo>
                <a:cubicBezTo>
                  <a:pt x="7027" y="11070"/>
                  <a:pt x="7048" y="11028"/>
                  <a:pt x="7017" y="11081"/>
                </a:cubicBezTo>
              </a:path>
              <a:path w="6637" h="3493">
                <a:moveTo>
                  <a:pt x="8223" y="8826"/>
                </a:moveTo>
                <a:cubicBezTo>
                  <a:pt x="8267" y="8885"/>
                  <a:pt x="8251" y="8914"/>
                  <a:pt x="8223" y="8985"/>
                </a:cubicBezTo>
                <a:cubicBezTo>
                  <a:pt x="8185" y="9082"/>
                  <a:pt x="8198" y="9087"/>
                  <a:pt x="8160" y="9176"/>
                </a:cubicBezTo>
                <a:cubicBezTo>
                  <a:pt x="8136" y="9233"/>
                  <a:pt x="8141" y="9376"/>
                  <a:pt x="8096" y="9334"/>
                </a:cubicBezTo>
                <a:cubicBezTo>
                  <a:pt x="8063" y="9303"/>
                  <a:pt x="8182" y="9278"/>
                  <a:pt x="8192" y="9271"/>
                </a:cubicBezTo>
                <a:cubicBezTo>
                  <a:pt x="8202" y="9260"/>
                  <a:pt x="8213" y="9250"/>
                  <a:pt x="8223" y="9239"/>
                </a:cubicBezTo>
                <a:cubicBezTo>
                  <a:pt x="8253" y="9249"/>
                  <a:pt x="8282" y="9251"/>
                  <a:pt x="8318" y="9271"/>
                </a:cubicBezTo>
                <a:cubicBezTo>
                  <a:pt x="8363" y="9296"/>
                  <a:pt x="8392" y="9328"/>
                  <a:pt x="8446" y="9334"/>
                </a:cubicBezTo>
                <a:cubicBezTo>
                  <a:pt x="8510" y="9341"/>
                  <a:pt x="8517" y="9315"/>
                  <a:pt x="8541" y="9303"/>
                </a:cubicBezTo>
                <a:cubicBezTo>
                  <a:pt x="8551" y="9303"/>
                  <a:pt x="8562" y="9303"/>
                  <a:pt x="8572" y="9303"/>
                </a:cubicBezTo>
              </a:path>
              <a:path w="6637" h="3493">
                <a:moveTo>
                  <a:pt x="8572" y="8795"/>
                </a:moveTo>
                <a:cubicBezTo>
                  <a:pt x="8572" y="8866"/>
                  <a:pt x="8549" y="8921"/>
                  <a:pt x="8541" y="8985"/>
                </a:cubicBezTo>
                <a:cubicBezTo>
                  <a:pt x="8526" y="9104"/>
                  <a:pt x="8493" y="9214"/>
                  <a:pt x="8477" y="9334"/>
                </a:cubicBezTo>
                <a:cubicBezTo>
                  <a:pt x="8461" y="9452"/>
                  <a:pt x="8446" y="9564"/>
                  <a:pt x="8446" y="9684"/>
                </a:cubicBezTo>
              </a:path>
              <a:path w="6637" h="3493">
                <a:moveTo>
                  <a:pt x="8954" y="9557"/>
                </a:moveTo>
                <a:cubicBezTo>
                  <a:pt x="8947" y="9636"/>
                  <a:pt x="8925" y="9701"/>
                  <a:pt x="8922" y="9779"/>
                </a:cubicBezTo>
                <a:cubicBezTo>
                  <a:pt x="8917" y="9899"/>
                  <a:pt x="8890" y="10005"/>
                  <a:pt x="8890" y="10128"/>
                </a:cubicBezTo>
                <a:cubicBezTo>
                  <a:pt x="8890" y="10219"/>
                  <a:pt x="8899" y="10369"/>
                  <a:pt x="8954" y="10446"/>
                </a:cubicBezTo>
                <a:cubicBezTo>
                  <a:pt x="8987" y="10491"/>
                  <a:pt x="9050" y="10540"/>
                  <a:pt x="9112" y="10509"/>
                </a:cubicBezTo>
                <a:cubicBezTo>
                  <a:pt x="9179" y="10476"/>
                  <a:pt x="9209" y="10380"/>
                  <a:pt x="9239" y="10319"/>
                </a:cubicBezTo>
                <a:cubicBezTo>
                  <a:pt x="9294" y="10208"/>
                  <a:pt x="9308" y="10115"/>
                  <a:pt x="9334" y="10001"/>
                </a:cubicBezTo>
                <a:cubicBezTo>
                  <a:pt x="9356" y="9907"/>
                  <a:pt x="9366" y="9844"/>
                  <a:pt x="9366" y="9747"/>
                </a:cubicBezTo>
                <a:cubicBezTo>
                  <a:pt x="9366" y="9672"/>
                  <a:pt x="9335" y="9913"/>
                  <a:pt x="9334" y="9938"/>
                </a:cubicBezTo>
                <a:cubicBezTo>
                  <a:pt x="9326" y="10152"/>
                  <a:pt x="9318" y="10363"/>
                  <a:pt x="9303" y="10573"/>
                </a:cubicBezTo>
                <a:cubicBezTo>
                  <a:pt x="9283" y="10858"/>
                  <a:pt x="9291" y="11146"/>
                  <a:pt x="9271" y="11430"/>
                </a:cubicBezTo>
                <a:cubicBezTo>
                  <a:pt x="9257" y="11634"/>
                  <a:pt x="9217" y="11781"/>
                  <a:pt x="9144" y="11970"/>
                </a:cubicBezTo>
                <a:cubicBezTo>
                  <a:pt x="9097" y="12091"/>
                  <a:pt x="9014" y="12202"/>
                  <a:pt x="8890" y="12256"/>
                </a:cubicBezTo>
                <a:cubicBezTo>
                  <a:pt x="8814" y="12289"/>
                  <a:pt x="8644" y="12320"/>
                  <a:pt x="8572" y="12256"/>
                </a:cubicBezTo>
                <a:cubicBezTo>
                  <a:pt x="8490" y="12183"/>
                  <a:pt x="8399" y="12017"/>
                  <a:pt x="8382" y="11906"/>
                </a:cubicBezTo>
                <a:cubicBezTo>
                  <a:pt x="8364" y="11791"/>
                  <a:pt x="8382" y="11625"/>
                  <a:pt x="8446" y="11525"/>
                </a:cubicBezTo>
                <a:cubicBezTo>
                  <a:pt x="8538" y="11381"/>
                  <a:pt x="8654" y="11242"/>
                  <a:pt x="8795" y="11144"/>
                </a:cubicBezTo>
                <a:cubicBezTo>
                  <a:pt x="8902" y="11070"/>
                  <a:pt x="9012" y="11032"/>
                  <a:pt x="9112" y="10954"/>
                </a:cubicBezTo>
              </a:path>
              <a:path w="6637" h="3493">
                <a:moveTo>
                  <a:pt x="9874" y="9176"/>
                </a:moveTo>
                <a:cubicBezTo>
                  <a:pt x="9864" y="9217"/>
                  <a:pt x="9857" y="9261"/>
                  <a:pt x="9842" y="9303"/>
                </a:cubicBezTo>
                <a:cubicBezTo>
                  <a:pt x="9816" y="9376"/>
                  <a:pt x="9803" y="9455"/>
                  <a:pt x="9779" y="9525"/>
                </a:cubicBezTo>
                <a:cubicBezTo>
                  <a:pt x="9751" y="9606"/>
                  <a:pt x="9747" y="9659"/>
                  <a:pt x="9747" y="9747"/>
                </a:cubicBezTo>
                <a:cubicBezTo>
                  <a:pt x="9747" y="9856"/>
                  <a:pt x="9773" y="9821"/>
                  <a:pt x="9811" y="9906"/>
                </a:cubicBezTo>
                <a:cubicBezTo>
                  <a:pt x="9833" y="9956"/>
                  <a:pt x="9868" y="9938"/>
                  <a:pt x="9938" y="9938"/>
                </a:cubicBezTo>
                <a:cubicBezTo>
                  <a:pt x="9982" y="9938"/>
                  <a:pt x="10033" y="9903"/>
                  <a:pt x="10065" y="9874"/>
                </a:cubicBezTo>
                <a:cubicBezTo>
                  <a:pt x="10125" y="9819"/>
                  <a:pt x="10128" y="9797"/>
                  <a:pt x="10128" y="9716"/>
                </a:cubicBezTo>
                <a:cubicBezTo>
                  <a:pt x="10128" y="9683"/>
                  <a:pt x="10096" y="9654"/>
                  <a:pt x="10065" y="9652"/>
                </a:cubicBezTo>
                <a:cubicBezTo>
                  <a:pt x="9977" y="9645"/>
                  <a:pt x="9965" y="9658"/>
                  <a:pt x="9906" y="9716"/>
                </a:cubicBezTo>
                <a:cubicBezTo>
                  <a:pt x="9869" y="9752"/>
                  <a:pt x="9826" y="9796"/>
                  <a:pt x="9811" y="9842"/>
                </a:cubicBezTo>
                <a:cubicBezTo>
                  <a:pt x="9811" y="9853"/>
                  <a:pt x="9811" y="9863"/>
                  <a:pt x="9811" y="9874"/>
                </a:cubicBezTo>
              </a:path>
              <a:path w="6637" h="3493">
                <a:moveTo>
                  <a:pt x="10604" y="9779"/>
                </a:moveTo>
                <a:cubicBezTo>
                  <a:pt x="10659" y="9794"/>
                  <a:pt x="10705" y="9808"/>
                  <a:pt x="10763" y="9811"/>
                </a:cubicBezTo>
                <a:cubicBezTo>
                  <a:pt x="10869" y="9817"/>
                  <a:pt x="10950" y="9785"/>
                  <a:pt x="11049" y="9779"/>
                </a:cubicBezTo>
                <a:cubicBezTo>
                  <a:pt x="11145" y="9774"/>
                  <a:pt x="11217" y="9752"/>
                  <a:pt x="11303" y="9747"/>
                </a:cubicBezTo>
                <a:cubicBezTo>
                  <a:pt x="11360" y="9744"/>
                  <a:pt x="11352" y="9751"/>
                  <a:pt x="11398" y="9779"/>
                </a:cubicBezTo>
                <a:cubicBezTo>
                  <a:pt x="11339" y="9838"/>
                  <a:pt x="11321" y="9906"/>
                  <a:pt x="11271" y="9970"/>
                </a:cubicBezTo>
                <a:cubicBezTo>
                  <a:pt x="11198" y="10064"/>
                  <a:pt x="11127" y="10164"/>
                  <a:pt x="11049" y="10255"/>
                </a:cubicBezTo>
                <a:cubicBezTo>
                  <a:pt x="10956" y="10365"/>
                  <a:pt x="10825" y="10439"/>
                  <a:pt x="10732" y="10541"/>
                </a:cubicBezTo>
                <a:cubicBezTo>
                  <a:pt x="10626" y="10657"/>
                  <a:pt x="10536" y="10709"/>
                  <a:pt x="10414" y="10795"/>
                </a:cubicBezTo>
                <a:cubicBezTo>
                  <a:pt x="10343" y="10845"/>
                  <a:pt x="10250" y="10939"/>
                  <a:pt x="10224" y="11017"/>
                </a:cubicBezTo>
                <a:cubicBezTo>
                  <a:pt x="10224" y="11028"/>
                  <a:pt x="10224" y="11038"/>
                  <a:pt x="10224" y="11049"/>
                </a:cubicBezTo>
                <a:cubicBezTo>
                  <a:pt x="10244" y="11029"/>
                  <a:pt x="10275" y="10983"/>
                  <a:pt x="10319" y="10954"/>
                </a:cubicBezTo>
                <a:cubicBezTo>
                  <a:pt x="10365" y="10924"/>
                  <a:pt x="10432" y="10913"/>
                  <a:pt x="10478" y="10890"/>
                </a:cubicBezTo>
                <a:cubicBezTo>
                  <a:pt x="10565" y="10846"/>
                  <a:pt x="10604" y="10856"/>
                  <a:pt x="10700" y="10890"/>
                </a:cubicBezTo>
                <a:cubicBezTo>
                  <a:pt x="10753" y="10909"/>
                  <a:pt x="10812" y="10973"/>
                  <a:pt x="10858" y="10986"/>
                </a:cubicBezTo>
                <a:cubicBezTo>
                  <a:pt x="10929" y="11007"/>
                  <a:pt x="10975" y="11063"/>
                  <a:pt x="11049" y="11081"/>
                </a:cubicBezTo>
                <a:cubicBezTo>
                  <a:pt x="11113" y="11096"/>
                  <a:pt x="11159" y="11075"/>
                  <a:pt x="11208" y="11049"/>
                </a:cubicBezTo>
                <a:cubicBezTo>
                  <a:pt x="11259" y="11023"/>
                  <a:pt x="11280" y="11026"/>
                  <a:pt x="11271" y="10986"/>
                </a:cubicBezTo>
              </a:path>
              <a:path w="6637" h="3493">
                <a:moveTo>
                  <a:pt x="10763" y="10446"/>
                </a:moveTo>
                <a:cubicBezTo>
                  <a:pt x="10817" y="10457"/>
                  <a:pt x="10893" y="10503"/>
                  <a:pt x="10954" y="10478"/>
                </a:cubicBezTo>
                <a:cubicBezTo>
                  <a:pt x="11007" y="10456"/>
                  <a:pt x="11062" y="10444"/>
                  <a:pt x="11112" y="10414"/>
                </a:cubicBezTo>
              </a:path>
              <a:path w="6637" h="3493">
                <a:moveTo>
                  <a:pt x="11811" y="9557"/>
                </a:moveTo>
                <a:cubicBezTo>
                  <a:pt x="11811" y="9465"/>
                  <a:pt x="11836" y="9477"/>
                  <a:pt x="11843" y="9398"/>
                </a:cubicBezTo>
                <a:cubicBezTo>
                  <a:pt x="11843" y="9387"/>
                  <a:pt x="11843" y="9377"/>
                  <a:pt x="11843" y="9366"/>
                </a:cubicBezTo>
                <a:cubicBezTo>
                  <a:pt x="11901" y="9366"/>
                  <a:pt x="11918" y="9340"/>
                  <a:pt x="11970" y="9334"/>
                </a:cubicBezTo>
                <a:cubicBezTo>
                  <a:pt x="12023" y="9328"/>
                  <a:pt x="12025" y="9335"/>
                  <a:pt x="12065" y="9366"/>
                </a:cubicBezTo>
                <a:cubicBezTo>
                  <a:pt x="12050" y="9441"/>
                  <a:pt x="12033" y="9517"/>
                  <a:pt x="12002" y="9588"/>
                </a:cubicBezTo>
                <a:cubicBezTo>
                  <a:pt x="11970" y="9660"/>
                  <a:pt x="11940" y="9717"/>
                  <a:pt x="11906" y="9779"/>
                </a:cubicBezTo>
                <a:cubicBezTo>
                  <a:pt x="11878" y="9830"/>
                  <a:pt x="11839" y="9896"/>
                  <a:pt x="11811" y="9938"/>
                </a:cubicBezTo>
                <a:cubicBezTo>
                  <a:pt x="11782" y="9967"/>
                  <a:pt x="11772" y="9973"/>
                  <a:pt x="11779" y="10001"/>
                </a:cubicBezTo>
                <a:cubicBezTo>
                  <a:pt x="11827" y="9986"/>
                  <a:pt x="11807" y="9970"/>
                  <a:pt x="11874" y="9970"/>
                </a:cubicBezTo>
                <a:cubicBezTo>
                  <a:pt x="11916" y="9970"/>
                  <a:pt x="11944" y="9968"/>
                  <a:pt x="11970" y="10001"/>
                </a:cubicBezTo>
                <a:cubicBezTo>
                  <a:pt x="11984" y="10018"/>
                  <a:pt x="12013" y="10062"/>
                  <a:pt x="12065" y="10033"/>
                </a:cubicBezTo>
                <a:cubicBezTo>
                  <a:pt x="12102" y="10012"/>
                  <a:pt x="12140" y="9911"/>
                  <a:pt x="12160" y="9874"/>
                </a:cubicBezTo>
                <a:cubicBezTo>
                  <a:pt x="12171" y="9853"/>
                  <a:pt x="12181" y="9832"/>
                  <a:pt x="12192" y="9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2362320" y="609480"/>
                <a:ext cx="13334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Ink 5"/>
          <p:cNvSpPr/>
          <p:nvPr/>
        </p:nvSpPr>
        <p:spPr>
          <a:xfrm>
            <a:off x="2708280" y="731880"/>
            <a:ext cx="995400" cy="925560"/>
          </a:xfrm>
          <a:custGeom>
            <a:avLst/>
            <a:gdLst/>
            <a:ahLst/>
            <a:rect l="l" t="t" r="r" b="b"/>
            <a:pathLst>
              <a:path w="2763" h="2573">
                <a:moveTo>
                  <a:pt x="7525" y="3302"/>
                </a:moveTo>
                <a:cubicBezTo>
                  <a:pt x="7525" y="3380"/>
                  <a:pt x="7525" y="3488"/>
                  <a:pt x="7556" y="3556"/>
                </a:cubicBezTo>
                <a:cubicBezTo>
                  <a:pt x="7587" y="3623"/>
                  <a:pt x="7603" y="3708"/>
                  <a:pt x="7652" y="3778"/>
                </a:cubicBezTo>
                <a:cubicBezTo>
                  <a:pt x="7686" y="3826"/>
                  <a:pt x="7733" y="3936"/>
                  <a:pt x="7747" y="4000"/>
                </a:cubicBezTo>
                <a:cubicBezTo>
                  <a:pt x="7769" y="4098"/>
                  <a:pt x="7797" y="4202"/>
                  <a:pt x="7842" y="4286"/>
                </a:cubicBezTo>
                <a:cubicBezTo>
                  <a:pt x="7860" y="4319"/>
                  <a:pt x="7885" y="4460"/>
                  <a:pt x="7906" y="4477"/>
                </a:cubicBezTo>
                <a:cubicBezTo>
                  <a:pt x="7936" y="4502"/>
                  <a:pt x="7945" y="4582"/>
                  <a:pt x="7969" y="4508"/>
                </a:cubicBezTo>
              </a:path>
              <a:path w="2763" h="2573">
                <a:moveTo>
                  <a:pt x="9716" y="3334"/>
                </a:moveTo>
                <a:cubicBezTo>
                  <a:pt x="9648" y="3357"/>
                  <a:pt x="9704" y="3422"/>
                  <a:pt x="9684" y="3492"/>
                </a:cubicBezTo>
                <a:cubicBezTo>
                  <a:pt x="9657" y="3587"/>
                  <a:pt x="9642" y="3683"/>
                  <a:pt x="9620" y="3778"/>
                </a:cubicBezTo>
                <a:cubicBezTo>
                  <a:pt x="9602" y="3854"/>
                  <a:pt x="9583" y="3925"/>
                  <a:pt x="9557" y="4000"/>
                </a:cubicBezTo>
                <a:cubicBezTo>
                  <a:pt x="9525" y="4092"/>
                  <a:pt x="9521" y="4172"/>
                  <a:pt x="9493" y="4254"/>
                </a:cubicBezTo>
                <a:cubicBezTo>
                  <a:pt x="9459" y="4353"/>
                  <a:pt x="9404" y="4436"/>
                  <a:pt x="9398" y="4540"/>
                </a:cubicBezTo>
                <a:cubicBezTo>
                  <a:pt x="9398" y="4561"/>
                  <a:pt x="9398" y="4583"/>
                  <a:pt x="9398" y="4604"/>
                </a:cubicBezTo>
              </a:path>
              <a:path w="2763" h="2573">
                <a:moveTo>
                  <a:pt x="10287" y="2032"/>
                </a:moveTo>
                <a:cubicBezTo>
                  <a:pt x="10287" y="2099"/>
                  <a:pt x="10281" y="2196"/>
                  <a:pt x="10255" y="2254"/>
                </a:cubicBezTo>
                <a:cubicBezTo>
                  <a:pt x="10233" y="2304"/>
                  <a:pt x="10224" y="2291"/>
                  <a:pt x="10224" y="2350"/>
                </a:cubicBezTo>
              </a:path>
              <a:path w="2763" h="2573">
                <a:moveTo>
                  <a:pt x="9842" y="4159"/>
                </a:moveTo>
                <a:cubicBezTo>
                  <a:pt x="9842" y="4286"/>
                  <a:pt x="9842" y="4413"/>
                  <a:pt x="9842" y="45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Ink 6"/>
          <p:cNvSpPr/>
          <p:nvPr/>
        </p:nvSpPr>
        <p:spPr>
          <a:xfrm>
            <a:off x="3886200" y="2378160"/>
            <a:ext cx="2046240" cy="1222200"/>
          </a:xfrm>
          <a:custGeom>
            <a:avLst/>
            <a:gdLst/>
            <a:ahLst/>
            <a:rect l="l" t="t" r="r" b="b"/>
            <a:pathLst>
              <a:path w="5684" h="3398">
                <a:moveTo>
                  <a:pt x="10954" y="7176"/>
                </a:moveTo>
                <a:cubicBezTo>
                  <a:pt x="10940" y="7230"/>
                  <a:pt x="10916" y="7278"/>
                  <a:pt x="10890" y="7334"/>
                </a:cubicBezTo>
                <a:cubicBezTo>
                  <a:pt x="10847" y="7425"/>
                  <a:pt x="10851" y="7524"/>
                  <a:pt x="10827" y="7620"/>
                </a:cubicBezTo>
                <a:cubicBezTo>
                  <a:pt x="10797" y="7741"/>
                  <a:pt x="10795" y="7843"/>
                  <a:pt x="10795" y="7969"/>
                </a:cubicBezTo>
                <a:cubicBezTo>
                  <a:pt x="10795" y="8055"/>
                  <a:pt x="10841" y="8063"/>
                  <a:pt x="10890" y="8096"/>
                </a:cubicBezTo>
                <a:cubicBezTo>
                  <a:pt x="10948" y="8135"/>
                  <a:pt x="11049" y="8082"/>
                  <a:pt x="11112" y="8033"/>
                </a:cubicBezTo>
                <a:cubicBezTo>
                  <a:pt x="11203" y="7962"/>
                  <a:pt x="11251" y="7825"/>
                  <a:pt x="11271" y="7715"/>
                </a:cubicBezTo>
                <a:cubicBezTo>
                  <a:pt x="11294" y="7588"/>
                  <a:pt x="11203" y="7490"/>
                  <a:pt x="11144" y="7398"/>
                </a:cubicBezTo>
                <a:cubicBezTo>
                  <a:pt x="11079" y="7296"/>
                  <a:pt x="11046" y="7249"/>
                  <a:pt x="10922" y="7239"/>
                </a:cubicBezTo>
                <a:cubicBezTo>
                  <a:pt x="10868" y="7235"/>
                  <a:pt x="10868" y="7261"/>
                  <a:pt x="10858" y="7302"/>
                </a:cubicBezTo>
              </a:path>
              <a:path w="5684" h="3398">
                <a:moveTo>
                  <a:pt x="11494" y="8350"/>
                </a:moveTo>
                <a:cubicBezTo>
                  <a:pt x="11549" y="8392"/>
                  <a:pt x="11578" y="8382"/>
                  <a:pt x="11652" y="8382"/>
                </a:cubicBezTo>
                <a:cubicBezTo>
                  <a:pt x="11757" y="8382"/>
                  <a:pt x="11791" y="8366"/>
                  <a:pt x="11906" y="8382"/>
                </a:cubicBezTo>
                <a:cubicBezTo>
                  <a:pt x="12048" y="8402"/>
                  <a:pt x="12207" y="8382"/>
                  <a:pt x="12351" y="8382"/>
                </a:cubicBezTo>
              </a:path>
              <a:path w="5684" h="3398">
                <a:moveTo>
                  <a:pt x="11684" y="8922"/>
                </a:moveTo>
                <a:cubicBezTo>
                  <a:pt x="11736" y="8953"/>
                  <a:pt x="11806" y="8970"/>
                  <a:pt x="11874" y="8954"/>
                </a:cubicBezTo>
                <a:cubicBezTo>
                  <a:pt x="12007" y="8924"/>
                  <a:pt x="12117" y="8895"/>
                  <a:pt x="12256" y="8890"/>
                </a:cubicBezTo>
                <a:cubicBezTo>
                  <a:pt x="12362" y="8890"/>
                  <a:pt x="12404" y="8890"/>
                  <a:pt x="12478" y="8890"/>
                </a:cubicBezTo>
              </a:path>
              <a:path w="5684" h="3398">
                <a:moveTo>
                  <a:pt x="12986" y="7969"/>
                </a:moveTo>
                <a:cubicBezTo>
                  <a:pt x="12901" y="7969"/>
                  <a:pt x="13034" y="7969"/>
                  <a:pt x="13049" y="7969"/>
                </a:cubicBezTo>
                <a:cubicBezTo>
                  <a:pt x="13134" y="7969"/>
                  <a:pt x="13193" y="7951"/>
                  <a:pt x="13272" y="7938"/>
                </a:cubicBezTo>
                <a:cubicBezTo>
                  <a:pt x="13335" y="7938"/>
                  <a:pt x="13356" y="7938"/>
                  <a:pt x="13398" y="7938"/>
                </a:cubicBezTo>
              </a:path>
              <a:path w="5684" h="3398">
                <a:moveTo>
                  <a:pt x="14097" y="7144"/>
                </a:moveTo>
                <a:cubicBezTo>
                  <a:pt x="14097" y="7256"/>
                  <a:pt x="14075" y="7354"/>
                  <a:pt x="14065" y="7461"/>
                </a:cubicBezTo>
                <a:cubicBezTo>
                  <a:pt x="14051" y="7611"/>
                  <a:pt x="14015" y="7759"/>
                  <a:pt x="14002" y="7906"/>
                </a:cubicBezTo>
                <a:cubicBezTo>
                  <a:pt x="13990" y="8034"/>
                  <a:pt x="13999" y="8192"/>
                  <a:pt x="13970" y="8318"/>
                </a:cubicBezTo>
                <a:cubicBezTo>
                  <a:pt x="13957" y="8376"/>
                  <a:pt x="13945" y="8391"/>
                  <a:pt x="13938" y="8446"/>
                </a:cubicBezTo>
                <a:cubicBezTo>
                  <a:pt x="13959" y="8425"/>
                  <a:pt x="13997" y="8388"/>
                  <a:pt x="14034" y="8350"/>
                </a:cubicBezTo>
                <a:cubicBezTo>
                  <a:pt x="14081" y="8302"/>
                  <a:pt x="14141" y="8281"/>
                  <a:pt x="14192" y="8255"/>
                </a:cubicBezTo>
                <a:cubicBezTo>
                  <a:pt x="14271" y="8215"/>
                  <a:pt x="14331" y="8227"/>
                  <a:pt x="14414" y="8255"/>
                </a:cubicBezTo>
                <a:cubicBezTo>
                  <a:pt x="14494" y="8282"/>
                  <a:pt x="14550" y="8313"/>
                  <a:pt x="14637" y="8318"/>
                </a:cubicBezTo>
                <a:cubicBezTo>
                  <a:pt x="14691" y="8321"/>
                  <a:pt x="14760" y="8334"/>
                  <a:pt x="14796" y="8287"/>
                </a:cubicBezTo>
                <a:cubicBezTo>
                  <a:pt x="14838" y="8287"/>
                  <a:pt x="14848" y="8276"/>
                  <a:pt x="14827" y="8223"/>
                </a:cubicBezTo>
              </a:path>
              <a:path w="5684" h="3398">
                <a:moveTo>
                  <a:pt x="14637" y="6985"/>
                </a:moveTo>
                <a:cubicBezTo>
                  <a:pt x="14609" y="7031"/>
                  <a:pt x="14605" y="7077"/>
                  <a:pt x="14605" y="7176"/>
                </a:cubicBezTo>
                <a:cubicBezTo>
                  <a:pt x="14605" y="7367"/>
                  <a:pt x="14611" y="7559"/>
                  <a:pt x="14637" y="7747"/>
                </a:cubicBezTo>
                <a:cubicBezTo>
                  <a:pt x="14676" y="8029"/>
                  <a:pt x="14694" y="8320"/>
                  <a:pt x="14700" y="8604"/>
                </a:cubicBezTo>
                <a:cubicBezTo>
                  <a:pt x="14707" y="8932"/>
                  <a:pt x="14700" y="9260"/>
                  <a:pt x="14700" y="9588"/>
                </a:cubicBezTo>
              </a:path>
              <a:path w="5684" h="3398">
                <a:moveTo>
                  <a:pt x="14986" y="7588"/>
                </a:moveTo>
                <a:cubicBezTo>
                  <a:pt x="15038" y="7653"/>
                  <a:pt x="15082" y="7731"/>
                  <a:pt x="15113" y="7810"/>
                </a:cubicBezTo>
                <a:cubicBezTo>
                  <a:pt x="15172" y="7960"/>
                  <a:pt x="15210" y="8109"/>
                  <a:pt x="15272" y="8255"/>
                </a:cubicBezTo>
                <a:cubicBezTo>
                  <a:pt x="15344" y="8422"/>
                  <a:pt x="15432" y="8592"/>
                  <a:pt x="15494" y="8763"/>
                </a:cubicBezTo>
                <a:cubicBezTo>
                  <a:pt x="15548" y="8912"/>
                  <a:pt x="15606" y="9056"/>
                  <a:pt x="15653" y="9208"/>
                </a:cubicBezTo>
                <a:cubicBezTo>
                  <a:pt x="15677" y="9286"/>
                  <a:pt x="15730" y="9430"/>
                  <a:pt x="15780" y="9493"/>
                </a:cubicBezTo>
                <a:cubicBezTo>
                  <a:pt x="15780" y="9483"/>
                  <a:pt x="15780" y="9472"/>
                  <a:pt x="15780" y="9462"/>
                </a:cubicBezTo>
              </a:path>
              <a:path w="5684" h="3398">
                <a:moveTo>
                  <a:pt x="15748" y="7430"/>
                </a:moveTo>
                <a:cubicBezTo>
                  <a:pt x="15722" y="7531"/>
                  <a:pt x="15708" y="7662"/>
                  <a:pt x="15684" y="7779"/>
                </a:cubicBezTo>
                <a:cubicBezTo>
                  <a:pt x="15622" y="8075"/>
                  <a:pt x="15575" y="8377"/>
                  <a:pt x="15494" y="8668"/>
                </a:cubicBezTo>
                <a:cubicBezTo>
                  <a:pt x="15427" y="8909"/>
                  <a:pt x="15361" y="9156"/>
                  <a:pt x="15304" y="9398"/>
                </a:cubicBezTo>
                <a:cubicBezTo>
                  <a:pt x="15266" y="9559"/>
                  <a:pt x="15265" y="9791"/>
                  <a:pt x="15176" y="9938"/>
                </a:cubicBezTo>
                <a:cubicBezTo>
                  <a:pt x="15145" y="9970"/>
                  <a:pt x="15135" y="9981"/>
                  <a:pt x="15113" y="10001"/>
                </a:cubicBezTo>
              </a:path>
              <a:path w="5684" h="3398">
                <a:moveTo>
                  <a:pt x="15907" y="7080"/>
                </a:moveTo>
                <a:cubicBezTo>
                  <a:pt x="15950" y="7006"/>
                  <a:pt x="15955" y="6909"/>
                  <a:pt x="16002" y="6826"/>
                </a:cubicBezTo>
                <a:cubicBezTo>
                  <a:pt x="16034" y="6769"/>
                  <a:pt x="16081" y="6715"/>
                  <a:pt x="16129" y="6668"/>
                </a:cubicBezTo>
                <a:cubicBezTo>
                  <a:pt x="16193" y="6604"/>
                  <a:pt x="16220" y="6593"/>
                  <a:pt x="16288" y="6636"/>
                </a:cubicBezTo>
                <a:cubicBezTo>
                  <a:pt x="16345" y="6673"/>
                  <a:pt x="16320" y="6768"/>
                  <a:pt x="16320" y="6826"/>
                </a:cubicBezTo>
                <a:cubicBezTo>
                  <a:pt x="16320" y="6984"/>
                  <a:pt x="16254" y="7041"/>
                  <a:pt x="16192" y="7176"/>
                </a:cubicBezTo>
                <a:cubicBezTo>
                  <a:pt x="16149" y="7269"/>
                  <a:pt x="16138" y="7326"/>
                  <a:pt x="16066" y="7398"/>
                </a:cubicBezTo>
                <a:cubicBezTo>
                  <a:pt x="16055" y="7409"/>
                  <a:pt x="16045" y="7419"/>
                  <a:pt x="16034" y="7430"/>
                </a:cubicBezTo>
                <a:cubicBezTo>
                  <a:pt x="16052" y="7398"/>
                  <a:pt x="16079" y="7317"/>
                  <a:pt x="16129" y="7302"/>
                </a:cubicBezTo>
                <a:cubicBezTo>
                  <a:pt x="16188" y="7285"/>
                  <a:pt x="16216" y="7296"/>
                  <a:pt x="16256" y="7302"/>
                </a:cubicBezTo>
                <a:cubicBezTo>
                  <a:pt x="16341" y="7314"/>
                  <a:pt x="16354" y="7336"/>
                  <a:pt x="16415" y="7398"/>
                </a:cubicBezTo>
                <a:cubicBezTo>
                  <a:pt x="16458" y="7442"/>
                  <a:pt x="16474" y="7528"/>
                  <a:pt x="16478" y="7588"/>
                </a:cubicBezTo>
                <a:cubicBezTo>
                  <a:pt x="16485" y="7708"/>
                  <a:pt x="16462" y="7796"/>
                  <a:pt x="16415" y="7906"/>
                </a:cubicBezTo>
                <a:cubicBezTo>
                  <a:pt x="16375" y="8000"/>
                  <a:pt x="16272" y="8097"/>
                  <a:pt x="16192" y="8160"/>
                </a:cubicBezTo>
                <a:cubicBezTo>
                  <a:pt x="16102" y="8230"/>
                  <a:pt x="16015" y="8273"/>
                  <a:pt x="15907" y="8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Ink 7"/>
          <p:cNvSpPr/>
          <p:nvPr/>
        </p:nvSpPr>
        <p:spPr>
          <a:xfrm>
            <a:off x="3235320" y="2525760"/>
            <a:ext cx="560520" cy="1531800"/>
          </a:xfrm>
          <a:custGeom>
            <a:avLst/>
            <a:gdLst/>
            <a:ahLst/>
            <a:rect l="l" t="t" r="r" b="b"/>
            <a:pathLst>
              <a:path w="1557" h="4255">
                <a:moveTo>
                  <a:pt x="9017" y="7207"/>
                </a:moveTo>
                <a:cubicBezTo>
                  <a:pt x="9006" y="7207"/>
                  <a:pt x="8996" y="7207"/>
                  <a:pt x="8985" y="7207"/>
                </a:cubicBezTo>
                <a:cubicBezTo>
                  <a:pt x="8999" y="7152"/>
                  <a:pt x="9038" y="7123"/>
                  <a:pt x="9080" y="7080"/>
                </a:cubicBezTo>
                <a:cubicBezTo>
                  <a:pt x="9138" y="7021"/>
                  <a:pt x="9155" y="7017"/>
                  <a:pt x="9239" y="7017"/>
                </a:cubicBezTo>
                <a:cubicBezTo>
                  <a:pt x="9330" y="7017"/>
                  <a:pt x="9321" y="7140"/>
                  <a:pt x="9303" y="7207"/>
                </a:cubicBezTo>
                <a:cubicBezTo>
                  <a:pt x="9284" y="7277"/>
                  <a:pt x="9219" y="7373"/>
                  <a:pt x="9176" y="7430"/>
                </a:cubicBezTo>
                <a:cubicBezTo>
                  <a:pt x="9138" y="7480"/>
                  <a:pt x="9093" y="7491"/>
                  <a:pt x="9049" y="7525"/>
                </a:cubicBezTo>
                <a:cubicBezTo>
                  <a:pt x="9062" y="7473"/>
                  <a:pt x="9084" y="7434"/>
                  <a:pt x="9144" y="7430"/>
                </a:cubicBezTo>
                <a:cubicBezTo>
                  <a:pt x="9228" y="7424"/>
                  <a:pt x="9271" y="7436"/>
                  <a:pt x="9334" y="7493"/>
                </a:cubicBezTo>
                <a:cubicBezTo>
                  <a:pt x="9371" y="7526"/>
                  <a:pt x="9435" y="7613"/>
                  <a:pt x="9430" y="7652"/>
                </a:cubicBezTo>
                <a:cubicBezTo>
                  <a:pt x="9422" y="7714"/>
                  <a:pt x="9369" y="7823"/>
                  <a:pt x="9334" y="7874"/>
                </a:cubicBezTo>
                <a:cubicBezTo>
                  <a:pt x="9296" y="7929"/>
                  <a:pt x="9241" y="7963"/>
                  <a:pt x="9176" y="7969"/>
                </a:cubicBezTo>
                <a:cubicBezTo>
                  <a:pt x="9125" y="7974"/>
                  <a:pt x="9072" y="7959"/>
                  <a:pt x="9049" y="7906"/>
                </a:cubicBezTo>
                <a:cubicBezTo>
                  <a:pt x="9049" y="7874"/>
                  <a:pt x="9049" y="7863"/>
                  <a:pt x="9049" y="7842"/>
                </a:cubicBezTo>
              </a:path>
              <a:path w="1557" h="4255">
                <a:moveTo>
                  <a:pt x="10033" y="7842"/>
                </a:moveTo>
                <a:lnTo>
                  <a:pt x="10033" y="7906"/>
                </a:lnTo>
                <a:lnTo>
                  <a:pt x="10033" y="7969"/>
                </a:lnTo>
                <a:lnTo>
                  <a:pt x="10001" y="8064"/>
                </a:lnTo>
                <a:lnTo>
                  <a:pt x="10001" y="8160"/>
                </a:lnTo>
                <a:lnTo>
                  <a:pt x="9970" y="8287"/>
                </a:lnTo>
                <a:lnTo>
                  <a:pt x="9970" y="8414"/>
                </a:lnTo>
                <a:lnTo>
                  <a:pt x="9938" y="8541"/>
                </a:lnTo>
                <a:lnTo>
                  <a:pt x="9938" y="8700"/>
                </a:lnTo>
                <a:lnTo>
                  <a:pt x="9906" y="8826"/>
                </a:lnTo>
                <a:lnTo>
                  <a:pt x="9906" y="8985"/>
                </a:lnTo>
                <a:lnTo>
                  <a:pt x="9906" y="9080"/>
                </a:lnTo>
                <a:lnTo>
                  <a:pt x="9906" y="9239"/>
                </a:lnTo>
                <a:lnTo>
                  <a:pt x="9906" y="9334"/>
                </a:lnTo>
                <a:lnTo>
                  <a:pt x="9938" y="9398"/>
                </a:lnTo>
                <a:lnTo>
                  <a:pt x="9970" y="9493"/>
                </a:lnTo>
                <a:lnTo>
                  <a:pt x="10001" y="9525"/>
                </a:lnTo>
                <a:lnTo>
                  <a:pt x="10033" y="9557"/>
                </a:lnTo>
                <a:lnTo>
                  <a:pt x="10096" y="9557"/>
                </a:lnTo>
                <a:lnTo>
                  <a:pt x="10128" y="9493"/>
                </a:lnTo>
                <a:lnTo>
                  <a:pt x="10192" y="9398"/>
                </a:lnTo>
                <a:lnTo>
                  <a:pt x="10255" y="9366"/>
                </a:lnTo>
                <a:lnTo>
                  <a:pt x="10319" y="9239"/>
                </a:lnTo>
                <a:lnTo>
                  <a:pt x="10382" y="9080"/>
                </a:lnTo>
                <a:lnTo>
                  <a:pt x="10414" y="8985"/>
                </a:lnTo>
                <a:lnTo>
                  <a:pt x="10446" y="8858"/>
                </a:lnTo>
                <a:lnTo>
                  <a:pt x="10478" y="8731"/>
                </a:lnTo>
                <a:lnTo>
                  <a:pt x="10509" y="8604"/>
                </a:lnTo>
                <a:lnTo>
                  <a:pt x="10541" y="8477"/>
                </a:lnTo>
                <a:lnTo>
                  <a:pt x="10541" y="8350"/>
                </a:lnTo>
                <a:lnTo>
                  <a:pt x="10541" y="8255"/>
                </a:lnTo>
                <a:lnTo>
                  <a:pt x="10541" y="8160"/>
                </a:lnTo>
                <a:lnTo>
                  <a:pt x="10541" y="8096"/>
                </a:lnTo>
                <a:lnTo>
                  <a:pt x="10541" y="8064"/>
                </a:lnTo>
                <a:lnTo>
                  <a:pt x="10541" y="8033"/>
                </a:lnTo>
                <a:lnTo>
                  <a:pt x="10541" y="8096"/>
                </a:lnTo>
                <a:lnTo>
                  <a:pt x="10541" y="8160"/>
                </a:lnTo>
                <a:lnTo>
                  <a:pt x="10541" y="8255"/>
                </a:lnTo>
                <a:lnTo>
                  <a:pt x="10541" y="8382"/>
                </a:lnTo>
                <a:lnTo>
                  <a:pt x="10541" y="8509"/>
                </a:lnTo>
                <a:lnTo>
                  <a:pt x="10509" y="8668"/>
                </a:lnTo>
                <a:lnTo>
                  <a:pt x="10509" y="8826"/>
                </a:lnTo>
                <a:lnTo>
                  <a:pt x="10509" y="9017"/>
                </a:lnTo>
                <a:lnTo>
                  <a:pt x="10509" y="9208"/>
                </a:lnTo>
                <a:lnTo>
                  <a:pt x="10478" y="9398"/>
                </a:lnTo>
                <a:lnTo>
                  <a:pt x="10478" y="9652"/>
                </a:lnTo>
                <a:lnTo>
                  <a:pt x="10446" y="9874"/>
                </a:lnTo>
                <a:lnTo>
                  <a:pt x="10446" y="10096"/>
                </a:lnTo>
                <a:lnTo>
                  <a:pt x="10414" y="10319"/>
                </a:lnTo>
                <a:lnTo>
                  <a:pt x="10382" y="10509"/>
                </a:lnTo>
                <a:lnTo>
                  <a:pt x="10350" y="10668"/>
                </a:lnTo>
                <a:lnTo>
                  <a:pt x="10287" y="10827"/>
                </a:lnTo>
                <a:lnTo>
                  <a:pt x="10255" y="10986"/>
                </a:lnTo>
                <a:lnTo>
                  <a:pt x="10192" y="11112"/>
                </a:lnTo>
                <a:lnTo>
                  <a:pt x="10128" y="11176"/>
                </a:lnTo>
                <a:lnTo>
                  <a:pt x="10065" y="11240"/>
                </a:lnTo>
                <a:lnTo>
                  <a:pt x="10001" y="11271"/>
                </a:lnTo>
                <a:lnTo>
                  <a:pt x="9906" y="11271"/>
                </a:lnTo>
                <a:lnTo>
                  <a:pt x="9842" y="11271"/>
                </a:lnTo>
                <a:lnTo>
                  <a:pt x="9779" y="11208"/>
                </a:lnTo>
                <a:lnTo>
                  <a:pt x="9684" y="11144"/>
                </a:lnTo>
                <a:lnTo>
                  <a:pt x="9620" y="11081"/>
                </a:lnTo>
                <a:lnTo>
                  <a:pt x="9557" y="11017"/>
                </a:lnTo>
                <a:lnTo>
                  <a:pt x="9525" y="10954"/>
                </a:lnTo>
                <a:lnTo>
                  <a:pt x="9462" y="10890"/>
                </a:lnTo>
                <a:lnTo>
                  <a:pt x="9430" y="10827"/>
                </a:lnTo>
                <a:lnTo>
                  <a:pt x="9430" y="1073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nk 8"/>
          <p:cNvSpPr/>
          <p:nvPr/>
        </p:nvSpPr>
        <p:spPr>
          <a:xfrm>
            <a:off x="2057400" y="2617920"/>
            <a:ext cx="1085760" cy="868320"/>
          </a:xfrm>
          <a:custGeom>
            <a:avLst/>
            <a:gdLst/>
            <a:ahLst/>
            <a:rect l="l" t="t" r="r" b="b"/>
            <a:pathLst>
              <a:path w="3017" h="2414">
                <a:moveTo>
                  <a:pt x="5715" y="7842"/>
                </a:moveTo>
                <a:cubicBezTo>
                  <a:pt x="5730" y="7904"/>
                  <a:pt x="5774" y="7921"/>
                  <a:pt x="5842" y="7938"/>
                </a:cubicBezTo>
                <a:cubicBezTo>
                  <a:pt x="5909" y="7955"/>
                  <a:pt x="5995" y="7966"/>
                  <a:pt x="6064" y="7969"/>
                </a:cubicBezTo>
                <a:cubicBezTo>
                  <a:pt x="6192" y="7974"/>
                  <a:pt x="6263" y="7949"/>
                  <a:pt x="6382" y="7906"/>
                </a:cubicBezTo>
              </a:path>
              <a:path w="3017" h="2414">
                <a:moveTo>
                  <a:pt x="6731" y="7334"/>
                </a:moveTo>
                <a:cubicBezTo>
                  <a:pt x="6731" y="7510"/>
                  <a:pt x="6718" y="7673"/>
                  <a:pt x="6699" y="7842"/>
                </a:cubicBezTo>
                <a:cubicBezTo>
                  <a:pt x="6686" y="7955"/>
                  <a:pt x="6670" y="8084"/>
                  <a:pt x="6636" y="8192"/>
                </a:cubicBezTo>
                <a:cubicBezTo>
                  <a:pt x="6618" y="8249"/>
                  <a:pt x="6584" y="8291"/>
                  <a:pt x="6572" y="8350"/>
                </a:cubicBezTo>
                <a:cubicBezTo>
                  <a:pt x="6621" y="8302"/>
                  <a:pt x="6664" y="8246"/>
                  <a:pt x="6731" y="8223"/>
                </a:cubicBezTo>
                <a:cubicBezTo>
                  <a:pt x="6836" y="8188"/>
                  <a:pt x="6980" y="8241"/>
                  <a:pt x="7080" y="8255"/>
                </a:cubicBezTo>
                <a:cubicBezTo>
                  <a:pt x="7183" y="8270"/>
                  <a:pt x="7306" y="8264"/>
                  <a:pt x="7398" y="8223"/>
                </a:cubicBezTo>
                <a:cubicBezTo>
                  <a:pt x="7467" y="8189"/>
                  <a:pt x="7493" y="8174"/>
                  <a:pt x="7525" y="8128"/>
                </a:cubicBezTo>
              </a:path>
              <a:path w="3017" h="2414">
                <a:moveTo>
                  <a:pt x="7556" y="7271"/>
                </a:moveTo>
                <a:cubicBezTo>
                  <a:pt x="7556" y="7372"/>
                  <a:pt x="7534" y="7460"/>
                  <a:pt x="7525" y="7556"/>
                </a:cubicBezTo>
                <a:cubicBezTo>
                  <a:pt x="7507" y="7759"/>
                  <a:pt x="7496" y="7959"/>
                  <a:pt x="7461" y="8160"/>
                </a:cubicBezTo>
                <a:cubicBezTo>
                  <a:pt x="7420" y="8393"/>
                  <a:pt x="7425" y="8625"/>
                  <a:pt x="7398" y="8858"/>
                </a:cubicBezTo>
                <a:cubicBezTo>
                  <a:pt x="7370" y="9105"/>
                  <a:pt x="7366" y="9339"/>
                  <a:pt x="7366" y="9588"/>
                </a:cubicBezTo>
              </a:path>
              <a:path w="3017" h="2414">
                <a:moveTo>
                  <a:pt x="8096" y="7938"/>
                </a:moveTo>
                <a:cubicBezTo>
                  <a:pt x="8109" y="8026"/>
                  <a:pt x="8128" y="8093"/>
                  <a:pt x="8128" y="8192"/>
                </a:cubicBezTo>
                <a:cubicBezTo>
                  <a:pt x="8128" y="8326"/>
                  <a:pt x="8169" y="8473"/>
                  <a:pt x="8192" y="8604"/>
                </a:cubicBezTo>
                <a:cubicBezTo>
                  <a:pt x="8222" y="8775"/>
                  <a:pt x="8301" y="8934"/>
                  <a:pt x="8350" y="9080"/>
                </a:cubicBezTo>
                <a:cubicBezTo>
                  <a:pt x="8398" y="9225"/>
                  <a:pt x="8423" y="9392"/>
                  <a:pt x="8509" y="9525"/>
                </a:cubicBezTo>
                <a:cubicBezTo>
                  <a:pt x="8539" y="9572"/>
                  <a:pt x="8550" y="9575"/>
                  <a:pt x="8604" y="9588"/>
                </a:cubicBezTo>
              </a:path>
              <a:path w="3017" h="2414">
                <a:moveTo>
                  <a:pt x="8731" y="7969"/>
                </a:moveTo>
                <a:cubicBezTo>
                  <a:pt x="8660" y="8020"/>
                  <a:pt x="8630" y="8071"/>
                  <a:pt x="8572" y="8160"/>
                </a:cubicBezTo>
                <a:cubicBezTo>
                  <a:pt x="8468" y="8319"/>
                  <a:pt x="8412" y="8502"/>
                  <a:pt x="8318" y="8668"/>
                </a:cubicBezTo>
                <a:cubicBezTo>
                  <a:pt x="8212" y="8857"/>
                  <a:pt x="8124" y="9043"/>
                  <a:pt x="8033" y="9239"/>
                </a:cubicBezTo>
                <a:cubicBezTo>
                  <a:pt x="7977" y="9360"/>
                  <a:pt x="7929" y="9511"/>
                  <a:pt x="7874" y="9620"/>
                </a:cubicBezTo>
                <a:cubicBezTo>
                  <a:pt x="7845" y="9649"/>
                  <a:pt x="7834" y="9655"/>
                  <a:pt x="7842" y="9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3.  Find the volu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762120" y="2743200"/>
          <a:ext cx="9983520" cy="254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43200"/>
                    <a:ext cx="998352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AutoShape 5"/>
          <p:cNvSpPr/>
          <p:nvPr/>
        </p:nvSpPr>
        <p:spPr>
          <a:xfrm>
            <a:off x="1676520" y="2666880"/>
            <a:ext cx="2286000" cy="19814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Ink 6"/>
          <p:cNvSpPr/>
          <p:nvPr/>
        </p:nvSpPr>
        <p:spPr>
          <a:xfrm>
            <a:off x="5418000" y="1828800"/>
            <a:ext cx="640080" cy="789120"/>
          </a:xfrm>
          <a:custGeom>
            <a:avLst/>
            <a:gdLst/>
            <a:ahLst/>
            <a:rect l="l" t="t" r="r" b="b"/>
            <a:pathLst>
              <a:path w="1779" h="2192">
                <a:moveTo>
                  <a:pt x="15050" y="5175"/>
                </a:moveTo>
                <a:cubicBezTo>
                  <a:pt x="15060" y="5175"/>
                  <a:pt x="15071" y="5175"/>
                  <a:pt x="15081" y="5175"/>
                </a:cubicBezTo>
              </a:path>
              <a:path w="1779" h="2192">
                <a:moveTo>
                  <a:pt x="15113" y="5366"/>
                </a:moveTo>
                <a:cubicBezTo>
                  <a:pt x="15113" y="5666"/>
                  <a:pt x="15120" y="5960"/>
                  <a:pt x="15145" y="6255"/>
                </a:cubicBezTo>
                <a:cubicBezTo>
                  <a:pt x="15160" y="6434"/>
                  <a:pt x="15142" y="6618"/>
                  <a:pt x="15176" y="6794"/>
                </a:cubicBezTo>
                <a:cubicBezTo>
                  <a:pt x="15195" y="6894"/>
                  <a:pt x="15197" y="7091"/>
                  <a:pt x="15240" y="7176"/>
                </a:cubicBezTo>
                <a:cubicBezTo>
                  <a:pt x="15261" y="7219"/>
                  <a:pt x="15318" y="7254"/>
                  <a:pt x="15335" y="7271"/>
                </a:cubicBezTo>
                <a:cubicBezTo>
                  <a:pt x="15335" y="7097"/>
                  <a:pt x="15354" y="6932"/>
                  <a:pt x="15367" y="6763"/>
                </a:cubicBezTo>
                <a:cubicBezTo>
                  <a:pt x="15383" y="6552"/>
                  <a:pt x="15398" y="6333"/>
                  <a:pt x="15462" y="6128"/>
                </a:cubicBezTo>
                <a:cubicBezTo>
                  <a:pt x="15523" y="5932"/>
                  <a:pt x="15617" y="5748"/>
                  <a:pt x="15684" y="5556"/>
                </a:cubicBezTo>
                <a:cubicBezTo>
                  <a:pt x="15743" y="5388"/>
                  <a:pt x="15834" y="5244"/>
                  <a:pt x="15907" y="5080"/>
                </a:cubicBezTo>
              </a:path>
              <a:path w="1779" h="2192">
                <a:moveTo>
                  <a:pt x="15875" y="6001"/>
                </a:moveTo>
                <a:cubicBezTo>
                  <a:pt x="15864" y="6011"/>
                  <a:pt x="15854" y="6022"/>
                  <a:pt x="15843" y="6032"/>
                </a:cubicBezTo>
                <a:cubicBezTo>
                  <a:pt x="15887" y="6021"/>
                  <a:pt x="15962" y="5999"/>
                  <a:pt x="16002" y="5969"/>
                </a:cubicBezTo>
                <a:cubicBezTo>
                  <a:pt x="16100" y="5895"/>
                  <a:pt x="16202" y="5855"/>
                  <a:pt x="16320" y="5810"/>
                </a:cubicBezTo>
                <a:cubicBezTo>
                  <a:pt x="16429" y="5769"/>
                  <a:pt x="16533" y="5776"/>
                  <a:pt x="16637" y="5747"/>
                </a:cubicBezTo>
                <a:cubicBezTo>
                  <a:pt x="16692" y="5719"/>
                  <a:pt x="16707" y="5702"/>
                  <a:pt x="16732" y="5747"/>
                </a:cubicBezTo>
              </a:path>
              <a:path w="1779" h="2192">
                <a:moveTo>
                  <a:pt x="15907" y="6540"/>
                </a:moveTo>
                <a:cubicBezTo>
                  <a:pt x="15973" y="6527"/>
                  <a:pt x="16035" y="6506"/>
                  <a:pt x="16097" y="6477"/>
                </a:cubicBezTo>
                <a:cubicBezTo>
                  <a:pt x="16201" y="6428"/>
                  <a:pt x="16310" y="6396"/>
                  <a:pt x="16415" y="6350"/>
                </a:cubicBezTo>
                <a:cubicBezTo>
                  <a:pt x="16526" y="6302"/>
                  <a:pt x="16623" y="6286"/>
                  <a:pt x="16732" y="6255"/>
                </a:cubicBezTo>
                <a:cubicBezTo>
                  <a:pt x="16784" y="6229"/>
                  <a:pt x="16792" y="6218"/>
                  <a:pt x="16828" y="62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Ink 7"/>
          <p:cNvSpPr/>
          <p:nvPr/>
        </p:nvSpPr>
        <p:spPr>
          <a:xfrm>
            <a:off x="6321600" y="1577880"/>
            <a:ext cx="1931760" cy="982800"/>
          </a:xfrm>
          <a:custGeom>
            <a:avLst/>
            <a:gdLst/>
            <a:ahLst/>
            <a:rect l="l" t="t" r="r" b="b"/>
            <a:pathLst>
              <a:path w="5367" h="2731">
                <a:moveTo>
                  <a:pt x="17621" y="6445"/>
                </a:moveTo>
                <a:cubicBezTo>
                  <a:pt x="17588" y="6520"/>
                  <a:pt x="17563" y="6586"/>
                  <a:pt x="17558" y="6668"/>
                </a:cubicBezTo>
                <a:cubicBezTo>
                  <a:pt x="17554" y="6743"/>
                  <a:pt x="17582" y="6801"/>
                  <a:pt x="17590" y="6858"/>
                </a:cubicBezTo>
                <a:cubicBezTo>
                  <a:pt x="17601" y="6935"/>
                  <a:pt x="17625" y="6988"/>
                  <a:pt x="17685" y="7048"/>
                </a:cubicBezTo>
                <a:cubicBezTo>
                  <a:pt x="17715" y="7078"/>
                  <a:pt x="17837" y="7120"/>
                  <a:pt x="17875" y="7112"/>
                </a:cubicBezTo>
                <a:cubicBezTo>
                  <a:pt x="17968" y="7091"/>
                  <a:pt x="18033" y="7014"/>
                  <a:pt x="18098" y="6953"/>
                </a:cubicBezTo>
                <a:cubicBezTo>
                  <a:pt x="18192" y="6864"/>
                  <a:pt x="18274" y="6758"/>
                  <a:pt x="18320" y="6636"/>
                </a:cubicBezTo>
                <a:cubicBezTo>
                  <a:pt x="18372" y="6498"/>
                  <a:pt x="18433" y="6306"/>
                  <a:pt x="18447" y="6160"/>
                </a:cubicBezTo>
                <a:cubicBezTo>
                  <a:pt x="18466" y="5968"/>
                  <a:pt x="18478" y="5782"/>
                  <a:pt x="18478" y="5588"/>
                </a:cubicBezTo>
                <a:cubicBezTo>
                  <a:pt x="18478" y="5424"/>
                  <a:pt x="18452" y="5274"/>
                  <a:pt x="18447" y="5112"/>
                </a:cubicBezTo>
                <a:cubicBezTo>
                  <a:pt x="18443" y="4992"/>
                  <a:pt x="18415" y="4803"/>
                  <a:pt x="18352" y="4699"/>
                </a:cubicBezTo>
                <a:cubicBezTo>
                  <a:pt x="18341" y="4688"/>
                  <a:pt x="18331" y="4678"/>
                  <a:pt x="18320" y="4667"/>
                </a:cubicBezTo>
                <a:cubicBezTo>
                  <a:pt x="18242" y="4696"/>
                  <a:pt x="18239" y="4660"/>
                  <a:pt x="18193" y="4762"/>
                </a:cubicBezTo>
                <a:cubicBezTo>
                  <a:pt x="18114" y="4937"/>
                  <a:pt x="18082" y="5147"/>
                  <a:pt x="18066" y="5334"/>
                </a:cubicBezTo>
                <a:cubicBezTo>
                  <a:pt x="18051" y="5507"/>
                  <a:pt x="18072" y="5705"/>
                  <a:pt x="18098" y="5874"/>
                </a:cubicBezTo>
                <a:cubicBezTo>
                  <a:pt x="18127" y="6067"/>
                  <a:pt x="18149" y="6253"/>
                  <a:pt x="18193" y="6445"/>
                </a:cubicBezTo>
                <a:cubicBezTo>
                  <a:pt x="18228" y="6600"/>
                  <a:pt x="18273" y="6774"/>
                  <a:pt x="18320" y="6922"/>
                </a:cubicBezTo>
                <a:cubicBezTo>
                  <a:pt x="18330" y="6953"/>
                  <a:pt x="18380" y="7032"/>
                  <a:pt x="18415" y="7048"/>
                </a:cubicBezTo>
                <a:cubicBezTo>
                  <a:pt x="18415" y="7038"/>
                  <a:pt x="18415" y="7027"/>
                  <a:pt x="18415" y="7017"/>
                </a:cubicBezTo>
              </a:path>
              <a:path w="5367" h="2731">
                <a:moveTo>
                  <a:pt x="19082" y="5969"/>
                </a:moveTo>
                <a:cubicBezTo>
                  <a:pt x="19082" y="5913"/>
                  <a:pt x="19084" y="5919"/>
                  <a:pt x="19050" y="5874"/>
                </a:cubicBezTo>
                <a:cubicBezTo>
                  <a:pt x="19029" y="5902"/>
                  <a:pt x="18994" y="5958"/>
                  <a:pt x="19018" y="6001"/>
                </a:cubicBezTo>
                <a:cubicBezTo>
                  <a:pt x="19073" y="6097"/>
                  <a:pt x="19050" y="5935"/>
                  <a:pt x="19050" y="5906"/>
                </a:cubicBezTo>
                <a:cubicBezTo>
                  <a:pt x="19050" y="5937"/>
                  <a:pt x="19050" y="5948"/>
                  <a:pt x="19050" y="5969"/>
                </a:cubicBezTo>
              </a:path>
              <a:path w="5367" h="2731">
                <a:moveTo>
                  <a:pt x="19494" y="5302"/>
                </a:moveTo>
                <a:cubicBezTo>
                  <a:pt x="19524" y="5362"/>
                  <a:pt x="19540" y="5424"/>
                  <a:pt x="19558" y="5493"/>
                </a:cubicBezTo>
                <a:cubicBezTo>
                  <a:pt x="19595" y="5633"/>
                  <a:pt x="19639" y="5761"/>
                  <a:pt x="19653" y="5906"/>
                </a:cubicBezTo>
                <a:cubicBezTo>
                  <a:pt x="19669" y="6067"/>
                  <a:pt x="19685" y="6218"/>
                  <a:pt x="19685" y="6382"/>
                </a:cubicBezTo>
                <a:cubicBezTo>
                  <a:pt x="19685" y="6498"/>
                  <a:pt x="19685" y="6615"/>
                  <a:pt x="19685" y="6731"/>
                </a:cubicBezTo>
                <a:cubicBezTo>
                  <a:pt x="19685" y="6513"/>
                  <a:pt x="19654" y="6272"/>
                  <a:pt x="19717" y="6064"/>
                </a:cubicBezTo>
                <a:cubicBezTo>
                  <a:pt x="19753" y="5944"/>
                  <a:pt x="19789" y="5807"/>
                  <a:pt x="19812" y="5683"/>
                </a:cubicBezTo>
                <a:cubicBezTo>
                  <a:pt x="19830" y="5585"/>
                  <a:pt x="19835" y="5533"/>
                  <a:pt x="19907" y="5461"/>
                </a:cubicBezTo>
                <a:cubicBezTo>
                  <a:pt x="19941" y="5427"/>
                  <a:pt x="19950" y="5419"/>
                  <a:pt x="19971" y="5398"/>
                </a:cubicBezTo>
                <a:cubicBezTo>
                  <a:pt x="19995" y="5422"/>
                  <a:pt x="20054" y="5460"/>
                  <a:pt x="20066" y="5524"/>
                </a:cubicBezTo>
                <a:cubicBezTo>
                  <a:pt x="20087" y="5637"/>
                  <a:pt x="20100" y="5763"/>
                  <a:pt x="20130" y="5874"/>
                </a:cubicBezTo>
                <a:cubicBezTo>
                  <a:pt x="20159" y="5983"/>
                  <a:pt x="20208" y="6108"/>
                  <a:pt x="20225" y="6223"/>
                </a:cubicBezTo>
                <a:cubicBezTo>
                  <a:pt x="20240" y="6326"/>
                  <a:pt x="20245" y="6413"/>
                  <a:pt x="20288" y="6509"/>
                </a:cubicBezTo>
                <a:cubicBezTo>
                  <a:pt x="20288" y="6545"/>
                  <a:pt x="20291" y="6558"/>
                  <a:pt x="20320" y="6572"/>
                </a:cubicBezTo>
                <a:cubicBezTo>
                  <a:pt x="20313" y="6493"/>
                  <a:pt x="20291" y="6428"/>
                  <a:pt x="20288" y="6350"/>
                </a:cubicBezTo>
                <a:cubicBezTo>
                  <a:pt x="20282" y="6210"/>
                  <a:pt x="20256" y="6081"/>
                  <a:pt x="20256" y="5937"/>
                </a:cubicBezTo>
                <a:cubicBezTo>
                  <a:pt x="20256" y="5793"/>
                  <a:pt x="20252" y="5631"/>
                  <a:pt x="20288" y="5493"/>
                </a:cubicBezTo>
                <a:cubicBezTo>
                  <a:pt x="20319" y="5432"/>
                  <a:pt x="20329" y="5413"/>
                  <a:pt x="20320" y="5366"/>
                </a:cubicBezTo>
              </a:path>
              <a:path w="5367" h="2731">
                <a:moveTo>
                  <a:pt x="20955" y="5874"/>
                </a:moveTo>
                <a:cubicBezTo>
                  <a:pt x="20889" y="5874"/>
                  <a:pt x="20892" y="5871"/>
                  <a:pt x="20892" y="5937"/>
                </a:cubicBezTo>
                <a:cubicBezTo>
                  <a:pt x="20892" y="6013"/>
                  <a:pt x="20875" y="6095"/>
                  <a:pt x="20923" y="6128"/>
                </a:cubicBezTo>
                <a:cubicBezTo>
                  <a:pt x="20952" y="6070"/>
                  <a:pt x="20924" y="6046"/>
                  <a:pt x="20892" y="5969"/>
                </a:cubicBezTo>
                <a:cubicBezTo>
                  <a:pt x="20865" y="6036"/>
                  <a:pt x="20874" y="6076"/>
                  <a:pt x="20955" y="6096"/>
                </a:cubicBezTo>
              </a:path>
              <a:path w="5367" h="2731">
                <a:moveTo>
                  <a:pt x="21400" y="4382"/>
                </a:moveTo>
                <a:cubicBezTo>
                  <a:pt x="21433" y="4504"/>
                  <a:pt x="21412" y="4608"/>
                  <a:pt x="21431" y="4731"/>
                </a:cubicBezTo>
                <a:cubicBezTo>
                  <a:pt x="21467" y="4960"/>
                  <a:pt x="21489" y="5196"/>
                  <a:pt x="21495" y="5429"/>
                </a:cubicBezTo>
                <a:cubicBezTo>
                  <a:pt x="21500" y="5632"/>
                  <a:pt x="21512" y="5832"/>
                  <a:pt x="21526" y="6032"/>
                </a:cubicBezTo>
                <a:cubicBezTo>
                  <a:pt x="21539" y="6217"/>
                  <a:pt x="21530" y="6396"/>
                  <a:pt x="21558" y="6572"/>
                </a:cubicBezTo>
                <a:cubicBezTo>
                  <a:pt x="21558" y="6593"/>
                  <a:pt x="21558" y="6615"/>
                  <a:pt x="21558" y="6636"/>
                </a:cubicBezTo>
                <a:cubicBezTo>
                  <a:pt x="21550" y="6545"/>
                  <a:pt x="21529" y="6474"/>
                  <a:pt x="21526" y="6382"/>
                </a:cubicBezTo>
                <a:cubicBezTo>
                  <a:pt x="21520" y="6207"/>
                  <a:pt x="21544" y="6044"/>
                  <a:pt x="21558" y="5874"/>
                </a:cubicBezTo>
                <a:cubicBezTo>
                  <a:pt x="21573" y="5692"/>
                  <a:pt x="21609" y="5612"/>
                  <a:pt x="21685" y="5461"/>
                </a:cubicBezTo>
                <a:cubicBezTo>
                  <a:pt x="21732" y="5367"/>
                  <a:pt x="21763" y="5274"/>
                  <a:pt x="21876" y="5239"/>
                </a:cubicBezTo>
                <a:cubicBezTo>
                  <a:pt x="21959" y="5213"/>
                  <a:pt x="22008" y="5305"/>
                  <a:pt x="22034" y="5366"/>
                </a:cubicBezTo>
                <a:cubicBezTo>
                  <a:pt x="22119" y="5562"/>
                  <a:pt x="22125" y="5763"/>
                  <a:pt x="22162" y="5969"/>
                </a:cubicBezTo>
                <a:cubicBezTo>
                  <a:pt x="22196" y="6159"/>
                  <a:pt x="22236" y="6354"/>
                  <a:pt x="22288" y="6540"/>
                </a:cubicBezTo>
                <a:cubicBezTo>
                  <a:pt x="22320" y="6655"/>
                  <a:pt x="22385" y="6797"/>
                  <a:pt x="22479" y="6858"/>
                </a:cubicBezTo>
                <a:cubicBezTo>
                  <a:pt x="22548" y="6903"/>
                  <a:pt x="22613" y="6947"/>
                  <a:pt x="22701" y="6922"/>
                </a:cubicBezTo>
                <a:cubicBezTo>
                  <a:pt x="22812" y="6891"/>
                  <a:pt x="22849" y="6789"/>
                  <a:pt x="22892" y="6699"/>
                </a:cubicBezTo>
                <a:cubicBezTo>
                  <a:pt x="22903" y="6678"/>
                  <a:pt x="22913" y="6657"/>
                  <a:pt x="22924" y="6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Ink 8"/>
          <p:cNvSpPr/>
          <p:nvPr/>
        </p:nvSpPr>
        <p:spPr>
          <a:xfrm>
            <a:off x="7383600" y="2354400"/>
            <a:ext cx="1692000" cy="1784160"/>
          </a:xfrm>
          <a:custGeom>
            <a:avLst/>
            <a:gdLst/>
            <a:ahLst/>
            <a:rect l="l" t="t" r="r" b="b"/>
            <a:pathLst>
              <a:path w="4701" h="4955">
                <a:moveTo>
                  <a:pt x="20733" y="7017"/>
                </a:moveTo>
                <a:cubicBezTo>
                  <a:pt x="20733" y="7027"/>
                  <a:pt x="20733" y="7038"/>
                  <a:pt x="20733" y="7048"/>
                </a:cubicBezTo>
              </a:path>
              <a:path w="4701" h="4955">
                <a:moveTo>
                  <a:pt x="20701" y="7271"/>
                </a:moveTo>
                <a:cubicBezTo>
                  <a:pt x="20701" y="7497"/>
                  <a:pt x="20688" y="7716"/>
                  <a:pt x="20669" y="7938"/>
                </a:cubicBezTo>
                <a:cubicBezTo>
                  <a:pt x="20653" y="8126"/>
                  <a:pt x="20650" y="8322"/>
                  <a:pt x="20638" y="8509"/>
                </a:cubicBezTo>
                <a:cubicBezTo>
                  <a:pt x="20620" y="8774"/>
                  <a:pt x="20626" y="9038"/>
                  <a:pt x="20606" y="9303"/>
                </a:cubicBezTo>
                <a:cubicBezTo>
                  <a:pt x="20574" y="9726"/>
                  <a:pt x="20615" y="10153"/>
                  <a:pt x="20574" y="10573"/>
                </a:cubicBezTo>
                <a:cubicBezTo>
                  <a:pt x="20562" y="10699"/>
                  <a:pt x="20554" y="10831"/>
                  <a:pt x="20542" y="10954"/>
                </a:cubicBezTo>
                <a:cubicBezTo>
                  <a:pt x="20533" y="11044"/>
                  <a:pt x="20524" y="11133"/>
                  <a:pt x="20510" y="11208"/>
                </a:cubicBezTo>
                <a:cubicBezTo>
                  <a:pt x="20549" y="11160"/>
                  <a:pt x="20574" y="11128"/>
                  <a:pt x="20606" y="11081"/>
                </a:cubicBezTo>
                <a:cubicBezTo>
                  <a:pt x="20654" y="11010"/>
                  <a:pt x="20693" y="10946"/>
                  <a:pt x="20764" y="10890"/>
                </a:cubicBezTo>
                <a:cubicBezTo>
                  <a:pt x="20824" y="10844"/>
                  <a:pt x="20886" y="10796"/>
                  <a:pt x="20955" y="10763"/>
                </a:cubicBezTo>
                <a:cubicBezTo>
                  <a:pt x="21012" y="10736"/>
                  <a:pt x="21077" y="10709"/>
                  <a:pt x="21146" y="10700"/>
                </a:cubicBezTo>
                <a:cubicBezTo>
                  <a:pt x="21297" y="10681"/>
                  <a:pt x="21460" y="10715"/>
                  <a:pt x="21590" y="10732"/>
                </a:cubicBezTo>
                <a:cubicBezTo>
                  <a:pt x="21622" y="10732"/>
                  <a:pt x="21633" y="10732"/>
                  <a:pt x="21654" y="10732"/>
                </a:cubicBezTo>
                <a:cubicBezTo>
                  <a:pt x="21637" y="10658"/>
                  <a:pt x="21637" y="10585"/>
                  <a:pt x="21622" y="10509"/>
                </a:cubicBezTo>
                <a:cubicBezTo>
                  <a:pt x="21595" y="10375"/>
                  <a:pt x="21572" y="10234"/>
                  <a:pt x="21558" y="10096"/>
                </a:cubicBezTo>
                <a:cubicBezTo>
                  <a:pt x="21527" y="9791"/>
                  <a:pt x="21569" y="9477"/>
                  <a:pt x="21590" y="9176"/>
                </a:cubicBezTo>
                <a:cubicBezTo>
                  <a:pt x="21604" y="8975"/>
                  <a:pt x="21617" y="8772"/>
                  <a:pt x="21622" y="8572"/>
                </a:cubicBezTo>
                <a:cubicBezTo>
                  <a:pt x="21626" y="8391"/>
                  <a:pt x="21646" y="8210"/>
                  <a:pt x="21685" y="8033"/>
                </a:cubicBezTo>
                <a:cubicBezTo>
                  <a:pt x="21722" y="7864"/>
                  <a:pt x="21717" y="7692"/>
                  <a:pt x="21749" y="7525"/>
                </a:cubicBezTo>
                <a:cubicBezTo>
                  <a:pt x="21770" y="7413"/>
                  <a:pt x="21802" y="7284"/>
                  <a:pt x="21812" y="7176"/>
                </a:cubicBezTo>
                <a:cubicBezTo>
                  <a:pt x="21822" y="7063"/>
                  <a:pt x="21828" y="6966"/>
                  <a:pt x="21844" y="6858"/>
                </a:cubicBezTo>
                <a:cubicBezTo>
                  <a:pt x="21844" y="6847"/>
                  <a:pt x="21844" y="6837"/>
                  <a:pt x="21844" y="6826"/>
                </a:cubicBezTo>
                <a:cubicBezTo>
                  <a:pt x="21795" y="6843"/>
                  <a:pt x="21764" y="6869"/>
                  <a:pt x="21717" y="6890"/>
                </a:cubicBezTo>
                <a:cubicBezTo>
                  <a:pt x="21655" y="6918"/>
                  <a:pt x="21568" y="6945"/>
                  <a:pt x="21495" y="6953"/>
                </a:cubicBezTo>
                <a:cubicBezTo>
                  <a:pt x="21371" y="6967"/>
                  <a:pt x="21234" y="6975"/>
                  <a:pt x="21114" y="6985"/>
                </a:cubicBezTo>
                <a:cubicBezTo>
                  <a:pt x="20995" y="6995"/>
                  <a:pt x="20938" y="7004"/>
                  <a:pt x="20828" y="7048"/>
                </a:cubicBezTo>
              </a:path>
              <a:path w="4701" h="4955">
                <a:moveTo>
                  <a:pt x="24003" y="6731"/>
                </a:moveTo>
                <a:cubicBezTo>
                  <a:pt x="24017" y="6796"/>
                  <a:pt x="24032" y="6813"/>
                  <a:pt x="24035" y="6890"/>
                </a:cubicBezTo>
                <a:cubicBezTo>
                  <a:pt x="24040" y="7026"/>
                  <a:pt x="24017" y="7142"/>
                  <a:pt x="24003" y="7271"/>
                </a:cubicBezTo>
                <a:cubicBezTo>
                  <a:pt x="23960" y="7654"/>
                  <a:pt x="24009" y="8067"/>
                  <a:pt x="24035" y="8446"/>
                </a:cubicBezTo>
                <a:cubicBezTo>
                  <a:pt x="24049" y="8656"/>
                  <a:pt x="24062" y="8871"/>
                  <a:pt x="24066" y="9080"/>
                </a:cubicBezTo>
                <a:cubicBezTo>
                  <a:pt x="24071" y="9326"/>
                  <a:pt x="24093" y="9566"/>
                  <a:pt x="24098" y="9811"/>
                </a:cubicBezTo>
                <a:cubicBezTo>
                  <a:pt x="24103" y="10055"/>
                  <a:pt x="24066" y="10295"/>
                  <a:pt x="24066" y="10541"/>
                </a:cubicBezTo>
                <a:cubicBezTo>
                  <a:pt x="24066" y="10746"/>
                  <a:pt x="24041" y="10941"/>
                  <a:pt x="24035" y="11144"/>
                </a:cubicBezTo>
                <a:cubicBezTo>
                  <a:pt x="24031" y="11259"/>
                  <a:pt x="24019" y="11353"/>
                  <a:pt x="24003" y="11462"/>
                </a:cubicBezTo>
                <a:cubicBezTo>
                  <a:pt x="24003" y="11473"/>
                  <a:pt x="24003" y="11483"/>
                  <a:pt x="24003" y="11494"/>
                </a:cubicBezTo>
                <a:cubicBezTo>
                  <a:pt x="24021" y="11439"/>
                  <a:pt x="24045" y="11396"/>
                  <a:pt x="24066" y="11335"/>
                </a:cubicBezTo>
                <a:cubicBezTo>
                  <a:pt x="24091" y="11263"/>
                  <a:pt x="24118" y="11208"/>
                  <a:pt x="24162" y="11144"/>
                </a:cubicBezTo>
                <a:cubicBezTo>
                  <a:pt x="24238" y="11034"/>
                  <a:pt x="24309" y="10968"/>
                  <a:pt x="24416" y="10890"/>
                </a:cubicBezTo>
                <a:cubicBezTo>
                  <a:pt x="24480" y="10843"/>
                  <a:pt x="24558" y="10806"/>
                  <a:pt x="24638" y="10795"/>
                </a:cubicBezTo>
                <a:cubicBezTo>
                  <a:pt x="24735" y="10781"/>
                  <a:pt x="24814" y="10804"/>
                  <a:pt x="24892" y="10827"/>
                </a:cubicBezTo>
                <a:cubicBezTo>
                  <a:pt x="24944" y="10842"/>
                  <a:pt x="25002" y="10838"/>
                  <a:pt x="25051" y="10858"/>
                </a:cubicBezTo>
                <a:cubicBezTo>
                  <a:pt x="25079" y="10887"/>
                  <a:pt x="25085" y="10898"/>
                  <a:pt x="25114" y="10890"/>
                </a:cubicBezTo>
                <a:cubicBezTo>
                  <a:pt x="25095" y="10818"/>
                  <a:pt x="25071" y="10751"/>
                  <a:pt x="25051" y="10668"/>
                </a:cubicBezTo>
                <a:cubicBezTo>
                  <a:pt x="25020" y="10542"/>
                  <a:pt x="25006" y="10415"/>
                  <a:pt x="24987" y="10287"/>
                </a:cubicBezTo>
                <a:cubicBezTo>
                  <a:pt x="24950" y="10037"/>
                  <a:pt x="24930" y="9778"/>
                  <a:pt x="24924" y="9525"/>
                </a:cubicBezTo>
                <a:cubicBezTo>
                  <a:pt x="24919" y="9313"/>
                  <a:pt x="24956" y="9105"/>
                  <a:pt x="24956" y="8890"/>
                </a:cubicBezTo>
                <a:cubicBezTo>
                  <a:pt x="24956" y="8675"/>
                  <a:pt x="24964" y="8437"/>
                  <a:pt x="24987" y="8223"/>
                </a:cubicBezTo>
                <a:cubicBezTo>
                  <a:pt x="25009" y="8021"/>
                  <a:pt x="25064" y="7822"/>
                  <a:pt x="25082" y="7620"/>
                </a:cubicBezTo>
                <a:cubicBezTo>
                  <a:pt x="25098" y="7438"/>
                  <a:pt x="25100" y="7258"/>
                  <a:pt x="25146" y="7080"/>
                </a:cubicBezTo>
                <a:cubicBezTo>
                  <a:pt x="25174" y="6972"/>
                  <a:pt x="25202" y="6837"/>
                  <a:pt x="25210" y="6731"/>
                </a:cubicBezTo>
                <a:cubicBezTo>
                  <a:pt x="25215" y="6668"/>
                  <a:pt x="25206" y="6603"/>
                  <a:pt x="25210" y="6540"/>
                </a:cubicBezTo>
                <a:cubicBezTo>
                  <a:pt x="25172" y="6556"/>
                  <a:pt x="25128" y="6597"/>
                  <a:pt x="25114" y="6604"/>
                </a:cubicBezTo>
                <a:cubicBezTo>
                  <a:pt x="25036" y="6643"/>
                  <a:pt x="25008" y="6692"/>
                  <a:pt x="24924" y="6731"/>
                </a:cubicBezTo>
                <a:cubicBezTo>
                  <a:pt x="24860" y="6761"/>
                  <a:pt x="24711" y="6813"/>
                  <a:pt x="24638" y="6826"/>
                </a:cubicBezTo>
                <a:cubicBezTo>
                  <a:pt x="24517" y="6848"/>
                  <a:pt x="24379" y="6879"/>
                  <a:pt x="24257" y="6890"/>
                </a:cubicBezTo>
                <a:cubicBezTo>
                  <a:pt x="24139" y="6890"/>
                  <a:pt x="24105" y="6887"/>
                  <a:pt x="24035" y="6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9"/>
          <p:cNvSpPr/>
          <p:nvPr/>
        </p:nvSpPr>
        <p:spPr>
          <a:xfrm>
            <a:off x="5668920" y="2354400"/>
            <a:ext cx="3360960" cy="3281400"/>
          </a:xfrm>
          <a:custGeom>
            <a:avLst/>
            <a:gdLst/>
            <a:ahLst/>
            <a:rect l="l" t="t" r="r" b="b"/>
            <a:pathLst>
              <a:path w="9335" h="9114">
                <a:moveTo>
                  <a:pt x="15970" y="8509"/>
                </a:moveTo>
                <a:cubicBezTo>
                  <a:pt x="15976" y="8457"/>
                  <a:pt x="15981" y="8394"/>
                  <a:pt x="16002" y="8350"/>
                </a:cubicBezTo>
                <a:cubicBezTo>
                  <a:pt x="16044" y="8263"/>
                  <a:pt x="16116" y="8183"/>
                  <a:pt x="16161" y="8096"/>
                </a:cubicBezTo>
                <a:cubicBezTo>
                  <a:pt x="16194" y="8034"/>
                  <a:pt x="16231" y="7982"/>
                  <a:pt x="16288" y="7938"/>
                </a:cubicBezTo>
                <a:cubicBezTo>
                  <a:pt x="16318" y="7915"/>
                  <a:pt x="16370" y="7884"/>
                  <a:pt x="16415" y="7906"/>
                </a:cubicBezTo>
                <a:cubicBezTo>
                  <a:pt x="16477" y="7937"/>
                  <a:pt x="16499" y="8037"/>
                  <a:pt x="16510" y="8096"/>
                </a:cubicBezTo>
                <a:cubicBezTo>
                  <a:pt x="16532" y="8209"/>
                  <a:pt x="16471" y="8397"/>
                  <a:pt x="16446" y="8509"/>
                </a:cubicBezTo>
                <a:cubicBezTo>
                  <a:pt x="16404" y="8696"/>
                  <a:pt x="16341" y="8869"/>
                  <a:pt x="16288" y="9049"/>
                </a:cubicBezTo>
                <a:cubicBezTo>
                  <a:pt x="16224" y="9267"/>
                  <a:pt x="16193" y="9497"/>
                  <a:pt x="16129" y="9716"/>
                </a:cubicBezTo>
                <a:cubicBezTo>
                  <a:pt x="16098" y="9822"/>
                  <a:pt x="16025" y="9929"/>
                  <a:pt x="16002" y="10033"/>
                </a:cubicBezTo>
                <a:cubicBezTo>
                  <a:pt x="15974" y="10157"/>
                  <a:pt x="16005" y="10076"/>
                  <a:pt x="15970" y="10065"/>
                </a:cubicBezTo>
                <a:cubicBezTo>
                  <a:pt x="15987" y="9997"/>
                  <a:pt x="16017" y="9894"/>
                  <a:pt x="16066" y="9842"/>
                </a:cubicBezTo>
                <a:cubicBezTo>
                  <a:pt x="16116" y="9790"/>
                  <a:pt x="16157" y="9783"/>
                  <a:pt x="16224" y="9779"/>
                </a:cubicBezTo>
                <a:cubicBezTo>
                  <a:pt x="16300" y="9775"/>
                  <a:pt x="16336" y="9817"/>
                  <a:pt x="16383" y="9874"/>
                </a:cubicBezTo>
                <a:cubicBezTo>
                  <a:pt x="16436" y="9939"/>
                  <a:pt x="16458" y="10030"/>
                  <a:pt x="16510" y="10096"/>
                </a:cubicBezTo>
                <a:cubicBezTo>
                  <a:pt x="16545" y="10140"/>
                  <a:pt x="16613" y="10224"/>
                  <a:pt x="16669" y="10224"/>
                </a:cubicBezTo>
                <a:cubicBezTo>
                  <a:pt x="16701" y="10224"/>
                  <a:pt x="16779" y="10190"/>
                  <a:pt x="16796" y="10160"/>
                </a:cubicBezTo>
                <a:cubicBezTo>
                  <a:pt x="16796" y="10139"/>
                  <a:pt x="16796" y="10117"/>
                  <a:pt x="16796" y="10096"/>
                </a:cubicBezTo>
              </a:path>
              <a:path w="9335" h="9114">
                <a:moveTo>
                  <a:pt x="16796" y="8795"/>
                </a:moveTo>
                <a:cubicBezTo>
                  <a:pt x="16839" y="8851"/>
                  <a:pt x="16877" y="8942"/>
                  <a:pt x="16891" y="9017"/>
                </a:cubicBezTo>
                <a:cubicBezTo>
                  <a:pt x="16908" y="9105"/>
                  <a:pt x="16964" y="9254"/>
                  <a:pt x="17018" y="9334"/>
                </a:cubicBezTo>
                <a:cubicBezTo>
                  <a:pt x="17100" y="9456"/>
                  <a:pt x="17163" y="9599"/>
                  <a:pt x="17208" y="9747"/>
                </a:cubicBezTo>
                <a:cubicBezTo>
                  <a:pt x="17248" y="9880"/>
                  <a:pt x="17285" y="10005"/>
                  <a:pt x="17336" y="10128"/>
                </a:cubicBezTo>
                <a:cubicBezTo>
                  <a:pt x="17360" y="10187"/>
                  <a:pt x="17355" y="10241"/>
                  <a:pt x="17399" y="10255"/>
                </a:cubicBezTo>
              </a:path>
              <a:path w="9335" h="9114">
                <a:moveTo>
                  <a:pt x="17240" y="8668"/>
                </a:moveTo>
                <a:cubicBezTo>
                  <a:pt x="17240" y="8758"/>
                  <a:pt x="17216" y="8836"/>
                  <a:pt x="17208" y="8922"/>
                </a:cubicBezTo>
                <a:cubicBezTo>
                  <a:pt x="17191" y="9101"/>
                  <a:pt x="17168" y="9287"/>
                  <a:pt x="17113" y="9462"/>
                </a:cubicBezTo>
                <a:cubicBezTo>
                  <a:pt x="17046" y="9672"/>
                  <a:pt x="17029" y="9850"/>
                  <a:pt x="16986" y="10065"/>
                </a:cubicBezTo>
                <a:cubicBezTo>
                  <a:pt x="16956" y="10214"/>
                  <a:pt x="16911" y="10361"/>
                  <a:pt x="16891" y="10509"/>
                </a:cubicBezTo>
                <a:cubicBezTo>
                  <a:pt x="16882" y="10575"/>
                  <a:pt x="16889" y="10577"/>
                  <a:pt x="16859" y="10636"/>
                </a:cubicBezTo>
              </a:path>
              <a:path w="9335" h="9114">
                <a:moveTo>
                  <a:pt x="17558" y="8160"/>
                </a:moveTo>
                <a:cubicBezTo>
                  <a:pt x="17543" y="8206"/>
                  <a:pt x="17501" y="8190"/>
                  <a:pt x="17494" y="8255"/>
                </a:cubicBezTo>
                <a:cubicBezTo>
                  <a:pt x="17487" y="8321"/>
                  <a:pt x="17462" y="8366"/>
                  <a:pt x="17462" y="8446"/>
                </a:cubicBezTo>
                <a:cubicBezTo>
                  <a:pt x="17462" y="8544"/>
                  <a:pt x="17471" y="8609"/>
                  <a:pt x="17494" y="8700"/>
                </a:cubicBezTo>
                <a:cubicBezTo>
                  <a:pt x="17499" y="8720"/>
                  <a:pt x="17548" y="8782"/>
                  <a:pt x="17590" y="8763"/>
                </a:cubicBezTo>
                <a:cubicBezTo>
                  <a:pt x="17658" y="8732"/>
                  <a:pt x="17653" y="8711"/>
                  <a:pt x="17653" y="8636"/>
                </a:cubicBezTo>
                <a:cubicBezTo>
                  <a:pt x="17653" y="8536"/>
                  <a:pt x="17659" y="8483"/>
                  <a:pt x="17653" y="8382"/>
                </a:cubicBezTo>
                <a:cubicBezTo>
                  <a:pt x="17650" y="8334"/>
                  <a:pt x="17663" y="8220"/>
                  <a:pt x="17621" y="8192"/>
                </a:cubicBezTo>
                <a:cubicBezTo>
                  <a:pt x="17590" y="8192"/>
                  <a:pt x="17579" y="8192"/>
                  <a:pt x="17590" y="8160"/>
                </a:cubicBezTo>
              </a:path>
              <a:path w="9335" h="9114">
                <a:moveTo>
                  <a:pt x="17939" y="8890"/>
                </a:moveTo>
                <a:cubicBezTo>
                  <a:pt x="17939" y="9012"/>
                  <a:pt x="17956" y="9125"/>
                  <a:pt x="17970" y="9239"/>
                </a:cubicBezTo>
                <a:cubicBezTo>
                  <a:pt x="17986" y="9368"/>
                  <a:pt x="17999" y="9491"/>
                  <a:pt x="18034" y="9620"/>
                </a:cubicBezTo>
                <a:cubicBezTo>
                  <a:pt x="18067" y="9743"/>
                  <a:pt x="18084" y="9850"/>
                  <a:pt x="18129" y="9970"/>
                </a:cubicBezTo>
                <a:cubicBezTo>
                  <a:pt x="18154" y="10036"/>
                  <a:pt x="18208" y="10128"/>
                  <a:pt x="18224" y="10160"/>
                </a:cubicBezTo>
                <a:cubicBezTo>
                  <a:pt x="18285" y="10100"/>
                  <a:pt x="18295" y="10130"/>
                  <a:pt x="18320" y="10001"/>
                </a:cubicBezTo>
                <a:cubicBezTo>
                  <a:pt x="18386" y="9657"/>
                  <a:pt x="18320" y="9242"/>
                  <a:pt x="18320" y="8890"/>
                </a:cubicBezTo>
                <a:cubicBezTo>
                  <a:pt x="18320" y="8943"/>
                  <a:pt x="18306" y="8934"/>
                  <a:pt x="18320" y="8985"/>
                </a:cubicBezTo>
                <a:cubicBezTo>
                  <a:pt x="18357" y="9118"/>
                  <a:pt x="18363" y="9258"/>
                  <a:pt x="18383" y="9398"/>
                </a:cubicBezTo>
                <a:cubicBezTo>
                  <a:pt x="18414" y="9622"/>
                  <a:pt x="18443" y="9843"/>
                  <a:pt x="18478" y="10065"/>
                </a:cubicBezTo>
                <a:cubicBezTo>
                  <a:pt x="18520" y="10329"/>
                  <a:pt x="18560" y="10592"/>
                  <a:pt x="18574" y="10858"/>
                </a:cubicBezTo>
                <a:cubicBezTo>
                  <a:pt x="18589" y="11137"/>
                  <a:pt x="18597" y="11443"/>
                  <a:pt x="18542" y="11716"/>
                </a:cubicBezTo>
                <a:cubicBezTo>
                  <a:pt x="18522" y="11817"/>
                  <a:pt x="18499" y="12019"/>
                  <a:pt x="18415" y="12097"/>
                </a:cubicBezTo>
                <a:cubicBezTo>
                  <a:pt x="18359" y="12124"/>
                  <a:pt x="18344" y="12129"/>
                  <a:pt x="18320" y="12160"/>
                </a:cubicBezTo>
                <a:cubicBezTo>
                  <a:pt x="18197" y="12083"/>
                  <a:pt x="18187" y="12034"/>
                  <a:pt x="18129" y="11906"/>
                </a:cubicBezTo>
                <a:cubicBezTo>
                  <a:pt x="18056" y="11744"/>
                  <a:pt x="18043" y="11639"/>
                  <a:pt x="18034" y="11462"/>
                </a:cubicBezTo>
              </a:path>
              <a:path w="9335" h="9114">
                <a:moveTo>
                  <a:pt x="18510" y="8033"/>
                </a:moveTo>
                <a:cubicBezTo>
                  <a:pt x="18486" y="7961"/>
                  <a:pt x="18482" y="8023"/>
                  <a:pt x="18510" y="7938"/>
                </a:cubicBezTo>
                <a:cubicBezTo>
                  <a:pt x="18529" y="7883"/>
                  <a:pt x="18582" y="7863"/>
                  <a:pt x="18606" y="7810"/>
                </a:cubicBezTo>
                <a:cubicBezTo>
                  <a:pt x="18606" y="7779"/>
                  <a:pt x="18606" y="7769"/>
                  <a:pt x="18637" y="7779"/>
                </a:cubicBezTo>
                <a:cubicBezTo>
                  <a:pt x="18678" y="7792"/>
                  <a:pt x="18721" y="7874"/>
                  <a:pt x="18701" y="7938"/>
                </a:cubicBezTo>
                <a:cubicBezTo>
                  <a:pt x="18684" y="7991"/>
                  <a:pt x="18660" y="8070"/>
                  <a:pt x="18637" y="8128"/>
                </a:cubicBezTo>
                <a:cubicBezTo>
                  <a:pt x="18611" y="8194"/>
                  <a:pt x="18620" y="8208"/>
                  <a:pt x="18574" y="8223"/>
                </a:cubicBezTo>
                <a:cubicBezTo>
                  <a:pt x="18581" y="8196"/>
                  <a:pt x="18622" y="8076"/>
                  <a:pt x="18637" y="8064"/>
                </a:cubicBezTo>
                <a:cubicBezTo>
                  <a:pt x="18693" y="8017"/>
                  <a:pt x="18720" y="8110"/>
                  <a:pt x="18732" y="8128"/>
                </a:cubicBezTo>
                <a:cubicBezTo>
                  <a:pt x="18778" y="8198"/>
                  <a:pt x="18808" y="8230"/>
                  <a:pt x="18828" y="8318"/>
                </a:cubicBezTo>
                <a:cubicBezTo>
                  <a:pt x="18840" y="8370"/>
                  <a:pt x="18786" y="8493"/>
                  <a:pt x="18764" y="8541"/>
                </a:cubicBezTo>
                <a:cubicBezTo>
                  <a:pt x="18741" y="8591"/>
                  <a:pt x="18676" y="8680"/>
                  <a:pt x="18606" y="8668"/>
                </a:cubicBezTo>
                <a:cubicBezTo>
                  <a:pt x="18595" y="8657"/>
                  <a:pt x="18585" y="8647"/>
                  <a:pt x="18574" y="8636"/>
                </a:cubicBezTo>
              </a:path>
              <a:path w="9335" h="9114">
                <a:moveTo>
                  <a:pt x="19368" y="8954"/>
                </a:moveTo>
                <a:cubicBezTo>
                  <a:pt x="19318" y="9019"/>
                  <a:pt x="19328" y="9022"/>
                  <a:pt x="19336" y="9080"/>
                </a:cubicBezTo>
                <a:cubicBezTo>
                  <a:pt x="19354" y="9203"/>
                  <a:pt x="19395" y="9082"/>
                  <a:pt x="19399" y="9049"/>
                </a:cubicBezTo>
                <a:cubicBezTo>
                  <a:pt x="19399" y="9017"/>
                  <a:pt x="19399" y="9006"/>
                  <a:pt x="19399" y="8985"/>
                </a:cubicBezTo>
                <a:cubicBezTo>
                  <a:pt x="19334" y="8953"/>
                  <a:pt x="19336" y="8977"/>
                  <a:pt x="19336" y="9049"/>
                </a:cubicBezTo>
                <a:cubicBezTo>
                  <a:pt x="19336" y="9112"/>
                  <a:pt x="19329" y="9118"/>
                  <a:pt x="19368" y="9144"/>
                </a:cubicBezTo>
                <a:cubicBezTo>
                  <a:pt x="19381" y="9063"/>
                  <a:pt x="19418" y="9085"/>
                  <a:pt x="19368" y="9017"/>
                </a:cubicBezTo>
                <a:cubicBezTo>
                  <a:pt x="19331" y="8907"/>
                  <a:pt x="19346" y="9066"/>
                  <a:pt x="19336" y="9080"/>
                </a:cubicBezTo>
                <a:cubicBezTo>
                  <a:pt x="19317" y="9106"/>
                  <a:pt x="19304" y="9142"/>
                  <a:pt x="19304" y="9208"/>
                </a:cubicBezTo>
              </a:path>
              <a:path w="9335" h="9114">
                <a:moveTo>
                  <a:pt x="20193" y="7620"/>
                </a:moveTo>
                <a:cubicBezTo>
                  <a:pt x="20193" y="7753"/>
                  <a:pt x="20175" y="7872"/>
                  <a:pt x="20161" y="8001"/>
                </a:cubicBezTo>
                <a:cubicBezTo>
                  <a:pt x="20144" y="8157"/>
                  <a:pt x="20134" y="8321"/>
                  <a:pt x="20130" y="8477"/>
                </a:cubicBezTo>
                <a:cubicBezTo>
                  <a:pt x="20126" y="8626"/>
                  <a:pt x="20107" y="8779"/>
                  <a:pt x="20066" y="8922"/>
                </a:cubicBezTo>
                <a:cubicBezTo>
                  <a:pt x="20040" y="9011"/>
                  <a:pt x="20037" y="9124"/>
                  <a:pt x="20002" y="9208"/>
                </a:cubicBezTo>
                <a:cubicBezTo>
                  <a:pt x="19992" y="9218"/>
                  <a:pt x="19981" y="9229"/>
                  <a:pt x="19971" y="9239"/>
                </a:cubicBezTo>
                <a:cubicBezTo>
                  <a:pt x="20001" y="9185"/>
                  <a:pt x="19982" y="9113"/>
                  <a:pt x="20034" y="9080"/>
                </a:cubicBezTo>
                <a:cubicBezTo>
                  <a:pt x="20091" y="9044"/>
                  <a:pt x="20158" y="9036"/>
                  <a:pt x="20225" y="9049"/>
                </a:cubicBezTo>
                <a:cubicBezTo>
                  <a:pt x="20226" y="9049"/>
                  <a:pt x="20348" y="9077"/>
                  <a:pt x="20352" y="9080"/>
                </a:cubicBezTo>
                <a:cubicBezTo>
                  <a:pt x="20405" y="9113"/>
                  <a:pt x="20409" y="9132"/>
                  <a:pt x="20479" y="9144"/>
                </a:cubicBezTo>
                <a:cubicBezTo>
                  <a:pt x="20489" y="9144"/>
                  <a:pt x="20500" y="9144"/>
                  <a:pt x="20510" y="9144"/>
                </a:cubicBezTo>
                <a:cubicBezTo>
                  <a:pt x="20533" y="9063"/>
                  <a:pt x="20560" y="9082"/>
                  <a:pt x="20574" y="8985"/>
                </a:cubicBezTo>
              </a:path>
              <a:path w="9335" h="9114">
                <a:moveTo>
                  <a:pt x="20479" y="7684"/>
                </a:moveTo>
                <a:cubicBezTo>
                  <a:pt x="20479" y="7962"/>
                  <a:pt x="20492" y="8234"/>
                  <a:pt x="20510" y="8509"/>
                </a:cubicBezTo>
                <a:cubicBezTo>
                  <a:pt x="20524" y="8731"/>
                  <a:pt x="20527" y="8956"/>
                  <a:pt x="20542" y="9176"/>
                </a:cubicBezTo>
                <a:cubicBezTo>
                  <a:pt x="20562" y="9484"/>
                  <a:pt x="20529" y="9798"/>
                  <a:pt x="20574" y="10096"/>
                </a:cubicBezTo>
                <a:cubicBezTo>
                  <a:pt x="20574" y="10149"/>
                  <a:pt x="20574" y="10160"/>
                  <a:pt x="20574" y="10192"/>
                </a:cubicBezTo>
              </a:path>
              <a:path w="9335" h="9114">
                <a:moveTo>
                  <a:pt x="20733" y="8572"/>
                </a:moveTo>
                <a:cubicBezTo>
                  <a:pt x="20751" y="8604"/>
                  <a:pt x="20785" y="8689"/>
                  <a:pt x="20796" y="8763"/>
                </a:cubicBezTo>
                <a:cubicBezTo>
                  <a:pt x="20815" y="8891"/>
                  <a:pt x="20876" y="9018"/>
                  <a:pt x="20892" y="9144"/>
                </a:cubicBezTo>
                <a:cubicBezTo>
                  <a:pt x="20913" y="9308"/>
                  <a:pt x="20946" y="9456"/>
                  <a:pt x="20987" y="9620"/>
                </a:cubicBezTo>
                <a:cubicBezTo>
                  <a:pt x="21021" y="9757"/>
                  <a:pt x="21050" y="9899"/>
                  <a:pt x="21082" y="10033"/>
                </a:cubicBezTo>
                <a:cubicBezTo>
                  <a:pt x="21103" y="10121"/>
                  <a:pt x="21129" y="10202"/>
                  <a:pt x="21146" y="10287"/>
                </a:cubicBezTo>
              </a:path>
              <a:path w="9335" h="9114">
                <a:moveTo>
                  <a:pt x="21177" y="8477"/>
                </a:moveTo>
                <a:cubicBezTo>
                  <a:pt x="21155" y="8522"/>
                  <a:pt x="21092" y="8643"/>
                  <a:pt x="21082" y="8731"/>
                </a:cubicBezTo>
                <a:cubicBezTo>
                  <a:pt x="21059" y="8924"/>
                  <a:pt x="21022" y="9109"/>
                  <a:pt x="20987" y="9303"/>
                </a:cubicBezTo>
                <a:cubicBezTo>
                  <a:pt x="20946" y="9527"/>
                  <a:pt x="20921" y="9747"/>
                  <a:pt x="20892" y="9970"/>
                </a:cubicBezTo>
                <a:cubicBezTo>
                  <a:pt x="20871" y="10129"/>
                  <a:pt x="20836" y="10326"/>
                  <a:pt x="20796" y="10478"/>
                </a:cubicBezTo>
                <a:cubicBezTo>
                  <a:pt x="20770" y="10530"/>
                  <a:pt x="20759" y="10538"/>
                  <a:pt x="20764" y="10573"/>
                </a:cubicBezTo>
              </a:path>
              <a:path w="9335" h="9114">
                <a:moveTo>
                  <a:pt x="21177" y="8001"/>
                </a:moveTo>
                <a:cubicBezTo>
                  <a:pt x="21193" y="7936"/>
                  <a:pt x="21209" y="7920"/>
                  <a:pt x="21209" y="7842"/>
                </a:cubicBezTo>
                <a:cubicBezTo>
                  <a:pt x="21209" y="7757"/>
                  <a:pt x="21281" y="7707"/>
                  <a:pt x="21336" y="7652"/>
                </a:cubicBezTo>
                <a:cubicBezTo>
                  <a:pt x="21373" y="7615"/>
                  <a:pt x="21385" y="7600"/>
                  <a:pt x="21431" y="7588"/>
                </a:cubicBezTo>
                <a:cubicBezTo>
                  <a:pt x="21495" y="7674"/>
                  <a:pt x="21473" y="7703"/>
                  <a:pt x="21463" y="7810"/>
                </a:cubicBezTo>
                <a:cubicBezTo>
                  <a:pt x="21451" y="7933"/>
                  <a:pt x="21450" y="8011"/>
                  <a:pt x="21400" y="8128"/>
                </a:cubicBezTo>
                <a:cubicBezTo>
                  <a:pt x="21375" y="8188"/>
                  <a:pt x="21362" y="8227"/>
                  <a:pt x="21336" y="8287"/>
                </a:cubicBezTo>
                <a:cubicBezTo>
                  <a:pt x="21389" y="8234"/>
                  <a:pt x="21443" y="8195"/>
                  <a:pt x="21495" y="8160"/>
                </a:cubicBezTo>
                <a:cubicBezTo>
                  <a:pt x="21543" y="8127"/>
                  <a:pt x="21590" y="8103"/>
                  <a:pt x="21654" y="8096"/>
                </a:cubicBezTo>
                <a:cubicBezTo>
                  <a:pt x="21690" y="8096"/>
                  <a:pt x="21703" y="8099"/>
                  <a:pt x="21717" y="8128"/>
                </a:cubicBezTo>
              </a:path>
              <a:path w="9335" h="9114">
                <a:moveTo>
                  <a:pt x="21622" y="8446"/>
                </a:moveTo>
                <a:cubicBezTo>
                  <a:pt x="21610" y="8484"/>
                  <a:pt x="21590" y="8551"/>
                  <a:pt x="21590" y="8636"/>
                </a:cubicBezTo>
                <a:cubicBezTo>
                  <a:pt x="21590" y="8788"/>
                  <a:pt x="21609" y="8939"/>
                  <a:pt x="21622" y="9080"/>
                </a:cubicBezTo>
                <a:cubicBezTo>
                  <a:pt x="21635" y="9227"/>
                  <a:pt x="21665" y="9351"/>
                  <a:pt x="21685" y="9493"/>
                </a:cubicBezTo>
                <a:cubicBezTo>
                  <a:pt x="21701" y="9610"/>
                  <a:pt x="21700" y="9554"/>
                  <a:pt x="21780" y="9588"/>
                </a:cubicBezTo>
                <a:cubicBezTo>
                  <a:pt x="21820" y="9483"/>
                  <a:pt x="21823" y="9382"/>
                  <a:pt x="21844" y="9271"/>
                </a:cubicBezTo>
                <a:cubicBezTo>
                  <a:pt x="21881" y="9076"/>
                  <a:pt x="21901" y="8866"/>
                  <a:pt x="21908" y="8668"/>
                </a:cubicBezTo>
                <a:cubicBezTo>
                  <a:pt x="21911" y="8582"/>
                  <a:pt x="21888" y="8516"/>
                  <a:pt x="21876" y="8477"/>
                </a:cubicBezTo>
                <a:cubicBezTo>
                  <a:pt x="21876" y="8557"/>
                  <a:pt x="21901" y="8629"/>
                  <a:pt x="21908" y="8700"/>
                </a:cubicBezTo>
                <a:cubicBezTo>
                  <a:pt x="21926" y="8868"/>
                  <a:pt x="21915" y="9040"/>
                  <a:pt x="21939" y="9208"/>
                </a:cubicBezTo>
                <a:cubicBezTo>
                  <a:pt x="21972" y="9441"/>
                  <a:pt x="21977" y="9673"/>
                  <a:pt x="22003" y="9906"/>
                </a:cubicBezTo>
                <a:cubicBezTo>
                  <a:pt x="22029" y="10136"/>
                  <a:pt x="22076" y="10407"/>
                  <a:pt x="22066" y="10636"/>
                </a:cubicBezTo>
                <a:cubicBezTo>
                  <a:pt x="22059" y="10805"/>
                  <a:pt x="22023" y="10983"/>
                  <a:pt x="21971" y="11144"/>
                </a:cubicBezTo>
                <a:cubicBezTo>
                  <a:pt x="21937" y="11250"/>
                  <a:pt x="21906" y="11257"/>
                  <a:pt x="21844" y="11335"/>
                </a:cubicBezTo>
                <a:cubicBezTo>
                  <a:pt x="21757" y="11281"/>
                  <a:pt x="21704" y="11244"/>
                  <a:pt x="21654" y="11144"/>
                </a:cubicBezTo>
                <a:cubicBezTo>
                  <a:pt x="21582" y="10999"/>
                  <a:pt x="21568" y="10824"/>
                  <a:pt x="21558" y="10668"/>
                </a:cubicBezTo>
              </a:path>
              <a:path w="9335" h="9114">
                <a:moveTo>
                  <a:pt x="22130" y="8287"/>
                </a:moveTo>
                <a:cubicBezTo>
                  <a:pt x="22188" y="8287"/>
                  <a:pt x="22205" y="8261"/>
                  <a:pt x="22257" y="8255"/>
                </a:cubicBezTo>
                <a:cubicBezTo>
                  <a:pt x="22283" y="8252"/>
                  <a:pt x="22360" y="8236"/>
                  <a:pt x="22384" y="8223"/>
                </a:cubicBezTo>
                <a:cubicBezTo>
                  <a:pt x="22395" y="8213"/>
                  <a:pt x="22405" y="8202"/>
                  <a:pt x="22416" y="8192"/>
                </a:cubicBezTo>
              </a:path>
              <a:path w="9335" h="9114">
                <a:moveTo>
                  <a:pt x="22574" y="7556"/>
                </a:moveTo>
                <a:cubicBezTo>
                  <a:pt x="22631" y="7575"/>
                  <a:pt x="22606" y="7647"/>
                  <a:pt x="22606" y="7715"/>
                </a:cubicBezTo>
                <a:cubicBezTo>
                  <a:pt x="22606" y="7809"/>
                  <a:pt x="22581" y="7879"/>
                  <a:pt x="22574" y="7969"/>
                </a:cubicBezTo>
                <a:cubicBezTo>
                  <a:pt x="22568" y="8050"/>
                  <a:pt x="22561" y="8101"/>
                  <a:pt x="22574" y="8096"/>
                </a:cubicBezTo>
                <a:cubicBezTo>
                  <a:pt x="22616" y="8079"/>
                  <a:pt x="22607" y="8040"/>
                  <a:pt x="22670" y="8033"/>
                </a:cubicBezTo>
                <a:cubicBezTo>
                  <a:pt x="22732" y="8026"/>
                  <a:pt x="22884" y="8064"/>
                  <a:pt x="22892" y="8001"/>
                </a:cubicBezTo>
                <a:cubicBezTo>
                  <a:pt x="22892" y="7990"/>
                  <a:pt x="22892" y="7980"/>
                  <a:pt x="22892" y="7969"/>
                </a:cubicBezTo>
              </a:path>
              <a:path w="9335" h="9114">
                <a:moveTo>
                  <a:pt x="22860" y="7430"/>
                </a:moveTo>
                <a:cubicBezTo>
                  <a:pt x="22846" y="7539"/>
                  <a:pt x="22828" y="7631"/>
                  <a:pt x="22828" y="7747"/>
                </a:cubicBezTo>
                <a:cubicBezTo>
                  <a:pt x="22828" y="7953"/>
                  <a:pt x="22843" y="8149"/>
                  <a:pt x="22860" y="8350"/>
                </a:cubicBezTo>
                <a:cubicBezTo>
                  <a:pt x="22860" y="8477"/>
                  <a:pt x="22860" y="8519"/>
                  <a:pt x="22860" y="8604"/>
                </a:cubicBezTo>
              </a:path>
              <a:path w="9335" h="9114">
                <a:moveTo>
                  <a:pt x="23304" y="8985"/>
                </a:moveTo>
                <a:cubicBezTo>
                  <a:pt x="23237" y="8985"/>
                  <a:pt x="23241" y="8983"/>
                  <a:pt x="23241" y="9049"/>
                </a:cubicBezTo>
                <a:cubicBezTo>
                  <a:pt x="23241" y="9127"/>
                  <a:pt x="23228" y="9180"/>
                  <a:pt x="23273" y="9239"/>
                </a:cubicBezTo>
                <a:cubicBezTo>
                  <a:pt x="23325" y="9187"/>
                  <a:pt x="23374" y="9131"/>
                  <a:pt x="23336" y="9049"/>
                </a:cubicBezTo>
                <a:cubicBezTo>
                  <a:pt x="23307" y="9020"/>
                  <a:pt x="23296" y="9014"/>
                  <a:pt x="23304" y="8985"/>
                </a:cubicBezTo>
                <a:cubicBezTo>
                  <a:pt x="23254" y="8998"/>
                  <a:pt x="23213" y="9022"/>
                  <a:pt x="23209" y="9080"/>
                </a:cubicBezTo>
                <a:cubicBezTo>
                  <a:pt x="23205" y="9133"/>
                  <a:pt x="23205" y="9222"/>
                  <a:pt x="23241" y="9144"/>
                </a:cubicBezTo>
                <a:cubicBezTo>
                  <a:pt x="23267" y="9092"/>
                  <a:pt x="23264" y="9071"/>
                  <a:pt x="23304" y="9080"/>
                </a:cubicBezTo>
              </a:path>
              <a:path w="9335" h="9114">
                <a:moveTo>
                  <a:pt x="23304" y="8954"/>
                </a:moveTo>
                <a:cubicBezTo>
                  <a:pt x="23295" y="8981"/>
                  <a:pt x="23248" y="9003"/>
                  <a:pt x="23273" y="9049"/>
                </a:cubicBezTo>
                <a:cubicBezTo>
                  <a:pt x="23309" y="9085"/>
                  <a:pt x="23319" y="9102"/>
                  <a:pt x="23304" y="9144"/>
                </a:cubicBezTo>
                <a:cubicBezTo>
                  <a:pt x="23357" y="9109"/>
                  <a:pt x="23340" y="9062"/>
                  <a:pt x="23336" y="9049"/>
                </a:cubicBezTo>
                <a:cubicBezTo>
                  <a:pt x="23336" y="9017"/>
                  <a:pt x="23336" y="9006"/>
                  <a:pt x="23304" y="9017"/>
                </a:cubicBezTo>
                <a:cubicBezTo>
                  <a:pt x="23304" y="9078"/>
                  <a:pt x="23308" y="9080"/>
                  <a:pt x="23336" y="9144"/>
                </a:cubicBezTo>
              </a:path>
              <a:path w="9335" h="9114">
                <a:moveTo>
                  <a:pt x="23463" y="8255"/>
                </a:moveTo>
                <a:cubicBezTo>
                  <a:pt x="23463" y="8158"/>
                  <a:pt x="23479" y="8080"/>
                  <a:pt x="23495" y="8001"/>
                </a:cubicBezTo>
                <a:cubicBezTo>
                  <a:pt x="23512" y="7918"/>
                  <a:pt x="23527" y="7905"/>
                  <a:pt x="23590" y="7842"/>
                </a:cubicBezTo>
                <a:cubicBezTo>
                  <a:pt x="23657" y="7774"/>
                  <a:pt x="23715" y="7854"/>
                  <a:pt x="23749" y="7906"/>
                </a:cubicBezTo>
                <a:cubicBezTo>
                  <a:pt x="23807" y="7995"/>
                  <a:pt x="23781" y="8121"/>
                  <a:pt x="23781" y="8223"/>
                </a:cubicBezTo>
                <a:cubicBezTo>
                  <a:pt x="23781" y="8381"/>
                  <a:pt x="23760" y="8549"/>
                  <a:pt x="23717" y="8700"/>
                </a:cubicBezTo>
                <a:cubicBezTo>
                  <a:pt x="23690" y="8794"/>
                  <a:pt x="23668" y="8910"/>
                  <a:pt x="23622" y="8985"/>
                </a:cubicBezTo>
                <a:cubicBezTo>
                  <a:pt x="23657" y="8934"/>
                  <a:pt x="23671" y="8877"/>
                  <a:pt x="23717" y="8826"/>
                </a:cubicBezTo>
                <a:cubicBezTo>
                  <a:pt x="23754" y="8785"/>
                  <a:pt x="23784" y="8749"/>
                  <a:pt x="23844" y="8763"/>
                </a:cubicBezTo>
                <a:cubicBezTo>
                  <a:pt x="23935" y="8785"/>
                  <a:pt x="23933" y="8837"/>
                  <a:pt x="23971" y="8922"/>
                </a:cubicBezTo>
                <a:cubicBezTo>
                  <a:pt x="24019" y="9029"/>
                  <a:pt x="24074" y="9185"/>
                  <a:pt x="24066" y="9303"/>
                </a:cubicBezTo>
                <a:cubicBezTo>
                  <a:pt x="24056" y="9451"/>
                  <a:pt x="24010" y="9602"/>
                  <a:pt x="23971" y="9747"/>
                </a:cubicBezTo>
                <a:cubicBezTo>
                  <a:pt x="23939" y="9865"/>
                  <a:pt x="23916" y="9993"/>
                  <a:pt x="23844" y="10096"/>
                </a:cubicBezTo>
                <a:cubicBezTo>
                  <a:pt x="23815" y="10137"/>
                  <a:pt x="23771" y="10178"/>
                  <a:pt x="23717" y="10160"/>
                </a:cubicBezTo>
                <a:cubicBezTo>
                  <a:pt x="23686" y="10128"/>
                  <a:pt x="23675" y="10117"/>
                  <a:pt x="23654" y="10096"/>
                </a:cubicBezTo>
              </a:path>
              <a:path w="9335" h="9114">
                <a:moveTo>
                  <a:pt x="24225" y="8287"/>
                </a:moveTo>
                <a:cubicBezTo>
                  <a:pt x="24225" y="8297"/>
                  <a:pt x="24225" y="8308"/>
                  <a:pt x="24225" y="8318"/>
                </a:cubicBezTo>
              </a:path>
              <a:path w="9335" h="9114">
                <a:moveTo>
                  <a:pt x="24257" y="8446"/>
                </a:moveTo>
                <a:cubicBezTo>
                  <a:pt x="24270" y="8550"/>
                  <a:pt x="24283" y="8661"/>
                  <a:pt x="24320" y="8763"/>
                </a:cubicBezTo>
                <a:cubicBezTo>
                  <a:pt x="24374" y="8912"/>
                  <a:pt x="24432" y="9057"/>
                  <a:pt x="24479" y="9208"/>
                </a:cubicBezTo>
                <a:cubicBezTo>
                  <a:pt x="24518" y="9334"/>
                  <a:pt x="24558" y="9465"/>
                  <a:pt x="24606" y="9588"/>
                </a:cubicBezTo>
                <a:cubicBezTo>
                  <a:pt x="24635" y="9662"/>
                  <a:pt x="24655" y="9734"/>
                  <a:pt x="24670" y="9811"/>
                </a:cubicBezTo>
              </a:path>
              <a:path w="9335" h="9114">
                <a:moveTo>
                  <a:pt x="24638" y="8318"/>
                </a:moveTo>
                <a:cubicBezTo>
                  <a:pt x="24592" y="8410"/>
                  <a:pt x="24568" y="8556"/>
                  <a:pt x="24543" y="8668"/>
                </a:cubicBezTo>
                <a:cubicBezTo>
                  <a:pt x="24492" y="8893"/>
                  <a:pt x="24431" y="9109"/>
                  <a:pt x="24384" y="9334"/>
                </a:cubicBezTo>
                <a:cubicBezTo>
                  <a:pt x="24331" y="9587"/>
                  <a:pt x="24299" y="9845"/>
                  <a:pt x="24257" y="10096"/>
                </a:cubicBezTo>
                <a:cubicBezTo>
                  <a:pt x="24239" y="10205"/>
                  <a:pt x="24219" y="10311"/>
                  <a:pt x="24194" y="10414"/>
                </a:cubicBezTo>
              </a:path>
              <a:path w="9335" h="9114">
                <a:moveTo>
                  <a:pt x="24670" y="7684"/>
                </a:moveTo>
                <a:cubicBezTo>
                  <a:pt x="24670" y="7637"/>
                  <a:pt x="24679" y="7591"/>
                  <a:pt x="24702" y="7556"/>
                </a:cubicBezTo>
                <a:cubicBezTo>
                  <a:pt x="24724" y="7523"/>
                  <a:pt x="24765" y="7517"/>
                  <a:pt x="24797" y="7493"/>
                </a:cubicBezTo>
                <a:cubicBezTo>
                  <a:pt x="24859" y="7556"/>
                  <a:pt x="24860" y="7563"/>
                  <a:pt x="24860" y="7652"/>
                </a:cubicBezTo>
                <a:cubicBezTo>
                  <a:pt x="24860" y="7748"/>
                  <a:pt x="24843" y="7818"/>
                  <a:pt x="24828" y="7906"/>
                </a:cubicBezTo>
                <a:cubicBezTo>
                  <a:pt x="24817" y="7973"/>
                  <a:pt x="24812" y="8005"/>
                  <a:pt x="24797" y="8064"/>
                </a:cubicBezTo>
                <a:cubicBezTo>
                  <a:pt x="24826" y="8054"/>
                  <a:pt x="24858" y="8023"/>
                  <a:pt x="24892" y="8001"/>
                </a:cubicBezTo>
                <a:cubicBezTo>
                  <a:pt x="24934" y="7973"/>
                  <a:pt x="24967" y="7944"/>
                  <a:pt x="25019" y="7938"/>
                </a:cubicBezTo>
                <a:cubicBezTo>
                  <a:pt x="25051" y="7938"/>
                  <a:pt x="25061" y="7938"/>
                  <a:pt x="25082" y="7938"/>
                </a:cubicBezTo>
              </a:path>
              <a:path w="9335" h="9114">
                <a:moveTo>
                  <a:pt x="15780" y="10446"/>
                </a:moveTo>
                <a:cubicBezTo>
                  <a:pt x="15829" y="10462"/>
                  <a:pt x="15806" y="10478"/>
                  <a:pt x="15875" y="10478"/>
                </a:cubicBezTo>
                <a:cubicBezTo>
                  <a:pt x="16010" y="10478"/>
                  <a:pt x="16130" y="10467"/>
                  <a:pt x="16256" y="10446"/>
                </a:cubicBezTo>
                <a:cubicBezTo>
                  <a:pt x="16329" y="10434"/>
                  <a:pt x="16383" y="10433"/>
                  <a:pt x="16446" y="10414"/>
                </a:cubicBezTo>
                <a:cubicBezTo>
                  <a:pt x="16455" y="10411"/>
                  <a:pt x="16565" y="10414"/>
                  <a:pt x="16478" y="10414"/>
                </a:cubicBezTo>
                <a:cubicBezTo>
                  <a:pt x="16253" y="10414"/>
                  <a:pt x="15981" y="10449"/>
                  <a:pt x="15780" y="10382"/>
                </a:cubicBezTo>
                <a:cubicBezTo>
                  <a:pt x="15769" y="10382"/>
                  <a:pt x="15759" y="10382"/>
                  <a:pt x="15748" y="10382"/>
                </a:cubicBezTo>
                <a:cubicBezTo>
                  <a:pt x="15797" y="10345"/>
                  <a:pt x="15813" y="10350"/>
                  <a:pt x="15875" y="10350"/>
                </a:cubicBezTo>
                <a:cubicBezTo>
                  <a:pt x="15962" y="10350"/>
                  <a:pt x="16017" y="10362"/>
                  <a:pt x="16097" y="10382"/>
                </a:cubicBezTo>
                <a:cubicBezTo>
                  <a:pt x="16152" y="10396"/>
                  <a:pt x="16198" y="10407"/>
                  <a:pt x="16256" y="10414"/>
                </a:cubicBezTo>
              </a:path>
              <a:path w="9335" h="9114">
                <a:moveTo>
                  <a:pt x="19622" y="10287"/>
                </a:moveTo>
                <a:cubicBezTo>
                  <a:pt x="19593" y="10316"/>
                  <a:pt x="19583" y="10322"/>
                  <a:pt x="19590" y="10350"/>
                </a:cubicBezTo>
                <a:cubicBezTo>
                  <a:pt x="19644" y="10391"/>
                  <a:pt x="19676" y="10382"/>
                  <a:pt x="19748" y="10382"/>
                </a:cubicBezTo>
                <a:cubicBezTo>
                  <a:pt x="19843" y="10382"/>
                  <a:pt x="19912" y="10355"/>
                  <a:pt x="20002" y="10350"/>
                </a:cubicBezTo>
                <a:cubicBezTo>
                  <a:pt x="20101" y="10344"/>
                  <a:pt x="20187" y="10319"/>
                  <a:pt x="20288" y="10319"/>
                </a:cubicBezTo>
                <a:cubicBezTo>
                  <a:pt x="20366" y="10319"/>
                  <a:pt x="20419" y="10307"/>
                  <a:pt x="20479" y="10350"/>
                </a:cubicBezTo>
                <a:cubicBezTo>
                  <a:pt x="20424" y="10364"/>
                  <a:pt x="20381" y="10403"/>
                  <a:pt x="20320" y="10414"/>
                </a:cubicBezTo>
                <a:cubicBezTo>
                  <a:pt x="20237" y="10429"/>
                  <a:pt x="20146" y="10433"/>
                  <a:pt x="20066" y="10446"/>
                </a:cubicBezTo>
                <a:cubicBezTo>
                  <a:pt x="19980" y="10460"/>
                  <a:pt x="19911" y="10427"/>
                  <a:pt x="19844" y="10414"/>
                </a:cubicBezTo>
                <a:cubicBezTo>
                  <a:pt x="19769" y="10399"/>
                  <a:pt x="19768" y="10442"/>
                  <a:pt x="19748" y="10382"/>
                </a:cubicBezTo>
                <a:cubicBezTo>
                  <a:pt x="19833" y="10382"/>
                  <a:pt x="19917" y="10382"/>
                  <a:pt x="20002" y="10382"/>
                </a:cubicBezTo>
              </a:path>
              <a:path w="9335" h="9114">
                <a:moveTo>
                  <a:pt x="23304" y="10541"/>
                </a:moveTo>
                <a:cubicBezTo>
                  <a:pt x="23273" y="10541"/>
                  <a:pt x="23262" y="10541"/>
                  <a:pt x="23241" y="10541"/>
                </a:cubicBezTo>
                <a:cubicBezTo>
                  <a:pt x="23247" y="10523"/>
                  <a:pt x="23300" y="10456"/>
                  <a:pt x="23336" y="10446"/>
                </a:cubicBezTo>
                <a:cubicBezTo>
                  <a:pt x="23447" y="10414"/>
                  <a:pt x="23568" y="10367"/>
                  <a:pt x="23686" y="10350"/>
                </a:cubicBezTo>
                <a:cubicBezTo>
                  <a:pt x="23767" y="10338"/>
                  <a:pt x="23858" y="10350"/>
                  <a:pt x="23940" y="10350"/>
                </a:cubicBezTo>
                <a:cubicBezTo>
                  <a:pt x="23885" y="10391"/>
                  <a:pt x="23853" y="10408"/>
                  <a:pt x="23781" y="10414"/>
                </a:cubicBezTo>
                <a:cubicBezTo>
                  <a:pt x="23710" y="10420"/>
                  <a:pt x="23666" y="10446"/>
                  <a:pt x="23590" y="10446"/>
                </a:cubicBezTo>
                <a:cubicBezTo>
                  <a:pt x="23576" y="10446"/>
                  <a:pt x="23441" y="10446"/>
                  <a:pt x="23527" y="10446"/>
                </a:cubicBezTo>
                <a:cubicBezTo>
                  <a:pt x="23582" y="10446"/>
                  <a:pt x="23577" y="10444"/>
                  <a:pt x="23622" y="10478"/>
                </a:cubicBezTo>
              </a:path>
              <a:path w="9335" h="9114">
                <a:moveTo>
                  <a:pt x="22352" y="10922"/>
                </a:moveTo>
                <a:cubicBezTo>
                  <a:pt x="22384" y="10922"/>
                  <a:pt x="22395" y="10922"/>
                  <a:pt x="22384" y="10954"/>
                </a:cubicBezTo>
              </a:path>
              <a:path w="9335" h="9114">
                <a:moveTo>
                  <a:pt x="22352" y="10922"/>
                </a:moveTo>
                <a:cubicBezTo>
                  <a:pt x="22384" y="10933"/>
                  <a:pt x="22415" y="10943"/>
                  <a:pt x="22447" y="10954"/>
                </a:cubicBezTo>
              </a:path>
              <a:path w="9335" h="9114">
                <a:moveTo>
                  <a:pt x="22447" y="10954"/>
                </a:moveTo>
                <a:cubicBezTo>
                  <a:pt x="22492" y="10921"/>
                  <a:pt x="22564" y="10902"/>
                  <a:pt x="22606" y="10858"/>
                </a:cubicBezTo>
                <a:cubicBezTo>
                  <a:pt x="22624" y="10839"/>
                  <a:pt x="22680" y="10764"/>
                  <a:pt x="22701" y="10732"/>
                </a:cubicBezTo>
                <a:cubicBezTo>
                  <a:pt x="22733" y="10684"/>
                  <a:pt x="22760" y="10597"/>
                  <a:pt x="22796" y="10541"/>
                </a:cubicBezTo>
                <a:cubicBezTo>
                  <a:pt x="22843" y="10468"/>
                  <a:pt x="22884" y="10397"/>
                  <a:pt x="22924" y="10319"/>
                </a:cubicBezTo>
                <a:cubicBezTo>
                  <a:pt x="22969" y="10232"/>
                  <a:pt x="22987" y="10154"/>
                  <a:pt x="23019" y="10065"/>
                </a:cubicBezTo>
                <a:cubicBezTo>
                  <a:pt x="23058" y="9958"/>
                  <a:pt x="23108" y="9854"/>
                  <a:pt x="23146" y="9747"/>
                </a:cubicBezTo>
                <a:cubicBezTo>
                  <a:pt x="23192" y="9620"/>
                  <a:pt x="23207" y="9490"/>
                  <a:pt x="23241" y="9366"/>
                </a:cubicBezTo>
                <a:cubicBezTo>
                  <a:pt x="23277" y="9236"/>
                  <a:pt x="23312" y="9116"/>
                  <a:pt x="23336" y="8985"/>
                </a:cubicBezTo>
                <a:cubicBezTo>
                  <a:pt x="23358" y="8866"/>
                  <a:pt x="23391" y="8723"/>
                  <a:pt x="23400" y="8604"/>
                </a:cubicBezTo>
                <a:cubicBezTo>
                  <a:pt x="23410" y="8474"/>
                  <a:pt x="23425" y="8351"/>
                  <a:pt x="23432" y="8223"/>
                </a:cubicBezTo>
                <a:cubicBezTo>
                  <a:pt x="23439" y="8096"/>
                  <a:pt x="23456" y="7965"/>
                  <a:pt x="23463" y="7842"/>
                </a:cubicBezTo>
                <a:cubicBezTo>
                  <a:pt x="23470" y="7730"/>
                  <a:pt x="23439" y="7626"/>
                  <a:pt x="23432" y="7525"/>
                </a:cubicBezTo>
                <a:cubicBezTo>
                  <a:pt x="23425" y="7417"/>
                  <a:pt x="23422" y="7340"/>
                  <a:pt x="23400" y="7239"/>
                </a:cubicBezTo>
                <a:cubicBezTo>
                  <a:pt x="23379" y="7142"/>
                  <a:pt x="23350" y="7044"/>
                  <a:pt x="23304" y="6953"/>
                </a:cubicBezTo>
                <a:cubicBezTo>
                  <a:pt x="23260" y="6864"/>
                  <a:pt x="23208" y="6827"/>
                  <a:pt x="23146" y="6763"/>
                </a:cubicBezTo>
                <a:cubicBezTo>
                  <a:pt x="23092" y="6707"/>
                  <a:pt x="23025" y="6635"/>
                  <a:pt x="22955" y="6604"/>
                </a:cubicBezTo>
                <a:cubicBezTo>
                  <a:pt x="22910" y="6584"/>
                  <a:pt x="22816" y="6551"/>
                  <a:pt x="22765" y="6540"/>
                </a:cubicBezTo>
                <a:cubicBezTo>
                  <a:pt x="22649" y="6516"/>
                  <a:pt x="22512" y="6547"/>
                  <a:pt x="22416" y="6572"/>
                </a:cubicBezTo>
                <a:cubicBezTo>
                  <a:pt x="22334" y="6593"/>
                  <a:pt x="22301" y="6620"/>
                  <a:pt x="22225" y="6668"/>
                </a:cubicBezTo>
                <a:cubicBezTo>
                  <a:pt x="22151" y="6714"/>
                  <a:pt x="22092" y="6757"/>
                  <a:pt x="22034" y="6826"/>
                </a:cubicBezTo>
                <a:cubicBezTo>
                  <a:pt x="21978" y="6892"/>
                  <a:pt x="21948" y="6971"/>
                  <a:pt x="21908" y="7048"/>
                </a:cubicBezTo>
                <a:cubicBezTo>
                  <a:pt x="21860" y="7141"/>
                  <a:pt x="21820" y="7237"/>
                  <a:pt x="21780" y="7334"/>
                </a:cubicBezTo>
                <a:cubicBezTo>
                  <a:pt x="21732" y="7450"/>
                  <a:pt x="21708" y="7562"/>
                  <a:pt x="21685" y="7684"/>
                </a:cubicBezTo>
                <a:cubicBezTo>
                  <a:pt x="21659" y="7824"/>
                  <a:pt x="21640" y="7954"/>
                  <a:pt x="21622" y="8096"/>
                </a:cubicBezTo>
                <a:cubicBezTo>
                  <a:pt x="21599" y="8275"/>
                  <a:pt x="21563" y="8454"/>
                  <a:pt x="21558" y="8636"/>
                </a:cubicBezTo>
                <a:cubicBezTo>
                  <a:pt x="21554" y="8789"/>
                  <a:pt x="21535" y="8929"/>
                  <a:pt x="21526" y="9080"/>
                </a:cubicBezTo>
                <a:cubicBezTo>
                  <a:pt x="21490" y="9646"/>
                  <a:pt x="21523" y="10235"/>
                  <a:pt x="21558" y="10795"/>
                </a:cubicBezTo>
                <a:cubicBezTo>
                  <a:pt x="21567" y="10939"/>
                  <a:pt x="21572" y="11038"/>
                  <a:pt x="21622" y="11176"/>
                </a:cubicBezTo>
                <a:cubicBezTo>
                  <a:pt x="21667" y="11299"/>
                  <a:pt x="21733" y="11441"/>
                  <a:pt x="21844" y="11494"/>
                </a:cubicBezTo>
                <a:cubicBezTo>
                  <a:pt x="21908" y="11525"/>
                  <a:pt x="22025" y="11546"/>
                  <a:pt x="22098" y="11525"/>
                </a:cubicBezTo>
                <a:cubicBezTo>
                  <a:pt x="22157" y="11508"/>
                  <a:pt x="22176" y="11472"/>
                  <a:pt x="22225" y="11430"/>
                </a:cubicBezTo>
                <a:cubicBezTo>
                  <a:pt x="22295" y="11370"/>
                  <a:pt x="22286" y="11339"/>
                  <a:pt x="22320" y="11271"/>
                </a:cubicBezTo>
                <a:cubicBezTo>
                  <a:pt x="22371" y="11169"/>
                  <a:pt x="22382" y="11085"/>
                  <a:pt x="22416" y="10986"/>
                </a:cubicBezTo>
                <a:cubicBezTo>
                  <a:pt x="22453" y="10877"/>
                  <a:pt x="22487" y="10776"/>
                  <a:pt x="22511" y="10668"/>
                </a:cubicBezTo>
                <a:cubicBezTo>
                  <a:pt x="22530" y="10580"/>
                  <a:pt x="22546" y="10499"/>
                  <a:pt x="22574" y="10414"/>
                </a:cubicBezTo>
                <a:cubicBezTo>
                  <a:pt x="22589" y="10368"/>
                  <a:pt x="22594" y="10331"/>
                  <a:pt x="22606" y="10287"/>
                </a:cubicBezTo>
              </a:path>
              <a:path w="9335" h="9114">
                <a:moveTo>
                  <a:pt x="22796" y="13367"/>
                </a:moveTo>
                <a:cubicBezTo>
                  <a:pt x="22847" y="13361"/>
                  <a:pt x="22885" y="13343"/>
                  <a:pt x="22924" y="13335"/>
                </a:cubicBezTo>
                <a:cubicBezTo>
                  <a:pt x="23008" y="13318"/>
                  <a:pt x="23096" y="13330"/>
                  <a:pt x="23178" y="13303"/>
                </a:cubicBezTo>
                <a:cubicBezTo>
                  <a:pt x="23277" y="13271"/>
                  <a:pt x="23390" y="13228"/>
                  <a:pt x="23495" y="13208"/>
                </a:cubicBezTo>
                <a:cubicBezTo>
                  <a:pt x="23612" y="13185"/>
                  <a:pt x="23728" y="13178"/>
                  <a:pt x="23844" y="13144"/>
                </a:cubicBezTo>
                <a:cubicBezTo>
                  <a:pt x="23964" y="13109"/>
                  <a:pt x="24077" y="13108"/>
                  <a:pt x="24194" y="13081"/>
                </a:cubicBezTo>
                <a:cubicBezTo>
                  <a:pt x="24299" y="13057"/>
                  <a:pt x="24408" y="13034"/>
                  <a:pt x="24511" y="13018"/>
                </a:cubicBezTo>
                <a:cubicBezTo>
                  <a:pt x="24608" y="13003"/>
                  <a:pt x="24683" y="13035"/>
                  <a:pt x="24765" y="12986"/>
                </a:cubicBezTo>
              </a:path>
              <a:path w="9335" h="9114">
                <a:moveTo>
                  <a:pt x="23432" y="13748"/>
                </a:moveTo>
                <a:cubicBezTo>
                  <a:pt x="23432" y="13759"/>
                  <a:pt x="23432" y="13769"/>
                  <a:pt x="23432" y="13780"/>
                </a:cubicBezTo>
                <a:cubicBezTo>
                  <a:pt x="23481" y="13796"/>
                  <a:pt x="23465" y="13831"/>
                  <a:pt x="23495" y="13875"/>
                </a:cubicBezTo>
                <a:cubicBezTo>
                  <a:pt x="23522" y="13915"/>
                  <a:pt x="23609" y="13956"/>
                  <a:pt x="23622" y="14002"/>
                </a:cubicBezTo>
                <a:cubicBezTo>
                  <a:pt x="23644" y="14077"/>
                  <a:pt x="23665" y="14123"/>
                  <a:pt x="23717" y="14192"/>
                </a:cubicBezTo>
                <a:cubicBezTo>
                  <a:pt x="23752" y="14239"/>
                  <a:pt x="23767" y="14274"/>
                  <a:pt x="23812" y="14319"/>
                </a:cubicBezTo>
                <a:cubicBezTo>
                  <a:pt x="23812" y="14288"/>
                  <a:pt x="23812" y="14277"/>
                  <a:pt x="23812" y="14256"/>
                </a:cubicBezTo>
              </a:path>
              <a:path w="9335" h="9114">
                <a:moveTo>
                  <a:pt x="24035" y="13367"/>
                </a:moveTo>
                <a:cubicBezTo>
                  <a:pt x="24035" y="13499"/>
                  <a:pt x="24013" y="13622"/>
                  <a:pt x="24003" y="13748"/>
                </a:cubicBezTo>
                <a:cubicBezTo>
                  <a:pt x="23986" y="13954"/>
                  <a:pt x="23949" y="14146"/>
                  <a:pt x="23908" y="14351"/>
                </a:cubicBezTo>
                <a:cubicBezTo>
                  <a:pt x="23863" y="14574"/>
                  <a:pt x="23767" y="14790"/>
                  <a:pt x="23749" y="15018"/>
                </a:cubicBezTo>
                <a:cubicBezTo>
                  <a:pt x="23732" y="15231"/>
                  <a:pt x="23698" y="15440"/>
                  <a:pt x="23686" y="156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Ink 10"/>
          <p:cNvSpPr/>
          <p:nvPr/>
        </p:nvSpPr>
        <p:spPr>
          <a:xfrm>
            <a:off x="6377040" y="2492280"/>
            <a:ext cx="949320" cy="2686320"/>
          </a:xfrm>
          <a:custGeom>
            <a:avLst/>
            <a:gdLst/>
            <a:ahLst/>
            <a:rect l="l" t="t" r="r" b="b"/>
            <a:pathLst>
              <a:path w="2637" h="7462">
                <a:moveTo>
                  <a:pt x="19304" y="12732"/>
                </a:moveTo>
                <a:cubicBezTo>
                  <a:pt x="19362" y="12789"/>
                  <a:pt x="19401" y="12845"/>
                  <a:pt x="19431" y="12922"/>
                </a:cubicBezTo>
                <a:cubicBezTo>
                  <a:pt x="19474" y="13032"/>
                  <a:pt x="19528" y="13159"/>
                  <a:pt x="19558" y="13272"/>
                </a:cubicBezTo>
                <a:cubicBezTo>
                  <a:pt x="19602" y="13436"/>
                  <a:pt x="19660" y="13563"/>
                  <a:pt x="19717" y="13716"/>
                </a:cubicBezTo>
                <a:cubicBezTo>
                  <a:pt x="19757" y="13822"/>
                  <a:pt x="19781" y="13956"/>
                  <a:pt x="19812" y="14065"/>
                </a:cubicBezTo>
                <a:cubicBezTo>
                  <a:pt x="19832" y="14136"/>
                  <a:pt x="19835" y="14087"/>
                  <a:pt x="19844" y="14034"/>
                </a:cubicBezTo>
              </a:path>
              <a:path w="2637" h="7462">
                <a:moveTo>
                  <a:pt x="19717" y="12573"/>
                </a:moveTo>
                <a:cubicBezTo>
                  <a:pt x="19717" y="12687"/>
                  <a:pt x="19708" y="12777"/>
                  <a:pt x="19685" y="12890"/>
                </a:cubicBezTo>
                <a:cubicBezTo>
                  <a:pt x="19640" y="13112"/>
                  <a:pt x="19596" y="13334"/>
                  <a:pt x="19558" y="13557"/>
                </a:cubicBezTo>
                <a:cubicBezTo>
                  <a:pt x="19525" y="13753"/>
                  <a:pt x="19522" y="13938"/>
                  <a:pt x="19463" y="14129"/>
                </a:cubicBezTo>
                <a:cubicBezTo>
                  <a:pt x="19435" y="14219"/>
                  <a:pt x="19451" y="14313"/>
                  <a:pt x="19399" y="14383"/>
                </a:cubicBezTo>
              </a:path>
              <a:path w="2637" h="7462">
                <a:moveTo>
                  <a:pt x="20066" y="12192"/>
                </a:moveTo>
                <a:cubicBezTo>
                  <a:pt x="20066" y="12290"/>
                  <a:pt x="20049" y="12357"/>
                  <a:pt x="20034" y="12446"/>
                </a:cubicBezTo>
                <a:cubicBezTo>
                  <a:pt x="20022" y="12520"/>
                  <a:pt x="20019" y="12571"/>
                  <a:pt x="20002" y="12636"/>
                </a:cubicBezTo>
                <a:cubicBezTo>
                  <a:pt x="20047" y="12621"/>
                  <a:pt x="20034" y="12580"/>
                  <a:pt x="20098" y="12573"/>
                </a:cubicBezTo>
                <a:cubicBezTo>
                  <a:pt x="20173" y="12565"/>
                  <a:pt x="20331" y="12605"/>
                  <a:pt x="20352" y="12541"/>
                </a:cubicBezTo>
              </a:path>
              <a:path w="2637" h="7462">
                <a:moveTo>
                  <a:pt x="20352" y="11938"/>
                </a:moveTo>
                <a:cubicBezTo>
                  <a:pt x="20352" y="12071"/>
                  <a:pt x="20334" y="12191"/>
                  <a:pt x="20320" y="12319"/>
                </a:cubicBezTo>
                <a:cubicBezTo>
                  <a:pt x="20301" y="12485"/>
                  <a:pt x="20312" y="12668"/>
                  <a:pt x="20352" y="12827"/>
                </a:cubicBezTo>
              </a:path>
              <a:path w="2637" h="7462">
                <a:moveTo>
                  <a:pt x="18828" y="11525"/>
                </a:moveTo>
                <a:lnTo>
                  <a:pt x="18828" y="11525"/>
                </a:lnTo>
              </a:path>
              <a:path w="2637" h="7462">
                <a:moveTo>
                  <a:pt x="19018" y="11335"/>
                </a:moveTo>
                <a:cubicBezTo>
                  <a:pt x="19044" y="11268"/>
                  <a:pt x="19091" y="11189"/>
                  <a:pt x="19114" y="11112"/>
                </a:cubicBezTo>
                <a:cubicBezTo>
                  <a:pt x="19145" y="11007"/>
                  <a:pt x="19156" y="10874"/>
                  <a:pt x="19177" y="10763"/>
                </a:cubicBezTo>
                <a:cubicBezTo>
                  <a:pt x="19198" y="10653"/>
                  <a:pt x="19232" y="10525"/>
                  <a:pt x="19240" y="10414"/>
                </a:cubicBezTo>
                <a:cubicBezTo>
                  <a:pt x="19250" y="10273"/>
                  <a:pt x="19262" y="10140"/>
                  <a:pt x="19272" y="10001"/>
                </a:cubicBezTo>
                <a:cubicBezTo>
                  <a:pt x="19283" y="9854"/>
                  <a:pt x="19286" y="9704"/>
                  <a:pt x="19304" y="9557"/>
                </a:cubicBezTo>
                <a:cubicBezTo>
                  <a:pt x="19322" y="9416"/>
                  <a:pt x="19336" y="9291"/>
                  <a:pt x="19336" y="9144"/>
                </a:cubicBezTo>
                <a:cubicBezTo>
                  <a:pt x="19336" y="8803"/>
                  <a:pt x="19321" y="8461"/>
                  <a:pt x="19304" y="8128"/>
                </a:cubicBezTo>
                <a:cubicBezTo>
                  <a:pt x="19297" y="7993"/>
                  <a:pt x="19293" y="7877"/>
                  <a:pt x="19272" y="7747"/>
                </a:cubicBezTo>
                <a:cubicBezTo>
                  <a:pt x="19254" y="7636"/>
                  <a:pt x="19248" y="7535"/>
                  <a:pt x="19209" y="7430"/>
                </a:cubicBezTo>
                <a:cubicBezTo>
                  <a:pt x="19171" y="7328"/>
                  <a:pt x="19107" y="7233"/>
                  <a:pt x="19050" y="7144"/>
                </a:cubicBezTo>
                <a:cubicBezTo>
                  <a:pt x="19006" y="7076"/>
                  <a:pt x="18968" y="7020"/>
                  <a:pt x="18891" y="6985"/>
                </a:cubicBezTo>
                <a:cubicBezTo>
                  <a:pt x="18850" y="6966"/>
                  <a:pt x="18773" y="6928"/>
                  <a:pt x="18732" y="6922"/>
                </a:cubicBezTo>
                <a:cubicBezTo>
                  <a:pt x="18659" y="6911"/>
                  <a:pt x="18539" y="6918"/>
                  <a:pt x="18478" y="6953"/>
                </a:cubicBezTo>
                <a:cubicBezTo>
                  <a:pt x="18362" y="7020"/>
                  <a:pt x="18291" y="7166"/>
                  <a:pt x="18224" y="7271"/>
                </a:cubicBezTo>
                <a:cubicBezTo>
                  <a:pt x="18158" y="7375"/>
                  <a:pt x="18137" y="7478"/>
                  <a:pt x="18098" y="7588"/>
                </a:cubicBezTo>
                <a:cubicBezTo>
                  <a:pt x="18059" y="7697"/>
                  <a:pt x="18026" y="7797"/>
                  <a:pt x="18002" y="7906"/>
                </a:cubicBezTo>
                <a:cubicBezTo>
                  <a:pt x="17978" y="8014"/>
                  <a:pt x="17970" y="8149"/>
                  <a:pt x="17939" y="8255"/>
                </a:cubicBezTo>
                <a:cubicBezTo>
                  <a:pt x="17903" y="8377"/>
                  <a:pt x="17868" y="8479"/>
                  <a:pt x="17844" y="8604"/>
                </a:cubicBezTo>
                <a:cubicBezTo>
                  <a:pt x="17818" y="8741"/>
                  <a:pt x="17830" y="8878"/>
                  <a:pt x="17812" y="9017"/>
                </a:cubicBezTo>
                <a:cubicBezTo>
                  <a:pt x="17797" y="9136"/>
                  <a:pt x="17795" y="9272"/>
                  <a:pt x="17780" y="9398"/>
                </a:cubicBezTo>
                <a:cubicBezTo>
                  <a:pt x="17761" y="9555"/>
                  <a:pt x="17768" y="9717"/>
                  <a:pt x="17748" y="9874"/>
                </a:cubicBezTo>
                <a:cubicBezTo>
                  <a:pt x="17727" y="10037"/>
                  <a:pt x="17716" y="10183"/>
                  <a:pt x="17716" y="10350"/>
                </a:cubicBezTo>
                <a:cubicBezTo>
                  <a:pt x="17716" y="10711"/>
                  <a:pt x="17726" y="11080"/>
                  <a:pt x="17748" y="11430"/>
                </a:cubicBezTo>
                <a:cubicBezTo>
                  <a:pt x="17756" y="11567"/>
                  <a:pt x="17777" y="11650"/>
                  <a:pt x="17812" y="11779"/>
                </a:cubicBezTo>
                <a:cubicBezTo>
                  <a:pt x="17838" y="11876"/>
                  <a:pt x="17862" y="11980"/>
                  <a:pt x="17907" y="12065"/>
                </a:cubicBezTo>
                <a:cubicBezTo>
                  <a:pt x="17941" y="12129"/>
                  <a:pt x="17986" y="12159"/>
                  <a:pt x="18034" y="12192"/>
                </a:cubicBezTo>
                <a:cubicBezTo>
                  <a:pt x="18071" y="12218"/>
                  <a:pt x="18148" y="12258"/>
                  <a:pt x="18193" y="12256"/>
                </a:cubicBezTo>
                <a:cubicBezTo>
                  <a:pt x="18218" y="12255"/>
                  <a:pt x="18321" y="12200"/>
                  <a:pt x="18352" y="12192"/>
                </a:cubicBezTo>
                <a:cubicBezTo>
                  <a:pt x="18402" y="12179"/>
                  <a:pt x="18436" y="12161"/>
                  <a:pt x="18478" y="12128"/>
                </a:cubicBezTo>
                <a:cubicBezTo>
                  <a:pt x="18576" y="12051"/>
                  <a:pt x="18670" y="11947"/>
                  <a:pt x="18732" y="11843"/>
                </a:cubicBezTo>
                <a:cubicBezTo>
                  <a:pt x="18813" y="11707"/>
                  <a:pt x="18843" y="11571"/>
                  <a:pt x="18891" y="11430"/>
                </a:cubicBezTo>
                <a:cubicBezTo>
                  <a:pt x="18931" y="11313"/>
                  <a:pt x="18985" y="11201"/>
                  <a:pt x="19018" y="11081"/>
                </a:cubicBezTo>
                <a:cubicBezTo>
                  <a:pt x="19044" y="10985"/>
                  <a:pt x="19059" y="10891"/>
                  <a:pt x="19082" y="10795"/>
                </a:cubicBezTo>
                <a:cubicBezTo>
                  <a:pt x="19097" y="10732"/>
                  <a:pt x="19102" y="10668"/>
                  <a:pt x="19114" y="10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Ink 11"/>
          <p:cNvSpPr/>
          <p:nvPr/>
        </p:nvSpPr>
        <p:spPr>
          <a:xfrm>
            <a:off x="5967360" y="2593800"/>
            <a:ext cx="800280" cy="2549880"/>
          </a:xfrm>
          <a:custGeom>
            <a:avLst/>
            <a:gdLst/>
            <a:ahLst/>
            <a:rect l="l" t="t" r="r" b="b"/>
            <a:pathLst>
              <a:path w="2223" h="7082">
                <a:moveTo>
                  <a:pt x="17272" y="12764"/>
                </a:moveTo>
                <a:cubicBezTo>
                  <a:pt x="17296" y="12717"/>
                  <a:pt x="17344" y="12656"/>
                  <a:pt x="17367" y="12605"/>
                </a:cubicBezTo>
                <a:cubicBezTo>
                  <a:pt x="17402" y="12528"/>
                  <a:pt x="17429" y="12379"/>
                  <a:pt x="17494" y="12319"/>
                </a:cubicBezTo>
                <a:cubicBezTo>
                  <a:pt x="17561" y="12257"/>
                  <a:pt x="17658" y="12178"/>
                  <a:pt x="17748" y="12160"/>
                </a:cubicBezTo>
                <a:cubicBezTo>
                  <a:pt x="17796" y="12150"/>
                  <a:pt x="17894" y="12160"/>
                  <a:pt x="17907" y="12224"/>
                </a:cubicBezTo>
                <a:cubicBezTo>
                  <a:pt x="17932" y="12343"/>
                  <a:pt x="17908" y="12492"/>
                  <a:pt x="17875" y="12605"/>
                </a:cubicBezTo>
                <a:cubicBezTo>
                  <a:pt x="17834" y="12745"/>
                  <a:pt x="17809" y="12918"/>
                  <a:pt x="17748" y="13049"/>
                </a:cubicBezTo>
                <a:cubicBezTo>
                  <a:pt x="17679" y="13197"/>
                  <a:pt x="17638" y="13335"/>
                  <a:pt x="17590" y="13494"/>
                </a:cubicBezTo>
                <a:cubicBezTo>
                  <a:pt x="17555" y="13612"/>
                  <a:pt x="17457" y="13686"/>
                  <a:pt x="17431" y="13811"/>
                </a:cubicBezTo>
                <a:cubicBezTo>
                  <a:pt x="17412" y="13901"/>
                  <a:pt x="17403" y="13935"/>
                  <a:pt x="17336" y="14002"/>
                </a:cubicBezTo>
                <a:cubicBezTo>
                  <a:pt x="17318" y="14020"/>
                  <a:pt x="17320" y="14045"/>
                  <a:pt x="17304" y="14065"/>
                </a:cubicBezTo>
                <a:cubicBezTo>
                  <a:pt x="17313" y="13999"/>
                  <a:pt x="17322" y="13965"/>
                  <a:pt x="17367" y="13906"/>
                </a:cubicBezTo>
                <a:cubicBezTo>
                  <a:pt x="17403" y="13858"/>
                  <a:pt x="17457" y="13839"/>
                  <a:pt x="17494" y="13811"/>
                </a:cubicBezTo>
                <a:cubicBezTo>
                  <a:pt x="17543" y="13775"/>
                  <a:pt x="17587" y="13770"/>
                  <a:pt x="17653" y="13780"/>
                </a:cubicBezTo>
                <a:cubicBezTo>
                  <a:pt x="17720" y="13790"/>
                  <a:pt x="17789" y="13834"/>
                  <a:pt x="17844" y="13875"/>
                </a:cubicBezTo>
                <a:cubicBezTo>
                  <a:pt x="17896" y="13914"/>
                  <a:pt x="17958" y="13969"/>
                  <a:pt x="18002" y="14002"/>
                </a:cubicBezTo>
                <a:cubicBezTo>
                  <a:pt x="18042" y="14032"/>
                  <a:pt x="18091" y="14063"/>
                  <a:pt x="18129" y="14002"/>
                </a:cubicBezTo>
                <a:cubicBezTo>
                  <a:pt x="18129" y="13991"/>
                  <a:pt x="18129" y="13981"/>
                  <a:pt x="18129" y="13970"/>
                </a:cubicBezTo>
              </a:path>
              <a:path w="2223" h="7082">
                <a:moveTo>
                  <a:pt x="18224" y="12446"/>
                </a:moveTo>
                <a:cubicBezTo>
                  <a:pt x="18192" y="12446"/>
                  <a:pt x="18251" y="12457"/>
                  <a:pt x="18256" y="12541"/>
                </a:cubicBezTo>
                <a:cubicBezTo>
                  <a:pt x="18263" y="12654"/>
                  <a:pt x="18234" y="12751"/>
                  <a:pt x="18224" y="12859"/>
                </a:cubicBezTo>
                <a:cubicBezTo>
                  <a:pt x="18212" y="12990"/>
                  <a:pt x="18212" y="13115"/>
                  <a:pt x="18193" y="13240"/>
                </a:cubicBezTo>
                <a:cubicBezTo>
                  <a:pt x="18169" y="13397"/>
                  <a:pt x="18185" y="13279"/>
                  <a:pt x="18193" y="13272"/>
                </a:cubicBezTo>
                <a:cubicBezTo>
                  <a:pt x="18228" y="13244"/>
                  <a:pt x="18214" y="13224"/>
                  <a:pt x="18256" y="13176"/>
                </a:cubicBezTo>
                <a:cubicBezTo>
                  <a:pt x="18286" y="13143"/>
                  <a:pt x="18374" y="13117"/>
                  <a:pt x="18415" y="13113"/>
                </a:cubicBezTo>
                <a:cubicBezTo>
                  <a:pt x="18478" y="13106"/>
                  <a:pt x="18492" y="13128"/>
                  <a:pt x="18542" y="13144"/>
                </a:cubicBezTo>
                <a:cubicBezTo>
                  <a:pt x="18597" y="13162"/>
                  <a:pt x="18661" y="13142"/>
                  <a:pt x="18701" y="13113"/>
                </a:cubicBezTo>
              </a:path>
              <a:path w="2223" h="7082">
                <a:moveTo>
                  <a:pt x="18732" y="11938"/>
                </a:moveTo>
                <a:cubicBezTo>
                  <a:pt x="18732" y="12069"/>
                  <a:pt x="18711" y="12191"/>
                  <a:pt x="18701" y="12319"/>
                </a:cubicBezTo>
                <a:cubicBezTo>
                  <a:pt x="18679" y="12595"/>
                  <a:pt x="18717" y="12871"/>
                  <a:pt x="18732" y="13144"/>
                </a:cubicBezTo>
                <a:cubicBezTo>
                  <a:pt x="18750" y="13474"/>
                  <a:pt x="18707" y="13802"/>
                  <a:pt x="18764" y="14129"/>
                </a:cubicBezTo>
                <a:cubicBezTo>
                  <a:pt x="18775" y="14182"/>
                  <a:pt x="18785" y="14235"/>
                  <a:pt x="18796" y="14288"/>
                </a:cubicBezTo>
              </a:path>
              <a:path w="2223" h="7082">
                <a:moveTo>
                  <a:pt x="16764" y="7461"/>
                </a:moveTo>
                <a:cubicBezTo>
                  <a:pt x="16721" y="7461"/>
                  <a:pt x="16711" y="7472"/>
                  <a:pt x="16732" y="7525"/>
                </a:cubicBezTo>
              </a:path>
              <a:path w="2223" h="7082">
                <a:moveTo>
                  <a:pt x="16764" y="7461"/>
                </a:moveTo>
                <a:cubicBezTo>
                  <a:pt x="16753" y="7525"/>
                  <a:pt x="16743" y="7588"/>
                  <a:pt x="16732" y="7652"/>
                </a:cubicBezTo>
              </a:path>
              <a:path w="2223" h="7082">
                <a:moveTo>
                  <a:pt x="16732" y="7652"/>
                </a:moveTo>
                <a:cubicBezTo>
                  <a:pt x="16771" y="7806"/>
                  <a:pt x="16737" y="7907"/>
                  <a:pt x="16732" y="8064"/>
                </a:cubicBezTo>
                <a:cubicBezTo>
                  <a:pt x="16726" y="8236"/>
                  <a:pt x="16712" y="8402"/>
                  <a:pt x="16700" y="8572"/>
                </a:cubicBezTo>
                <a:cubicBezTo>
                  <a:pt x="16686" y="8782"/>
                  <a:pt x="16692" y="8999"/>
                  <a:pt x="16669" y="9208"/>
                </a:cubicBezTo>
                <a:cubicBezTo>
                  <a:pt x="16644" y="9429"/>
                  <a:pt x="16662" y="9654"/>
                  <a:pt x="16637" y="9874"/>
                </a:cubicBezTo>
                <a:cubicBezTo>
                  <a:pt x="16615" y="10068"/>
                  <a:pt x="16605" y="10249"/>
                  <a:pt x="16605" y="10446"/>
                </a:cubicBezTo>
                <a:cubicBezTo>
                  <a:pt x="16605" y="10588"/>
                  <a:pt x="16585" y="10726"/>
                  <a:pt x="16574" y="10858"/>
                </a:cubicBezTo>
                <a:cubicBezTo>
                  <a:pt x="16569" y="10920"/>
                  <a:pt x="16574" y="10986"/>
                  <a:pt x="16574" y="11049"/>
                </a:cubicBezTo>
                <a:cubicBezTo>
                  <a:pt x="16621" y="11017"/>
                  <a:pt x="16685" y="10992"/>
                  <a:pt x="16732" y="10954"/>
                </a:cubicBezTo>
                <a:cubicBezTo>
                  <a:pt x="16809" y="10892"/>
                  <a:pt x="16866" y="10868"/>
                  <a:pt x="16954" y="10827"/>
                </a:cubicBezTo>
                <a:cubicBezTo>
                  <a:pt x="17042" y="10786"/>
                  <a:pt x="17118" y="10761"/>
                  <a:pt x="17208" y="10732"/>
                </a:cubicBezTo>
                <a:cubicBezTo>
                  <a:pt x="17306" y="10701"/>
                  <a:pt x="17398" y="10691"/>
                  <a:pt x="17494" y="10668"/>
                </a:cubicBezTo>
                <a:cubicBezTo>
                  <a:pt x="17578" y="10647"/>
                  <a:pt x="17662" y="10653"/>
                  <a:pt x="17748" y="10636"/>
                </a:cubicBezTo>
                <a:cubicBezTo>
                  <a:pt x="17841" y="10618"/>
                  <a:pt x="17904" y="10591"/>
                  <a:pt x="18002" y="10604"/>
                </a:cubicBezTo>
                <a:cubicBezTo>
                  <a:pt x="18036" y="10608"/>
                  <a:pt x="18081" y="10632"/>
                  <a:pt x="18129" y="10636"/>
                </a:cubicBezTo>
                <a:cubicBezTo>
                  <a:pt x="18102" y="10606"/>
                  <a:pt x="18056" y="10595"/>
                  <a:pt x="18034" y="10541"/>
                </a:cubicBezTo>
                <a:cubicBezTo>
                  <a:pt x="17999" y="10456"/>
                  <a:pt x="17995" y="10373"/>
                  <a:pt x="17970" y="10287"/>
                </a:cubicBezTo>
                <a:cubicBezTo>
                  <a:pt x="17931" y="10150"/>
                  <a:pt x="17929" y="10043"/>
                  <a:pt x="17907" y="9906"/>
                </a:cubicBezTo>
                <a:cubicBezTo>
                  <a:pt x="17874" y="9699"/>
                  <a:pt x="17849" y="9481"/>
                  <a:pt x="17844" y="9271"/>
                </a:cubicBezTo>
                <a:cubicBezTo>
                  <a:pt x="17840" y="9075"/>
                  <a:pt x="17870" y="8894"/>
                  <a:pt x="17875" y="8700"/>
                </a:cubicBezTo>
                <a:cubicBezTo>
                  <a:pt x="17880" y="8527"/>
                  <a:pt x="17902" y="8363"/>
                  <a:pt x="17907" y="8192"/>
                </a:cubicBezTo>
                <a:cubicBezTo>
                  <a:pt x="17911" y="8038"/>
                  <a:pt x="17933" y="7897"/>
                  <a:pt x="17939" y="7747"/>
                </a:cubicBezTo>
                <a:cubicBezTo>
                  <a:pt x="17943" y="7638"/>
                  <a:pt x="17962" y="7530"/>
                  <a:pt x="17970" y="7430"/>
                </a:cubicBezTo>
                <a:cubicBezTo>
                  <a:pt x="17975" y="7373"/>
                  <a:pt x="18008" y="7288"/>
                  <a:pt x="18002" y="7239"/>
                </a:cubicBezTo>
                <a:cubicBezTo>
                  <a:pt x="17970" y="7239"/>
                  <a:pt x="17959" y="7239"/>
                  <a:pt x="17970" y="7207"/>
                </a:cubicBezTo>
                <a:cubicBezTo>
                  <a:pt x="17924" y="7232"/>
                  <a:pt x="17894" y="7253"/>
                  <a:pt x="17844" y="7271"/>
                </a:cubicBezTo>
                <a:cubicBezTo>
                  <a:pt x="17781" y="7294"/>
                  <a:pt x="17718" y="7312"/>
                  <a:pt x="17653" y="7334"/>
                </a:cubicBezTo>
                <a:cubicBezTo>
                  <a:pt x="17583" y="7357"/>
                  <a:pt x="17482" y="7390"/>
                  <a:pt x="17399" y="7398"/>
                </a:cubicBezTo>
                <a:cubicBezTo>
                  <a:pt x="17293" y="7408"/>
                  <a:pt x="17185" y="7408"/>
                  <a:pt x="17082" y="7430"/>
                </a:cubicBezTo>
                <a:cubicBezTo>
                  <a:pt x="16975" y="7453"/>
                  <a:pt x="16870" y="7472"/>
                  <a:pt x="16764" y="74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Ink 12"/>
          <p:cNvSpPr/>
          <p:nvPr/>
        </p:nvSpPr>
        <p:spPr>
          <a:xfrm>
            <a:off x="7440480" y="4091040"/>
            <a:ext cx="1463760" cy="1212840"/>
          </a:xfrm>
          <a:custGeom>
            <a:avLst/>
            <a:gdLst/>
            <a:ahLst/>
            <a:rect l="l" t="t" r="r" b="b"/>
            <a:pathLst>
              <a:path w="4065" h="3367">
                <a:moveTo>
                  <a:pt x="20669" y="12510"/>
                </a:moveTo>
                <a:cubicBezTo>
                  <a:pt x="20684" y="12570"/>
                  <a:pt x="20683" y="12636"/>
                  <a:pt x="20701" y="12700"/>
                </a:cubicBezTo>
                <a:cubicBezTo>
                  <a:pt x="20728" y="12796"/>
                  <a:pt x="20764" y="12894"/>
                  <a:pt x="20796" y="12986"/>
                </a:cubicBezTo>
                <a:cubicBezTo>
                  <a:pt x="20831" y="13086"/>
                  <a:pt x="20885" y="13174"/>
                  <a:pt x="20923" y="13272"/>
                </a:cubicBezTo>
                <a:cubicBezTo>
                  <a:pt x="20963" y="13374"/>
                  <a:pt x="20986" y="13484"/>
                  <a:pt x="21018" y="13589"/>
                </a:cubicBezTo>
                <a:cubicBezTo>
                  <a:pt x="21033" y="13639"/>
                  <a:pt x="21049" y="13672"/>
                  <a:pt x="21082" y="13716"/>
                </a:cubicBezTo>
              </a:path>
              <a:path w="4065" h="3367">
                <a:moveTo>
                  <a:pt x="21209" y="12351"/>
                </a:moveTo>
                <a:cubicBezTo>
                  <a:pt x="21209" y="12514"/>
                  <a:pt x="21189" y="12668"/>
                  <a:pt x="21177" y="12827"/>
                </a:cubicBezTo>
                <a:cubicBezTo>
                  <a:pt x="21160" y="13060"/>
                  <a:pt x="21127" y="13293"/>
                  <a:pt x="21114" y="13526"/>
                </a:cubicBezTo>
                <a:cubicBezTo>
                  <a:pt x="21102" y="13748"/>
                  <a:pt x="21087" y="13971"/>
                  <a:pt x="21082" y="14192"/>
                </a:cubicBezTo>
                <a:cubicBezTo>
                  <a:pt x="21079" y="14342"/>
                  <a:pt x="21037" y="14604"/>
                  <a:pt x="21114" y="14732"/>
                </a:cubicBezTo>
              </a:path>
              <a:path w="4065" h="3367">
                <a:moveTo>
                  <a:pt x="21558" y="12414"/>
                </a:moveTo>
                <a:cubicBezTo>
                  <a:pt x="21639" y="12414"/>
                  <a:pt x="21682" y="12405"/>
                  <a:pt x="21749" y="12382"/>
                </a:cubicBezTo>
                <a:cubicBezTo>
                  <a:pt x="21793" y="12367"/>
                  <a:pt x="21807" y="12356"/>
                  <a:pt x="21844" y="12319"/>
                </a:cubicBezTo>
              </a:path>
              <a:path w="4065" h="3367">
                <a:moveTo>
                  <a:pt x="22098" y="11874"/>
                </a:moveTo>
                <a:cubicBezTo>
                  <a:pt x="22098" y="12128"/>
                  <a:pt x="22098" y="12382"/>
                  <a:pt x="22098" y="12636"/>
                </a:cubicBezTo>
              </a:path>
              <a:path w="4065" h="3367">
                <a:moveTo>
                  <a:pt x="22003" y="13430"/>
                </a:moveTo>
                <a:cubicBezTo>
                  <a:pt x="22150" y="13430"/>
                  <a:pt x="22218" y="13434"/>
                  <a:pt x="22320" y="13367"/>
                </a:cubicBezTo>
                <a:cubicBezTo>
                  <a:pt x="22362" y="13367"/>
                  <a:pt x="22373" y="13377"/>
                  <a:pt x="22352" y="13430"/>
                </a:cubicBezTo>
              </a:path>
              <a:path w="4065" h="3367">
                <a:moveTo>
                  <a:pt x="22066" y="13780"/>
                </a:moveTo>
                <a:cubicBezTo>
                  <a:pt x="22117" y="13780"/>
                  <a:pt x="22185" y="13772"/>
                  <a:pt x="22225" y="13748"/>
                </a:cubicBezTo>
                <a:cubicBezTo>
                  <a:pt x="22272" y="13720"/>
                  <a:pt x="22299" y="13697"/>
                  <a:pt x="22352" y="13684"/>
                </a:cubicBezTo>
              </a:path>
              <a:path w="4065" h="3367">
                <a:moveTo>
                  <a:pt x="22892" y="12224"/>
                </a:moveTo>
                <a:cubicBezTo>
                  <a:pt x="22924" y="12182"/>
                  <a:pt x="22957" y="12144"/>
                  <a:pt x="22987" y="12097"/>
                </a:cubicBezTo>
                <a:cubicBezTo>
                  <a:pt x="23030" y="12030"/>
                  <a:pt x="23063" y="11978"/>
                  <a:pt x="23114" y="11938"/>
                </a:cubicBezTo>
                <a:cubicBezTo>
                  <a:pt x="23167" y="11897"/>
                  <a:pt x="23188" y="11891"/>
                  <a:pt x="23241" y="11938"/>
                </a:cubicBezTo>
                <a:cubicBezTo>
                  <a:pt x="23293" y="11984"/>
                  <a:pt x="23273" y="12062"/>
                  <a:pt x="23273" y="12128"/>
                </a:cubicBezTo>
                <a:cubicBezTo>
                  <a:pt x="23273" y="12255"/>
                  <a:pt x="23245" y="12388"/>
                  <a:pt x="23209" y="12510"/>
                </a:cubicBezTo>
                <a:cubicBezTo>
                  <a:pt x="23175" y="12625"/>
                  <a:pt x="23128" y="12748"/>
                  <a:pt x="23082" y="12859"/>
                </a:cubicBezTo>
                <a:cubicBezTo>
                  <a:pt x="23048" y="12942"/>
                  <a:pt x="23052" y="12986"/>
                  <a:pt x="22987" y="13049"/>
                </a:cubicBezTo>
                <a:cubicBezTo>
                  <a:pt x="22987" y="13015"/>
                  <a:pt x="22997" y="12937"/>
                  <a:pt x="23019" y="12922"/>
                </a:cubicBezTo>
                <a:cubicBezTo>
                  <a:pt x="23053" y="12899"/>
                  <a:pt x="23056" y="12890"/>
                  <a:pt x="23114" y="12890"/>
                </a:cubicBezTo>
                <a:cubicBezTo>
                  <a:pt x="23158" y="12890"/>
                  <a:pt x="23208" y="12925"/>
                  <a:pt x="23241" y="12954"/>
                </a:cubicBezTo>
                <a:cubicBezTo>
                  <a:pt x="23266" y="12976"/>
                  <a:pt x="23357" y="13001"/>
                  <a:pt x="23368" y="13018"/>
                </a:cubicBezTo>
                <a:cubicBezTo>
                  <a:pt x="23393" y="13054"/>
                  <a:pt x="23370" y="13049"/>
                  <a:pt x="23432" y="13049"/>
                </a:cubicBezTo>
              </a:path>
              <a:path w="4065" h="3367">
                <a:moveTo>
                  <a:pt x="23463" y="12065"/>
                </a:moveTo>
                <a:cubicBezTo>
                  <a:pt x="23463" y="12146"/>
                  <a:pt x="23491" y="12181"/>
                  <a:pt x="23495" y="12256"/>
                </a:cubicBezTo>
                <a:cubicBezTo>
                  <a:pt x="23500" y="12342"/>
                  <a:pt x="23463" y="12418"/>
                  <a:pt x="23463" y="12510"/>
                </a:cubicBezTo>
                <a:cubicBezTo>
                  <a:pt x="23463" y="12543"/>
                  <a:pt x="23454" y="12621"/>
                  <a:pt x="23432" y="12636"/>
                </a:cubicBezTo>
                <a:cubicBezTo>
                  <a:pt x="23421" y="12636"/>
                  <a:pt x="23411" y="12636"/>
                  <a:pt x="23400" y="12636"/>
                </a:cubicBezTo>
                <a:cubicBezTo>
                  <a:pt x="23441" y="12582"/>
                  <a:pt x="23424" y="12573"/>
                  <a:pt x="23495" y="12573"/>
                </a:cubicBezTo>
                <a:cubicBezTo>
                  <a:pt x="23576" y="12573"/>
                  <a:pt x="23619" y="12582"/>
                  <a:pt x="23686" y="12605"/>
                </a:cubicBezTo>
                <a:cubicBezTo>
                  <a:pt x="23739" y="12623"/>
                  <a:pt x="23800" y="12610"/>
                  <a:pt x="23812" y="12573"/>
                </a:cubicBezTo>
              </a:path>
              <a:path w="4065" h="3367">
                <a:moveTo>
                  <a:pt x="23749" y="11874"/>
                </a:moveTo>
                <a:cubicBezTo>
                  <a:pt x="23765" y="11938"/>
                  <a:pt x="23781" y="11956"/>
                  <a:pt x="23781" y="12033"/>
                </a:cubicBezTo>
                <a:cubicBezTo>
                  <a:pt x="23781" y="12117"/>
                  <a:pt x="23794" y="12235"/>
                  <a:pt x="23812" y="12319"/>
                </a:cubicBezTo>
                <a:cubicBezTo>
                  <a:pt x="23839" y="12447"/>
                  <a:pt x="23820" y="12573"/>
                  <a:pt x="23844" y="12700"/>
                </a:cubicBezTo>
                <a:cubicBezTo>
                  <a:pt x="23865" y="12811"/>
                  <a:pt x="23876" y="12903"/>
                  <a:pt x="23876" y="13018"/>
                </a:cubicBezTo>
                <a:cubicBezTo>
                  <a:pt x="23876" y="13039"/>
                  <a:pt x="23876" y="13060"/>
                  <a:pt x="23876" y="13081"/>
                </a:cubicBezTo>
              </a:path>
              <a:path w="4065" h="3367">
                <a:moveTo>
                  <a:pt x="24003" y="12128"/>
                </a:moveTo>
                <a:lnTo>
                  <a:pt x="24003" y="12128"/>
                </a:lnTo>
              </a:path>
              <a:path w="4065" h="3367">
                <a:moveTo>
                  <a:pt x="24003" y="12128"/>
                </a:moveTo>
                <a:cubicBezTo>
                  <a:pt x="24024" y="12160"/>
                  <a:pt x="24045" y="12192"/>
                  <a:pt x="24066" y="12224"/>
                </a:cubicBezTo>
              </a:path>
              <a:path w="4065" h="3367">
                <a:moveTo>
                  <a:pt x="24066" y="12224"/>
                </a:moveTo>
                <a:cubicBezTo>
                  <a:pt x="24077" y="12312"/>
                  <a:pt x="24093" y="12396"/>
                  <a:pt x="24130" y="12478"/>
                </a:cubicBezTo>
                <a:cubicBezTo>
                  <a:pt x="24169" y="12565"/>
                  <a:pt x="24212" y="12653"/>
                  <a:pt x="24257" y="12732"/>
                </a:cubicBezTo>
                <a:cubicBezTo>
                  <a:pt x="24286" y="12783"/>
                  <a:pt x="24324" y="12848"/>
                  <a:pt x="24352" y="12890"/>
                </a:cubicBezTo>
                <a:cubicBezTo>
                  <a:pt x="24363" y="12901"/>
                  <a:pt x="24373" y="12911"/>
                  <a:pt x="24384" y="12922"/>
                </a:cubicBezTo>
              </a:path>
              <a:path w="4065" h="3367">
                <a:moveTo>
                  <a:pt x="24384" y="11906"/>
                </a:moveTo>
                <a:cubicBezTo>
                  <a:pt x="24365" y="11999"/>
                  <a:pt x="24340" y="12099"/>
                  <a:pt x="24320" y="12192"/>
                </a:cubicBezTo>
                <a:cubicBezTo>
                  <a:pt x="24278" y="12384"/>
                  <a:pt x="24211" y="12573"/>
                  <a:pt x="24162" y="12764"/>
                </a:cubicBezTo>
                <a:cubicBezTo>
                  <a:pt x="24132" y="12880"/>
                  <a:pt x="24144" y="13037"/>
                  <a:pt x="24098" y="13144"/>
                </a:cubicBezTo>
                <a:cubicBezTo>
                  <a:pt x="24087" y="13155"/>
                  <a:pt x="24077" y="13165"/>
                  <a:pt x="24066" y="13176"/>
                </a:cubicBezTo>
              </a:path>
              <a:path w="4065" h="3367">
                <a:moveTo>
                  <a:pt x="24543" y="11589"/>
                </a:moveTo>
                <a:cubicBezTo>
                  <a:pt x="24543" y="11675"/>
                  <a:pt x="24534" y="11711"/>
                  <a:pt x="24511" y="11779"/>
                </a:cubicBezTo>
                <a:cubicBezTo>
                  <a:pt x="24503" y="11803"/>
                  <a:pt x="24511" y="11848"/>
                  <a:pt x="24511" y="11874"/>
                </a:cubicBezTo>
                <a:cubicBezTo>
                  <a:pt x="24541" y="11864"/>
                  <a:pt x="24571" y="11863"/>
                  <a:pt x="24606" y="11843"/>
                </a:cubicBezTo>
                <a:cubicBezTo>
                  <a:pt x="24647" y="11820"/>
                  <a:pt x="24704" y="11848"/>
                  <a:pt x="24733" y="11811"/>
                </a:cubicBezTo>
                <a:cubicBezTo>
                  <a:pt x="24733" y="11800"/>
                  <a:pt x="24733" y="11790"/>
                  <a:pt x="24733" y="11779"/>
                </a:cubicBezTo>
              </a:path>
              <a:path w="4065" h="3367">
                <a:moveTo>
                  <a:pt x="24733" y="11366"/>
                </a:moveTo>
                <a:cubicBezTo>
                  <a:pt x="24733" y="11610"/>
                  <a:pt x="24733" y="11853"/>
                  <a:pt x="24733" y="12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nk 13"/>
          <p:cNvSpPr/>
          <p:nvPr/>
        </p:nvSpPr>
        <p:spPr>
          <a:xfrm>
            <a:off x="1749600" y="4994280"/>
            <a:ext cx="377640" cy="401760"/>
          </a:xfrm>
          <a:custGeom>
            <a:avLst/>
            <a:gdLst/>
            <a:ahLst/>
            <a:rect l="l" t="t" r="r" b="b"/>
            <a:pathLst>
              <a:path w="1049" h="1112">
                <a:moveTo>
                  <a:pt x="4858" y="14796"/>
                </a:moveTo>
                <a:cubicBezTo>
                  <a:pt x="4858" y="14867"/>
                  <a:pt x="4883" y="14839"/>
                  <a:pt x="4890" y="14891"/>
                </a:cubicBezTo>
                <a:cubicBezTo>
                  <a:pt x="4897" y="14945"/>
                  <a:pt x="4931" y="14980"/>
                  <a:pt x="4985" y="14986"/>
                </a:cubicBezTo>
                <a:cubicBezTo>
                  <a:pt x="5029" y="14991"/>
                  <a:pt x="5081" y="14975"/>
                  <a:pt x="5112" y="14954"/>
                </a:cubicBezTo>
                <a:cubicBezTo>
                  <a:pt x="5168" y="14917"/>
                  <a:pt x="5209" y="14853"/>
                  <a:pt x="5239" y="14796"/>
                </a:cubicBezTo>
                <a:cubicBezTo>
                  <a:pt x="5299" y="14681"/>
                  <a:pt x="5348" y="14565"/>
                  <a:pt x="5398" y="14446"/>
                </a:cubicBezTo>
                <a:cubicBezTo>
                  <a:pt x="5435" y="14360"/>
                  <a:pt x="5447" y="14250"/>
                  <a:pt x="5461" y="14160"/>
                </a:cubicBezTo>
                <a:cubicBezTo>
                  <a:pt x="5471" y="14100"/>
                  <a:pt x="5432" y="13989"/>
                  <a:pt x="5398" y="13938"/>
                </a:cubicBezTo>
                <a:cubicBezTo>
                  <a:pt x="5362" y="13884"/>
                  <a:pt x="5329" y="13875"/>
                  <a:pt x="5270" y="13875"/>
                </a:cubicBezTo>
                <a:cubicBezTo>
                  <a:pt x="5180" y="13875"/>
                  <a:pt x="5201" y="13920"/>
                  <a:pt x="5175" y="13970"/>
                </a:cubicBezTo>
                <a:cubicBezTo>
                  <a:pt x="5133" y="14049"/>
                  <a:pt x="5116" y="14127"/>
                  <a:pt x="5112" y="14224"/>
                </a:cubicBezTo>
                <a:cubicBezTo>
                  <a:pt x="5107" y="14360"/>
                  <a:pt x="5126" y="14475"/>
                  <a:pt x="5144" y="14605"/>
                </a:cubicBezTo>
                <a:cubicBezTo>
                  <a:pt x="5156" y="14690"/>
                  <a:pt x="5155" y="14794"/>
                  <a:pt x="5207" y="14859"/>
                </a:cubicBezTo>
                <a:cubicBezTo>
                  <a:pt x="5241" y="14901"/>
                  <a:pt x="5282" y="14948"/>
                  <a:pt x="5334" y="14954"/>
                </a:cubicBezTo>
                <a:cubicBezTo>
                  <a:pt x="5374" y="14958"/>
                  <a:pt x="5432" y="14917"/>
                  <a:pt x="5461" y="14891"/>
                </a:cubicBezTo>
                <a:cubicBezTo>
                  <a:pt x="5472" y="14880"/>
                  <a:pt x="5482" y="14870"/>
                  <a:pt x="5493" y="14859"/>
                </a:cubicBezTo>
              </a:path>
              <a:path w="1049" h="1112">
                <a:moveTo>
                  <a:pt x="5524" y="14288"/>
                </a:moveTo>
                <a:cubicBezTo>
                  <a:pt x="5570" y="14288"/>
                  <a:pt x="5618" y="14279"/>
                  <a:pt x="5652" y="14256"/>
                </a:cubicBezTo>
                <a:cubicBezTo>
                  <a:pt x="5683" y="14224"/>
                  <a:pt x="5694" y="14213"/>
                  <a:pt x="5715" y="14192"/>
                </a:cubicBezTo>
              </a:path>
              <a:path w="1049" h="1112">
                <a:moveTo>
                  <a:pt x="5683" y="14510"/>
                </a:moveTo>
                <a:cubicBezTo>
                  <a:pt x="5673" y="14521"/>
                  <a:pt x="5662" y="14531"/>
                  <a:pt x="5652" y="14542"/>
                </a:cubicBezTo>
                <a:cubicBezTo>
                  <a:pt x="5721" y="14542"/>
                  <a:pt x="5757" y="14526"/>
                  <a:pt x="5810" y="14478"/>
                </a:cubicBezTo>
                <a:cubicBezTo>
                  <a:pt x="5848" y="14440"/>
                  <a:pt x="5867" y="14425"/>
                  <a:pt x="5906" y="14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Ink 14"/>
          <p:cNvSpPr/>
          <p:nvPr/>
        </p:nvSpPr>
        <p:spPr>
          <a:xfrm>
            <a:off x="3668760" y="4343400"/>
            <a:ext cx="388800" cy="446040"/>
          </a:xfrm>
          <a:custGeom>
            <a:avLst/>
            <a:gdLst/>
            <a:ahLst/>
            <a:rect l="l" t="t" r="r" b="b"/>
            <a:pathLst>
              <a:path w="1080" h="1239">
                <a:moveTo>
                  <a:pt x="10192" y="12319"/>
                </a:moveTo>
                <a:cubicBezTo>
                  <a:pt x="10228" y="12367"/>
                  <a:pt x="10245" y="12448"/>
                  <a:pt x="10255" y="12510"/>
                </a:cubicBezTo>
                <a:cubicBezTo>
                  <a:pt x="10271" y="12609"/>
                  <a:pt x="10288" y="12700"/>
                  <a:pt x="10319" y="12795"/>
                </a:cubicBezTo>
                <a:cubicBezTo>
                  <a:pt x="10352" y="12896"/>
                  <a:pt x="10391" y="13011"/>
                  <a:pt x="10414" y="13113"/>
                </a:cubicBezTo>
                <a:cubicBezTo>
                  <a:pt x="10426" y="13168"/>
                  <a:pt x="10434" y="13191"/>
                  <a:pt x="10446" y="13240"/>
                </a:cubicBezTo>
                <a:cubicBezTo>
                  <a:pt x="10501" y="13222"/>
                  <a:pt x="10478" y="13152"/>
                  <a:pt x="10478" y="13081"/>
                </a:cubicBezTo>
                <a:cubicBezTo>
                  <a:pt x="10478" y="12944"/>
                  <a:pt x="10468" y="12827"/>
                  <a:pt x="10478" y="12700"/>
                </a:cubicBezTo>
                <a:cubicBezTo>
                  <a:pt x="10486" y="12598"/>
                  <a:pt x="10502" y="12512"/>
                  <a:pt x="10509" y="12414"/>
                </a:cubicBezTo>
                <a:cubicBezTo>
                  <a:pt x="10509" y="12382"/>
                  <a:pt x="10509" y="12371"/>
                  <a:pt x="10541" y="12382"/>
                </a:cubicBezTo>
                <a:cubicBezTo>
                  <a:pt x="10558" y="12451"/>
                  <a:pt x="10595" y="12529"/>
                  <a:pt x="10604" y="12605"/>
                </a:cubicBezTo>
                <a:cubicBezTo>
                  <a:pt x="10620" y="12735"/>
                  <a:pt x="10630" y="12859"/>
                  <a:pt x="10668" y="12986"/>
                </a:cubicBezTo>
                <a:cubicBezTo>
                  <a:pt x="10694" y="13074"/>
                  <a:pt x="10687" y="13196"/>
                  <a:pt x="10732" y="13272"/>
                </a:cubicBezTo>
                <a:cubicBezTo>
                  <a:pt x="10760" y="13300"/>
                  <a:pt x="10767" y="13311"/>
                  <a:pt x="10795" y="13303"/>
                </a:cubicBezTo>
                <a:cubicBezTo>
                  <a:pt x="10795" y="13077"/>
                  <a:pt x="10808" y="12858"/>
                  <a:pt x="10827" y="12636"/>
                </a:cubicBezTo>
                <a:cubicBezTo>
                  <a:pt x="10840" y="12476"/>
                  <a:pt x="10891" y="12344"/>
                  <a:pt x="10922" y="12192"/>
                </a:cubicBezTo>
                <a:cubicBezTo>
                  <a:pt x="10922" y="12126"/>
                  <a:pt x="10923" y="12102"/>
                  <a:pt x="10954" y="12065"/>
                </a:cubicBezTo>
              </a:path>
              <a:path w="1080" h="1239">
                <a:moveTo>
                  <a:pt x="10922" y="12827"/>
                </a:moveTo>
                <a:cubicBezTo>
                  <a:pt x="10933" y="12827"/>
                  <a:pt x="10943" y="12827"/>
                  <a:pt x="10954" y="12827"/>
                </a:cubicBezTo>
                <a:cubicBezTo>
                  <a:pt x="10966" y="12781"/>
                  <a:pt x="11001" y="12748"/>
                  <a:pt x="11049" y="12732"/>
                </a:cubicBezTo>
                <a:cubicBezTo>
                  <a:pt x="11115" y="12710"/>
                  <a:pt x="11132" y="12679"/>
                  <a:pt x="11208" y="12668"/>
                </a:cubicBezTo>
              </a:path>
              <a:path w="1080" h="1239">
                <a:moveTo>
                  <a:pt x="11049" y="12986"/>
                </a:moveTo>
                <a:cubicBezTo>
                  <a:pt x="11128" y="12986"/>
                  <a:pt x="11165" y="12973"/>
                  <a:pt x="11240" y="12954"/>
                </a:cubicBezTo>
                <a:cubicBezTo>
                  <a:pt x="11250" y="12954"/>
                  <a:pt x="11261" y="12954"/>
                  <a:pt x="11271" y="12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Ink 15"/>
          <p:cNvSpPr/>
          <p:nvPr/>
        </p:nvSpPr>
        <p:spPr>
          <a:xfrm>
            <a:off x="708120" y="3382920"/>
            <a:ext cx="344520" cy="709560"/>
          </a:xfrm>
          <a:custGeom>
            <a:avLst/>
            <a:gdLst/>
            <a:ahLst/>
            <a:rect l="l" t="t" r="r" b="b"/>
            <a:pathLst>
              <a:path w="954" h="1969">
                <a:moveTo>
                  <a:pt x="2032" y="9398"/>
                </a:moveTo>
                <a:cubicBezTo>
                  <a:pt x="2032" y="9492"/>
                  <a:pt x="2011" y="9561"/>
                  <a:pt x="2000" y="9652"/>
                </a:cubicBezTo>
                <a:cubicBezTo>
                  <a:pt x="1972" y="9895"/>
                  <a:pt x="2016" y="10143"/>
                  <a:pt x="2032" y="10382"/>
                </a:cubicBezTo>
                <a:cubicBezTo>
                  <a:pt x="2054" y="10707"/>
                  <a:pt x="2032" y="11040"/>
                  <a:pt x="2032" y="11366"/>
                </a:cubicBezTo>
                <a:cubicBezTo>
                  <a:pt x="2004" y="11283"/>
                  <a:pt x="2015" y="11207"/>
                  <a:pt x="2000" y="11112"/>
                </a:cubicBezTo>
                <a:cubicBezTo>
                  <a:pt x="1974" y="10947"/>
                  <a:pt x="1967" y="10803"/>
                  <a:pt x="2000" y="10636"/>
                </a:cubicBezTo>
                <a:cubicBezTo>
                  <a:pt x="2022" y="10521"/>
                  <a:pt x="2031" y="10389"/>
                  <a:pt x="2096" y="10287"/>
                </a:cubicBezTo>
                <a:cubicBezTo>
                  <a:pt x="2126" y="10240"/>
                  <a:pt x="2135" y="10248"/>
                  <a:pt x="2159" y="10224"/>
                </a:cubicBezTo>
                <a:cubicBezTo>
                  <a:pt x="2239" y="10251"/>
                  <a:pt x="2218" y="10248"/>
                  <a:pt x="2254" y="10350"/>
                </a:cubicBezTo>
                <a:cubicBezTo>
                  <a:pt x="2305" y="10495"/>
                  <a:pt x="2289" y="10647"/>
                  <a:pt x="2318" y="10795"/>
                </a:cubicBezTo>
                <a:cubicBezTo>
                  <a:pt x="2344" y="10927"/>
                  <a:pt x="2367" y="11083"/>
                  <a:pt x="2413" y="11208"/>
                </a:cubicBezTo>
                <a:cubicBezTo>
                  <a:pt x="2442" y="11286"/>
                  <a:pt x="2450" y="11270"/>
                  <a:pt x="2476" y="11303"/>
                </a:cubicBezTo>
                <a:cubicBezTo>
                  <a:pt x="2559" y="11291"/>
                  <a:pt x="2559" y="11294"/>
                  <a:pt x="2604" y="11208"/>
                </a:cubicBezTo>
                <a:cubicBezTo>
                  <a:pt x="2635" y="11144"/>
                  <a:pt x="2645" y="11123"/>
                  <a:pt x="2667" y="11081"/>
                </a:cubicBezTo>
              </a:path>
              <a:path w="954" h="1969">
                <a:moveTo>
                  <a:pt x="2635" y="10478"/>
                </a:moveTo>
                <a:cubicBezTo>
                  <a:pt x="2678" y="10435"/>
                  <a:pt x="2721" y="10410"/>
                  <a:pt x="2762" y="10382"/>
                </a:cubicBezTo>
                <a:cubicBezTo>
                  <a:pt x="2798" y="10346"/>
                  <a:pt x="2815" y="10335"/>
                  <a:pt x="2858" y="10350"/>
                </a:cubicBezTo>
              </a:path>
              <a:path w="954" h="1969">
                <a:moveTo>
                  <a:pt x="2762" y="10763"/>
                </a:moveTo>
                <a:cubicBezTo>
                  <a:pt x="2824" y="10702"/>
                  <a:pt x="2832" y="10700"/>
                  <a:pt x="2921" y="10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4.  I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what does m equ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4"/>
              <p:cNvSpPr txBox="1"/>
              <p:nvPr/>
            </p:nvSpPr>
            <p:spPr>
              <a:xfrm>
                <a:off x="2666880" y="838080"/>
                <a:ext cx="4267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·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·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6" name="Ink 5"/>
          <p:cNvSpPr/>
          <p:nvPr/>
        </p:nvSpPr>
        <p:spPr>
          <a:xfrm>
            <a:off x="2286000" y="2297160"/>
            <a:ext cx="766800" cy="538200"/>
          </a:xfrm>
          <a:custGeom>
            <a:avLst/>
            <a:gdLst/>
            <a:ahLst/>
            <a:rect l="l" t="t" r="r" b="b"/>
            <a:pathLst>
              <a:path w="2128" h="1493">
                <a:moveTo>
                  <a:pt x="6858" y="7239"/>
                </a:moveTo>
                <a:cubicBezTo>
                  <a:pt x="6858" y="7133"/>
                  <a:pt x="6849" y="7053"/>
                  <a:pt x="6826" y="6953"/>
                </a:cubicBezTo>
                <a:cubicBezTo>
                  <a:pt x="6817" y="6913"/>
                  <a:pt x="6807" y="6816"/>
                  <a:pt x="6763" y="6794"/>
                </a:cubicBezTo>
                <a:cubicBezTo>
                  <a:pt x="6727" y="6776"/>
                  <a:pt x="6650" y="6740"/>
                  <a:pt x="6604" y="6763"/>
                </a:cubicBezTo>
                <a:cubicBezTo>
                  <a:pt x="6528" y="6800"/>
                  <a:pt x="6474" y="6911"/>
                  <a:pt x="6445" y="6985"/>
                </a:cubicBezTo>
                <a:cubicBezTo>
                  <a:pt x="6396" y="7110"/>
                  <a:pt x="6355" y="7233"/>
                  <a:pt x="6350" y="7366"/>
                </a:cubicBezTo>
                <a:cubicBezTo>
                  <a:pt x="6347" y="7458"/>
                  <a:pt x="6325" y="7581"/>
                  <a:pt x="6382" y="7652"/>
                </a:cubicBezTo>
                <a:cubicBezTo>
                  <a:pt x="6432" y="7714"/>
                  <a:pt x="6475" y="7741"/>
                  <a:pt x="6540" y="7684"/>
                </a:cubicBezTo>
                <a:cubicBezTo>
                  <a:pt x="6636" y="7601"/>
                  <a:pt x="6665" y="7520"/>
                  <a:pt x="6699" y="7398"/>
                </a:cubicBezTo>
                <a:cubicBezTo>
                  <a:pt x="6737" y="7263"/>
                  <a:pt x="6805" y="7151"/>
                  <a:pt x="6826" y="7017"/>
                </a:cubicBezTo>
                <a:cubicBezTo>
                  <a:pt x="6834" y="6968"/>
                  <a:pt x="6833" y="6864"/>
                  <a:pt x="6826" y="6953"/>
                </a:cubicBezTo>
                <a:cubicBezTo>
                  <a:pt x="6812" y="7136"/>
                  <a:pt x="6792" y="7384"/>
                  <a:pt x="6858" y="7556"/>
                </a:cubicBezTo>
                <a:cubicBezTo>
                  <a:pt x="6881" y="7616"/>
                  <a:pt x="6922" y="7677"/>
                  <a:pt x="6985" y="7684"/>
                </a:cubicBezTo>
                <a:cubicBezTo>
                  <a:pt x="7040" y="7690"/>
                  <a:pt x="7097" y="7643"/>
                  <a:pt x="7144" y="7620"/>
                </a:cubicBezTo>
              </a:path>
              <a:path w="2128" h="1493">
                <a:moveTo>
                  <a:pt x="7620" y="6382"/>
                </a:moveTo>
                <a:cubicBezTo>
                  <a:pt x="7620" y="6629"/>
                  <a:pt x="7632" y="6869"/>
                  <a:pt x="7652" y="7112"/>
                </a:cubicBezTo>
                <a:cubicBezTo>
                  <a:pt x="7669" y="7313"/>
                  <a:pt x="7652" y="7853"/>
                  <a:pt x="7652" y="7652"/>
                </a:cubicBezTo>
                <a:cubicBezTo>
                  <a:pt x="7652" y="7528"/>
                  <a:pt x="7633" y="7421"/>
                  <a:pt x="7620" y="7302"/>
                </a:cubicBezTo>
                <a:cubicBezTo>
                  <a:pt x="7607" y="7187"/>
                  <a:pt x="7626" y="7119"/>
                  <a:pt x="7556" y="7017"/>
                </a:cubicBezTo>
                <a:cubicBezTo>
                  <a:pt x="7530" y="6979"/>
                  <a:pt x="7430" y="7006"/>
                  <a:pt x="7398" y="7048"/>
                </a:cubicBezTo>
                <a:cubicBezTo>
                  <a:pt x="7336" y="7128"/>
                  <a:pt x="7314" y="7243"/>
                  <a:pt x="7271" y="7334"/>
                </a:cubicBezTo>
                <a:cubicBezTo>
                  <a:pt x="7228" y="7426"/>
                  <a:pt x="7229" y="7517"/>
                  <a:pt x="7239" y="7588"/>
                </a:cubicBezTo>
                <a:cubicBezTo>
                  <a:pt x="7253" y="7693"/>
                  <a:pt x="7287" y="7709"/>
                  <a:pt x="7398" y="7715"/>
                </a:cubicBezTo>
                <a:cubicBezTo>
                  <a:pt x="7503" y="7721"/>
                  <a:pt x="7559" y="7698"/>
                  <a:pt x="7652" y="7652"/>
                </a:cubicBezTo>
              </a:path>
              <a:path w="2128" h="1493">
                <a:moveTo>
                  <a:pt x="8350" y="6509"/>
                </a:moveTo>
                <a:cubicBezTo>
                  <a:pt x="8350" y="6621"/>
                  <a:pt x="8328" y="6719"/>
                  <a:pt x="8318" y="6826"/>
                </a:cubicBezTo>
                <a:cubicBezTo>
                  <a:pt x="8297" y="7049"/>
                  <a:pt x="8320" y="7277"/>
                  <a:pt x="8350" y="7493"/>
                </a:cubicBezTo>
                <a:cubicBezTo>
                  <a:pt x="8360" y="7569"/>
                  <a:pt x="8366" y="7618"/>
                  <a:pt x="8382" y="7684"/>
                </a:cubicBezTo>
                <a:cubicBezTo>
                  <a:pt x="8363" y="7591"/>
                  <a:pt x="8344" y="7494"/>
                  <a:pt x="8318" y="7398"/>
                </a:cubicBezTo>
                <a:cubicBezTo>
                  <a:pt x="8290" y="7294"/>
                  <a:pt x="8254" y="7170"/>
                  <a:pt x="8192" y="7080"/>
                </a:cubicBezTo>
                <a:cubicBezTo>
                  <a:pt x="8146" y="7013"/>
                  <a:pt x="8043" y="7063"/>
                  <a:pt x="8001" y="7112"/>
                </a:cubicBezTo>
                <a:cubicBezTo>
                  <a:pt x="7936" y="7189"/>
                  <a:pt x="7916" y="7337"/>
                  <a:pt x="7906" y="7430"/>
                </a:cubicBezTo>
                <a:cubicBezTo>
                  <a:pt x="7893" y="7548"/>
                  <a:pt x="7910" y="7675"/>
                  <a:pt x="7969" y="7779"/>
                </a:cubicBezTo>
                <a:cubicBezTo>
                  <a:pt x="8010" y="7852"/>
                  <a:pt x="8151" y="7885"/>
                  <a:pt x="8223" y="7874"/>
                </a:cubicBezTo>
                <a:cubicBezTo>
                  <a:pt x="8304" y="7861"/>
                  <a:pt x="8400" y="7807"/>
                  <a:pt x="8477" y="7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nk 6"/>
          <p:cNvSpPr/>
          <p:nvPr/>
        </p:nvSpPr>
        <p:spPr>
          <a:xfrm>
            <a:off x="3325680" y="2262240"/>
            <a:ext cx="755640" cy="584280"/>
          </a:xfrm>
          <a:custGeom>
            <a:avLst/>
            <a:gdLst/>
            <a:ahLst/>
            <a:rect l="l" t="t" r="r" b="b"/>
            <a:pathLst>
              <a:path w="2097" h="1621">
                <a:moveTo>
                  <a:pt x="9684" y="6286"/>
                </a:moveTo>
                <a:cubicBezTo>
                  <a:pt x="9708" y="6408"/>
                  <a:pt x="9688" y="6504"/>
                  <a:pt x="9684" y="6636"/>
                </a:cubicBezTo>
                <a:cubicBezTo>
                  <a:pt x="9679" y="6829"/>
                  <a:pt x="9656" y="7015"/>
                  <a:pt x="9652" y="7207"/>
                </a:cubicBezTo>
                <a:cubicBezTo>
                  <a:pt x="9648" y="7380"/>
                  <a:pt x="9620" y="7541"/>
                  <a:pt x="9620" y="7715"/>
                </a:cubicBezTo>
                <a:cubicBezTo>
                  <a:pt x="9620" y="7785"/>
                  <a:pt x="9592" y="7886"/>
                  <a:pt x="9652" y="7906"/>
                </a:cubicBezTo>
              </a:path>
              <a:path w="2097" h="1621">
                <a:moveTo>
                  <a:pt x="9239" y="7144"/>
                </a:moveTo>
                <a:cubicBezTo>
                  <a:pt x="9325" y="7196"/>
                  <a:pt x="9393" y="7153"/>
                  <a:pt x="9493" y="7176"/>
                </a:cubicBezTo>
                <a:cubicBezTo>
                  <a:pt x="9609" y="7203"/>
                  <a:pt x="9749" y="7230"/>
                  <a:pt x="9874" y="7207"/>
                </a:cubicBezTo>
                <a:cubicBezTo>
                  <a:pt x="9962" y="7191"/>
                  <a:pt x="10048" y="7148"/>
                  <a:pt x="10128" y="7112"/>
                </a:cubicBezTo>
              </a:path>
              <a:path w="2097" h="1621">
                <a:moveTo>
                  <a:pt x="10096" y="6477"/>
                </a:moveTo>
                <a:cubicBezTo>
                  <a:pt x="10116" y="6556"/>
                  <a:pt x="10128" y="6602"/>
                  <a:pt x="10128" y="6699"/>
                </a:cubicBezTo>
                <a:cubicBezTo>
                  <a:pt x="10128" y="6936"/>
                  <a:pt x="10116" y="7165"/>
                  <a:pt x="10096" y="7398"/>
                </a:cubicBezTo>
                <a:cubicBezTo>
                  <a:pt x="10085" y="7525"/>
                  <a:pt x="10103" y="7630"/>
                  <a:pt x="10128" y="7747"/>
                </a:cubicBezTo>
                <a:cubicBezTo>
                  <a:pt x="10141" y="7809"/>
                  <a:pt x="10128" y="7822"/>
                  <a:pt x="10128" y="7747"/>
                </a:cubicBezTo>
                <a:cubicBezTo>
                  <a:pt x="10128" y="7612"/>
                  <a:pt x="10121" y="7495"/>
                  <a:pt x="10160" y="7366"/>
                </a:cubicBezTo>
                <a:cubicBezTo>
                  <a:pt x="10185" y="7281"/>
                  <a:pt x="10209" y="7136"/>
                  <a:pt x="10287" y="7080"/>
                </a:cubicBezTo>
                <a:cubicBezTo>
                  <a:pt x="10370" y="7020"/>
                  <a:pt x="10400" y="7007"/>
                  <a:pt x="10478" y="7080"/>
                </a:cubicBezTo>
                <a:cubicBezTo>
                  <a:pt x="10571" y="7167"/>
                  <a:pt x="10568" y="7304"/>
                  <a:pt x="10573" y="7430"/>
                </a:cubicBezTo>
                <a:cubicBezTo>
                  <a:pt x="10577" y="7550"/>
                  <a:pt x="10604" y="7657"/>
                  <a:pt x="10604" y="7779"/>
                </a:cubicBezTo>
                <a:cubicBezTo>
                  <a:pt x="10604" y="7832"/>
                  <a:pt x="10604" y="7842"/>
                  <a:pt x="10604" y="7874"/>
                </a:cubicBezTo>
              </a:path>
              <a:path w="2097" h="1621">
                <a:moveTo>
                  <a:pt x="10795" y="7366"/>
                </a:moveTo>
                <a:cubicBezTo>
                  <a:pt x="10875" y="7356"/>
                  <a:pt x="10934" y="7334"/>
                  <a:pt x="11017" y="7334"/>
                </a:cubicBezTo>
                <a:cubicBezTo>
                  <a:pt x="11123" y="7334"/>
                  <a:pt x="11229" y="7334"/>
                  <a:pt x="11335" y="7334"/>
                </a:cubicBezTo>
                <a:cubicBezTo>
                  <a:pt x="11326" y="7261"/>
                  <a:pt x="11319" y="7199"/>
                  <a:pt x="11271" y="7144"/>
                </a:cubicBezTo>
                <a:cubicBezTo>
                  <a:pt x="11227" y="7094"/>
                  <a:pt x="11216" y="7022"/>
                  <a:pt x="11144" y="7017"/>
                </a:cubicBezTo>
                <a:cubicBezTo>
                  <a:pt x="11060" y="7011"/>
                  <a:pt x="10989" y="7068"/>
                  <a:pt x="10954" y="7144"/>
                </a:cubicBezTo>
                <a:cubicBezTo>
                  <a:pt x="10891" y="7282"/>
                  <a:pt x="10890" y="7407"/>
                  <a:pt x="10890" y="7556"/>
                </a:cubicBezTo>
                <a:cubicBezTo>
                  <a:pt x="10890" y="7643"/>
                  <a:pt x="10907" y="7753"/>
                  <a:pt x="10986" y="7810"/>
                </a:cubicBezTo>
                <a:cubicBezTo>
                  <a:pt x="11092" y="7886"/>
                  <a:pt x="11198" y="7817"/>
                  <a:pt x="11303" y="7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k 7"/>
          <p:cNvSpPr/>
          <p:nvPr/>
        </p:nvSpPr>
        <p:spPr>
          <a:xfrm>
            <a:off x="4389480" y="2435400"/>
            <a:ext cx="2354400" cy="674640"/>
          </a:xfrm>
          <a:custGeom>
            <a:avLst/>
            <a:gdLst/>
            <a:ahLst/>
            <a:rect l="l" t="t" r="r" b="b"/>
            <a:pathLst>
              <a:path w="6541" h="1874">
                <a:moveTo>
                  <a:pt x="12224" y="7271"/>
                </a:moveTo>
                <a:cubicBezTo>
                  <a:pt x="12467" y="7271"/>
                  <a:pt x="12711" y="7271"/>
                  <a:pt x="12954" y="7271"/>
                </a:cubicBezTo>
                <a:cubicBezTo>
                  <a:pt x="12944" y="7241"/>
                  <a:pt x="12942" y="7212"/>
                  <a:pt x="12922" y="7176"/>
                </a:cubicBezTo>
                <a:cubicBezTo>
                  <a:pt x="12888" y="7116"/>
                  <a:pt x="12865" y="7048"/>
                  <a:pt x="12827" y="6985"/>
                </a:cubicBezTo>
                <a:cubicBezTo>
                  <a:pt x="12794" y="6930"/>
                  <a:pt x="12728" y="6894"/>
                  <a:pt x="12668" y="6890"/>
                </a:cubicBezTo>
                <a:cubicBezTo>
                  <a:pt x="12579" y="6884"/>
                  <a:pt x="12431" y="6978"/>
                  <a:pt x="12382" y="7048"/>
                </a:cubicBezTo>
                <a:cubicBezTo>
                  <a:pt x="12320" y="7138"/>
                  <a:pt x="12213" y="7285"/>
                  <a:pt x="12192" y="7398"/>
                </a:cubicBezTo>
                <a:cubicBezTo>
                  <a:pt x="12179" y="7470"/>
                  <a:pt x="12166" y="7656"/>
                  <a:pt x="12224" y="7715"/>
                </a:cubicBezTo>
                <a:cubicBezTo>
                  <a:pt x="12305" y="7797"/>
                  <a:pt x="12384" y="7787"/>
                  <a:pt x="12478" y="7779"/>
                </a:cubicBezTo>
                <a:cubicBezTo>
                  <a:pt x="12608" y="7768"/>
                  <a:pt x="12650" y="7750"/>
                  <a:pt x="12764" y="7684"/>
                </a:cubicBezTo>
              </a:path>
              <a:path w="6541" h="1874">
                <a:moveTo>
                  <a:pt x="13081" y="7048"/>
                </a:moveTo>
                <a:cubicBezTo>
                  <a:pt x="13110" y="7134"/>
                  <a:pt x="13161" y="7245"/>
                  <a:pt x="13176" y="7334"/>
                </a:cubicBezTo>
                <a:cubicBezTo>
                  <a:pt x="13202" y="7483"/>
                  <a:pt x="13241" y="7605"/>
                  <a:pt x="13303" y="7747"/>
                </a:cubicBezTo>
                <a:cubicBezTo>
                  <a:pt x="13328" y="7804"/>
                  <a:pt x="13406" y="7939"/>
                  <a:pt x="13462" y="7969"/>
                </a:cubicBezTo>
                <a:cubicBezTo>
                  <a:pt x="13473" y="7969"/>
                  <a:pt x="13483" y="7969"/>
                  <a:pt x="13494" y="7969"/>
                </a:cubicBezTo>
              </a:path>
              <a:path w="6541" h="1874">
                <a:moveTo>
                  <a:pt x="13557" y="7080"/>
                </a:moveTo>
                <a:cubicBezTo>
                  <a:pt x="13538" y="7177"/>
                  <a:pt x="13484" y="7251"/>
                  <a:pt x="13430" y="7334"/>
                </a:cubicBezTo>
                <a:cubicBezTo>
                  <a:pt x="13335" y="7480"/>
                  <a:pt x="13250" y="7611"/>
                  <a:pt x="13144" y="7747"/>
                </a:cubicBezTo>
                <a:cubicBezTo>
                  <a:pt x="13055" y="7861"/>
                  <a:pt x="12962" y="7961"/>
                  <a:pt x="12859" y="8064"/>
                </a:cubicBezTo>
                <a:cubicBezTo>
                  <a:pt x="12806" y="8117"/>
                  <a:pt x="12795" y="8127"/>
                  <a:pt x="12764" y="8160"/>
                </a:cubicBezTo>
              </a:path>
              <a:path w="6541" h="1874">
                <a:moveTo>
                  <a:pt x="13684" y="7144"/>
                </a:moveTo>
                <a:cubicBezTo>
                  <a:pt x="13684" y="7237"/>
                  <a:pt x="13661" y="7309"/>
                  <a:pt x="13652" y="7398"/>
                </a:cubicBezTo>
                <a:cubicBezTo>
                  <a:pt x="13636" y="7559"/>
                  <a:pt x="13621" y="7710"/>
                  <a:pt x="13621" y="7874"/>
                </a:cubicBezTo>
                <a:cubicBezTo>
                  <a:pt x="13621" y="8128"/>
                  <a:pt x="13621" y="8382"/>
                  <a:pt x="13621" y="8636"/>
                </a:cubicBezTo>
                <a:cubicBezTo>
                  <a:pt x="13586" y="8542"/>
                  <a:pt x="13565" y="8418"/>
                  <a:pt x="13557" y="8318"/>
                </a:cubicBezTo>
                <a:cubicBezTo>
                  <a:pt x="13557" y="8265"/>
                  <a:pt x="13557" y="8213"/>
                  <a:pt x="13557" y="8160"/>
                </a:cubicBezTo>
              </a:path>
              <a:path w="6541" h="1874">
                <a:moveTo>
                  <a:pt x="13652" y="7430"/>
                </a:moveTo>
                <a:cubicBezTo>
                  <a:pt x="13665" y="7276"/>
                  <a:pt x="13701" y="7205"/>
                  <a:pt x="13780" y="7080"/>
                </a:cubicBezTo>
                <a:cubicBezTo>
                  <a:pt x="13825" y="7009"/>
                  <a:pt x="13937" y="6931"/>
                  <a:pt x="14034" y="6953"/>
                </a:cubicBezTo>
                <a:cubicBezTo>
                  <a:pt x="14175" y="6985"/>
                  <a:pt x="14160" y="7130"/>
                  <a:pt x="14160" y="7239"/>
                </a:cubicBezTo>
                <a:cubicBezTo>
                  <a:pt x="14160" y="7361"/>
                  <a:pt x="14105" y="7475"/>
                  <a:pt x="14065" y="7588"/>
                </a:cubicBezTo>
                <a:cubicBezTo>
                  <a:pt x="14025" y="7701"/>
                  <a:pt x="13943" y="7801"/>
                  <a:pt x="13843" y="7874"/>
                </a:cubicBezTo>
                <a:cubicBezTo>
                  <a:pt x="13799" y="7906"/>
                  <a:pt x="13642" y="7954"/>
                  <a:pt x="13589" y="7938"/>
                </a:cubicBezTo>
                <a:cubicBezTo>
                  <a:pt x="13541" y="7923"/>
                  <a:pt x="13505" y="7888"/>
                  <a:pt x="13494" y="7842"/>
                </a:cubicBezTo>
              </a:path>
              <a:path w="6541" h="1874">
                <a:moveTo>
                  <a:pt x="14668" y="7112"/>
                </a:moveTo>
                <a:cubicBezTo>
                  <a:pt x="14625" y="7103"/>
                  <a:pt x="14670" y="7070"/>
                  <a:pt x="14573" y="7144"/>
                </a:cubicBezTo>
                <a:cubicBezTo>
                  <a:pt x="14493" y="7205"/>
                  <a:pt x="14447" y="7341"/>
                  <a:pt x="14414" y="7430"/>
                </a:cubicBezTo>
                <a:cubicBezTo>
                  <a:pt x="14381" y="7521"/>
                  <a:pt x="14306" y="7720"/>
                  <a:pt x="14319" y="7810"/>
                </a:cubicBezTo>
                <a:cubicBezTo>
                  <a:pt x="14322" y="7828"/>
                  <a:pt x="14370" y="7890"/>
                  <a:pt x="14383" y="7906"/>
                </a:cubicBezTo>
                <a:cubicBezTo>
                  <a:pt x="14471" y="7870"/>
                  <a:pt x="14501" y="7851"/>
                  <a:pt x="14573" y="7779"/>
                </a:cubicBezTo>
                <a:cubicBezTo>
                  <a:pt x="14658" y="7694"/>
                  <a:pt x="14745" y="7584"/>
                  <a:pt x="14764" y="7461"/>
                </a:cubicBezTo>
                <a:cubicBezTo>
                  <a:pt x="14777" y="7377"/>
                  <a:pt x="14778" y="7249"/>
                  <a:pt x="14732" y="7176"/>
                </a:cubicBezTo>
                <a:cubicBezTo>
                  <a:pt x="14705" y="7133"/>
                  <a:pt x="14656" y="7099"/>
                  <a:pt x="14637" y="7080"/>
                </a:cubicBezTo>
                <a:cubicBezTo>
                  <a:pt x="14689" y="7106"/>
                  <a:pt x="14747" y="7130"/>
                  <a:pt x="14796" y="7176"/>
                </a:cubicBezTo>
                <a:cubicBezTo>
                  <a:pt x="14888" y="7261"/>
                  <a:pt x="14979" y="7373"/>
                  <a:pt x="15018" y="7493"/>
                </a:cubicBezTo>
                <a:cubicBezTo>
                  <a:pt x="15050" y="7593"/>
                  <a:pt x="15065" y="7739"/>
                  <a:pt x="15081" y="7842"/>
                </a:cubicBezTo>
                <a:cubicBezTo>
                  <a:pt x="15090" y="7902"/>
                  <a:pt x="15081" y="7973"/>
                  <a:pt x="15081" y="8033"/>
                </a:cubicBezTo>
                <a:cubicBezTo>
                  <a:pt x="15018" y="8031"/>
                  <a:pt x="15076" y="8018"/>
                  <a:pt x="15081" y="7906"/>
                </a:cubicBezTo>
                <a:cubicBezTo>
                  <a:pt x="15087" y="7775"/>
                  <a:pt x="15114" y="7652"/>
                  <a:pt x="15145" y="7525"/>
                </a:cubicBezTo>
                <a:cubicBezTo>
                  <a:pt x="15176" y="7399"/>
                  <a:pt x="15194" y="7297"/>
                  <a:pt x="15240" y="7176"/>
                </a:cubicBezTo>
                <a:cubicBezTo>
                  <a:pt x="15269" y="7098"/>
                  <a:pt x="15278" y="7089"/>
                  <a:pt x="15335" y="7048"/>
                </a:cubicBezTo>
                <a:cubicBezTo>
                  <a:pt x="15441" y="7101"/>
                  <a:pt x="15431" y="7089"/>
                  <a:pt x="15462" y="7207"/>
                </a:cubicBezTo>
                <a:cubicBezTo>
                  <a:pt x="15500" y="7350"/>
                  <a:pt x="15521" y="7505"/>
                  <a:pt x="15526" y="7652"/>
                </a:cubicBezTo>
                <a:cubicBezTo>
                  <a:pt x="15530" y="7754"/>
                  <a:pt x="15509" y="7922"/>
                  <a:pt x="15526" y="8001"/>
                </a:cubicBezTo>
                <a:cubicBezTo>
                  <a:pt x="15532" y="8031"/>
                  <a:pt x="15564" y="8096"/>
                  <a:pt x="15589" y="8096"/>
                </a:cubicBezTo>
                <a:cubicBezTo>
                  <a:pt x="15589" y="8085"/>
                  <a:pt x="15589" y="8075"/>
                  <a:pt x="15589" y="8064"/>
                </a:cubicBezTo>
              </a:path>
              <a:path w="6541" h="1874">
                <a:moveTo>
                  <a:pt x="15875" y="7461"/>
                </a:moveTo>
                <a:cubicBezTo>
                  <a:pt x="16018" y="7461"/>
                  <a:pt x="16163" y="7470"/>
                  <a:pt x="16288" y="7430"/>
                </a:cubicBezTo>
                <a:cubicBezTo>
                  <a:pt x="16331" y="7416"/>
                  <a:pt x="16342" y="7328"/>
                  <a:pt x="16320" y="7271"/>
                </a:cubicBezTo>
                <a:cubicBezTo>
                  <a:pt x="16294" y="7204"/>
                  <a:pt x="16288" y="7172"/>
                  <a:pt x="16224" y="7144"/>
                </a:cubicBezTo>
                <a:cubicBezTo>
                  <a:pt x="16128" y="7102"/>
                  <a:pt x="16099" y="7138"/>
                  <a:pt x="16034" y="7207"/>
                </a:cubicBezTo>
                <a:cubicBezTo>
                  <a:pt x="15938" y="7309"/>
                  <a:pt x="15890" y="7423"/>
                  <a:pt x="15843" y="7556"/>
                </a:cubicBezTo>
                <a:cubicBezTo>
                  <a:pt x="15805" y="7665"/>
                  <a:pt x="15784" y="7801"/>
                  <a:pt x="15843" y="7906"/>
                </a:cubicBezTo>
                <a:cubicBezTo>
                  <a:pt x="15909" y="8022"/>
                  <a:pt x="16108" y="7962"/>
                  <a:pt x="16192" y="7906"/>
                </a:cubicBezTo>
                <a:cubicBezTo>
                  <a:pt x="16262" y="7836"/>
                  <a:pt x="16289" y="7811"/>
                  <a:pt x="16351" y="7779"/>
                </a:cubicBezTo>
              </a:path>
              <a:path w="6541" h="1874">
                <a:moveTo>
                  <a:pt x="16574" y="7144"/>
                </a:moveTo>
                <a:cubicBezTo>
                  <a:pt x="16609" y="7156"/>
                  <a:pt x="16630" y="7249"/>
                  <a:pt x="16637" y="7302"/>
                </a:cubicBezTo>
                <a:cubicBezTo>
                  <a:pt x="16669" y="7544"/>
                  <a:pt x="16637" y="8213"/>
                  <a:pt x="16637" y="7969"/>
                </a:cubicBezTo>
                <a:cubicBezTo>
                  <a:pt x="16588" y="7824"/>
                  <a:pt x="16624" y="7738"/>
                  <a:pt x="16637" y="7588"/>
                </a:cubicBezTo>
                <a:cubicBezTo>
                  <a:pt x="16652" y="7414"/>
                  <a:pt x="16683" y="7329"/>
                  <a:pt x="16764" y="7176"/>
                </a:cubicBezTo>
                <a:cubicBezTo>
                  <a:pt x="16794" y="7119"/>
                  <a:pt x="16875" y="7021"/>
                  <a:pt x="16954" y="7048"/>
                </a:cubicBezTo>
                <a:cubicBezTo>
                  <a:pt x="17042" y="7078"/>
                  <a:pt x="17047" y="7203"/>
                  <a:pt x="17050" y="7271"/>
                </a:cubicBezTo>
                <a:cubicBezTo>
                  <a:pt x="17057" y="7455"/>
                  <a:pt x="17064" y="7629"/>
                  <a:pt x="17082" y="7810"/>
                </a:cubicBezTo>
                <a:cubicBezTo>
                  <a:pt x="17094" y="7927"/>
                  <a:pt x="17108" y="8027"/>
                  <a:pt x="17177" y="8128"/>
                </a:cubicBezTo>
                <a:cubicBezTo>
                  <a:pt x="17233" y="8210"/>
                  <a:pt x="17300" y="8196"/>
                  <a:pt x="17367" y="8160"/>
                </a:cubicBezTo>
                <a:cubicBezTo>
                  <a:pt x="17444" y="8122"/>
                  <a:pt x="17473" y="8099"/>
                  <a:pt x="17494" y="8033"/>
                </a:cubicBezTo>
              </a:path>
              <a:path w="6541" h="1874">
                <a:moveTo>
                  <a:pt x="17653" y="6763"/>
                </a:moveTo>
                <a:cubicBezTo>
                  <a:pt x="17639" y="6890"/>
                  <a:pt x="17602" y="7011"/>
                  <a:pt x="17621" y="7144"/>
                </a:cubicBezTo>
                <a:cubicBezTo>
                  <a:pt x="17648" y="7332"/>
                  <a:pt x="17670" y="7525"/>
                  <a:pt x="17685" y="7715"/>
                </a:cubicBezTo>
                <a:cubicBezTo>
                  <a:pt x="17695" y="7844"/>
                  <a:pt x="17720" y="7944"/>
                  <a:pt x="17748" y="8064"/>
                </a:cubicBezTo>
                <a:cubicBezTo>
                  <a:pt x="17748" y="8100"/>
                  <a:pt x="17751" y="8114"/>
                  <a:pt x="17780" y="8128"/>
                </a:cubicBezTo>
              </a:path>
              <a:path w="6541" h="1874">
                <a:moveTo>
                  <a:pt x="17272" y="7461"/>
                </a:moveTo>
                <a:cubicBezTo>
                  <a:pt x="17372" y="7461"/>
                  <a:pt x="17457" y="7433"/>
                  <a:pt x="17558" y="7430"/>
                </a:cubicBezTo>
                <a:cubicBezTo>
                  <a:pt x="17731" y="7425"/>
                  <a:pt x="17859" y="7467"/>
                  <a:pt x="18034" y="7430"/>
                </a:cubicBezTo>
              </a:path>
              <a:path w="6541" h="1874">
                <a:moveTo>
                  <a:pt x="18669" y="7144"/>
                </a:moveTo>
                <a:cubicBezTo>
                  <a:pt x="18659" y="7102"/>
                  <a:pt x="18601" y="7038"/>
                  <a:pt x="18542" y="7048"/>
                </a:cubicBezTo>
                <a:cubicBezTo>
                  <a:pt x="18480" y="7058"/>
                  <a:pt x="18386" y="7111"/>
                  <a:pt x="18320" y="7144"/>
                </a:cubicBezTo>
                <a:cubicBezTo>
                  <a:pt x="18235" y="7187"/>
                  <a:pt x="18200" y="7245"/>
                  <a:pt x="18193" y="7334"/>
                </a:cubicBezTo>
                <a:cubicBezTo>
                  <a:pt x="18186" y="7419"/>
                  <a:pt x="18301" y="7421"/>
                  <a:pt x="18352" y="7461"/>
                </a:cubicBezTo>
                <a:cubicBezTo>
                  <a:pt x="18436" y="7527"/>
                  <a:pt x="18566" y="7571"/>
                  <a:pt x="18637" y="7652"/>
                </a:cubicBezTo>
                <a:cubicBezTo>
                  <a:pt x="18676" y="7696"/>
                  <a:pt x="18719" y="7790"/>
                  <a:pt x="18732" y="7842"/>
                </a:cubicBezTo>
                <a:cubicBezTo>
                  <a:pt x="18649" y="7910"/>
                  <a:pt x="18618" y="7906"/>
                  <a:pt x="18510" y="7906"/>
                </a:cubicBezTo>
                <a:cubicBezTo>
                  <a:pt x="18438" y="7906"/>
                  <a:pt x="18349" y="7911"/>
                  <a:pt x="18288" y="7874"/>
                </a:cubicBezTo>
                <a:cubicBezTo>
                  <a:pt x="18259" y="7845"/>
                  <a:pt x="18248" y="7839"/>
                  <a:pt x="18256" y="78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nk 8"/>
          <p:cNvSpPr/>
          <p:nvPr/>
        </p:nvSpPr>
        <p:spPr>
          <a:xfrm>
            <a:off x="2583000" y="3200400"/>
            <a:ext cx="4549680" cy="811080"/>
          </a:xfrm>
          <a:custGeom>
            <a:avLst/>
            <a:gdLst/>
            <a:ahLst/>
            <a:rect l="l" t="t" r="r" b="b"/>
            <a:pathLst>
              <a:path w="12637" h="2255">
                <a:moveTo>
                  <a:pt x="7334" y="9208"/>
                </a:moveTo>
                <a:cubicBezTo>
                  <a:pt x="7334" y="9402"/>
                  <a:pt x="7320" y="9591"/>
                  <a:pt x="7302" y="9779"/>
                </a:cubicBezTo>
                <a:cubicBezTo>
                  <a:pt x="7289" y="9912"/>
                  <a:pt x="7259" y="10034"/>
                  <a:pt x="7239" y="10160"/>
                </a:cubicBezTo>
                <a:cubicBezTo>
                  <a:pt x="7227" y="10235"/>
                  <a:pt x="7245" y="10256"/>
                  <a:pt x="7207" y="10319"/>
                </a:cubicBezTo>
                <a:cubicBezTo>
                  <a:pt x="7216" y="10251"/>
                  <a:pt x="7236" y="10197"/>
                  <a:pt x="7239" y="10128"/>
                </a:cubicBezTo>
                <a:cubicBezTo>
                  <a:pt x="7245" y="9981"/>
                  <a:pt x="7315" y="9862"/>
                  <a:pt x="7334" y="9716"/>
                </a:cubicBezTo>
                <a:cubicBezTo>
                  <a:pt x="7354" y="9565"/>
                  <a:pt x="7385" y="9499"/>
                  <a:pt x="7461" y="9366"/>
                </a:cubicBezTo>
                <a:cubicBezTo>
                  <a:pt x="7508" y="9285"/>
                  <a:pt x="7571" y="9253"/>
                  <a:pt x="7652" y="9208"/>
                </a:cubicBezTo>
                <a:cubicBezTo>
                  <a:pt x="7717" y="9272"/>
                  <a:pt x="7725" y="9284"/>
                  <a:pt x="7747" y="9366"/>
                </a:cubicBezTo>
                <a:cubicBezTo>
                  <a:pt x="7788" y="9515"/>
                  <a:pt x="7779" y="9656"/>
                  <a:pt x="7779" y="9811"/>
                </a:cubicBezTo>
                <a:cubicBezTo>
                  <a:pt x="7779" y="9988"/>
                  <a:pt x="7771" y="10148"/>
                  <a:pt x="7747" y="10319"/>
                </a:cubicBezTo>
                <a:cubicBezTo>
                  <a:pt x="7739" y="10379"/>
                  <a:pt x="7731" y="10354"/>
                  <a:pt x="7715" y="10382"/>
                </a:cubicBezTo>
                <a:cubicBezTo>
                  <a:pt x="7715" y="10269"/>
                  <a:pt x="7735" y="10173"/>
                  <a:pt x="7747" y="10065"/>
                </a:cubicBezTo>
                <a:cubicBezTo>
                  <a:pt x="7763" y="9926"/>
                  <a:pt x="7771" y="9788"/>
                  <a:pt x="7810" y="9652"/>
                </a:cubicBezTo>
                <a:cubicBezTo>
                  <a:pt x="7838" y="9555"/>
                  <a:pt x="7927" y="9302"/>
                  <a:pt x="8064" y="9334"/>
                </a:cubicBezTo>
                <a:cubicBezTo>
                  <a:pt x="8159" y="9357"/>
                  <a:pt x="8145" y="9368"/>
                  <a:pt x="8192" y="9462"/>
                </a:cubicBezTo>
                <a:cubicBezTo>
                  <a:pt x="8241" y="9561"/>
                  <a:pt x="8252" y="9700"/>
                  <a:pt x="8255" y="9811"/>
                </a:cubicBezTo>
                <a:cubicBezTo>
                  <a:pt x="8263" y="10058"/>
                  <a:pt x="8249" y="10304"/>
                  <a:pt x="8287" y="10541"/>
                </a:cubicBezTo>
                <a:cubicBezTo>
                  <a:pt x="8302" y="10633"/>
                  <a:pt x="8352" y="10662"/>
                  <a:pt x="8446" y="10668"/>
                </a:cubicBezTo>
                <a:cubicBezTo>
                  <a:pt x="8509" y="10668"/>
                  <a:pt x="8530" y="10668"/>
                  <a:pt x="8572" y="10668"/>
                </a:cubicBezTo>
              </a:path>
              <a:path w="12637" h="2255">
                <a:moveTo>
                  <a:pt x="9112" y="9366"/>
                </a:moveTo>
                <a:cubicBezTo>
                  <a:pt x="9084" y="9467"/>
                  <a:pt x="9061" y="9584"/>
                  <a:pt x="9049" y="9684"/>
                </a:cubicBezTo>
                <a:cubicBezTo>
                  <a:pt x="9033" y="9811"/>
                  <a:pt x="9045" y="9940"/>
                  <a:pt x="9017" y="10065"/>
                </a:cubicBezTo>
                <a:cubicBezTo>
                  <a:pt x="8996" y="10159"/>
                  <a:pt x="8985" y="10222"/>
                  <a:pt x="8985" y="10319"/>
                </a:cubicBezTo>
                <a:cubicBezTo>
                  <a:pt x="8985" y="10329"/>
                  <a:pt x="8985" y="10340"/>
                  <a:pt x="8985" y="10350"/>
                </a:cubicBezTo>
              </a:path>
              <a:path w="12637" h="2255">
                <a:moveTo>
                  <a:pt x="8700" y="9811"/>
                </a:moveTo>
                <a:cubicBezTo>
                  <a:pt x="8853" y="9811"/>
                  <a:pt x="8999" y="9824"/>
                  <a:pt x="9144" y="9842"/>
                </a:cubicBezTo>
                <a:cubicBezTo>
                  <a:pt x="9246" y="9855"/>
                  <a:pt x="9358" y="9842"/>
                  <a:pt x="9462" y="9842"/>
                </a:cubicBezTo>
              </a:path>
              <a:path w="12637" h="2255">
                <a:moveTo>
                  <a:pt x="9842" y="9334"/>
                </a:moveTo>
                <a:cubicBezTo>
                  <a:pt x="9799" y="9291"/>
                  <a:pt x="9838" y="9293"/>
                  <a:pt x="9842" y="9334"/>
                </a:cubicBezTo>
                <a:cubicBezTo>
                  <a:pt x="9851" y="9437"/>
                  <a:pt x="9815" y="9521"/>
                  <a:pt x="9811" y="9620"/>
                </a:cubicBezTo>
                <a:cubicBezTo>
                  <a:pt x="9805" y="9759"/>
                  <a:pt x="9802" y="9927"/>
                  <a:pt x="9779" y="10065"/>
                </a:cubicBezTo>
                <a:cubicBezTo>
                  <a:pt x="9759" y="10182"/>
                  <a:pt x="9722" y="10294"/>
                  <a:pt x="9716" y="10414"/>
                </a:cubicBezTo>
                <a:cubicBezTo>
                  <a:pt x="9713" y="10477"/>
                  <a:pt x="9691" y="10521"/>
                  <a:pt x="9684" y="10541"/>
                </a:cubicBezTo>
                <a:cubicBezTo>
                  <a:pt x="9684" y="10444"/>
                  <a:pt x="9695" y="10348"/>
                  <a:pt x="9716" y="10255"/>
                </a:cubicBezTo>
                <a:cubicBezTo>
                  <a:pt x="9752" y="10096"/>
                  <a:pt x="9765" y="9939"/>
                  <a:pt x="9811" y="9779"/>
                </a:cubicBezTo>
                <a:cubicBezTo>
                  <a:pt x="9851" y="9640"/>
                  <a:pt x="9892" y="9503"/>
                  <a:pt x="9938" y="9366"/>
                </a:cubicBezTo>
                <a:cubicBezTo>
                  <a:pt x="9970" y="9270"/>
                  <a:pt x="9997" y="9243"/>
                  <a:pt x="10065" y="9176"/>
                </a:cubicBezTo>
                <a:cubicBezTo>
                  <a:pt x="10148" y="9188"/>
                  <a:pt x="10146" y="9186"/>
                  <a:pt x="10192" y="9271"/>
                </a:cubicBezTo>
                <a:cubicBezTo>
                  <a:pt x="10247" y="9373"/>
                  <a:pt x="10244" y="9539"/>
                  <a:pt x="10255" y="9652"/>
                </a:cubicBezTo>
                <a:cubicBezTo>
                  <a:pt x="10267" y="9778"/>
                  <a:pt x="10246" y="9971"/>
                  <a:pt x="10224" y="10096"/>
                </a:cubicBezTo>
                <a:cubicBezTo>
                  <a:pt x="10219" y="10125"/>
                  <a:pt x="10196" y="10382"/>
                  <a:pt x="10160" y="10382"/>
                </a:cubicBezTo>
                <a:cubicBezTo>
                  <a:pt x="10160" y="10371"/>
                  <a:pt x="10160" y="10361"/>
                  <a:pt x="10160" y="10350"/>
                </a:cubicBezTo>
                <a:cubicBezTo>
                  <a:pt x="10167" y="10245"/>
                  <a:pt x="10169" y="10135"/>
                  <a:pt x="10192" y="10033"/>
                </a:cubicBezTo>
                <a:cubicBezTo>
                  <a:pt x="10221" y="9904"/>
                  <a:pt x="10258" y="9739"/>
                  <a:pt x="10319" y="9620"/>
                </a:cubicBezTo>
                <a:cubicBezTo>
                  <a:pt x="10365" y="9530"/>
                  <a:pt x="10441" y="9368"/>
                  <a:pt x="10541" y="9334"/>
                </a:cubicBezTo>
                <a:cubicBezTo>
                  <a:pt x="10598" y="9334"/>
                  <a:pt x="10614" y="9338"/>
                  <a:pt x="10636" y="9303"/>
                </a:cubicBezTo>
                <a:cubicBezTo>
                  <a:pt x="10734" y="9399"/>
                  <a:pt x="10717" y="9325"/>
                  <a:pt x="10732" y="9493"/>
                </a:cubicBezTo>
                <a:cubicBezTo>
                  <a:pt x="10744" y="9626"/>
                  <a:pt x="10722" y="9777"/>
                  <a:pt x="10700" y="9906"/>
                </a:cubicBezTo>
                <a:cubicBezTo>
                  <a:pt x="10671" y="10073"/>
                  <a:pt x="10646" y="10215"/>
                  <a:pt x="10700" y="10382"/>
                </a:cubicBezTo>
                <a:cubicBezTo>
                  <a:pt x="10734" y="10489"/>
                  <a:pt x="10760" y="10552"/>
                  <a:pt x="10858" y="10604"/>
                </a:cubicBezTo>
                <a:cubicBezTo>
                  <a:pt x="10953" y="10654"/>
                  <a:pt x="10979" y="10642"/>
                  <a:pt x="11049" y="10573"/>
                </a:cubicBezTo>
              </a:path>
              <a:path w="12637" h="2255">
                <a:moveTo>
                  <a:pt x="11112" y="9779"/>
                </a:moveTo>
                <a:cubicBezTo>
                  <a:pt x="11281" y="9779"/>
                  <a:pt x="11451" y="9779"/>
                  <a:pt x="11620" y="9779"/>
                </a:cubicBezTo>
              </a:path>
              <a:path w="12637" h="2255">
                <a:moveTo>
                  <a:pt x="11874" y="9271"/>
                </a:moveTo>
                <a:cubicBezTo>
                  <a:pt x="11898" y="9247"/>
                  <a:pt x="11926" y="9180"/>
                  <a:pt x="11938" y="9176"/>
                </a:cubicBezTo>
                <a:cubicBezTo>
                  <a:pt x="11964" y="9167"/>
                  <a:pt x="12045" y="9148"/>
                  <a:pt x="12065" y="9144"/>
                </a:cubicBezTo>
                <a:cubicBezTo>
                  <a:pt x="12168" y="9123"/>
                  <a:pt x="12199" y="9108"/>
                  <a:pt x="12287" y="9080"/>
                </a:cubicBezTo>
                <a:cubicBezTo>
                  <a:pt x="12347" y="9061"/>
                  <a:pt x="12444" y="9080"/>
                  <a:pt x="12510" y="9080"/>
                </a:cubicBezTo>
                <a:cubicBezTo>
                  <a:pt x="12493" y="9197"/>
                  <a:pt x="12477" y="9160"/>
                  <a:pt x="12414" y="9239"/>
                </a:cubicBezTo>
                <a:cubicBezTo>
                  <a:pt x="12362" y="9303"/>
                  <a:pt x="12298" y="9391"/>
                  <a:pt x="12256" y="9462"/>
                </a:cubicBezTo>
                <a:cubicBezTo>
                  <a:pt x="12208" y="9542"/>
                  <a:pt x="12153" y="9584"/>
                  <a:pt x="12097" y="9652"/>
                </a:cubicBezTo>
                <a:cubicBezTo>
                  <a:pt x="12070" y="9684"/>
                  <a:pt x="12019" y="9702"/>
                  <a:pt x="12002" y="9716"/>
                </a:cubicBezTo>
                <a:cubicBezTo>
                  <a:pt x="12023" y="9695"/>
                  <a:pt x="12060" y="9658"/>
                  <a:pt x="12097" y="9620"/>
                </a:cubicBezTo>
                <a:cubicBezTo>
                  <a:pt x="12145" y="9571"/>
                  <a:pt x="12218" y="9561"/>
                  <a:pt x="12287" y="9557"/>
                </a:cubicBezTo>
                <a:cubicBezTo>
                  <a:pt x="12384" y="9552"/>
                  <a:pt x="12433" y="9604"/>
                  <a:pt x="12510" y="9652"/>
                </a:cubicBezTo>
                <a:cubicBezTo>
                  <a:pt x="12594" y="9704"/>
                  <a:pt x="12651" y="9804"/>
                  <a:pt x="12668" y="9906"/>
                </a:cubicBezTo>
                <a:cubicBezTo>
                  <a:pt x="12689" y="10029"/>
                  <a:pt x="12670" y="10170"/>
                  <a:pt x="12636" y="10287"/>
                </a:cubicBezTo>
                <a:cubicBezTo>
                  <a:pt x="12599" y="10412"/>
                  <a:pt x="12545" y="10484"/>
                  <a:pt x="12478" y="10573"/>
                </a:cubicBezTo>
                <a:cubicBezTo>
                  <a:pt x="12435" y="10630"/>
                  <a:pt x="12347" y="10688"/>
                  <a:pt x="12256" y="10668"/>
                </a:cubicBezTo>
                <a:cubicBezTo>
                  <a:pt x="12197" y="10655"/>
                  <a:pt x="12082" y="10575"/>
                  <a:pt x="12033" y="10541"/>
                </a:cubicBezTo>
                <a:cubicBezTo>
                  <a:pt x="11991" y="10512"/>
                  <a:pt x="11934" y="10497"/>
                  <a:pt x="11938" y="10446"/>
                </a:cubicBezTo>
                <a:cubicBezTo>
                  <a:pt x="11938" y="10410"/>
                  <a:pt x="11941" y="10396"/>
                  <a:pt x="11970" y="10382"/>
                </a:cubicBezTo>
              </a:path>
              <a:path w="12637" h="2255">
                <a:moveTo>
                  <a:pt x="13303" y="9366"/>
                </a:moveTo>
                <a:cubicBezTo>
                  <a:pt x="13323" y="9482"/>
                  <a:pt x="13321" y="9513"/>
                  <a:pt x="13303" y="9620"/>
                </a:cubicBezTo>
                <a:cubicBezTo>
                  <a:pt x="13285" y="9730"/>
                  <a:pt x="13284" y="9860"/>
                  <a:pt x="13272" y="9970"/>
                </a:cubicBezTo>
                <a:cubicBezTo>
                  <a:pt x="13260" y="10076"/>
                  <a:pt x="13248" y="10182"/>
                  <a:pt x="13240" y="10287"/>
                </a:cubicBezTo>
                <a:cubicBezTo>
                  <a:pt x="13236" y="10348"/>
                  <a:pt x="13272" y="10392"/>
                  <a:pt x="13208" y="10350"/>
                </a:cubicBezTo>
              </a:path>
              <a:path w="12637" h="2255">
                <a:moveTo>
                  <a:pt x="12986" y="9842"/>
                </a:moveTo>
                <a:cubicBezTo>
                  <a:pt x="13076" y="9853"/>
                  <a:pt x="13146" y="9874"/>
                  <a:pt x="13240" y="9874"/>
                </a:cubicBezTo>
                <a:cubicBezTo>
                  <a:pt x="13363" y="9874"/>
                  <a:pt x="13470" y="9901"/>
                  <a:pt x="13589" y="9906"/>
                </a:cubicBezTo>
                <a:cubicBezTo>
                  <a:pt x="13621" y="9906"/>
                  <a:pt x="13652" y="9906"/>
                  <a:pt x="13684" y="9906"/>
                </a:cubicBezTo>
              </a:path>
              <a:path w="12637" h="2255">
                <a:moveTo>
                  <a:pt x="14827" y="9080"/>
                </a:moveTo>
                <a:cubicBezTo>
                  <a:pt x="14696" y="9080"/>
                  <a:pt x="14649" y="9108"/>
                  <a:pt x="14542" y="9144"/>
                </a:cubicBezTo>
                <a:cubicBezTo>
                  <a:pt x="14481" y="9164"/>
                  <a:pt x="14286" y="9097"/>
                  <a:pt x="14256" y="9176"/>
                </a:cubicBezTo>
                <a:cubicBezTo>
                  <a:pt x="14238" y="9221"/>
                  <a:pt x="14247" y="9289"/>
                  <a:pt x="14224" y="9334"/>
                </a:cubicBezTo>
                <a:cubicBezTo>
                  <a:pt x="14176" y="9430"/>
                  <a:pt x="14185" y="9543"/>
                  <a:pt x="14160" y="9652"/>
                </a:cubicBezTo>
                <a:cubicBezTo>
                  <a:pt x="14135" y="9763"/>
                  <a:pt x="14129" y="9856"/>
                  <a:pt x="14129" y="9970"/>
                </a:cubicBezTo>
                <a:cubicBezTo>
                  <a:pt x="14129" y="10012"/>
                  <a:pt x="14129" y="10054"/>
                  <a:pt x="14129" y="10096"/>
                </a:cubicBezTo>
                <a:cubicBezTo>
                  <a:pt x="14145" y="10073"/>
                  <a:pt x="14162" y="10018"/>
                  <a:pt x="14192" y="9970"/>
                </a:cubicBezTo>
                <a:cubicBezTo>
                  <a:pt x="14230" y="9909"/>
                  <a:pt x="14276" y="9837"/>
                  <a:pt x="14319" y="9779"/>
                </a:cubicBezTo>
                <a:cubicBezTo>
                  <a:pt x="14356" y="9729"/>
                  <a:pt x="14461" y="9694"/>
                  <a:pt x="14510" y="9684"/>
                </a:cubicBezTo>
                <a:cubicBezTo>
                  <a:pt x="14598" y="9666"/>
                  <a:pt x="14685" y="9745"/>
                  <a:pt x="14732" y="9811"/>
                </a:cubicBezTo>
                <a:cubicBezTo>
                  <a:pt x="14801" y="9908"/>
                  <a:pt x="14835" y="10024"/>
                  <a:pt x="14859" y="10128"/>
                </a:cubicBezTo>
                <a:cubicBezTo>
                  <a:pt x="14894" y="10280"/>
                  <a:pt x="14904" y="10391"/>
                  <a:pt x="14859" y="10541"/>
                </a:cubicBezTo>
                <a:cubicBezTo>
                  <a:pt x="14835" y="10620"/>
                  <a:pt x="14774" y="10761"/>
                  <a:pt x="14700" y="10795"/>
                </a:cubicBezTo>
                <a:cubicBezTo>
                  <a:pt x="14601" y="10841"/>
                  <a:pt x="14509" y="10811"/>
                  <a:pt x="14414" y="10795"/>
                </a:cubicBezTo>
                <a:cubicBezTo>
                  <a:pt x="14316" y="10779"/>
                  <a:pt x="14237" y="10770"/>
                  <a:pt x="14160" y="10700"/>
                </a:cubicBezTo>
                <a:cubicBezTo>
                  <a:pt x="14089" y="10635"/>
                  <a:pt x="14100" y="10643"/>
                  <a:pt x="14129" y="10573"/>
                </a:cubicBezTo>
              </a:path>
              <a:path w="12637" h="2255">
                <a:moveTo>
                  <a:pt x="15050" y="9906"/>
                </a:moveTo>
                <a:lnTo>
                  <a:pt x="15050" y="9906"/>
                </a:lnTo>
              </a:path>
              <a:path w="12637" h="2255">
                <a:moveTo>
                  <a:pt x="15050" y="9906"/>
                </a:moveTo>
                <a:cubicBezTo>
                  <a:pt x="15071" y="9906"/>
                  <a:pt x="15092" y="9906"/>
                  <a:pt x="15113" y="9906"/>
                </a:cubicBezTo>
              </a:path>
              <a:path w="12637" h="2255">
                <a:moveTo>
                  <a:pt x="15113" y="9906"/>
                </a:moveTo>
                <a:cubicBezTo>
                  <a:pt x="15292" y="9906"/>
                  <a:pt x="15672" y="9979"/>
                  <a:pt x="15812" y="9874"/>
                </a:cubicBezTo>
              </a:path>
              <a:path w="12637" h="2255">
                <a:moveTo>
                  <a:pt x="16034" y="9588"/>
                </a:moveTo>
                <a:cubicBezTo>
                  <a:pt x="16045" y="9618"/>
                  <a:pt x="16083" y="9701"/>
                  <a:pt x="16066" y="9779"/>
                </a:cubicBezTo>
                <a:cubicBezTo>
                  <a:pt x="16036" y="9916"/>
                  <a:pt x="16027" y="10055"/>
                  <a:pt x="16002" y="10192"/>
                </a:cubicBezTo>
                <a:cubicBezTo>
                  <a:pt x="15977" y="10331"/>
                  <a:pt x="15943" y="10464"/>
                  <a:pt x="15938" y="10604"/>
                </a:cubicBezTo>
                <a:cubicBezTo>
                  <a:pt x="15935" y="10683"/>
                  <a:pt x="15924" y="10724"/>
                  <a:pt x="15907" y="10795"/>
                </a:cubicBezTo>
                <a:cubicBezTo>
                  <a:pt x="15907" y="10714"/>
                  <a:pt x="15929" y="10652"/>
                  <a:pt x="15938" y="10573"/>
                </a:cubicBezTo>
                <a:cubicBezTo>
                  <a:pt x="15956" y="10414"/>
                  <a:pt x="15961" y="10252"/>
                  <a:pt x="16002" y="10096"/>
                </a:cubicBezTo>
                <a:cubicBezTo>
                  <a:pt x="16036" y="9965"/>
                  <a:pt x="16067" y="9805"/>
                  <a:pt x="16129" y="9684"/>
                </a:cubicBezTo>
                <a:cubicBezTo>
                  <a:pt x="16189" y="9568"/>
                  <a:pt x="16290" y="9523"/>
                  <a:pt x="16351" y="9462"/>
                </a:cubicBezTo>
                <a:cubicBezTo>
                  <a:pt x="16362" y="9441"/>
                  <a:pt x="16372" y="9419"/>
                  <a:pt x="16383" y="9398"/>
                </a:cubicBezTo>
                <a:cubicBezTo>
                  <a:pt x="16412" y="9436"/>
                  <a:pt x="16463" y="9484"/>
                  <a:pt x="16478" y="9557"/>
                </a:cubicBezTo>
                <a:cubicBezTo>
                  <a:pt x="16533" y="9820"/>
                  <a:pt x="16487" y="10192"/>
                  <a:pt x="16446" y="10446"/>
                </a:cubicBezTo>
                <a:cubicBezTo>
                  <a:pt x="16438" y="10498"/>
                  <a:pt x="16446" y="10488"/>
                  <a:pt x="16446" y="10541"/>
                </a:cubicBezTo>
                <a:cubicBezTo>
                  <a:pt x="16428" y="10509"/>
                  <a:pt x="16398" y="10462"/>
                  <a:pt x="16415" y="10382"/>
                </a:cubicBezTo>
                <a:cubicBezTo>
                  <a:pt x="16442" y="10254"/>
                  <a:pt x="16454" y="10128"/>
                  <a:pt x="16478" y="10001"/>
                </a:cubicBezTo>
                <a:cubicBezTo>
                  <a:pt x="16507" y="9846"/>
                  <a:pt x="16584" y="9732"/>
                  <a:pt x="16637" y="9588"/>
                </a:cubicBezTo>
                <a:cubicBezTo>
                  <a:pt x="16672" y="9495"/>
                  <a:pt x="16684" y="9364"/>
                  <a:pt x="16796" y="9334"/>
                </a:cubicBezTo>
                <a:cubicBezTo>
                  <a:pt x="16853" y="9334"/>
                  <a:pt x="16869" y="9338"/>
                  <a:pt x="16891" y="9303"/>
                </a:cubicBezTo>
                <a:cubicBezTo>
                  <a:pt x="16967" y="9377"/>
                  <a:pt x="16949" y="9381"/>
                  <a:pt x="16954" y="9493"/>
                </a:cubicBezTo>
                <a:cubicBezTo>
                  <a:pt x="16960" y="9616"/>
                  <a:pt x="16927" y="9721"/>
                  <a:pt x="16923" y="9842"/>
                </a:cubicBezTo>
                <a:cubicBezTo>
                  <a:pt x="16917" y="9995"/>
                  <a:pt x="16895" y="10136"/>
                  <a:pt x="16891" y="10287"/>
                </a:cubicBezTo>
                <a:cubicBezTo>
                  <a:pt x="16887" y="10435"/>
                  <a:pt x="16904" y="10559"/>
                  <a:pt x="16923" y="10700"/>
                </a:cubicBezTo>
                <a:cubicBezTo>
                  <a:pt x="16934" y="10780"/>
                  <a:pt x="16907" y="10825"/>
                  <a:pt x="16954" y="10890"/>
                </a:cubicBezTo>
                <a:cubicBezTo>
                  <a:pt x="16992" y="10943"/>
                  <a:pt x="16982" y="10918"/>
                  <a:pt x="17018" y="10890"/>
                </a:cubicBezTo>
                <a:cubicBezTo>
                  <a:pt x="17050" y="10858"/>
                  <a:pt x="17060" y="10848"/>
                  <a:pt x="17082" y="10827"/>
                </a:cubicBezTo>
              </a:path>
              <a:path w="12637" h="2255">
                <a:moveTo>
                  <a:pt x="17526" y="9779"/>
                </a:moveTo>
                <a:cubicBezTo>
                  <a:pt x="17582" y="9821"/>
                  <a:pt x="17610" y="9811"/>
                  <a:pt x="17685" y="9811"/>
                </a:cubicBezTo>
                <a:cubicBezTo>
                  <a:pt x="17745" y="9811"/>
                  <a:pt x="17801" y="9842"/>
                  <a:pt x="17875" y="9842"/>
                </a:cubicBezTo>
                <a:cubicBezTo>
                  <a:pt x="18013" y="9842"/>
                  <a:pt x="18150" y="9842"/>
                  <a:pt x="18288" y="9842"/>
                </a:cubicBezTo>
              </a:path>
              <a:path w="12637" h="2255">
                <a:moveTo>
                  <a:pt x="17716" y="10319"/>
                </a:moveTo>
                <a:cubicBezTo>
                  <a:pt x="17941" y="10319"/>
                  <a:pt x="18205" y="10281"/>
                  <a:pt x="18415" y="10350"/>
                </a:cubicBezTo>
              </a:path>
              <a:path w="12637" h="2255">
                <a:moveTo>
                  <a:pt x="19717" y="9398"/>
                </a:moveTo>
                <a:cubicBezTo>
                  <a:pt x="19739" y="9339"/>
                  <a:pt x="19769" y="9286"/>
                  <a:pt x="19748" y="9208"/>
                </a:cubicBezTo>
                <a:cubicBezTo>
                  <a:pt x="19725" y="9122"/>
                  <a:pt x="19629" y="9026"/>
                  <a:pt x="19558" y="8985"/>
                </a:cubicBezTo>
                <a:cubicBezTo>
                  <a:pt x="19473" y="8936"/>
                  <a:pt x="19368" y="8895"/>
                  <a:pt x="19272" y="8890"/>
                </a:cubicBezTo>
                <a:cubicBezTo>
                  <a:pt x="19192" y="8885"/>
                  <a:pt x="19105" y="8926"/>
                  <a:pt x="19050" y="8985"/>
                </a:cubicBezTo>
                <a:cubicBezTo>
                  <a:pt x="18980" y="9059"/>
                  <a:pt x="19018" y="9241"/>
                  <a:pt x="19018" y="9334"/>
                </a:cubicBezTo>
                <a:cubicBezTo>
                  <a:pt x="19018" y="9477"/>
                  <a:pt x="19077" y="9611"/>
                  <a:pt x="19114" y="9747"/>
                </a:cubicBezTo>
                <a:cubicBezTo>
                  <a:pt x="19164" y="9931"/>
                  <a:pt x="19262" y="10080"/>
                  <a:pt x="19336" y="10255"/>
                </a:cubicBezTo>
                <a:cubicBezTo>
                  <a:pt x="19412" y="10435"/>
                  <a:pt x="19495" y="10609"/>
                  <a:pt x="19558" y="10795"/>
                </a:cubicBezTo>
                <a:cubicBezTo>
                  <a:pt x="19596" y="10908"/>
                  <a:pt x="19595" y="10952"/>
                  <a:pt x="19558" y="11049"/>
                </a:cubicBezTo>
                <a:cubicBezTo>
                  <a:pt x="19539" y="11099"/>
                  <a:pt x="19465" y="11170"/>
                  <a:pt x="19399" y="11144"/>
                </a:cubicBezTo>
                <a:cubicBezTo>
                  <a:pt x="19331" y="11118"/>
                  <a:pt x="19233" y="11033"/>
                  <a:pt x="19177" y="10986"/>
                </a:cubicBezTo>
                <a:cubicBezTo>
                  <a:pt x="19088" y="10911"/>
                  <a:pt x="19054" y="10813"/>
                  <a:pt x="19050" y="10700"/>
                </a:cubicBezTo>
                <a:cubicBezTo>
                  <a:pt x="19044" y="10528"/>
                  <a:pt x="19105" y="10378"/>
                  <a:pt x="19177" y="10224"/>
                </a:cubicBezTo>
                <a:cubicBezTo>
                  <a:pt x="19263" y="10041"/>
                  <a:pt x="19360" y="9870"/>
                  <a:pt x="19494" y="9716"/>
                </a:cubicBezTo>
                <a:cubicBezTo>
                  <a:pt x="19608" y="9585"/>
                  <a:pt x="19706" y="9431"/>
                  <a:pt x="19780" y="9271"/>
                </a:cubicBezTo>
                <a:cubicBezTo>
                  <a:pt x="19812" y="9177"/>
                  <a:pt x="19822" y="9147"/>
                  <a:pt x="19812" y="9080"/>
                </a:cubicBezTo>
              </a:path>
              <a:path w="12637" h="2255">
                <a:moveTo>
                  <a:pt x="7176" y="10636"/>
                </a:moveTo>
                <a:cubicBezTo>
                  <a:pt x="7505" y="10636"/>
                  <a:pt x="7927" y="10568"/>
                  <a:pt x="8223" y="10668"/>
                </a:cubicBezTo>
                <a:cubicBezTo>
                  <a:pt x="8277" y="10686"/>
                  <a:pt x="8255" y="10596"/>
                  <a:pt x="8255" y="10668"/>
                </a:cubicBezTo>
              </a:path>
              <a:path w="12637" h="2255">
                <a:moveTo>
                  <a:pt x="9716" y="10763"/>
                </a:moveTo>
                <a:cubicBezTo>
                  <a:pt x="9829" y="10763"/>
                  <a:pt x="9936" y="10750"/>
                  <a:pt x="10033" y="10732"/>
                </a:cubicBezTo>
                <a:cubicBezTo>
                  <a:pt x="10114" y="10717"/>
                  <a:pt x="10206" y="10705"/>
                  <a:pt x="10287" y="10700"/>
                </a:cubicBezTo>
                <a:cubicBezTo>
                  <a:pt x="10401" y="10694"/>
                  <a:pt x="10508" y="10700"/>
                  <a:pt x="10604" y="10732"/>
                </a:cubicBezTo>
                <a:cubicBezTo>
                  <a:pt x="10615" y="10736"/>
                  <a:pt x="10756" y="10732"/>
                  <a:pt x="10668" y="10732"/>
                </a:cubicBezTo>
              </a:path>
              <a:path w="12637" h="2255">
                <a:moveTo>
                  <a:pt x="15748" y="11049"/>
                </a:moveTo>
                <a:cubicBezTo>
                  <a:pt x="15764" y="11001"/>
                  <a:pt x="15786" y="11017"/>
                  <a:pt x="15843" y="11017"/>
                </a:cubicBezTo>
                <a:cubicBezTo>
                  <a:pt x="15996" y="11017"/>
                  <a:pt x="16140" y="11032"/>
                  <a:pt x="16288" y="11049"/>
                </a:cubicBezTo>
                <a:cubicBezTo>
                  <a:pt x="16417" y="11063"/>
                  <a:pt x="16543" y="11064"/>
                  <a:pt x="16669" y="11081"/>
                </a:cubicBezTo>
                <a:cubicBezTo>
                  <a:pt x="16800" y="11099"/>
                  <a:pt x="16923" y="11084"/>
                  <a:pt x="17050" y="11112"/>
                </a:cubicBezTo>
                <a:cubicBezTo>
                  <a:pt x="17089" y="11121"/>
                  <a:pt x="17137" y="11112"/>
                  <a:pt x="17177" y="11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nk 9"/>
          <p:cNvSpPr/>
          <p:nvPr/>
        </p:nvSpPr>
        <p:spPr>
          <a:xfrm>
            <a:off x="2571840" y="4172040"/>
            <a:ext cx="1384200" cy="606240"/>
          </a:xfrm>
          <a:custGeom>
            <a:avLst/>
            <a:gdLst/>
            <a:ahLst/>
            <a:rect l="l" t="t" r="r" b="b"/>
            <a:pathLst>
              <a:path w="3843" h="1684">
                <a:moveTo>
                  <a:pt x="7271" y="11779"/>
                </a:moveTo>
                <a:cubicBezTo>
                  <a:pt x="7271" y="11912"/>
                  <a:pt x="7253" y="12032"/>
                  <a:pt x="7239" y="12160"/>
                </a:cubicBezTo>
                <a:cubicBezTo>
                  <a:pt x="7225" y="12288"/>
                  <a:pt x="7190" y="12414"/>
                  <a:pt x="7176" y="12541"/>
                </a:cubicBezTo>
                <a:cubicBezTo>
                  <a:pt x="7165" y="12642"/>
                  <a:pt x="7156" y="12729"/>
                  <a:pt x="7144" y="12827"/>
                </a:cubicBezTo>
                <a:cubicBezTo>
                  <a:pt x="7152" y="12720"/>
                  <a:pt x="7155" y="12614"/>
                  <a:pt x="7176" y="12510"/>
                </a:cubicBezTo>
                <a:cubicBezTo>
                  <a:pt x="7215" y="12320"/>
                  <a:pt x="7278" y="12124"/>
                  <a:pt x="7334" y="11938"/>
                </a:cubicBezTo>
                <a:cubicBezTo>
                  <a:pt x="7370" y="11819"/>
                  <a:pt x="7397" y="11734"/>
                  <a:pt x="7493" y="11652"/>
                </a:cubicBezTo>
                <a:cubicBezTo>
                  <a:pt x="7567" y="11589"/>
                  <a:pt x="7608" y="11582"/>
                  <a:pt x="7684" y="11620"/>
                </a:cubicBezTo>
                <a:cubicBezTo>
                  <a:pt x="7765" y="11661"/>
                  <a:pt x="7776" y="11765"/>
                  <a:pt x="7779" y="11843"/>
                </a:cubicBezTo>
                <a:cubicBezTo>
                  <a:pt x="7785" y="11995"/>
                  <a:pt x="7786" y="12141"/>
                  <a:pt x="7747" y="12287"/>
                </a:cubicBezTo>
                <a:cubicBezTo>
                  <a:pt x="7714" y="12410"/>
                  <a:pt x="7675" y="12542"/>
                  <a:pt x="7652" y="12668"/>
                </a:cubicBezTo>
                <a:cubicBezTo>
                  <a:pt x="7640" y="12734"/>
                  <a:pt x="7628" y="12792"/>
                  <a:pt x="7620" y="12859"/>
                </a:cubicBezTo>
                <a:cubicBezTo>
                  <a:pt x="7620" y="12763"/>
                  <a:pt x="7623" y="12699"/>
                  <a:pt x="7652" y="12605"/>
                </a:cubicBezTo>
                <a:cubicBezTo>
                  <a:pt x="7698" y="12458"/>
                  <a:pt x="7735" y="12308"/>
                  <a:pt x="7779" y="12160"/>
                </a:cubicBezTo>
                <a:cubicBezTo>
                  <a:pt x="7815" y="12040"/>
                  <a:pt x="7846" y="11870"/>
                  <a:pt x="7938" y="11779"/>
                </a:cubicBezTo>
                <a:cubicBezTo>
                  <a:pt x="7982" y="11736"/>
                  <a:pt x="8041" y="11696"/>
                  <a:pt x="8096" y="11684"/>
                </a:cubicBezTo>
                <a:cubicBezTo>
                  <a:pt x="8117" y="11684"/>
                  <a:pt x="8139" y="11684"/>
                  <a:pt x="8160" y="11684"/>
                </a:cubicBezTo>
                <a:cubicBezTo>
                  <a:pt x="8207" y="11771"/>
                  <a:pt x="8223" y="11800"/>
                  <a:pt x="8223" y="11906"/>
                </a:cubicBezTo>
                <a:cubicBezTo>
                  <a:pt x="8223" y="12055"/>
                  <a:pt x="8217" y="12206"/>
                  <a:pt x="8192" y="12351"/>
                </a:cubicBezTo>
                <a:cubicBezTo>
                  <a:pt x="8162" y="12525"/>
                  <a:pt x="8151" y="12655"/>
                  <a:pt x="8192" y="12827"/>
                </a:cubicBezTo>
                <a:cubicBezTo>
                  <a:pt x="8222" y="12954"/>
                  <a:pt x="8244" y="13120"/>
                  <a:pt x="8350" y="13208"/>
                </a:cubicBezTo>
                <a:cubicBezTo>
                  <a:pt x="8408" y="13256"/>
                  <a:pt x="8473" y="13263"/>
                  <a:pt x="8541" y="13272"/>
                </a:cubicBezTo>
              </a:path>
              <a:path w="3843" h="1684">
                <a:moveTo>
                  <a:pt x="9112" y="12033"/>
                </a:moveTo>
                <a:cubicBezTo>
                  <a:pt x="9112" y="12104"/>
                  <a:pt x="9084" y="12153"/>
                  <a:pt x="9080" y="12224"/>
                </a:cubicBezTo>
                <a:cubicBezTo>
                  <a:pt x="9075" y="12311"/>
                  <a:pt x="9112" y="12386"/>
                  <a:pt x="9112" y="12478"/>
                </a:cubicBezTo>
                <a:cubicBezTo>
                  <a:pt x="9112" y="12602"/>
                  <a:pt x="9101" y="12721"/>
                  <a:pt x="9080" y="12827"/>
                </a:cubicBezTo>
                <a:cubicBezTo>
                  <a:pt x="9080" y="12880"/>
                  <a:pt x="9080" y="12890"/>
                  <a:pt x="9080" y="12922"/>
                </a:cubicBezTo>
              </a:path>
              <a:path w="3843" h="1684">
                <a:moveTo>
                  <a:pt x="8795" y="12319"/>
                </a:moveTo>
                <a:cubicBezTo>
                  <a:pt x="8859" y="12319"/>
                  <a:pt x="8924" y="12335"/>
                  <a:pt x="8985" y="12351"/>
                </a:cubicBezTo>
                <a:cubicBezTo>
                  <a:pt x="9113" y="12384"/>
                  <a:pt x="9174" y="12365"/>
                  <a:pt x="9303" y="12351"/>
                </a:cubicBezTo>
              </a:path>
              <a:path w="3843" h="1684">
                <a:moveTo>
                  <a:pt x="9620" y="11684"/>
                </a:moveTo>
                <a:cubicBezTo>
                  <a:pt x="9646" y="11648"/>
                  <a:pt x="9659" y="11604"/>
                  <a:pt x="9716" y="11589"/>
                </a:cubicBezTo>
                <a:cubicBezTo>
                  <a:pt x="9781" y="11572"/>
                  <a:pt x="9867" y="11597"/>
                  <a:pt x="9906" y="11652"/>
                </a:cubicBezTo>
                <a:cubicBezTo>
                  <a:pt x="9935" y="11693"/>
                  <a:pt x="9954" y="11786"/>
                  <a:pt x="9938" y="11843"/>
                </a:cubicBezTo>
                <a:cubicBezTo>
                  <a:pt x="9902" y="11971"/>
                  <a:pt x="9866" y="12068"/>
                  <a:pt x="9811" y="12192"/>
                </a:cubicBezTo>
                <a:cubicBezTo>
                  <a:pt x="9757" y="12314"/>
                  <a:pt x="9676" y="12421"/>
                  <a:pt x="9620" y="12541"/>
                </a:cubicBezTo>
                <a:cubicBezTo>
                  <a:pt x="9566" y="12657"/>
                  <a:pt x="9501" y="12706"/>
                  <a:pt x="9430" y="12795"/>
                </a:cubicBezTo>
                <a:cubicBezTo>
                  <a:pt x="9421" y="12806"/>
                  <a:pt x="9279" y="12975"/>
                  <a:pt x="9366" y="12890"/>
                </a:cubicBezTo>
                <a:cubicBezTo>
                  <a:pt x="9400" y="12857"/>
                  <a:pt x="9451" y="12806"/>
                  <a:pt x="9493" y="12795"/>
                </a:cubicBezTo>
                <a:cubicBezTo>
                  <a:pt x="9535" y="12784"/>
                  <a:pt x="9591" y="12809"/>
                  <a:pt x="9620" y="12827"/>
                </a:cubicBezTo>
                <a:cubicBezTo>
                  <a:pt x="9686" y="12868"/>
                  <a:pt x="9741" y="12889"/>
                  <a:pt x="9811" y="12922"/>
                </a:cubicBezTo>
                <a:cubicBezTo>
                  <a:pt x="9889" y="12959"/>
                  <a:pt x="9948" y="12954"/>
                  <a:pt x="10033" y="12954"/>
                </a:cubicBezTo>
                <a:cubicBezTo>
                  <a:pt x="10129" y="12954"/>
                  <a:pt x="10171" y="12900"/>
                  <a:pt x="10224" y="12827"/>
                </a:cubicBezTo>
              </a:path>
              <a:path w="3843" h="1684">
                <a:moveTo>
                  <a:pt x="10350" y="12128"/>
                </a:moveTo>
                <a:cubicBezTo>
                  <a:pt x="10410" y="12084"/>
                  <a:pt x="10463" y="12097"/>
                  <a:pt x="10541" y="12097"/>
                </a:cubicBezTo>
                <a:cubicBezTo>
                  <a:pt x="10679" y="12097"/>
                  <a:pt x="10816" y="12097"/>
                  <a:pt x="10954" y="12097"/>
                </a:cubicBezTo>
              </a:path>
              <a:path w="3843" h="1684">
                <a:moveTo>
                  <a:pt x="10478" y="12382"/>
                </a:moveTo>
                <a:cubicBezTo>
                  <a:pt x="10564" y="12382"/>
                  <a:pt x="10622" y="12401"/>
                  <a:pt x="10700" y="12414"/>
                </a:cubicBezTo>
                <a:cubicBezTo>
                  <a:pt x="10795" y="12430"/>
                  <a:pt x="10869" y="12402"/>
                  <a:pt x="10954" y="12382"/>
                </a:cubicBezTo>
                <a:cubicBezTo>
                  <a:pt x="10965" y="12382"/>
                  <a:pt x="10975" y="12382"/>
                  <a:pt x="10986" y="12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Ink 10"/>
          <p:cNvSpPr/>
          <p:nvPr/>
        </p:nvSpPr>
        <p:spPr>
          <a:xfrm>
            <a:off x="4160880" y="4149720"/>
            <a:ext cx="239760" cy="696960"/>
          </a:xfrm>
          <a:custGeom>
            <a:avLst/>
            <a:gdLst/>
            <a:ahLst/>
            <a:rect l="l" t="t" r="r" b="b"/>
            <a:pathLst>
              <a:path w="668" h="1938">
                <a:moveTo>
                  <a:pt x="12192" y="12033"/>
                </a:moveTo>
                <a:cubicBezTo>
                  <a:pt x="12235" y="11920"/>
                  <a:pt x="12211" y="11890"/>
                  <a:pt x="12192" y="11779"/>
                </a:cubicBezTo>
                <a:cubicBezTo>
                  <a:pt x="12172" y="11663"/>
                  <a:pt x="12119" y="11654"/>
                  <a:pt x="12033" y="11589"/>
                </a:cubicBezTo>
                <a:cubicBezTo>
                  <a:pt x="11967" y="11539"/>
                  <a:pt x="11901" y="11500"/>
                  <a:pt x="11811" y="11525"/>
                </a:cubicBezTo>
                <a:cubicBezTo>
                  <a:pt x="11718" y="11551"/>
                  <a:pt x="11663" y="11602"/>
                  <a:pt x="11620" y="11684"/>
                </a:cubicBezTo>
                <a:cubicBezTo>
                  <a:pt x="11573" y="11774"/>
                  <a:pt x="11589" y="11870"/>
                  <a:pt x="11589" y="11970"/>
                </a:cubicBezTo>
                <a:cubicBezTo>
                  <a:pt x="11589" y="12130"/>
                  <a:pt x="11651" y="12242"/>
                  <a:pt x="11716" y="12382"/>
                </a:cubicBezTo>
                <a:cubicBezTo>
                  <a:pt x="11792" y="12545"/>
                  <a:pt x="11854" y="12687"/>
                  <a:pt x="11906" y="12859"/>
                </a:cubicBezTo>
                <a:cubicBezTo>
                  <a:pt x="11945" y="12987"/>
                  <a:pt x="11938" y="13107"/>
                  <a:pt x="11938" y="13240"/>
                </a:cubicBezTo>
                <a:cubicBezTo>
                  <a:pt x="11938" y="13310"/>
                  <a:pt x="11917" y="13421"/>
                  <a:pt x="11843" y="13462"/>
                </a:cubicBezTo>
                <a:cubicBezTo>
                  <a:pt x="11832" y="13462"/>
                  <a:pt x="11822" y="13462"/>
                  <a:pt x="11811" y="13462"/>
                </a:cubicBezTo>
                <a:cubicBezTo>
                  <a:pt x="11719" y="13449"/>
                  <a:pt x="11664" y="13397"/>
                  <a:pt x="11620" y="13303"/>
                </a:cubicBezTo>
                <a:cubicBezTo>
                  <a:pt x="11563" y="13182"/>
                  <a:pt x="11557" y="13086"/>
                  <a:pt x="11557" y="12954"/>
                </a:cubicBezTo>
                <a:cubicBezTo>
                  <a:pt x="11557" y="12832"/>
                  <a:pt x="11595" y="12683"/>
                  <a:pt x="11652" y="12573"/>
                </a:cubicBezTo>
                <a:cubicBezTo>
                  <a:pt x="11760" y="12366"/>
                  <a:pt x="11900" y="12176"/>
                  <a:pt x="12002" y="11970"/>
                </a:cubicBezTo>
                <a:cubicBezTo>
                  <a:pt x="12052" y="11870"/>
                  <a:pt x="12092" y="11792"/>
                  <a:pt x="12128" y="11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nk 11"/>
          <p:cNvSpPr/>
          <p:nvPr/>
        </p:nvSpPr>
        <p:spPr>
          <a:xfrm>
            <a:off x="3108240" y="4835520"/>
            <a:ext cx="1692360" cy="1211400"/>
          </a:xfrm>
          <a:custGeom>
            <a:avLst/>
            <a:gdLst/>
            <a:ahLst/>
            <a:rect l="l" t="t" r="r" b="b"/>
            <a:pathLst>
              <a:path w="4700" h="3367">
                <a:moveTo>
                  <a:pt x="8731" y="13684"/>
                </a:moveTo>
                <a:cubicBezTo>
                  <a:pt x="8791" y="13684"/>
                  <a:pt x="8811" y="13662"/>
                  <a:pt x="8858" y="13652"/>
                </a:cubicBezTo>
                <a:cubicBezTo>
                  <a:pt x="8911" y="13652"/>
                  <a:pt x="8922" y="13652"/>
                  <a:pt x="8954" y="13652"/>
                </a:cubicBezTo>
              </a:path>
              <a:path w="4700" h="3367">
                <a:moveTo>
                  <a:pt x="9430" y="13430"/>
                </a:moveTo>
                <a:cubicBezTo>
                  <a:pt x="9476" y="13430"/>
                  <a:pt x="9523" y="13439"/>
                  <a:pt x="9557" y="13462"/>
                </a:cubicBezTo>
                <a:cubicBezTo>
                  <a:pt x="9578" y="13476"/>
                  <a:pt x="9676" y="13515"/>
                  <a:pt x="9684" y="13526"/>
                </a:cubicBezTo>
                <a:cubicBezTo>
                  <a:pt x="9712" y="13566"/>
                  <a:pt x="9676" y="13657"/>
                  <a:pt x="9652" y="13684"/>
                </a:cubicBezTo>
                <a:cubicBezTo>
                  <a:pt x="9592" y="13751"/>
                  <a:pt x="9548" y="13809"/>
                  <a:pt x="9493" y="13875"/>
                </a:cubicBezTo>
                <a:cubicBezTo>
                  <a:pt x="9458" y="13917"/>
                  <a:pt x="9376" y="13981"/>
                  <a:pt x="9366" y="14002"/>
                </a:cubicBezTo>
                <a:cubicBezTo>
                  <a:pt x="9366" y="14013"/>
                  <a:pt x="9366" y="14023"/>
                  <a:pt x="9366" y="14034"/>
                </a:cubicBezTo>
                <a:cubicBezTo>
                  <a:pt x="9383" y="14084"/>
                  <a:pt x="9429" y="14065"/>
                  <a:pt x="9493" y="14065"/>
                </a:cubicBezTo>
                <a:cubicBezTo>
                  <a:pt x="9558" y="14065"/>
                  <a:pt x="9613" y="14034"/>
                  <a:pt x="9684" y="14034"/>
                </a:cubicBezTo>
                <a:cubicBezTo>
                  <a:pt x="9741" y="14034"/>
                  <a:pt x="9758" y="14038"/>
                  <a:pt x="9779" y="14002"/>
                </a:cubicBezTo>
              </a:path>
              <a:path w="4700" h="3367">
                <a:moveTo>
                  <a:pt x="11017" y="13652"/>
                </a:moveTo>
                <a:cubicBezTo>
                  <a:pt x="11017" y="13663"/>
                  <a:pt x="11017" y="13673"/>
                  <a:pt x="11017" y="13684"/>
                </a:cubicBezTo>
                <a:cubicBezTo>
                  <a:pt x="11103" y="13684"/>
                  <a:pt x="11128" y="13709"/>
                  <a:pt x="11208" y="13716"/>
                </a:cubicBezTo>
                <a:cubicBezTo>
                  <a:pt x="11264" y="13721"/>
                  <a:pt x="11308" y="13741"/>
                  <a:pt x="11366" y="13748"/>
                </a:cubicBezTo>
              </a:path>
              <a:path w="4700" h="3367">
                <a:moveTo>
                  <a:pt x="11589" y="13748"/>
                </a:moveTo>
                <a:cubicBezTo>
                  <a:pt x="11668" y="13748"/>
                  <a:pt x="11704" y="13761"/>
                  <a:pt x="11779" y="13780"/>
                </a:cubicBezTo>
                <a:cubicBezTo>
                  <a:pt x="11813" y="13788"/>
                  <a:pt x="11888" y="13806"/>
                  <a:pt x="11906" y="13843"/>
                </a:cubicBezTo>
                <a:cubicBezTo>
                  <a:pt x="11935" y="13901"/>
                  <a:pt x="11874" y="13910"/>
                  <a:pt x="11843" y="13938"/>
                </a:cubicBezTo>
                <a:cubicBezTo>
                  <a:pt x="11784" y="13991"/>
                  <a:pt x="11714" y="14019"/>
                  <a:pt x="11652" y="14065"/>
                </a:cubicBezTo>
                <a:cubicBezTo>
                  <a:pt x="11618" y="14090"/>
                  <a:pt x="11593" y="14153"/>
                  <a:pt x="11589" y="14192"/>
                </a:cubicBezTo>
                <a:cubicBezTo>
                  <a:pt x="11583" y="14246"/>
                  <a:pt x="11600" y="14271"/>
                  <a:pt x="11652" y="14288"/>
                </a:cubicBezTo>
                <a:cubicBezTo>
                  <a:pt x="11746" y="14319"/>
                  <a:pt x="11879" y="14293"/>
                  <a:pt x="11970" y="14319"/>
                </a:cubicBezTo>
                <a:cubicBezTo>
                  <a:pt x="12006" y="14319"/>
                  <a:pt x="12020" y="14322"/>
                  <a:pt x="12033" y="14351"/>
                </a:cubicBezTo>
              </a:path>
              <a:path w="4700" h="3367">
                <a:moveTo>
                  <a:pt x="9557" y="15113"/>
                </a:moveTo>
                <a:cubicBezTo>
                  <a:pt x="9510" y="15183"/>
                  <a:pt x="9509" y="15268"/>
                  <a:pt x="9462" y="15335"/>
                </a:cubicBezTo>
                <a:cubicBezTo>
                  <a:pt x="9385" y="15445"/>
                  <a:pt x="9355" y="15525"/>
                  <a:pt x="9303" y="15653"/>
                </a:cubicBezTo>
                <a:cubicBezTo>
                  <a:pt x="9265" y="15747"/>
                  <a:pt x="9249" y="15809"/>
                  <a:pt x="9239" y="15907"/>
                </a:cubicBezTo>
                <a:cubicBezTo>
                  <a:pt x="9247" y="15815"/>
                  <a:pt x="9261" y="15769"/>
                  <a:pt x="9303" y="15684"/>
                </a:cubicBezTo>
                <a:cubicBezTo>
                  <a:pt x="9364" y="15561"/>
                  <a:pt x="9415" y="15451"/>
                  <a:pt x="9493" y="15335"/>
                </a:cubicBezTo>
                <a:cubicBezTo>
                  <a:pt x="9577" y="15209"/>
                  <a:pt x="9618" y="15064"/>
                  <a:pt x="9716" y="14954"/>
                </a:cubicBezTo>
                <a:cubicBezTo>
                  <a:pt x="9791" y="14870"/>
                  <a:pt x="9814" y="14842"/>
                  <a:pt x="9906" y="14796"/>
                </a:cubicBezTo>
                <a:cubicBezTo>
                  <a:pt x="9993" y="14845"/>
                  <a:pt x="9995" y="14830"/>
                  <a:pt x="10001" y="14954"/>
                </a:cubicBezTo>
                <a:cubicBezTo>
                  <a:pt x="10008" y="15096"/>
                  <a:pt x="10002" y="15230"/>
                  <a:pt x="9970" y="15367"/>
                </a:cubicBezTo>
                <a:cubicBezTo>
                  <a:pt x="9940" y="15495"/>
                  <a:pt x="9948" y="15633"/>
                  <a:pt x="9874" y="15748"/>
                </a:cubicBezTo>
                <a:cubicBezTo>
                  <a:pt x="9836" y="15786"/>
                  <a:pt x="9822" y="15804"/>
                  <a:pt x="9811" y="15843"/>
                </a:cubicBezTo>
                <a:cubicBezTo>
                  <a:pt x="9820" y="15768"/>
                  <a:pt x="9846" y="15725"/>
                  <a:pt x="9874" y="15653"/>
                </a:cubicBezTo>
                <a:cubicBezTo>
                  <a:pt x="9921" y="15533"/>
                  <a:pt x="10002" y="15419"/>
                  <a:pt x="10065" y="15304"/>
                </a:cubicBezTo>
                <a:cubicBezTo>
                  <a:pt x="10134" y="15180"/>
                  <a:pt x="10222" y="15056"/>
                  <a:pt x="10319" y="14954"/>
                </a:cubicBezTo>
                <a:cubicBezTo>
                  <a:pt x="10394" y="14875"/>
                  <a:pt x="10430" y="14875"/>
                  <a:pt x="10509" y="14827"/>
                </a:cubicBezTo>
                <a:cubicBezTo>
                  <a:pt x="10577" y="14895"/>
                  <a:pt x="10566" y="14840"/>
                  <a:pt x="10573" y="14954"/>
                </a:cubicBezTo>
                <a:cubicBezTo>
                  <a:pt x="10580" y="15067"/>
                  <a:pt x="10564" y="15196"/>
                  <a:pt x="10541" y="15304"/>
                </a:cubicBezTo>
                <a:cubicBezTo>
                  <a:pt x="10512" y="15440"/>
                  <a:pt x="10483" y="15576"/>
                  <a:pt x="10478" y="15716"/>
                </a:cubicBezTo>
                <a:cubicBezTo>
                  <a:pt x="10475" y="15799"/>
                  <a:pt x="10491" y="15908"/>
                  <a:pt x="10541" y="15970"/>
                </a:cubicBezTo>
                <a:cubicBezTo>
                  <a:pt x="10606" y="16051"/>
                  <a:pt x="10660" y="16029"/>
                  <a:pt x="10732" y="15970"/>
                </a:cubicBezTo>
                <a:cubicBezTo>
                  <a:pt x="10753" y="15949"/>
                  <a:pt x="10774" y="15928"/>
                  <a:pt x="10795" y="15907"/>
                </a:cubicBezTo>
              </a:path>
              <a:path w="4700" h="3367">
                <a:moveTo>
                  <a:pt x="11176" y="15208"/>
                </a:moveTo>
                <a:cubicBezTo>
                  <a:pt x="11237" y="15223"/>
                  <a:pt x="11298" y="15261"/>
                  <a:pt x="11366" y="15272"/>
                </a:cubicBezTo>
                <a:cubicBezTo>
                  <a:pt x="11435" y="15284"/>
                  <a:pt x="11519" y="15272"/>
                  <a:pt x="11589" y="15272"/>
                </a:cubicBezTo>
              </a:path>
              <a:path w="4700" h="3367">
                <a:moveTo>
                  <a:pt x="11112" y="15526"/>
                </a:moveTo>
                <a:cubicBezTo>
                  <a:pt x="11172" y="15562"/>
                  <a:pt x="11230" y="15585"/>
                  <a:pt x="11303" y="15589"/>
                </a:cubicBezTo>
                <a:cubicBezTo>
                  <a:pt x="11403" y="15595"/>
                  <a:pt x="11471" y="15602"/>
                  <a:pt x="11557" y="15589"/>
                </a:cubicBezTo>
                <a:cubicBezTo>
                  <a:pt x="11599" y="15589"/>
                  <a:pt x="11620" y="15589"/>
                  <a:pt x="11652" y="15589"/>
                </a:cubicBezTo>
              </a:path>
              <a:path w="4700" h="3367">
                <a:moveTo>
                  <a:pt x="12414" y="14922"/>
                </a:moveTo>
                <a:cubicBezTo>
                  <a:pt x="12361" y="14883"/>
                  <a:pt x="12307" y="14894"/>
                  <a:pt x="12256" y="14954"/>
                </a:cubicBezTo>
                <a:cubicBezTo>
                  <a:pt x="12172" y="15052"/>
                  <a:pt x="12087" y="15186"/>
                  <a:pt x="12033" y="15304"/>
                </a:cubicBezTo>
                <a:cubicBezTo>
                  <a:pt x="11979" y="15422"/>
                  <a:pt x="11943" y="15557"/>
                  <a:pt x="11938" y="15684"/>
                </a:cubicBezTo>
                <a:cubicBezTo>
                  <a:pt x="11934" y="15802"/>
                  <a:pt x="11942" y="15922"/>
                  <a:pt x="11970" y="16034"/>
                </a:cubicBezTo>
                <a:cubicBezTo>
                  <a:pt x="11995" y="16134"/>
                  <a:pt x="12093" y="16218"/>
                  <a:pt x="12192" y="16256"/>
                </a:cubicBezTo>
                <a:cubicBezTo>
                  <a:pt x="12299" y="16297"/>
                  <a:pt x="12325" y="16207"/>
                  <a:pt x="12382" y="16161"/>
                </a:cubicBezTo>
                <a:cubicBezTo>
                  <a:pt x="12448" y="16108"/>
                  <a:pt x="12524" y="16004"/>
                  <a:pt x="12541" y="15907"/>
                </a:cubicBezTo>
                <a:cubicBezTo>
                  <a:pt x="12559" y="15805"/>
                  <a:pt x="12546" y="15751"/>
                  <a:pt x="12478" y="15684"/>
                </a:cubicBezTo>
                <a:cubicBezTo>
                  <a:pt x="12422" y="15629"/>
                  <a:pt x="12317" y="15675"/>
                  <a:pt x="12256" y="15716"/>
                </a:cubicBezTo>
                <a:cubicBezTo>
                  <a:pt x="12165" y="15777"/>
                  <a:pt x="12046" y="15938"/>
                  <a:pt x="12002" y="16034"/>
                </a:cubicBezTo>
                <a:cubicBezTo>
                  <a:pt x="11973" y="16120"/>
                  <a:pt x="11967" y="16143"/>
                  <a:pt x="11938" y="16192"/>
                </a:cubicBezTo>
              </a:path>
              <a:path w="4700" h="3367">
                <a:moveTo>
                  <a:pt x="9080" y="16351"/>
                </a:moveTo>
                <a:cubicBezTo>
                  <a:pt x="9139" y="16374"/>
                  <a:pt x="9174" y="16381"/>
                  <a:pt x="9239" y="16415"/>
                </a:cubicBezTo>
                <a:cubicBezTo>
                  <a:pt x="9350" y="16472"/>
                  <a:pt x="9469" y="16539"/>
                  <a:pt x="9588" y="16574"/>
                </a:cubicBezTo>
                <a:cubicBezTo>
                  <a:pt x="9690" y="16604"/>
                  <a:pt x="9802" y="16618"/>
                  <a:pt x="9906" y="16637"/>
                </a:cubicBezTo>
                <a:cubicBezTo>
                  <a:pt x="10021" y="16658"/>
                  <a:pt x="10136" y="16667"/>
                  <a:pt x="10255" y="16669"/>
                </a:cubicBezTo>
                <a:cubicBezTo>
                  <a:pt x="10387" y="16672"/>
                  <a:pt x="10515" y="16669"/>
                  <a:pt x="10636" y="16669"/>
                </a:cubicBezTo>
                <a:cubicBezTo>
                  <a:pt x="10809" y="16669"/>
                  <a:pt x="10977" y="16658"/>
                  <a:pt x="11144" y="16700"/>
                </a:cubicBezTo>
                <a:cubicBezTo>
                  <a:pt x="11287" y="16736"/>
                  <a:pt x="11405" y="16744"/>
                  <a:pt x="11557" y="16764"/>
                </a:cubicBezTo>
                <a:cubicBezTo>
                  <a:pt x="11687" y="16781"/>
                  <a:pt x="11803" y="16793"/>
                  <a:pt x="11938" y="16796"/>
                </a:cubicBezTo>
                <a:cubicBezTo>
                  <a:pt x="12063" y="16798"/>
                  <a:pt x="12199" y="16793"/>
                  <a:pt x="12319" y="16764"/>
                </a:cubicBezTo>
                <a:cubicBezTo>
                  <a:pt x="12437" y="16735"/>
                  <a:pt x="12547" y="16711"/>
                  <a:pt x="12668" y="16669"/>
                </a:cubicBezTo>
                <a:cubicBezTo>
                  <a:pt x="12791" y="16626"/>
                  <a:pt x="12881" y="16578"/>
                  <a:pt x="12986" y="16510"/>
                </a:cubicBezTo>
                <a:cubicBezTo>
                  <a:pt x="13093" y="16441"/>
                  <a:pt x="13137" y="16358"/>
                  <a:pt x="13208" y="16256"/>
                </a:cubicBezTo>
                <a:cubicBezTo>
                  <a:pt x="13288" y="16141"/>
                  <a:pt x="13320" y="16012"/>
                  <a:pt x="13335" y="15875"/>
                </a:cubicBezTo>
                <a:cubicBezTo>
                  <a:pt x="13349" y="15748"/>
                  <a:pt x="13324" y="15640"/>
                  <a:pt x="13272" y="15526"/>
                </a:cubicBezTo>
                <a:cubicBezTo>
                  <a:pt x="13200" y="15370"/>
                  <a:pt x="13038" y="15199"/>
                  <a:pt x="12890" y="15113"/>
                </a:cubicBezTo>
                <a:cubicBezTo>
                  <a:pt x="12780" y="15049"/>
                  <a:pt x="12655" y="15010"/>
                  <a:pt x="12541" y="14954"/>
                </a:cubicBezTo>
                <a:cubicBezTo>
                  <a:pt x="12375" y="14873"/>
                  <a:pt x="12207" y="14790"/>
                  <a:pt x="12033" y="14732"/>
                </a:cubicBezTo>
                <a:cubicBezTo>
                  <a:pt x="11856" y="14673"/>
                  <a:pt x="11674" y="14663"/>
                  <a:pt x="11494" y="14637"/>
                </a:cubicBezTo>
                <a:cubicBezTo>
                  <a:pt x="11290" y="14607"/>
                  <a:pt x="11097" y="14605"/>
                  <a:pt x="10890" y="14605"/>
                </a:cubicBezTo>
                <a:cubicBezTo>
                  <a:pt x="10699" y="14605"/>
                  <a:pt x="10536" y="14623"/>
                  <a:pt x="10350" y="14668"/>
                </a:cubicBezTo>
                <a:cubicBezTo>
                  <a:pt x="10173" y="14711"/>
                  <a:pt x="10019" y="14747"/>
                  <a:pt x="9842" y="14796"/>
                </a:cubicBezTo>
                <a:cubicBezTo>
                  <a:pt x="9607" y="14861"/>
                  <a:pt x="9353" y="14891"/>
                  <a:pt x="9144" y="15018"/>
                </a:cubicBezTo>
                <a:cubicBezTo>
                  <a:pt x="9022" y="15092"/>
                  <a:pt x="8924" y="15166"/>
                  <a:pt x="8826" y="15272"/>
                </a:cubicBezTo>
                <a:cubicBezTo>
                  <a:pt x="8725" y="15380"/>
                  <a:pt x="8659" y="15479"/>
                  <a:pt x="8636" y="15621"/>
                </a:cubicBezTo>
                <a:cubicBezTo>
                  <a:pt x="8622" y="15709"/>
                  <a:pt x="8635" y="15796"/>
                  <a:pt x="8668" y="15875"/>
                </a:cubicBezTo>
                <a:cubicBezTo>
                  <a:pt x="8698" y="15946"/>
                  <a:pt x="8753" y="16003"/>
                  <a:pt x="8795" y="16066"/>
                </a:cubicBezTo>
                <a:cubicBezTo>
                  <a:pt x="8854" y="16155"/>
                  <a:pt x="8918" y="16205"/>
                  <a:pt x="9017" y="16256"/>
                </a:cubicBezTo>
                <a:cubicBezTo>
                  <a:pt x="9125" y="16312"/>
                  <a:pt x="9252" y="16341"/>
                  <a:pt x="9366" y="16383"/>
                </a:cubicBezTo>
                <a:cubicBezTo>
                  <a:pt x="9479" y="16425"/>
                  <a:pt x="9541" y="16461"/>
                  <a:pt x="9620" y="16510"/>
                </a:cubicBezTo>
                <a:cubicBezTo>
                  <a:pt x="9676" y="16538"/>
                  <a:pt x="9691" y="16543"/>
                  <a:pt x="9716" y="165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k 12"/>
          <p:cNvSpPr/>
          <p:nvPr/>
        </p:nvSpPr>
        <p:spPr>
          <a:xfrm>
            <a:off x="3017880" y="1177920"/>
            <a:ext cx="149040" cy="34920"/>
          </a:xfrm>
          <a:custGeom>
            <a:avLst/>
            <a:gdLst/>
            <a:ahLst/>
            <a:rect l="l" t="t" r="r" b="b"/>
            <a:pathLst>
              <a:path w="414" h="97">
                <a:moveTo>
                  <a:pt x="8382" y="3366"/>
                </a:moveTo>
                <a:cubicBezTo>
                  <a:pt x="8434" y="3327"/>
                  <a:pt x="8506" y="3306"/>
                  <a:pt x="8572" y="3302"/>
                </a:cubicBezTo>
                <a:cubicBezTo>
                  <a:pt x="8654" y="3297"/>
                  <a:pt x="8711" y="3270"/>
                  <a:pt x="8795" y="32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Ink 13"/>
          <p:cNvSpPr/>
          <p:nvPr/>
        </p:nvSpPr>
        <p:spPr>
          <a:xfrm>
            <a:off x="4011480" y="1154160"/>
            <a:ext cx="320760" cy="46080"/>
          </a:xfrm>
          <a:custGeom>
            <a:avLst/>
            <a:gdLst/>
            <a:ahLst/>
            <a:rect l="l" t="t" r="r" b="b"/>
            <a:pathLst>
              <a:path w="890" h="128">
                <a:moveTo>
                  <a:pt x="11144" y="3334"/>
                </a:moveTo>
                <a:cubicBezTo>
                  <a:pt x="11218" y="3334"/>
                  <a:pt x="11269" y="3320"/>
                  <a:pt x="11335" y="3302"/>
                </a:cubicBezTo>
                <a:cubicBezTo>
                  <a:pt x="11452" y="3270"/>
                  <a:pt x="11562" y="3243"/>
                  <a:pt x="11684" y="3238"/>
                </a:cubicBezTo>
                <a:cubicBezTo>
                  <a:pt x="11797" y="3234"/>
                  <a:pt x="11885" y="3207"/>
                  <a:pt x="12002" y="3207"/>
                </a:cubicBezTo>
                <a:cubicBezTo>
                  <a:pt x="12012" y="3207"/>
                  <a:pt x="12023" y="3207"/>
                  <a:pt x="12033" y="32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Ink 14"/>
          <p:cNvSpPr/>
          <p:nvPr/>
        </p:nvSpPr>
        <p:spPr>
          <a:xfrm>
            <a:off x="5292720" y="1165320"/>
            <a:ext cx="514440" cy="23760"/>
          </a:xfrm>
          <a:custGeom>
            <a:avLst/>
            <a:gdLst/>
            <a:ahLst/>
            <a:rect l="l" t="t" r="r" b="b"/>
            <a:pathLst>
              <a:path w="1430" h="65">
                <a:moveTo>
                  <a:pt x="14700" y="3302"/>
                </a:moveTo>
                <a:cubicBezTo>
                  <a:pt x="14750" y="3290"/>
                  <a:pt x="14770" y="3270"/>
                  <a:pt x="14827" y="3270"/>
                </a:cubicBezTo>
                <a:cubicBezTo>
                  <a:pt x="14918" y="3270"/>
                  <a:pt x="14968" y="3253"/>
                  <a:pt x="15050" y="3238"/>
                </a:cubicBezTo>
                <a:cubicBezTo>
                  <a:pt x="15189" y="3213"/>
                  <a:pt x="15333" y="3248"/>
                  <a:pt x="15462" y="3270"/>
                </a:cubicBezTo>
                <a:cubicBezTo>
                  <a:pt x="15617" y="3296"/>
                  <a:pt x="15786" y="3277"/>
                  <a:pt x="15938" y="3302"/>
                </a:cubicBezTo>
                <a:cubicBezTo>
                  <a:pt x="15997" y="3312"/>
                  <a:pt x="16069" y="3302"/>
                  <a:pt x="16129" y="3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nk 15"/>
          <p:cNvSpPr/>
          <p:nvPr/>
        </p:nvSpPr>
        <p:spPr>
          <a:xfrm>
            <a:off x="6743880" y="1154160"/>
            <a:ext cx="182520" cy="23760"/>
          </a:xfrm>
          <a:custGeom>
            <a:avLst/>
            <a:gdLst/>
            <a:ahLst/>
            <a:rect l="l" t="t" r="r" b="b"/>
            <a:pathLst>
              <a:path w="509" h="64">
                <a:moveTo>
                  <a:pt x="18732" y="3270"/>
                </a:moveTo>
                <a:cubicBezTo>
                  <a:pt x="18798" y="3220"/>
                  <a:pt x="18813" y="3260"/>
                  <a:pt x="18891" y="3238"/>
                </a:cubicBezTo>
                <a:cubicBezTo>
                  <a:pt x="18990" y="3210"/>
                  <a:pt x="19073" y="3208"/>
                  <a:pt x="19177" y="3238"/>
                </a:cubicBezTo>
                <a:cubicBezTo>
                  <a:pt x="19198" y="3249"/>
                  <a:pt x="19219" y="3259"/>
                  <a:pt x="19240" y="32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nk 16"/>
          <p:cNvSpPr/>
          <p:nvPr/>
        </p:nvSpPr>
        <p:spPr>
          <a:xfrm>
            <a:off x="3932280" y="3108240"/>
            <a:ext cx="1565280" cy="916200"/>
          </a:xfrm>
          <a:custGeom>
            <a:avLst/>
            <a:gdLst/>
            <a:ahLst/>
            <a:rect l="l" t="t" r="r" b="b"/>
            <a:pathLst>
              <a:path w="4351" h="2541">
                <a:moveTo>
                  <a:pt x="11112" y="10986"/>
                </a:moveTo>
                <a:cubicBezTo>
                  <a:pt x="11357" y="10986"/>
                  <a:pt x="11579" y="11001"/>
                  <a:pt x="11811" y="11049"/>
                </a:cubicBezTo>
                <a:cubicBezTo>
                  <a:pt x="11906" y="11068"/>
                  <a:pt x="12001" y="11068"/>
                  <a:pt x="12097" y="11081"/>
                </a:cubicBezTo>
                <a:cubicBezTo>
                  <a:pt x="12202" y="11096"/>
                  <a:pt x="12308" y="11098"/>
                  <a:pt x="12414" y="11112"/>
                </a:cubicBezTo>
                <a:cubicBezTo>
                  <a:pt x="12526" y="11127"/>
                  <a:pt x="12615" y="11141"/>
                  <a:pt x="12732" y="11144"/>
                </a:cubicBezTo>
                <a:cubicBezTo>
                  <a:pt x="12895" y="11148"/>
                  <a:pt x="13056" y="11121"/>
                  <a:pt x="13208" y="11112"/>
                </a:cubicBezTo>
                <a:cubicBezTo>
                  <a:pt x="13434" y="11098"/>
                  <a:pt x="13656" y="11129"/>
                  <a:pt x="13875" y="11144"/>
                </a:cubicBezTo>
                <a:cubicBezTo>
                  <a:pt x="13976" y="11151"/>
                  <a:pt x="14063" y="11168"/>
                  <a:pt x="14160" y="11176"/>
                </a:cubicBezTo>
                <a:cubicBezTo>
                  <a:pt x="14378" y="11194"/>
                  <a:pt x="14620" y="11187"/>
                  <a:pt x="14827" y="11144"/>
                </a:cubicBezTo>
                <a:cubicBezTo>
                  <a:pt x="14895" y="11130"/>
                  <a:pt x="14958" y="11141"/>
                  <a:pt x="15018" y="11112"/>
                </a:cubicBezTo>
                <a:cubicBezTo>
                  <a:pt x="15047" y="11098"/>
                  <a:pt x="15126" y="11066"/>
                  <a:pt x="15145" y="11049"/>
                </a:cubicBezTo>
                <a:cubicBezTo>
                  <a:pt x="15178" y="11020"/>
                  <a:pt x="15201" y="10934"/>
                  <a:pt x="15208" y="10890"/>
                </a:cubicBezTo>
                <a:cubicBezTo>
                  <a:pt x="15220" y="10814"/>
                  <a:pt x="15234" y="10706"/>
                  <a:pt x="15240" y="10636"/>
                </a:cubicBezTo>
                <a:cubicBezTo>
                  <a:pt x="15268" y="10302"/>
                  <a:pt x="15250" y="9946"/>
                  <a:pt x="15272" y="9620"/>
                </a:cubicBezTo>
                <a:cubicBezTo>
                  <a:pt x="15282" y="9466"/>
                  <a:pt x="15252" y="9318"/>
                  <a:pt x="15240" y="9176"/>
                </a:cubicBezTo>
                <a:cubicBezTo>
                  <a:pt x="15232" y="9081"/>
                  <a:pt x="15231" y="9033"/>
                  <a:pt x="15208" y="8954"/>
                </a:cubicBezTo>
                <a:cubicBezTo>
                  <a:pt x="15188" y="8884"/>
                  <a:pt x="15190" y="8853"/>
                  <a:pt x="15145" y="8795"/>
                </a:cubicBezTo>
                <a:cubicBezTo>
                  <a:pt x="15128" y="8772"/>
                  <a:pt x="15095" y="8725"/>
                  <a:pt x="15050" y="8700"/>
                </a:cubicBezTo>
                <a:cubicBezTo>
                  <a:pt x="15014" y="8680"/>
                  <a:pt x="14931" y="8673"/>
                  <a:pt x="14891" y="8668"/>
                </a:cubicBezTo>
                <a:cubicBezTo>
                  <a:pt x="14708" y="8645"/>
                  <a:pt x="14499" y="8648"/>
                  <a:pt x="14319" y="8636"/>
                </a:cubicBezTo>
                <a:cubicBezTo>
                  <a:pt x="13950" y="8611"/>
                  <a:pt x="13570" y="8645"/>
                  <a:pt x="13208" y="8668"/>
                </a:cubicBezTo>
                <a:cubicBezTo>
                  <a:pt x="12944" y="8685"/>
                  <a:pt x="12675" y="8684"/>
                  <a:pt x="12414" y="8700"/>
                </a:cubicBezTo>
                <a:cubicBezTo>
                  <a:pt x="12109" y="8719"/>
                  <a:pt x="11791" y="8708"/>
                  <a:pt x="11494" y="8731"/>
                </a:cubicBezTo>
                <a:cubicBezTo>
                  <a:pt x="11411" y="8738"/>
                  <a:pt x="11348" y="8739"/>
                  <a:pt x="11271" y="8763"/>
                </a:cubicBezTo>
                <a:cubicBezTo>
                  <a:pt x="11198" y="8786"/>
                  <a:pt x="11144" y="8819"/>
                  <a:pt x="11081" y="8858"/>
                </a:cubicBezTo>
                <a:cubicBezTo>
                  <a:pt x="11027" y="8891"/>
                  <a:pt x="11018" y="8899"/>
                  <a:pt x="10986" y="8954"/>
                </a:cubicBezTo>
                <a:cubicBezTo>
                  <a:pt x="10954" y="9010"/>
                  <a:pt x="10965" y="9016"/>
                  <a:pt x="10954" y="9080"/>
                </a:cubicBezTo>
                <a:cubicBezTo>
                  <a:pt x="10940" y="9163"/>
                  <a:pt x="10954" y="9203"/>
                  <a:pt x="10954" y="9303"/>
                </a:cubicBezTo>
                <a:cubicBezTo>
                  <a:pt x="10954" y="9413"/>
                  <a:pt x="10979" y="9520"/>
                  <a:pt x="10986" y="9620"/>
                </a:cubicBezTo>
                <a:cubicBezTo>
                  <a:pt x="10994" y="9723"/>
                  <a:pt x="11011" y="9843"/>
                  <a:pt x="11017" y="9938"/>
                </a:cubicBezTo>
                <a:cubicBezTo>
                  <a:pt x="11025" y="10069"/>
                  <a:pt x="11041" y="10190"/>
                  <a:pt x="11049" y="10319"/>
                </a:cubicBezTo>
                <a:cubicBezTo>
                  <a:pt x="11055" y="10423"/>
                  <a:pt x="11049" y="10518"/>
                  <a:pt x="11049" y="10604"/>
                </a:cubicBezTo>
                <a:cubicBezTo>
                  <a:pt x="11049" y="10699"/>
                  <a:pt x="11049" y="10795"/>
                  <a:pt x="11049" y="10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2438280" y="914400"/>
                <a:ext cx="237492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·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Ink 5"/>
          <p:cNvSpPr/>
          <p:nvPr/>
        </p:nvSpPr>
        <p:spPr>
          <a:xfrm>
            <a:off x="1771560" y="617400"/>
            <a:ext cx="378000" cy="468360"/>
          </a:xfrm>
          <a:custGeom>
            <a:avLst/>
            <a:gdLst/>
            <a:ahLst/>
            <a:rect l="l" t="t" r="r" b="b"/>
            <a:pathLst>
              <a:path w="1049" h="1303">
                <a:moveTo>
                  <a:pt x="5524" y="2191"/>
                </a:moveTo>
                <a:cubicBezTo>
                  <a:pt x="5524" y="2345"/>
                  <a:pt x="5517" y="2489"/>
                  <a:pt x="5493" y="2635"/>
                </a:cubicBezTo>
                <a:cubicBezTo>
                  <a:pt x="5493" y="2656"/>
                  <a:pt x="5493" y="2678"/>
                  <a:pt x="5493" y="2699"/>
                </a:cubicBezTo>
              </a:path>
              <a:path w="1049" h="1303">
                <a:moveTo>
                  <a:pt x="5175" y="2889"/>
                </a:moveTo>
                <a:cubicBezTo>
                  <a:pt x="5175" y="2900"/>
                  <a:pt x="5175" y="2910"/>
                  <a:pt x="5175" y="2921"/>
                </a:cubicBezTo>
              </a:path>
              <a:path w="1049" h="1303">
                <a:moveTo>
                  <a:pt x="5175" y="2889"/>
                </a:moveTo>
                <a:cubicBezTo>
                  <a:pt x="5207" y="2931"/>
                  <a:pt x="5238" y="2974"/>
                  <a:pt x="5270" y="3016"/>
                </a:cubicBezTo>
              </a:path>
              <a:path w="1049" h="1303">
                <a:moveTo>
                  <a:pt x="5270" y="3016"/>
                </a:moveTo>
                <a:cubicBezTo>
                  <a:pt x="5343" y="3016"/>
                  <a:pt x="5369" y="3008"/>
                  <a:pt x="5429" y="2984"/>
                </a:cubicBezTo>
                <a:cubicBezTo>
                  <a:pt x="5495" y="2958"/>
                  <a:pt x="5559" y="2934"/>
                  <a:pt x="5620" y="2889"/>
                </a:cubicBezTo>
                <a:cubicBezTo>
                  <a:pt x="5672" y="2851"/>
                  <a:pt x="5741" y="2819"/>
                  <a:pt x="5778" y="2762"/>
                </a:cubicBezTo>
                <a:cubicBezTo>
                  <a:pt x="5829" y="2683"/>
                  <a:pt x="5916" y="2604"/>
                  <a:pt x="5937" y="2508"/>
                </a:cubicBezTo>
                <a:cubicBezTo>
                  <a:pt x="5955" y="2424"/>
                  <a:pt x="5965" y="2341"/>
                  <a:pt x="5969" y="2254"/>
                </a:cubicBezTo>
                <a:cubicBezTo>
                  <a:pt x="5973" y="2158"/>
                  <a:pt x="5945" y="2055"/>
                  <a:pt x="5906" y="1968"/>
                </a:cubicBezTo>
                <a:cubicBezTo>
                  <a:pt x="5870" y="1886"/>
                  <a:pt x="5824" y="1798"/>
                  <a:pt x="5747" y="1746"/>
                </a:cubicBezTo>
                <a:cubicBezTo>
                  <a:pt x="5695" y="1711"/>
                  <a:pt x="5588" y="1697"/>
                  <a:pt x="5524" y="1714"/>
                </a:cubicBezTo>
                <a:cubicBezTo>
                  <a:pt x="5432" y="1738"/>
                  <a:pt x="5299" y="1803"/>
                  <a:pt x="5239" y="1873"/>
                </a:cubicBezTo>
                <a:cubicBezTo>
                  <a:pt x="5154" y="1971"/>
                  <a:pt x="5085" y="2081"/>
                  <a:pt x="5016" y="2191"/>
                </a:cubicBezTo>
                <a:cubicBezTo>
                  <a:pt x="4953" y="2291"/>
                  <a:pt x="4926" y="2387"/>
                  <a:pt x="4921" y="2508"/>
                </a:cubicBezTo>
                <a:cubicBezTo>
                  <a:pt x="4916" y="2631"/>
                  <a:pt x="4932" y="2686"/>
                  <a:pt x="4985" y="2794"/>
                </a:cubicBezTo>
                <a:cubicBezTo>
                  <a:pt x="5018" y="2862"/>
                  <a:pt x="5059" y="2900"/>
                  <a:pt x="5112" y="2953"/>
                </a:cubicBezTo>
                <a:cubicBezTo>
                  <a:pt x="5146" y="2987"/>
                  <a:pt x="5189" y="2995"/>
                  <a:pt x="5239" y="2984"/>
                </a:cubicBezTo>
                <a:cubicBezTo>
                  <a:pt x="5319" y="2967"/>
                  <a:pt x="5333" y="2887"/>
                  <a:pt x="5398" y="2858"/>
                </a:cubicBezTo>
                <a:cubicBezTo>
                  <a:pt x="5408" y="2858"/>
                  <a:pt x="5419" y="2858"/>
                  <a:pt x="5429" y="2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Ink 6"/>
          <p:cNvSpPr/>
          <p:nvPr/>
        </p:nvSpPr>
        <p:spPr>
          <a:xfrm>
            <a:off x="1542960" y="2492280"/>
            <a:ext cx="285840" cy="389160"/>
          </a:xfrm>
          <a:custGeom>
            <a:avLst/>
            <a:gdLst/>
            <a:ahLst/>
            <a:rect l="l" t="t" r="r" b="b"/>
            <a:pathLst>
              <a:path w="795" h="1080">
                <a:moveTo>
                  <a:pt x="4731" y="7239"/>
                </a:moveTo>
                <a:cubicBezTo>
                  <a:pt x="4731" y="7310"/>
                  <a:pt x="4703" y="7359"/>
                  <a:pt x="4699" y="7430"/>
                </a:cubicBezTo>
                <a:cubicBezTo>
                  <a:pt x="4693" y="7537"/>
                  <a:pt x="4694" y="7624"/>
                  <a:pt x="4667" y="7715"/>
                </a:cubicBezTo>
                <a:cubicBezTo>
                  <a:pt x="4667" y="7747"/>
                  <a:pt x="4667" y="7758"/>
                  <a:pt x="4699" y="7747"/>
                </a:cubicBezTo>
              </a:path>
              <a:path w="795" h="1080">
                <a:moveTo>
                  <a:pt x="4699" y="6953"/>
                </a:moveTo>
                <a:cubicBezTo>
                  <a:pt x="4647" y="6928"/>
                  <a:pt x="4572" y="6967"/>
                  <a:pt x="4508" y="7017"/>
                </a:cubicBezTo>
                <a:cubicBezTo>
                  <a:pt x="4416" y="7089"/>
                  <a:pt x="4352" y="7226"/>
                  <a:pt x="4318" y="7334"/>
                </a:cubicBezTo>
                <a:cubicBezTo>
                  <a:pt x="4270" y="7485"/>
                  <a:pt x="4273" y="7630"/>
                  <a:pt x="4318" y="7779"/>
                </a:cubicBezTo>
                <a:cubicBezTo>
                  <a:pt x="4349" y="7883"/>
                  <a:pt x="4423" y="7981"/>
                  <a:pt x="4540" y="8001"/>
                </a:cubicBezTo>
                <a:cubicBezTo>
                  <a:pt x="4678" y="8025"/>
                  <a:pt x="4789" y="7946"/>
                  <a:pt x="4890" y="7874"/>
                </a:cubicBezTo>
                <a:cubicBezTo>
                  <a:pt x="5024" y="7779"/>
                  <a:pt x="5059" y="7595"/>
                  <a:pt x="5080" y="7430"/>
                </a:cubicBezTo>
                <a:cubicBezTo>
                  <a:pt x="5097" y="7300"/>
                  <a:pt x="5085" y="7170"/>
                  <a:pt x="4985" y="7080"/>
                </a:cubicBezTo>
                <a:cubicBezTo>
                  <a:pt x="4902" y="7005"/>
                  <a:pt x="4774" y="6993"/>
                  <a:pt x="4667" y="6985"/>
                </a:cubicBezTo>
                <a:cubicBezTo>
                  <a:pt x="4631" y="6985"/>
                  <a:pt x="4618" y="6988"/>
                  <a:pt x="4604" y="70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nk 7"/>
          <p:cNvSpPr/>
          <p:nvPr/>
        </p:nvSpPr>
        <p:spPr>
          <a:xfrm>
            <a:off x="2228760" y="2606760"/>
            <a:ext cx="1795680" cy="1143000"/>
          </a:xfrm>
          <a:custGeom>
            <a:avLst/>
            <a:gdLst/>
            <a:ahLst/>
            <a:rect l="l" t="t" r="r" b="b"/>
            <a:pathLst>
              <a:path w="4986" h="3176">
                <a:moveTo>
                  <a:pt x="6382" y="7906"/>
                </a:moveTo>
                <a:cubicBezTo>
                  <a:pt x="6391" y="7872"/>
                  <a:pt x="6398" y="7811"/>
                  <a:pt x="6414" y="7779"/>
                </a:cubicBezTo>
                <a:cubicBezTo>
                  <a:pt x="6429" y="7749"/>
                  <a:pt x="6515" y="7629"/>
                  <a:pt x="6540" y="7620"/>
                </a:cubicBezTo>
                <a:cubicBezTo>
                  <a:pt x="6631" y="7587"/>
                  <a:pt x="6641" y="7597"/>
                  <a:pt x="6731" y="7620"/>
                </a:cubicBezTo>
                <a:cubicBezTo>
                  <a:pt x="6779" y="7632"/>
                  <a:pt x="6817" y="7722"/>
                  <a:pt x="6826" y="7779"/>
                </a:cubicBezTo>
                <a:cubicBezTo>
                  <a:pt x="6845" y="7891"/>
                  <a:pt x="6766" y="8023"/>
                  <a:pt x="6731" y="8128"/>
                </a:cubicBezTo>
                <a:cubicBezTo>
                  <a:pt x="6682" y="8274"/>
                  <a:pt x="6593" y="8411"/>
                  <a:pt x="6509" y="8541"/>
                </a:cubicBezTo>
                <a:cubicBezTo>
                  <a:pt x="6443" y="8643"/>
                  <a:pt x="6358" y="8732"/>
                  <a:pt x="6286" y="8826"/>
                </a:cubicBezTo>
                <a:cubicBezTo>
                  <a:pt x="6255" y="8866"/>
                  <a:pt x="6235" y="8879"/>
                  <a:pt x="6191" y="8890"/>
                </a:cubicBezTo>
                <a:cubicBezTo>
                  <a:pt x="6204" y="8852"/>
                  <a:pt x="6244" y="8837"/>
                  <a:pt x="6286" y="8795"/>
                </a:cubicBezTo>
                <a:cubicBezTo>
                  <a:pt x="6350" y="8731"/>
                  <a:pt x="6408" y="8751"/>
                  <a:pt x="6477" y="8763"/>
                </a:cubicBezTo>
                <a:cubicBezTo>
                  <a:pt x="6550" y="8775"/>
                  <a:pt x="6585" y="8807"/>
                  <a:pt x="6636" y="8858"/>
                </a:cubicBezTo>
                <a:cubicBezTo>
                  <a:pt x="6688" y="8910"/>
                  <a:pt x="6729" y="8964"/>
                  <a:pt x="6794" y="8985"/>
                </a:cubicBezTo>
                <a:cubicBezTo>
                  <a:pt x="6839" y="9000"/>
                  <a:pt x="6858" y="8977"/>
                  <a:pt x="6890" y="8954"/>
                </a:cubicBezTo>
              </a:path>
              <a:path w="4986" h="3176">
                <a:moveTo>
                  <a:pt x="7239" y="7747"/>
                </a:moveTo>
                <a:cubicBezTo>
                  <a:pt x="7250" y="7736"/>
                  <a:pt x="7260" y="7726"/>
                  <a:pt x="7271" y="7715"/>
                </a:cubicBezTo>
                <a:cubicBezTo>
                  <a:pt x="7312" y="7772"/>
                  <a:pt x="7319" y="7864"/>
                  <a:pt x="7302" y="7938"/>
                </a:cubicBezTo>
                <a:cubicBezTo>
                  <a:pt x="7278" y="8040"/>
                  <a:pt x="7265" y="8152"/>
                  <a:pt x="7239" y="8255"/>
                </a:cubicBezTo>
                <a:cubicBezTo>
                  <a:pt x="7218" y="8339"/>
                  <a:pt x="7184" y="8426"/>
                  <a:pt x="7176" y="8509"/>
                </a:cubicBezTo>
                <a:cubicBezTo>
                  <a:pt x="7171" y="8556"/>
                  <a:pt x="7225" y="8498"/>
                  <a:pt x="7239" y="8477"/>
                </a:cubicBezTo>
                <a:cubicBezTo>
                  <a:pt x="7267" y="8435"/>
                  <a:pt x="7302" y="8446"/>
                  <a:pt x="7366" y="8446"/>
                </a:cubicBezTo>
                <a:cubicBezTo>
                  <a:pt x="7434" y="8446"/>
                  <a:pt x="7496" y="8456"/>
                  <a:pt x="7556" y="8477"/>
                </a:cubicBezTo>
                <a:cubicBezTo>
                  <a:pt x="7630" y="8503"/>
                  <a:pt x="7727" y="8532"/>
                  <a:pt x="7810" y="8509"/>
                </a:cubicBezTo>
                <a:cubicBezTo>
                  <a:pt x="7923" y="8477"/>
                  <a:pt x="7953" y="8415"/>
                  <a:pt x="8001" y="8318"/>
                </a:cubicBezTo>
              </a:path>
              <a:path w="4986" h="3176">
                <a:moveTo>
                  <a:pt x="7906" y="7556"/>
                </a:moveTo>
                <a:cubicBezTo>
                  <a:pt x="7887" y="7651"/>
                  <a:pt x="7890" y="7744"/>
                  <a:pt x="7874" y="7842"/>
                </a:cubicBezTo>
                <a:cubicBezTo>
                  <a:pt x="7846" y="8022"/>
                  <a:pt x="7815" y="8198"/>
                  <a:pt x="7810" y="8382"/>
                </a:cubicBezTo>
                <a:cubicBezTo>
                  <a:pt x="7805" y="8555"/>
                  <a:pt x="7765" y="8722"/>
                  <a:pt x="7747" y="8890"/>
                </a:cubicBezTo>
                <a:cubicBezTo>
                  <a:pt x="7736" y="8996"/>
                  <a:pt x="7718" y="9073"/>
                  <a:pt x="7684" y="9176"/>
                </a:cubicBezTo>
              </a:path>
              <a:path w="4986" h="3176">
                <a:moveTo>
                  <a:pt x="8255" y="8128"/>
                </a:moveTo>
                <a:cubicBezTo>
                  <a:pt x="8291" y="8259"/>
                  <a:pt x="8309" y="8379"/>
                  <a:pt x="8350" y="8509"/>
                </a:cubicBezTo>
                <a:cubicBezTo>
                  <a:pt x="8397" y="8659"/>
                  <a:pt x="8446" y="8781"/>
                  <a:pt x="8509" y="8922"/>
                </a:cubicBezTo>
                <a:cubicBezTo>
                  <a:pt x="8556" y="9027"/>
                  <a:pt x="8605" y="9141"/>
                  <a:pt x="8668" y="9239"/>
                </a:cubicBezTo>
                <a:cubicBezTo>
                  <a:pt x="8695" y="9281"/>
                  <a:pt x="8733" y="9324"/>
                  <a:pt x="8763" y="9334"/>
                </a:cubicBezTo>
              </a:path>
              <a:path w="4986" h="3176">
                <a:moveTo>
                  <a:pt x="8763" y="8128"/>
                </a:moveTo>
                <a:cubicBezTo>
                  <a:pt x="8752" y="8139"/>
                  <a:pt x="8742" y="8149"/>
                  <a:pt x="8731" y="8160"/>
                </a:cubicBezTo>
              </a:path>
              <a:path w="4986" h="3176">
                <a:moveTo>
                  <a:pt x="8763" y="8128"/>
                </a:moveTo>
                <a:cubicBezTo>
                  <a:pt x="8731" y="8191"/>
                  <a:pt x="8700" y="8255"/>
                  <a:pt x="8668" y="8318"/>
                </a:cubicBezTo>
              </a:path>
              <a:path w="4986" h="3176">
                <a:moveTo>
                  <a:pt x="8668" y="8318"/>
                </a:moveTo>
                <a:cubicBezTo>
                  <a:pt x="8623" y="8485"/>
                  <a:pt x="8538" y="8608"/>
                  <a:pt x="8477" y="8763"/>
                </a:cubicBezTo>
                <a:cubicBezTo>
                  <a:pt x="8416" y="8919"/>
                  <a:pt x="8341" y="9030"/>
                  <a:pt x="8255" y="9176"/>
                </a:cubicBezTo>
                <a:cubicBezTo>
                  <a:pt x="8212" y="9249"/>
                  <a:pt x="8188" y="9306"/>
                  <a:pt x="8128" y="9366"/>
                </a:cubicBezTo>
              </a:path>
              <a:path w="4986" h="3176">
                <a:moveTo>
                  <a:pt x="9144" y="7620"/>
                </a:moveTo>
                <a:cubicBezTo>
                  <a:pt x="9144" y="7676"/>
                  <a:pt x="9132" y="7730"/>
                  <a:pt x="9112" y="7779"/>
                </a:cubicBezTo>
                <a:cubicBezTo>
                  <a:pt x="9090" y="7832"/>
                  <a:pt x="9028" y="7889"/>
                  <a:pt x="9017" y="7938"/>
                </a:cubicBezTo>
                <a:cubicBezTo>
                  <a:pt x="9017" y="7959"/>
                  <a:pt x="9017" y="7980"/>
                  <a:pt x="9017" y="8001"/>
                </a:cubicBezTo>
                <a:cubicBezTo>
                  <a:pt x="9033" y="7953"/>
                  <a:pt x="9055" y="7969"/>
                  <a:pt x="9112" y="7969"/>
                </a:cubicBezTo>
                <a:cubicBezTo>
                  <a:pt x="9165" y="7969"/>
                  <a:pt x="9218" y="7969"/>
                  <a:pt x="9271" y="7969"/>
                </a:cubicBezTo>
                <a:cubicBezTo>
                  <a:pt x="9280" y="7997"/>
                  <a:pt x="9320" y="8026"/>
                  <a:pt x="9366" y="8001"/>
                </a:cubicBezTo>
                <a:cubicBezTo>
                  <a:pt x="9377" y="7990"/>
                  <a:pt x="9387" y="7980"/>
                  <a:pt x="9398" y="7969"/>
                </a:cubicBezTo>
              </a:path>
              <a:path w="4986" h="3176">
                <a:moveTo>
                  <a:pt x="9334" y="7493"/>
                </a:moveTo>
                <a:cubicBezTo>
                  <a:pt x="9334" y="7575"/>
                  <a:pt x="9306" y="7635"/>
                  <a:pt x="9303" y="7715"/>
                </a:cubicBezTo>
                <a:cubicBezTo>
                  <a:pt x="9298" y="7831"/>
                  <a:pt x="9289" y="7926"/>
                  <a:pt x="9271" y="8033"/>
                </a:cubicBezTo>
                <a:cubicBezTo>
                  <a:pt x="9259" y="8103"/>
                  <a:pt x="9271" y="8184"/>
                  <a:pt x="9271" y="8255"/>
                </a:cubicBezTo>
              </a:path>
              <a:path w="4986" h="3176">
                <a:moveTo>
                  <a:pt x="9811" y="7842"/>
                </a:moveTo>
                <a:cubicBezTo>
                  <a:pt x="9829" y="7944"/>
                  <a:pt x="9814" y="7986"/>
                  <a:pt x="9811" y="8096"/>
                </a:cubicBezTo>
                <a:cubicBezTo>
                  <a:pt x="9805" y="8279"/>
                  <a:pt x="9784" y="8455"/>
                  <a:pt x="9779" y="8636"/>
                </a:cubicBezTo>
                <a:cubicBezTo>
                  <a:pt x="9775" y="8793"/>
                  <a:pt x="9790" y="8930"/>
                  <a:pt x="9811" y="9080"/>
                </a:cubicBezTo>
                <a:cubicBezTo>
                  <a:pt x="9811" y="9138"/>
                  <a:pt x="9806" y="9154"/>
                  <a:pt x="9842" y="9176"/>
                </a:cubicBezTo>
                <a:cubicBezTo>
                  <a:pt x="9948" y="9141"/>
                  <a:pt x="9945" y="9157"/>
                  <a:pt x="10033" y="9049"/>
                </a:cubicBezTo>
                <a:cubicBezTo>
                  <a:pt x="10147" y="8908"/>
                  <a:pt x="10203" y="8711"/>
                  <a:pt x="10255" y="8541"/>
                </a:cubicBezTo>
                <a:cubicBezTo>
                  <a:pt x="10299" y="8397"/>
                  <a:pt x="10343" y="8245"/>
                  <a:pt x="10350" y="8096"/>
                </a:cubicBezTo>
                <a:cubicBezTo>
                  <a:pt x="10351" y="8074"/>
                  <a:pt x="10350" y="7863"/>
                  <a:pt x="10350" y="8033"/>
                </a:cubicBezTo>
                <a:cubicBezTo>
                  <a:pt x="10350" y="8191"/>
                  <a:pt x="10340" y="8353"/>
                  <a:pt x="10319" y="8509"/>
                </a:cubicBezTo>
                <a:cubicBezTo>
                  <a:pt x="10288" y="8732"/>
                  <a:pt x="10263" y="8952"/>
                  <a:pt x="10224" y="9176"/>
                </a:cubicBezTo>
                <a:cubicBezTo>
                  <a:pt x="10168" y="9492"/>
                  <a:pt x="10120" y="9819"/>
                  <a:pt x="10033" y="10128"/>
                </a:cubicBezTo>
                <a:cubicBezTo>
                  <a:pt x="10002" y="10238"/>
                  <a:pt x="9933" y="10380"/>
                  <a:pt x="9811" y="10414"/>
                </a:cubicBezTo>
                <a:cubicBezTo>
                  <a:pt x="9739" y="10434"/>
                  <a:pt x="9609" y="10406"/>
                  <a:pt x="9557" y="10350"/>
                </a:cubicBezTo>
                <a:cubicBezTo>
                  <a:pt x="9518" y="10274"/>
                  <a:pt x="9500" y="10241"/>
                  <a:pt x="9462" y="10192"/>
                </a:cubicBezTo>
              </a:path>
              <a:path w="4986" h="3176">
                <a:moveTo>
                  <a:pt x="10890" y="7302"/>
                </a:moveTo>
                <a:cubicBezTo>
                  <a:pt x="10890" y="7399"/>
                  <a:pt x="10887" y="7498"/>
                  <a:pt x="10858" y="7588"/>
                </a:cubicBezTo>
                <a:cubicBezTo>
                  <a:pt x="10835" y="7658"/>
                  <a:pt x="10825" y="7751"/>
                  <a:pt x="10795" y="7810"/>
                </a:cubicBezTo>
                <a:cubicBezTo>
                  <a:pt x="10784" y="7821"/>
                  <a:pt x="10774" y="7831"/>
                  <a:pt x="10763" y="7842"/>
                </a:cubicBezTo>
                <a:cubicBezTo>
                  <a:pt x="10775" y="7807"/>
                  <a:pt x="10786" y="7784"/>
                  <a:pt x="10827" y="7779"/>
                </a:cubicBezTo>
                <a:cubicBezTo>
                  <a:pt x="10891" y="7771"/>
                  <a:pt x="10899" y="7799"/>
                  <a:pt x="10922" y="7810"/>
                </a:cubicBezTo>
                <a:cubicBezTo>
                  <a:pt x="10955" y="7826"/>
                  <a:pt x="10993" y="7839"/>
                  <a:pt x="11017" y="7842"/>
                </a:cubicBezTo>
                <a:cubicBezTo>
                  <a:pt x="11074" y="7849"/>
                  <a:pt x="11096" y="7822"/>
                  <a:pt x="11144" y="7810"/>
                </a:cubicBezTo>
              </a:path>
              <a:path w="4986" h="3176">
                <a:moveTo>
                  <a:pt x="11176" y="7239"/>
                </a:moveTo>
                <a:cubicBezTo>
                  <a:pt x="11176" y="7323"/>
                  <a:pt x="11154" y="7385"/>
                  <a:pt x="11144" y="7461"/>
                </a:cubicBezTo>
                <a:cubicBezTo>
                  <a:pt x="11114" y="7685"/>
                  <a:pt x="11144" y="7933"/>
                  <a:pt x="11144" y="8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8"/>
          <p:cNvSpPr/>
          <p:nvPr/>
        </p:nvSpPr>
        <p:spPr>
          <a:xfrm>
            <a:off x="2239920" y="3417840"/>
            <a:ext cx="1909800" cy="960480"/>
          </a:xfrm>
          <a:custGeom>
            <a:avLst/>
            <a:gdLst/>
            <a:ahLst/>
            <a:rect l="l" t="t" r="r" b="b"/>
            <a:pathLst>
              <a:path w="5303" h="2668">
                <a:moveTo>
                  <a:pt x="6255" y="9652"/>
                </a:moveTo>
                <a:cubicBezTo>
                  <a:pt x="6244" y="9663"/>
                  <a:pt x="6234" y="9673"/>
                  <a:pt x="6223" y="9684"/>
                </a:cubicBezTo>
              </a:path>
              <a:path w="5303" h="2668">
                <a:moveTo>
                  <a:pt x="6255" y="9652"/>
                </a:moveTo>
                <a:lnTo>
                  <a:pt x="6255" y="9652"/>
                </a:lnTo>
              </a:path>
              <a:path w="5303" h="2668">
                <a:moveTo>
                  <a:pt x="6223" y="9684"/>
                </a:moveTo>
                <a:cubicBezTo>
                  <a:pt x="6252" y="9693"/>
                  <a:pt x="6270" y="9725"/>
                  <a:pt x="6350" y="9716"/>
                </a:cubicBezTo>
                <a:cubicBezTo>
                  <a:pt x="6458" y="9704"/>
                  <a:pt x="6561" y="9665"/>
                  <a:pt x="6668" y="9652"/>
                </a:cubicBezTo>
                <a:cubicBezTo>
                  <a:pt x="6860" y="9629"/>
                  <a:pt x="7046" y="9592"/>
                  <a:pt x="7239" y="9557"/>
                </a:cubicBezTo>
                <a:cubicBezTo>
                  <a:pt x="7499" y="9510"/>
                  <a:pt x="7737" y="9493"/>
                  <a:pt x="8001" y="9493"/>
                </a:cubicBezTo>
                <a:cubicBezTo>
                  <a:pt x="8290" y="9493"/>
                  <a:pt x="8571" y="9511"/>
                  <a:pt x="8858" y="9525"/>
                </a:cubicBezTo>
                <a:cubicBezTo>
                  <a:pt x="9145" y="9539"/>
                  <a:pt x="9431" y="9549"/>
                  <a:pt x="9716" y="9588"/>
                </a:cubicBezTo>
                <a:cubicBezTo>
                  <a:pt x="9959" y="9621"/>
                  <a:pt x="10204" y="9620"/>
                  <a:pt x="10446" y="9652"/>
                </a:cubicBezTo>
                <a:cubicBezTo>
                  <a:pt x="10626" y="9676"/>
                  <a:pt x="10805" y="9709"/>
                  <a:pt x="10986" y="9716"/>
                </a:cubicBezTo>
                <a:cubicBezTo>
                  <a:pt x="11093" y="9720"/>
                  <a:pt x="11195" y="9764"/>
                  <a:pt x="11303" y="9747"/>
                </a:cubicBezTo>
                <a:cubicBezTo>
                  <a:pt x="11344" y="9741"/>
                  <a:pt x="11305" y="9745"/>
                  <a:pt x="11335" y="9716"/>
                </a:cubicBezTo>
              </a:path>
              <a:path w="5303" h="2668">
                <a:moveTo>
                  <a:pt x="7588" y="9811"/>
                </a:moveTo>
                <a:cubicBezTo>
                  <a:pt x="7588" y="9920"/>
                  <a:pt x="7587" y="9992"/>
                  <a:pt x="7556" y="10096"/>
                </a:cubicBezTo>
                <a:cubicBezTo>
                  <a:pt x="7509" y="10252"/>
                  <a:pt x="7507" y="10413"/>
                  <a:pt x="7461" y="10573"/>
                </a:cubicBezTo>
                <a:cubicBezTo>
                  <a:pt x="7421" y="10712"/>
                  <a:pt x="7371" y="10842"/>
                  <a:pt x="7366" y="10986"/>
                </a:cubicBezTo>
                <a:cubicBezTo>
                  <a:pt x="7363" y="11071"/>
                  <a:pt x="7334" y="11127"/>
                  <a:pt x="7334" y="11208"/>
                </a:cubicBezTo>
              </a:path>
              <a:path w="5303" h="2668">
                <a:moveTo>
                  <a:pt x="7779" y="10160"/>
                </a:moveTo>
                <a:cubicBezTo>
                  <a:pt x="7812" y="10102"/>
                  <a:pt x="7851" y="10010"/>
                  <a:pt x="7906" y="9970"/>
                </a:cubicBezTo>
                <a:cubicBezTo>
                  <a:pt x="7962" y="9930"/>
                  <a:pt x="7998" y="9906"/>
                  <a:pt x="8064" y="9906"/>
                </a:cubicBezTo>
                <a:cubicBezTo>
                  <a:pt x="8140" y="9906"/>
                  <a:pt x="8157" y="9971"/>
                  <a:pt x="8160" y="10033"/>
                </a:cubicBezTo>
                <a:cubicBezTo>
                  <a:pt x="8166" y="10155"/>
                  <a:pt x="8102" y="10266"/>
                  <a:pt x="8064" y="10382"/>
                </a:cubicBezTo>
                <a:cubicBezTo>
                  <a:pt x="8020" y="10515"/>
                  <a:pt x="7933" y="10615"/>
                  <a:pt x="7874" y="10732"/>
                </a:cubicBezTo>
                <a:cubicBezTo>
                  <a:pt x="7830" y="10819"/>
                  <a:pt x="7807" y="10907"/>
                  <a:pt x="7747" y="10986"/>
                </a:cubicBezTo>
                <a:cubicBezTo>
                  <a:pt x="7718" y="11014"/>
                  <a:pt x="7712" y="11024"/>
                  <a:pt x="7684" y="11017"/>
                </a:cubicBezTo>
                <a:cubicBezTo>
                  <a:pt x="7684" y="10966"/>
                  <a:pt x="7691" y="10915"/>
                  <a:pt x="7747" y="10890"/>
                </a:cubicBezTo>
                <a:cubicBezTo>
                  <a:pt x="7819" y="10858"/>
                  <a:pt x="7807" y="10873"/>
                  <a:pt x="7842" y="10890"/>
                </a:cubicBezTo>
                <a:cubicBezTo>
                  <a:pt x="7904" y="10921"/>
                  <a:pt x="7872" y="10950"/>
                  <a:pt x="7906" y="11017"/>
                </a:cubicBezTo>
                <a:cubicBezTo>
                  <a:pt x="7930" y="11066"/>
                  <a:pt x="7959" y="11102"/>
                  <a:pt x="8001" y="11144"/>
                </a:cubicBezTo>
                <a:cubicBezTo>
                  <a:pt x="8071" y="11214"/>
                  <a:pt x="8098" y="11157"/>
                  <a:pt x="8160" y="11144"/>
                </a:cubicBezTo>
                <a:cubicBezTo>
                  <a:pt x="8263" y="11122"/>
                  <a:pt x="8255" y="11070"/>
                  <a:pt x="8318" y="10986"/>
                </a:cubicBezTo>
                <a:cubicBezTo>
                  <a:pt x="8329" y="10975"/>
                  <a:pt x="8339" y="10965"/>
                  <a:pt x="8350" y="10954"/>
                </a:cubicBezTo>
              </a:path>
              <a:path w="5303" h="2668">
                <a:moveTo>
                  <a:pt x="8636" y="10319"/>
                </a:moveTo>
                <a:cubicBezTo>
                  <a:pt x="8636" y="10382"/>
                  <a:pt x="8658" y="10430"/>
                  <a:pt x="8668" y="10478"/>
                </a:cubicBezTo>
                <a:cubicBezTo>
                  <a:pt x="8687" y="10573"/>
                  <a:pt x="8727" y="10640"/>
                  <a:pt x="8763" y="10732"/>
                </a:cubicBezTo>
                <a:cubicBezTo>
                  <a:pt x="8808" y="10847"/>
                  <a:pt x="8864" y="10940"/>
                  <a:pt x="8922" y="11049"/>
                </a:cubicBezTo>
                <a:cubicBezTo>
                  <a:pt x="8964" y="11127"/>
                  <a:pt x="9021" y="11206"/>
                  <a:pt x="9080" y="11271"/>
                </a:cubicBezTo>
                <a:cubicBezTo>
                  <a:pt x="9109" y="11300"/>
                  <a:pt x="9120" y="11315"/>
                  <a:pt x="9112" y="11271"/>
                </a:cubicBezTo>
              </a:path>
              <a:path w="5303" h="2668">
                <a:moveTo>
                  <a:pt x="9049" y="10446"/>
                </a:moveTo>
                <a:cubicBezTo>
                  <a:pt x="9015" y="10491"/>
                  <a:pt x="8950" y="10553"/>
                  <a:pt x="8922" y="10604"/>
                </a:cubicBezTo>
                <a:cubicBezTo>
                  <a:pt x="8861" y="10716"/>
                  <a:pt x="8760" y="10811"/>
                  <a:pt x="8700" y="10922"/>
                </a:cubicBezTo>
                <a:cubicBezTo>
                  <a:pt x="8637" y="11038"/>
                  <a:pt x="8575" y="11155"/>
                  <a:pt x="8509" y="11271"/>
                </a:cubicBezTo>
                <a:cubicBezTo>
                  <a:pt x="8477" y="11328"/>
                  <a:pt x="8459" y="11383"/>
                  <a:pt x="8414" y="11398"/>
                </a:cubicBezTo>
              </a:path>
              <a:path w="5303" h="2668">
                <a:moveTo>
                  <a:pt x="9080" y="10192"/>
                </a:moveTo>
                <a:cubicBezTo>
                  <a:pt x="9129" y="10229"/>
                  <a:pt x="9146" y="10224"/>
                  <a:pt x="9208" y="10224"/>
                </a:cubicBezTo>
                <a:cubicBezTo>
                  <a:pt x="9250" y="10224"/>
                  <a:pt x="9292" y="10224"/>
                  <a:pt x="9334" y="10224"/>
                </a:cubicBezTo>
              </a:path>
              <a:path w="5303" h="2668">
                <a:moveTo>
                  <a:pt x="9493" y="9906"/>
                </a:moveTo>
                <a:cubicBezTo>
                  <a:pt x="9493" y="9856"/>
                  <a:pt x="9500" y="9823"/>
                  <a:pt x="9557" y="9811"/>
                </a:cubicBezTo>
                <a:cubicBezTo>
                  <a:pt x="9597" y="9803"/>
                  <a:pt x="9694" y="9798"/>
                  <a:pt x="9716" y="9842"/>
                </a:cubicBezTo>
                <a:cubicBezTo>
                  <a:pt x="9756" y="9921"/>
                  <a:pt x="9668" y="9967"/>
                  <a:pt x="9652" y="10033"/>
                </a:cubicBezTo>
                <a:cubicBezTo>
                  <a:pt x="9632" y="10115"/>
                  <a:pt x="9603" y="10148"/>
                  <a:pt x="9557" y="10224"/>
                </a:cubicBezTo>
                <a:cubicBezTo>
                  <a:pt x="9543" y="10248"/>
                  <a:pt x="9478" y="10371"/>
                  <a:pt x="9462" y="10382"/>
                </a:cubicBezTo>
                <a:cubicBezTo>
                  <a:pt x="9451" y="10382"/>
                  <a:pt x="9441" y="10382"/>
                  <a:pt x="9430" y="10382"/>
                </a:cubicBezTo>
                <a:cubicBezTo>
                  <a:pt x="9442" y="10345"/>
                  <a:pt x="9473" y="10325"/>
                  <a:pt x="9525" y="10319"/>
                </a:cubicBezTo>
                <a:cubicBezTo>
                  <a:pt x="9604" y="10310"/>
                  <a:pt x="9652" y="10329"/>
                  <a:pt x="9716" y="10350"/>
                </a:cubicBezTo>
                <a:cubicBezTo>
                  <a:pt x="9751" y="10362"/>
                  <a:pt x="9774" y="10373"/>
                  <a:pt x="9811" y="10382"/>
                </a:cubicBezTo>
              </a:path>
              <a:path w="5303" h="2668">
                <a:moveTo>
                  <a:pt x="10255" y="10096"/>
                </a:moveTo>
                <a:cubicBezTo>
                  <a:pt x="10255" y="10184"/>
                  <a:pt x="10252" y="10238"/>
                  <a:pt x="10224" y="10319"/>
                </a:cubicBezTo>
                <a:cubicBezTo>
                  <a:pt x="10153" y="10524"/>
                  <a:pt x="10044" y="10753"/>
                  <a:pt x="10065" y="10954"/>
                </a:cubicBezTo>
                <a:cubicBezTo>
                  <a:pt x="10073" y="11029"/>
                  <a:pt x="10094" y="11099"/>
                  <a:pt x="10192" y="11081"/>
                </a:cubicBezTo>
                <a:cubicBezTo>
                  <a:pt x="10254" y="11070"/>
                  <a:pt x="10380" y="11007"/>
                  <a:pt x="10414" y="10954"/>
                </a:cubicBezTo>
                <a:cubicBezTo>
                  <a:pt x="10475" y="10860"/>
                  <a:pt x="10559" y="10743"/>
                  <a:pt x="10604" y="10636"/>
                </a:cubicBezTo>
                <a:cubicBezTo>
                  <a:pt x="10639" y="10552"/>
                  <a:pt x="10657" y="10439"/>
                  <a:pt x="10668" y="10350"/>
                </a:cubicBezTo>
                <a:cubicBezTo>
                  <a:pt x="10668" y="10297"/>
                  <a:pt x="10668" y="10287"/>
                  <a:pt x="10668" y="10255"/>
                </a:cubicBezTo>
                <a:cubicBezTo>
                  <a:pt x="10668" y="10321"/>
                  <a:pt x="10645" y="10317"/>
                  <a:pt x="10636" y="10382"/>
                </a:cubicBezTo>
                <a:cubicBezTo>
                  <a:pt x="10619" y="10515"/>
                  <a:pt x="10616" y="10664"/>
                  <a:pt x="10604" y="10795"/>
                </a:cubicBezTo>
                <a:cubicBezTo>
                  <a:pt x="10586" y="10988"/>
                  <a:pt x="10561" y="11174"/>
                  <a:pt x="10541" y="11366"/>
                </a:cubicBezTo>
                <a:cubicBezTo>
                  <a:pt x="10523" y="11540"/>
                  <a:pt x="10496" y="11703"/>
                  <a:pt x="10446" y="11874"/>
                </a:cubicBezTo>
                <a:cubicBezTo>
                  <a:pt x="10419" y="11965"/>
                  <a:pt x="10383" y="12057"/>
                  <a:pt x="10319" y="12128"/>
                </a:cubicBezTo>
                <a:cubicBezTo>
                  <a:pt x="10260" y="12194"/>
                  <a:pt x="10216" y="12155"/>
                  <a:pt x="10160" y="12128"/>
                </a:cubicBezTo>
                <a:cubicBezTo>
                  <a:pt x="10080" y="12089"/>
                  <a:pt x="10042" y="12017"/>
                  <a:pt x="10001" y="11938"/>
                </a:cubicBezTo>
                <a:cubicBezTo>
                  <a:pt x="9953" y="11846"/>
                  <a:pt x="9938" y="11823"/>
                  <a:pt x="9938" y="11716"/>
                </a:cubicBezTo>
                <a:cubicBezTo>
                  <a:pt x="9938" y="11639"/>
                  <a:pt x="9950" y="11640"/>
                  <a:pt x="10001" y="11589"/>
                </a:cubicBezTo>
              </a:path>
              <a:path w="5303" h="2668">
                <a:moveTo>
                  <a:pt x="11017" y="10033"/>
                </a:moveTo>
                <a:cubicBezTo>
                  <a:pt x="11028" y="10000"/>
                  <a:pt x="11041" y="9973"/>
                  <a:pt x="11081" y="9970"/>
                </a:cubicBezTo>
                <a:cubicBezTo>
                  <a:pt x="11145" y="9965"/>
                  <a:pt x="11194" y="9959"/>
                  <a:pt x="11240" y="10001"/>
                </a:cubicBezTo>
                <a:cubicBezTo>
                  <a:pt x="11284" y="10040"/>
                  <a:pt x="11286" y="10136"/>
                  <a:pt x="11271" y="10192"/>
                </a:cubicBezTo>
                <a:cubicBezTo>
                  <a:pt x="11247" y="10279"/>
                  <a:pt x="11222" y="10338"/>
                  <a:pt x="11176" y="10414"/>
                </a:cubicBezTo>
                <a:cubicBezTo>
                  <a:pt x="11143" y="10469"/>
                  <a:pt x="11093" y="10503"/>
                  <a:pt x="11081" y="10541"/>
                </a:cubicBezTo>
                <a:cubicBezTo>
                  <a:pt x="11093" y="10504"/>
                  <a:pt x="11124" y="10484"/>
                  <a:pt x="11176" y="10478"/>
                </a:cubicBezTo>
                <a:cubicBezTo>
                  <a:pt x="11260" y="10469"/>
                  <a:pt x="11301" y="10488"/>
                  <a:pt x="11366" y="10509"/>
                </a:cubicBezTo>
                <a:cubicBezTo>
                  <a:pt x="11410" y="10523"/>
                  <a:pt x="11479" y="10509"/>
                  <a:pt x="11525" y="10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Ink 9"/>
          <p:cNvSpPr/>
          <p:nvPr/>
        </p:nvSpPr>
        <p:spPr>
          <a:xfrm>
            <a:off x="1474920" y="4251240"/>
            <a:ext cx="2149200" cy="1567080"/>
          </a:xfrm>
          <a:custGeom>
            <a:avLst/>
            <a:gdLst/>
            <a:ahLst/>
            <a:rect l="l" t="t" r="r" b="b"/>
            <a:pathLst>
              <a:path w="5970" h="4351">
                <a:moveTo>
                  <a:pt x="4477" y="12319"/>
                </a:moveTo>
                <a:cubicBezTo>
                  <a:pt x="4517" y="12288"/>
                  <a:pt x="4586" y="12262"/>
                  <a:pt x="4636" y="12256"/>
                </a:cubicBezTo>
                <a:cubicBezTo>
                  <a:pt x="4711" y="12248"/>
                  <a:pt x="4737" y="12269"/>
                  <a:pt x="4794" y="12287"/>
                </a:cubicBezTo>
                <a:cubicBezTo>
                  <a:pt x="4822" y="12296"/>
                  <a:pt x="4851" y="12337"/>
                  <a:pt x="4826" y="12382"/>
                </a:cubicBezTo>
                <a:cubicBezTo>
                  <a:pt x="4789" y="12447"/>
                  <a:pt x="4735" y="12505"/>
                  <a:pt x="4699" y="12573"/>
                </a:cubicBezTo>
                <a:cubicBezTo>
                  <a:pt x="4649" y="12666"/>
                  <a:pt x="4567" y="12711"/>
                  <a:pt x="4508" y="12795"/>
                </a:cubicBezTo>
                <a:cubicBezTo>
                  <a:pt x="4475" y="12842"/>
                  <a:pt x="4424" y="12889"/>
                  <a:pt x="4413" y="12922"/>
                </a:cubicBezTo>
                <a:cubicBezTo>
                  <a:pt x="4444" y="12912"/>
                  <a:pt x="4471" y="12910"/>
                  <a:pt x="4508" y="12890"/>
                </a:cubicBezTo>
                <a:cubicBezTo>
                  <a:pt x="4539" y="12873"/>
                  <a:pt x="4591" y="12834"/>
                  <a:pt x="4636" y="12859"/>
                </a:cubicBezTo>
                <a:cubicBezTo>
                  <a:pt x="4684" y="12885"/>
                  <a:pt x="4739" y="12916"/>
                  <a:pt x="4794" y="12922"/>
                </a:cubicBezTo>
                <a:cubicBezTo>
                  <a:pt x="4830" y="12922"/>
                  <a:pt x="4844" y="12925"/>
                  <a:pt x="4858" y="12954"/>
                </a:cubicBezTo>
              </a:path>
              <a:path w="5970" h="4351">
                <a:moveTo>
                  <a:pt x="4382" y="13144"/>
                </a:moveTo>
                <a:cubicBezTo>
                  <a:pt x="4415" y="13178"/>
                  <a:pt x="4403" y="13155"/>
                  <a:pt x="4445" y="13176"/>
                </a:cubicBezTo>
                <a:cubicBezTo>
                  <a:pt x="4528" y="13218"/>
                  <a:pt x="4583" y="13235"/>
                  <a:pt x="4667" y="13272"/>
                </a:cubicBezTo>
                <a:cubicBezTo>
                  <a:pt x="4782" y="13323"/>
                  <a:pt x="4869" y="13288"/>
                  <a:pt x="4985" y="13240"/>
                </a:cubicBezTo>
                <a:cubicBezTo>
                  <a:pt x="5118" y="13185"/>
                  <a:pt x="5220" y="13098"/>
                  <a:pt x="5302" y="12986"/>
                </a:cubicBezTo>
                <a:cubicBezTo>
                  <a:pt x="5407" y="12842"/>
                  <a:pt x="5455" y="12751"/>
                  <a:pt x="5461" y="12573"/>
                </a:cubicBezTo>
                <a:cubicBezTo>
                  <a:pt x="5466" y="12416"/>
                  <a:pt x="5416" y="12289"/>
                  <a:pt x="5334" y="12160"/>
                </a:cubicBezTo>
                <a:cubicBezTo>
                  <a:pt x="5259" y="12042"/>
                  <a:pt x="5173" y="11911"/>
                  <a:pt x="5048" y="11843"/>
                </a:cubicBezTo>
                <a:cubicBezTo>
                  <a:pt x="4955" y="11792"/>
                  <a:pt x="4770" y="11792"/>
                  <a:pt x="4667" y="11811"/>
                </a:cubicBezTo>
                <a:cubicBezTo>
                  <a:pt x="4545" y="11834"/>
                  <a:pt x="4397" y="11938"/>
                  <a:pt x="4318" y="12033"/>
                </a:cubicBezTo>
                <a:cubicBezTo>
                  <a:pt x="4195" y="12180"/>
                  <a:pt x="4117" y="12416"/>
                  <a:pt x="4096" y="12605"/>
                </a:cubicBezTo>
                <a:cubicBezTo>
                  <a:pt x="4080" y="12747"/>
                  <a:pt x="4098" y="12912"/>
                  <a:pt x="4128" y="13049"/>
                </a:cubicBezTo>
                <a:cubicBezTo>
                  <a:pt x="4151" y="13155"/>
                  <a:pt x="4230" y="13251"/>
                  <a:pt x="4318" y="13303"/>
                </a:cubicBezTo>
                <a:cubicBezTo>
                  <a:pt x="4422" y="13364"/>
                  <a:pt x="4485" y="13367"/>
                  <a:pt x="4604" y="13367"/>
                </a:cubicBezTo>
                <a:cubicBezTo>
                  <a:pt x="4680" y="13367"/>
                  <a:pt x="4723" y="13348"/>
                  <a:pt x="4794" y="13335"/>
                </a:cubicBezTo>
                <a:cubicBezTo>
                  <a:pt x="4805" y="13335"/>
                  <a:pt x="4815" y="13335"/>
                  <a:pt x="4826" y="13335"/>
                </a:cubicBezTo>
              </a:path>
              <a:path w="5970" h="4351">
                <a:moveTo>
                  <a:pt x="5906" y="12827"/>
                </a:moveTo>
                <a:cubicBezTo>
                  <a:pt x="5951" y="12747"/>
                  <a:pt x="5943" y="12764"/>
                  <a:pt x="6032" y="12732"/>
                </a:cubicBezTo>
                <a:cubicBezTo>
                  <a:pt x="6122" y="12700"/>
                  <a:pt x="6188" y="12700"/>
                  <a:pt x="6286" y="12700"/>
                </a:cubicBezTo>
                <a:cubicBezTo>
                  <a:pt x="6352" y="12700"/>
                  <a:pt x="6398" y="12722"/>
                  <a:pt x="6445" y="12764"/>
                </a:cubicBezTo>
                <a:cubicBezTo>
                  <a:pt x="6521" y="12832"/>
                  <a:pt x="6458" y="12909"/>
                  <a:pt x="6445" y="12986"/>
                </a:cubicBezTo>
                <a:cubicBezTo>
                  <a:pt x="6423" y="13117"/>
                  <a:pt x="6332" y="13211"/>
                  <a:pt x="6286" y="13335"/>
                </a:cubicBezTo>
                <a:cubicBezTo>
                  <a:pt x="6217" y="13519"/>
                  <a:pt x="6137" y="13646"/>
                  <a:pt x="6032" y="13811"/>
                </a:cubicBezTo>
                <a:cubicBezTo>
                  <a:pt x="5942" y="13954"/>
                  <a:pt x="5850" y="14061"/>
                  <a:pt x="5747" y="14192"/>
                </a:cubicBezTo>
                <a:cubicBezTo>
                  <a:pt x="5682" y="14274"/>
                  <a:pt x="5631" y="14340"/>
                  <a:pt x="5556" y="14414"/>
                </a:cubicBezTo>
                <a:cubicBezTo>
                  <a:pt x="5527" y="14443"/>
                  <a:pt x="5516" y="14449"/>
                  <a:pt x="5524" y="14478"/>
                </a:cubicBezTo>
                <a:cubicBezTo>
                  <a:pt x="5580" y="14471"/>
                  <a:pt x="5631" y="14466"/>
                  <a:pt x="5683" y="14446"/>
                </a:cubicBezTo>
                <a:cubicBezTo>
                  <a:pt x="5747" y="14421"/>
                  <a:pt x="5801" y="14397"/>
                  <a:pt x="5874" y="14414"/>
                </a:cubicBezTo>
                <a:cubicBezTo>
                  <a:pt x="5916" y="14424"/>
                  <a:pt x="5969" y="14477"/>
                  <a:pt x="6001" y="14510"/>
                </a:cubicBezTo>
                <a:cubicBezTo>
                  <a:pt x="6043" y="14553"/>
                  <a:pt x="6099" y="14608"/>
                  <a:pt x="6128" y="14637"/>
                </a:cubicBezTo>
                <a:cubicBezTo>
                  <a:pt x="6193" y="14701"/>
                  <a:pt x="6247" y="14660"/>
                  <a:pt x="6318" y="14637"/>
                </a:cubicBezTo>
              </a:path>
              <a:path w="5970" h="4351">
                <a:moveTo>
                  <a:pt x="6826" y="13113"/>
                </a:moveTo>
                <a:cubicBezTo>
                  <a:pt x="6835" y="13209"/>
                  <a:pt x="6849" y="13275"/>
                  <a:pt x="6890" y="13367"/>
                </a:cubicBezTo>
                <a:cubicBezTo>
                  <a:pt x="6973" y="13551"/>
                  <a:pt x="7057" y="13724"/>
                  <a:pt x="7144" y="13906"/>
                </a:cubicBezTo>
                <a:cubicBezTo>
                  <a:pt x="7237" y="14101"/>
                  <a:pt x="7291" y="14311"/>
                  <a:pt x="7366" y="14510"/>
                </a:cubicBezTo>
                <a:cubicBezTo>
                  <a:pt x="7399" y="14597"/>
                  <a:pt x="7420" y="14674"/>
                  <a:pt x="7430" y="14764"/>
                </a:cubicBezTo>
              </a:path>
              <a:path w="5970" h="4351">
                <a:moveTo>
                  <a:pt x="7525" y="13303"/>
                </a:moveTo>
                <a:cubicBezTo>
                  <a:pt x="7500" y="13421"/>
                  <a:pt x="7485" y="13483"/>
                  <a:pt x="7430" y="13589"/>
                </a:cubicBezTo>
                <a:cubicBezTo>
                  <a:pt x="7339" y="13765"/>
                  <a:pt x="7250" y="13930"/>
                  <a:pt x="7144" y="14097"/>
                </a:cubicBezTo>
                <a:cubicBezTo>
                  <a:pt x="7013" y="14304"/>
                  <a:pt x="6864" y="14495"/>
                  <a:pt x="6731" y="14700"/>
                </a:cubicBezTo>
              </a:path>
              <a:path w="5970" h="4351">
                <a:moveTo>
                  <a:pt x="8033" y="12478"/>
                </a:moveTo>
                <a:cubicBezTo>
                  <a:pt x="7993" y="12478"/>
                  <a:pt x="8033" y="12474"/>
                  <a:pt x="8033" y="12541"/>
                </a:cubicBezTo>
                <a:cubicBezTo>
                  <a:pt x="8033" y="12659"/>
                  <a:pt x="8027" y="12749"/>
                  <a:pt x="8001" y="12859"/>
                </a:cubicBezTo>
                <a:cubicBezTo>
                  <a:pt x="7983" y="12938"/>
                  <a:pt x="7969" y="12996"/>
                  <a:pt x="7969" y="13081"/>
                </a:cubicBezTo>
                <a:cubicBezTo>
                  <a:pt x="7969" y="13158"/>
                  <a:pt x="7974" y="13209"/>
                  <a:pt x="8001" y="13272"/>
                </a:cubicBezTo>
                <a:cubicBezTo>
                  <a:pt x="8039" y="13360"/>
                  <a:pt x="8085" y="13315"/>
                  <a:pt x="8128" y="13367"/>
                </a:cubicBezTo>
                <a:cubicBezTo>
                  <a:pt x="8204" y="13458"/>
                  <a:pt x="8218" y="13452"/>
                  <a:pt x="8287" y="13367"/>
                </a:cubicBezTo>
                <a:cubicBezTo>
                  <a:pt x="8332" y="13312"/>
                  <a:pt x="8377" y="13285"/>
                  <a:pt x="8382" y="13208"/>
                </a:cubicBezTo>
                <a:cubicBezTo>
                  <a:pt x="8387" y="13131"/>
                  <a:pt x="8394" y="13052"/>
                  <a:pt x="8350" y="12986"/>
                </a:cubicBezTo>
                <a:cubicBezTo>
                  <a:pt x="8329" y="12954"/>
                  <a:pt x="8265" y="12878"/>
                  <a:pt x="8223" y="12890"/>
                </a:cubicBezTo>
                <a:cubicBezTo>
                  <a:pt x="8122" y="12919"/>
                  <a:pt x="8139" y="12939"/>
                  <a:pt x="8096" y="13018"/>
                </a:cubicBezTo>
                <a:cubicBezTo>
                  <a:pt x="8045" y="13112"/>
                  <a:pt x="8037" y="13208"/>
                  <a:pt x="8001" y="13303"/>
                </a:cubicBezTo>
              </a:path>
              <a:path w="5970" h="4351">
                <a:moveTo>
                  <a:pt x="8731" y="13176"/>
                </a:moveTo>
                <a:cubicBezTo>
                  <a:pt x="8723" y="13242"/>
                  <a:pt x="8714" y="13302"/>
                  <a:pt x="8700" y="13367"/>
                </a:cubicBezTo>
                <a:cubicBezTo>
                  <a:pt x="8670" y="13509"/>
                  <a:pt x="8665" y="13643"/>
                  <a:pt x="8636" y="13780"/>
                </a:cubicBezTo>
                <a:cubicBezTo>
                  <a:pt x="8612" y="13896"/>
                  <a:pt x="8604" y="14078"/>
                  <a:pt x="8668" y="14192"/>
                </a:cubicBezTo>
                <a:cubicBezTo>
                  <a:pt x="8711" y="14269"/>
                  <a:pt x="8798" y="14363"/>
                  <a:pt x="8890" y="14383"/>
                </a:cubicBezTo>
                <a:cubicBezTo>
                  <a:pt x="8994" y="14406"/>
                  <a:pt x="9088" y="14295"/>
                  <a:pt x="9144" y="14224"/>
                </a:cubicBezTo>
                <a:cubicBezTo>
                  <a:pt x="9262" y="14074"/>
                  <a:pt x="9364" y="13861"/>
                  <a:pt x="9430" y="13684"/>
                </a:cubicBezTo>
                <a:cubicBezTo>
                  <a:pt x="9461" y="13601"/>
                  <a:pt x="9478" y="13570"/>
                  <a:pt x="9493" y="13494"/>
                </a:cubicBezTo>
                <a:cubicBezTo>
                  <a:pt x="9493" y="13662"/>
                  <a:pt x="9471" y="13805"/>
                  <a:pt x="9430" y="13970"/>
                </a:cubicBezTo>
                <a:cubicBezTo>
                  <a:pt x="9346" y="14304"/>
                  <a:pt x="9302" y="14647"/>
                  <a:pt x="9239" y="14986"/>
                </a:cubicBezTo>
                <a:cubicBezTo>
                  <a:pt x="9199" y="15200"/>
                  <a:pt x="9165" y="15410"/>
                  <a:pt x="9112" y="15621"/>
                </a:cubicBezTo>
                <a:cubicBezTo>
                  <a:pt x="9085" y="15727"/>
                  <a:pt x="9051" y="15880"/>
                  <a:pt x="8985" y="15970"/>
                </a:cubicBezTo>
                <a:cubicBezTo>
                  <a:pt x="8943" y="16027"/>
                  <a:pt x="8865" y="16114"/>
                  <a:pt x="8795" y="16129"/>
                </a:cubicBezTo>
                <a:cubicBezTo>
                  <a:pt x="8709" y="16148"/>
                  <a:pt x="8567" y="16185"/>
                  <a:pt x="8477" y="16161"/>
                </a:cubicBezTo>
                <a:cubicBezTo>
                  <a:pt x="8393" y="16139"/>
                  <a:pt x="8363" y="16097"/>
                  <a:pt x="8318" y="16034"/>
                </a:cubicBezTo>
              </a:path>
              <a:path w="5970" h="4351">
                <a:moveTo>
                  <a:pt x="9811" y="12954"/>
                </a:moveTo>
                <a:cubicBezTo>
                  <a:pt x="9816" y="12932"/>
                  <a:pt x="9866" y="12840"/>
                  <a:pt x="9906" y="12890"/>
                </a:cubicBezTo>
                <a:cubicBezTo>
                  <a:pt x="9930" y="12920"/>
                  <a:pt x="9938" y="12975"/>
                  <a:pt x="9938" y="13018"/>
                </a:cubicBezTo>
                <a:cubicBezTo>
                  <a:pt x="9938" y="13098"/>
                  <a:pt x="9941" y="13142"/>
                  <a:pt x="9906" y="13208"/>
                </a:cubicBezTo>
                <a:cubicBezTo>
                  <a:pt x="9861" y="13293"/>
                  <a:pt x="9852" y="13371"/>
                  <a:pt x="9811" y="13462"/>
                </a:cubicBezTo>
                <a:cubicBezTo>
                  <a:pt x="9782" y="13527"/>
                  <a:pt x="9744" y="13597"/>
                  <a:pt x="9716" y="13652"/>
                </a:cubicBezTo>
                <a:cubicBezTo>
                  <a:pt x="9684" y="13684"/>
                  <a:pt x="9673" y="13695"/>
                  <a:pt x="9652" y="13716"/>
                </a:cubicBezTo>
                <a:cubicBezTo>
                  <a:pt x="9696" y="13701"/>
                  <a:pt x="9691" y="13671"/>
                  <a:pt x="9747" y="13652"/>
                </a:cubicBezTo>
                <a:cubicBezTo>
                  <a:pt x="9818" y="13628"/>
                  <a:pt x="9823" y="13693"/>
                  <a:pt x="9874" y="13716"/>
                </a:cubicBezTo>
                <a:cubicBezTo>
                  <a:pt x="9912" y="13733"/>
                  <a:pt x="9917" y="13762"/>
                  <a:pt x="9970" y="13780"/>
                </a:cubicBezTo>
                <a:cubicBezTo>
                  <a:pt x="10015" y="13795"/>
                  <a:pt x="10034" y="13771"/>
                  <a:pt x="10065" y="13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10"/>
          <p:cNvSpPr/>
          <p:nvPr/>
        </p:nvSpPr>
        <p:spPr>
          <a:xfrm>
            <a:off x="2035080" y="754200"/>
            <a:ext cx="3086280" cy="788760"/>
          </a:xfrm>
          <a:custGeom>
            <a:avLst/>
            <a:gdLst/>
            <a:ahLst/>
            <a:rect l="l" t="t" r="r" b="b"/>
            <a:pathLst>
              <a:path w="8573" h="2191">
                <a:moveTo>
                  <a:pt x="7715" y="4286"/>
                </a:moveTo>
                <a:cubicBezTo>
                  <a:pt x="7843" y="4281"/>
                  <a:pt x="7974" y="4260"/>
                  <a:pt x="8096" y="4254"/>
                </a:cubicBezTo>
                <a:cubicBezTo>
                  <a:pt x="8328" y="4242"/>
                  <a:pt x="8567" y="4232"/>
                  <a:pt x="8795" y="4223"/>
                </a:cubicBezTo>
                <a:cubicBezTo>
                  <a:pt x="9059" y="4212"/>
                  <a:pt x="9327" y="4202"/>
                  <a:pt x="9588" y="4191"/>
                </a:cubicBezTo>
                <a:cubicBezTo>
                  <a:pt x="10097" y="4170"/>
                  <a:pt x="10608" y="4203"/>
                  <a:pt x="11112" y="4223"/>
                </a:cubicBezTo>
                <a:cubicBezTo>
                  <a:pt x="11503" y="4239"/>
                  <a:pt x="11900" y="4238"/>
                  <a:pt x="12287" y="4254"/>
                </a:cubicBezTo>
                <a:cubicBezTo>
                  <a:pt x="12534" y="4264"/>
                  <a:pt x="12776" y="4234"/>
                  <a:pt x="13018" y="4223"/>
                </a:cubicBezTo>
                <a:cubicBezTo>
                  <a:pt x="13172" y="4216"/>
                  <a:pt x="13282" y="4188"/>
                  <a:pt x="13430" y="4159"/>
                </a:cubicBezTo>
                <a:cubicBezTo>
                  <a:pt x="13592" y="4127"/>
                  <a:pt x="13731" y="4111"/>
                  <a:pt x="13875" y="4032"/>
                </a:cubicBezTo>
                <a:cubicBezTo>
                  <a:pt x="13961" y="3985"/>
                  <a:pt x="14058" y="3940"/>
                  <a:pt x="14129" y="3874"/>
                </a:cubicBezTo>
                <a:cubicBezTo>
                  <a:pt x="14183" y="3824"/>
                  <a:pt x="14208" y="3745"/>
                  <a:pt x="14224" y="3683"/>
                </a:cubicBezTo>
                <a:cubicBezTo>
                  <a:pt x="14262" y="3539"/>
                  <a:pt x="14199" y="3391"/>
                  <a:pt x="14129" y="3270"/>
                </a:cubicBezTo>
                <a:cubicBezTo>
                  <a:pt x="14026" y="3093"/>
                  <a:pt x="13845" y="2945"/>
                  <a:pt x="13684" y="2826"/>
                </a:cubicBezTo>
                <a:cubicBezTo>
                  <a:pt x="13474" y="2670"/>
                  <a:pt x="13254" y="2554"/>
                  <a:pt x="13018" y="2445"/>
                </a:cubicBezTo>
                <a:cubicBezTo>
                  <a:pt x="12814" y="2351"/>
                  <a:pt x="12625" y="2320"/>
                  <a:pt x="12414" y="2254"/>
                </a:cubicBezTo>
                <a:cubicBezTo>
                  <a:pt x="12166" y="2177"/>
                  <a:pt x="11941" y="2165"/>
                  <a:pt x="11684" y="2127"/>
                </a:cubicBezTo>
                <a:cubicBezTo>
                  <a:pt x="11419" y="2088"/>
                  <a:pt x="11158" y="2096"/>
                  <a:pt x="10890" y="2096"/>
                </a:cubicBezTo>
                <a:cubicBezTo>
                  <a:pt x="10402" y="2096"/>
                  <a:pt x="9914" y="2112"/>
                  <a:pt x="9430" y="2127"/>
                </a:cubicBezTo>
                <a:cubicBezTo>
                  <a:pt x="9205" y="2134"/>
                  <a:pt x="8986" y="2138"/>
                  <a:pt x="8763" y="2159"/>
                </a:cubicBezTo>
                <a:cubicBezTo>
                  <a:pt x="8560" y="2178"/>
                  <a:pt x="8361" y="2193"/>
                  <a:pt x="8160" y="2222"/>
                </a:cubicBezTo>
                <a:cubicBezTo>
                  <a:pt x="7963" y="2250"/>
                  <a:pt x="7748" y="2281"/>
                  <a:pt x="7556" y="2318"/>
                </a:cubicBezTo>
                <a:cubicBezTo>
                  <a:pt x="7305" y="2367"/>
                  <a:pt x="7025" y="2433"/>
                  <a:pt x="6794" y="2540"/>
                </a:cubicBezTo>
                <a:cubicBezTo>
                  <a:pt x="6651" y="2606"/>
                  <a:pt x="6515" y="2707"/>
                  <a:pt x="6382" y="2794"/>
                </a:cubicBezTo>
                <a:cubicBezTo>
                  <a:pt x="6213" y="2905"/>
                  <a:pt x="6033" y="3013"/>
                  <a:pt x="5906" y="3175"/>
                </a:cubicBezTo>
                <a:cubicBezTo>
                  <a:pt x="5843" y="3255"/>
                  <a:pt x="5755" y="3369"/>
                  <a:pt x="5715" y="3461"/>
                </a:cubicBezTo>
                <a:cubicBezTo>
                  <a:pt x="5670" y="3563"/>
                  <a:pt x="5676" y="3698"/>
                  <a:pt x="5683" y="3778"/>
                </a:cubicBezTo>
                <a:cubicBezTo>
                  <a:pt x="5693" y="3890"/>
                  <a:pt x="5714" y="3914"/>
                  <a:pt x="5778" y="4000"/>
                </a:cubicBezTo>
                <a:cubicBezTo>
                  <a:pt x="5817" y="4052"/>
                  <a:pt x="5884" y="4097"/>
                  <a:pt x="5937" y="4128"/>
                </a:cubicBezTo>
                <a:cubicBezTo>
                  <a:pt x="6016" y="4174"/>
                  <a:pt x="6105" y="4202"/>
                  <a:pt x="6191" y="4223"/>
                </a:cubicBezTo>
                <a:cubicBezTo>
                  <a:pt x="6286" y="4246"/>
                  <a:pt x="6378" y="4241"/>
                  <a:pt x="6477" y="4254"/>
                </a:cubicBezTo>
                <a:cubicBezTo>
                  <a:pt x="6573" y="4267"/>
                  <a:pt x="6700" y="4290"/>
                  <a:pt x="6794" y="4286"/>
                </a:cubicBezTo>
                <a:cubicBezTo>
                  <a:pt x="6911" y="4281"/>
                  <a:pt x="7027" y="4267"/>
                  <a:pt x="7144" y="4254"/>
                </a:cubicBezTo>
                <a:cubicBezTo>
                  <a:pt x="7257" y="4241"/>
                  <a:pt x="7387" y="4223"/>
                  <a:pt x="7493" y="4191"/>
                </a:cubicBezTo>
                <a:cubicBezTo>
                  <a:pt x="7591" y="4161"/>
                  <a:pt x="7682" y="4116"/>
                  <a:pt x="7779" y="4096"/>
                </a:cubicBezTo>
                <a:cubicBezTo>
                  <a:pt x="7800" y="4096"/>
                  <a:pt x="7821" y="4096"/>
                  <a:pt x="7842" y="4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2209680" y="762120"/>
                <a:ext cx="213372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8" name="Ink 5"/>
          <p:cNvSpPr/>
          <p:nvPr/>
        </p:nvSpPr>
        <p:spPr>
          <a:xfrm>
            <a:off x="2525760" y="1635120"/>
            <a:ext cx="973080" cy="1440000"/>
          </a:xfrm>
          <a:custGeom>
            <a:avLst/>
            <a:gdLst/>
            <a:ahLst/>
            <a:rect l="l" t="t" r="r" b="b"/>
            <a:pathLst>
              <a:path w="2700" h="4002">
                <a:moveTo>
                  <a:pt x="7017" y="4699"/>
                </a:moveTo>
                <a:cubicBezTo>
                  <a:pt x="7181" y="4699"/>
                  <a:pt x="7338" y="4687"/>
                  <a:pt x="7493" y="4667"/>
                </a:cubicBezTo>
                <a:cubicBezTo>
                  <a:pt x="7751" y="4634"/>
                  <a:pt x="8031" y="4659"/>
                  <a:pt x="8287" y="4636"/>
                </a:cubicBezTo>
                <a:cubicBezTo>
                  <a:pt x="8476" y="4619"/>
                  <a:pt x="8672" y="4621"/>
                  <a:pt x="8858" y="4604"/>
                </a:cubicBezTo>
                <a:cubicBezTo>
                  <a:pt x="9007" y="4590"/>
                  <a:pt x="9157" y="4588"/>
                  <a:pt x="9303" y="4572"/>
                </a:cubicBezTo>
                <a:cubicBezTo>
                  <a:pt x="9412" y="4560"/>
                  <a:pt x="9517" y="4556"/>
                  <a:pt x="9620" y="4540"/>
                </a:cubicBezTo>
                <a:cubicBezTo>
                  <a:pt x="9651" y="4535"/>
                  <a:pt x="9685" y="4543"/>
                  <a:pt x="9716" y="4540"/>
                </a:cubicBezTo>
              </a:path>
              <a:path w="2700" h="4002">
                <a:moveTo>
                  <a:pt x="7271" y="7493"/>
                </a:moveTo>
                <a:cubicBezTo>
                  <a:pt x="7384" y="7493"/>
                  <a:pt x="7479" y="7477"/>
                  <a:pt x="7588" y="7461"/>
                </a:cubicBezTo>
                <a:cubicBezTo>
                  <a:pt x="7702" y="7445"/>
                  <a:pt x="7824" y="7434"/>
                  <a:pt x="7938" y="7430"/>
                </a:cubicBezTo>
                <a:cubicBezTo>
                  <a:pt x="8035" y="7426"/>
                  <a:pt x="8113" y="7445"/>
                  <a:pt x="8192" y="7398"/>
                </a:cubicBezTo>
              </a:path>
              <a:path w="2700" h="4002">
                <a:moveTo>
                  <a:pt x="7525" y="7906"/>
                </a:moveTo>
                <a:cubicBezTo>
                  <a:pt x="7580" y="7948"/>
                  <a:pt x="7610" y="7938"/>
                  <a:pt x="7684" y="7938"/>
                </a:cubicBezTo>
                <a:cubicBezTo>
                  <a:pt x="7785" y="7938"/>
                  <a:pt x="7870" y="7910"/>
                  <a:pt x="7969" y="7906"/>
                </a:cubicBezTo>
                <a:cubicBezTo>
                  <a:pt x="8090" y="7901"/>
                  <a:pt x="8192" y="7874"/>
                  <a:pt x="8318" y="7874"/>
                </a:cubicBezTo>
              </a:path>
              <a:path w="2700" h="4002">
                <a:moveTo>
                  <a:pt x="9303" y="6382"/>
                </a:moveTo>
                <a:cubicBezTo>
                  <a:pt x="9303" y="6577"/>
                  <a:pt x="9301" y="6759"/>
                  <a:pt x="9271" y="6953"/>
                </a:cubicBezTo>
                <a:cubicBezTo>
                  <a:pt x="9226" y="7241"/>
                  <a:pt x="9134" y="7520"/>
                  <a:pt x="9112" y="7810"/>
                </a:cubicBezTo>
                <a:cubicBezTo>
                  <a:pt x="9093" y="8053"/>
                  <a:pt x="9088" y="8297"/>
                  <a:pt x="9080" y="8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nk 6"/>
          <p:cNvSpPr/>
          <p:nvPr/>
        </p:nvSpPr>
        <p:spPr>
          <a:xfrm>
            <a:off x="4000680" y="2068560"/>
            <a:ext cx="468000" cy="469800"/>
          </a:xfrm>
          <a:custGeom>
            <a:avLst/>
            <a:gdLst/>
            <a:ahLst/>
            <a:rect l="l" t="t" r="r" b="b"/>
            <a:pathLst>
              <a:path w="1303" h="1302">
                <a:moveTo>
                  <a:pt x="11430" y="6128"/>
                </a:moveTo>
                <a:cubicBezTo>
                  <a:pt x="11419" y="6107"/>
                  <a:pt x="11409" y="6085"/>
                  <a:pt x="11398" y="6064"/>
                </a:cubicBezTo>
              </a:path>
              <a:path w="1303" h="1302">
                <a:moveTo>
                  <a:pt x="11335" y="6001"/>
                </a:moveTo>
                <a:cubicBezTo>
                  <a:pt x="11261" y="6055"/>
                  <a:pt x="11282" y="6065"/>
                  <a:pt x="11240" y="6160"/>
                </a:cubicBezTo>
                <a:cubicBezTo>
                  <a:pt x="11194" y="6265"/>
                  <a:pt x="11126" y="6394"/>
                  <a:pt x="11112" y="6509"/>
                </a:cubicBezTo>
                <a:cubicBezTo>
                  <a:pt x="11096" y="6637"/>
                  <a:pt x="11090" y="6847"/>
                  <a:pt x="11144" y="6953"/>
                </a:cubicBezTo>
                <a:cubicBezTo>
                  <a:pt x="11177" y="7019"/>
                  <a:pt x="11177" y="7033"/>
                  <a:pt x="11240" y="7048"/>
                </a:cubicBezTo>
                <a:cubicBezTo>
                  <a:pt x="11321" y="7028"/>
                  <a:pt x="11330" y="6972"/>
                  <a:pt x="11335" y="6890"/>
                </a:cubicBezTo>
                <a:cubicBezTo>
                  <a:pt x="11342" y="6761"/>
                  <a:pt x="11366" y="6642"/>
                  <a:pt x="11366" y="6509"/>
                </a:cubicBezTo>
                <a:cubicBezTo>
                  <a:pt x="11366" y="6372"/>
                  <a:pt x="11362" y="6256"/>
                  <a:pt x="11335" y="6128"/>
                </a:cubicBezTo>
                <a:cubicBezTo>
                  <a:pt x="11335" y="6117"/>
                  <a:pt x="11335" y="6107"/>
                  <a:pt x="11335" y="6096"/>
                </a:cubicBezTo>
              </a:path>
              <a:path w="1303" h="1302">
                <a:moveTo>
                  <a:pt x="11620" y="6160"/>
                </a:moveTo>
                <a:cubicBezTo>
                  <a:pt x="11664" y="6274"/>
                  <a:pt x="11652" y="6384"/>
                  <a:pt x="11652" y="6509"/>
                </a:cubicBezTo>
                <a:cubicBezTo>
                  <a:pt x="11652" y="6653"/>
                  <a:pt x="11677" y="6781"/>
                  <a:pt x="11684" y="6922"/>
                </a:cubicBezTo>
                <a:cubicBezTo>
                  <a:pt x="11684" y="6975"/>
                  <a:pt x="11684" y="6985"/>
                  <a:pt x="11684" y="7017"/>
                </a:cubicBezTo>
                <a:cubicBezTo>
                  <a:pt x="11663" y="6915"/>
                  <a:pt x="11629" y="6807"/>
                  <a:pt x="11620" y="6699"/>
                </a:cubicBezTo>
                <a:cubicBezTo>
                  <a:pt x="11605" y="6530"/>
                  <a:pt x="11615" y="6355"/>
                  <a:pt x="11652" y="6191"/>
                </a:cubicBezTo>
                <a:cubicBezTo>
                  <a:pt x="11690" y="6019"/>
                  <a:pt x="11723" y="5907"/>
                  <a:pt x="11843" y="5778"/>
                </a:cubicBezTo>
                <a:cubicBezTo>
                  <a:pt x="11879" y="5742"/>
                  <a:pt x="11896" y="5732"/>
                  <a:pt x="11938" y="5747"/>
                </a:cubicBezTo>
                <a:cubicBezTo>
                  <a:pt x="11988" y="5830"/>
                  <a:pt x="11970" y="5878"/>
                  <a:pt x="11938" y="5969"/>
                </a:cubicBezTo>
                <a:cubicBezTo>
                  <a:pt x="11894" y="6093"/>
                  <a:pt x="11831" y="6200"/>
                  <a:pt x="11779" y="6318"/>
                </a:cubicBezTo>
                <a:cubicBezTo>
                  <a:pt x="11743" y="6399"/>
                  <a:pt x="11691" y="6490"/>
                  <a:pt x="11684" y="6572"/>
                </a:cubicBezTo>
                <a:cubicBezTo>
                  <a:pt x="11680" y="6625"/>
                  <a:pt x="11744" y="6664"/>
                  <a:pt x="11779" y="6699"/>
                </a:cubicBezTo>
                <a:cubicBezTo>
                  <a:pt x="11840" y="6760"/>
                  <a:pt x="11917" y="6783"/>
                  <a:pt x="11970" y="6858"/>
                </a:cubicBezTo>
                <a:cubicBezTo>
                  <a:pt x="12010" y="6914"/>
                  <a:pt x="12087" y="6997"/>
                  <a:pt x="12160" y="7017"/>
                </a:cubicBezTo>
                <a:cubicBezTo>
                  <a:pt x="12284" y="7050"/>
                  <a:pt x="12358" y="6904"/>
                  <a:pt x="12414" y="6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nk 7"/>
          <p:cNvSpPr/>
          <p:nvPr/>
        </p:nvSpPr>
        <p:spPr>
          <a:xfrm>
            <a:off x="4811760" y="1657440"/>
            <a:ext cx="1371600" cy="1063440"/>
          </a:xfrm>
          <a:custGeom>
            <a:avLst/>
            <a:gdLst/>
            <a:ahLst/>
            <a:rect l="l" t="t" r="r" b="b"/>
            <a:pathLst>
              <a:path w="3811" h="2953">
                <a:moveTo>
                  <a:pt x="13430" y="4794"/>
                </a:moveTo>
                <a:cubicBezTo>
                  <a:pt x="13441" y="4749"/>
                  <a:pt x="13429" y="4764"/>
                  <a:pt x="13462" y="4731"/>
                </a:cubicBezTo>
                <a:cubicBezTo>
                  <a:pt x="13508" y="4685"/>
                  <a:pt x="13554" y="4620"/>
                  <a:pt x="13621" y="4604"/>
                </a:cubicBezTo>
                <a:cubicBezTo>
                  <a:pt x="13667" y="4593"/>
                  <a:pt x="13719" y="4599"/>
                  <a:pt x="13748" y="4636"/>
                </a:cubicBezTo>
                <a:cubicBezTo>
                  <a:pt x="13808" y="4713"/>
                  <a:pt x="13811" y="4763"/>
                  <a:pt x="13811" y="4858"/>
                </a:cubicBezTo>
                <a:cubicBezTo>
                  <a:pt x="13811" y="5035"/>
                  <a:pt x="13748" y="5263"/>
                  <a:pt x="13684" y="5429"/>
                </a:cubicBezTo>
                <a:cubicBezTo>
                  <a:pt x="13621" y="5592"/>
                  <a:pt x="13570" y="5781"/>
                  <a:pt x="13494" y="5937"/>
                </a:cubicBezTo>
                <a:cubicBezTo>
                  <a:pt x="13457" y="6012"/>
                  <a:pt x="13405" y="6083"/>
                  <a:pt x="13367" y="6160"/>
                </a:cubicBezTo>
                <a:cubicBezTo>
                  <a:pt x="13403" y="6113"/>
                  <a:pt x="13415" y="6078"/>
                  <a:pt x="13462" y="6032"/>
                </a:cubicBezTo>
                <a:cubicBezTo>
                  <a:pt x="13496" y="5999"/>
                  <a:pt x="13572" y="5982"/>
                  <a:pt x="13621" y="6001"/>
                </a:cubicBezTo>
                <a:cubicBezTo>
                  <a:pt x="13665" y="6018"/>
                  <a:pt x="13746" y="6068"/>
                  <a:pt x="13780" y="6096"/>
                </a:cubicBezTo>
                <a:cubicBezTo>
                  <a:pt x="13811" y="6121"/>
                  <a:pt x="13825" y="6194"/>
                  <a:pt x="13875" y="6191"/>
                </a:cubicBezTo>
                <a:cubicBezTo>
                  <a:pt x="13911" y="6191"/>
                  <a:pt x="13924" y="6188"/>
                  <a:pt x="13938" y="6160"/>
                </a:cubicBezTo>
              </a:path>
              <a:path w="3811" h="2953">
                <a:moveTo>
                  <a:pt x="14319" y="4794"/>
                </a:moveTo>
                <a:cubicBezTo>
                  <a:pt x="14302" y="4740"/>
                  <a:pt x="14240" y="4770"/>
                  <a:pt x="14224" y="4826"/>
                </a:cubicBezTo>
                <a:cubicBezTo>
                  <a:pt x="14196" y="4923"/>
                  <a:pt x="14217" y="5022"/>
                  <a:pt x="14224" y="5112"/>
                </a:cubicBezTo>
                <a:cubicBezTo>
                  <a:pt x="14233" y="5223"/>
                  <a:pt x="14250" y="5278"/>
                  <a:pt x="14319" y="5366"/>
                </a:cubicBezTo>
                <a:cubicBezTo>
                  <a:pt x="14385" y="5366"/>
                  <a:pt x="14381" y="5359"/>
                  <a:pt x="14414" y="5302"/>
                </a:cubicBezTo>
                <a:cubicBezTo>
                  <a:pt x="14456" y="5229"/>
                  <a:pt x="14468" y="5099"/>
                  <a:pt x="14446" y="5016"/>
                </a:cubicBezTo>
                <a:cubicBezTo>
                  <a:pt x="14433" y="4968"/>
                  <a:pt x="14414" y="4844"/>
                  <a:pt x="14351" y="4826"/>
                </a:cubicBezTo>
                <a:cubicBezTo>
                  <a:pt x="14290" y="4808"/>
                  <a:pt x="14265" y="4827"/>
                  <a:pt x="14224" y="4858"/>
                </a:cubicBezTo>
              </a:path>
              <a:path w="3811" h="2953">
                <a:moveTo>
                  <a:pt x="14796" y="5048"/>
                </a:moveTo>
                <a:cubicBezTo>
                  <a:pt x="14808" y="5133"/>
                  <a:pt x="14826" y="5215"/>
                  <a:pt x="14859" y="5302"/>
                </a:cubicBezTo>
                <a:cubicBezTo>
                  <a:pt x="14899" y="5405"/>
                  <a:pt x="14972" y="5490"/>
                  <a:pt x="15018" y="5588"/>
                </a:cubicBezTo>
                <a:cubicBezTo>
                  <a:pt x="15112" y="5791"/>
                  <a:pt x="15143" y="6021"/>
                  <a:pt x="15240" y="6223"/>
                </a:cubicBezTo>
                <a:cubicBezTo>
                  <a:pt x="15261" y="6268"/>
                  <a:pt x="15327" y="6333"/>
                  <a:pt x="15335" y="6350"/>
                </a:cubicBezTo>
                <a:cubicBezTo>
                  <a:pt x="15360" y="6401"/>
                  <a:pt x="15335" y="6334"/>
                  <a:pt x="15335" y="6286"/>
                </a:cubicBezTo>
              </a:path>
              <a:path w="3811" h="2953">
                <a:moveTo>
                  <a:pt x="15240" y="5048"/>
                </a:moveTo>
                <a:cubicBezTo>
                  <a:pt x="15197" y="5112"/>
                  <a:pt x="15168" y="5189"/>
                  <a:pt x="15145" y="5270"/>
                </a:cubicBezTo>
                <a:cubicBezTo>
                  <a:pt x="15094" y="5447"/>
                  <a:pt x="15073" y="5635"/>
                  <a:pt x="15018" y="5810"/>
                </a:cubicBezTo>
                <a:cubicBezTo>
                  <a:pt x="14959" y="5999"/>
                  <a:pt x="14905" y="6234"/>
                  <a:pt x="14827" y="6414"/>
                </a:cubicBezTo>
                <a:cubicBezTo>
                  <a:pt x="14818" y="6435"/>
                  <a:pt x="14709" y="6699"/>
                  <a:pt x="14700" y="6699"/>
                </a:cubicBezTo>
                <a:cubicBezTo>
                  <a:pt x="14700" y="6689"/>
                  <a:pt x="14700" y="6678"/>
                  <a:pt x="14700" y="6668"/>
                </a:cubicBezTo>
              </a:path>
              <a:path w="3811" h="2953">
                <a:moveTo>
                  <a:pt x="15684" y="4636"/>
                </a:moveTo>
                <a:cubicBezTo>
                  <a:pt x="15674" y="4636"/>
                  <a:pt x="15663" y="4636"/>
                  <a:pt x="15653" y="4636"/>
                </a:cubicBezTo>
              </a:path>
              <a:path w="3811" h="2953">
                <a:moveTo>
                  <a:pt x="15684" y="4636"/>
                </a:moveTo>
                <a:cubicBezTo>
                  <a:pt x="15663" y="4636"/>
                  <a:pt x="15642" y="4636"/>
                  <a:pt x="15621" y="4636"/>
                </a:cubicBezTo>
              </a:path>
              <a:path w="3811" h="2953">
                <a:moveTo>
                  <a:pt x="15621" y="4636"/>
                </a:moveTo>
                <a:cubicBezTo>
                  <a:pt x="15603" y="4705"/>
                  <a:pt x="15577" y="4783"/>
                  <a:pt x="15558" y="4858"/>
                </a:cubicBezTo>
                <a:cubicBezTo>
                  <a:pt x="15534" y="4953"/>
                  <a:pt x="15473" y="5110"/>
                  <a:pt x="15494" y="5207"/>
                </a:cubicBezTo>
                <a:cubicBezTo>
                  <a:pt x="15505" y="5228"/>
                  <a:pt x="15515" y="5249"/>
                  <a:pt x="15526" y="5270"/>
                </a:cubicBezTo>
                <a:cubicBezTo>
                  <a:pt x="15595" y="5270"/>
                  <a:pt x="15631" y="5255"/>
                  <a:pt x="15684" y="5207"/>
                </a:cubicBezTo>
                <a:cubicBezTo>
                  <a:pt x="15741" y="5156"/>
                  <a:pt x="15768" y="5056"/>
                  <a:pt x="15780" y="4985"/>
                </a:cubicBezTo>
                <a:cubicBezTo>
                  <a:pt x="15788" y="4935"/>
                  <a:pt x="15759" y="4789"/>
                  <a:pt x="15716" y="4762"/>
                </a:cubicBezTo>
                <a:cubicBezTo>
                  <a:pt x="15643" y="4717"/>
                  <a:pt x="15612" y="4739"/>
                  <a:pt x="15558" y="4794"/>
                </a:cubicBezTo>
              </a:path>
              <a:path w="3811" h="2953">
                <a:moveTo>
                  <a:pt x="16224" y="5112"/>
                </a:moveTo>
                <a:cubicBezTo>
                  <a:pt x="16224" y="5349"/>
                  <a:pt x="16233" y="5577"/>
                  <a:pt x="16256" y="5810"/>
                </a:cubicBezTo>
                <a:cubicBezTo>
                  <a:pt x="16265" y="5901"/>
                  <a:pt x="16279" y="6082"/>
                  <a:pt x="16320" y="6160"/>
                </a:cubicBezTo>
                <a:cubicBezTo>
                  <a:pt x="16337" y="6193"/>
                  <a:pt x="16389" y="6229"/>
                  <a:pt x="16415" y="6255"/>
                </a:cubicBezTo>
                <a:cubicBezTo>
                  <a:pt x="16446" y="6237"/>
                  <a:pt x="16528" y="6209"/>
                  <a:pt x="16542" y="6160"/>
                </a:cubicBezTo>
                <a:cubicBezTo>
                  <a:pt x="16577" y="6038"/>
                  <a:pt x="16574" y="5906"/>
                  <a:pt x="16574" y="5778"/>
                </a:cubicBezTo>
                <a:cubicBezTo>
                  <a:pt x="16574" y="5598"/>
                  <a:pt x="16574" y="5419"/>
                  <a:pt x="16574" y="5239"/>
                </a:cubicBezTo>
                <a:cubicBezTo>
                  <a:pt x="16574" y="5354"/>
                  <a:pt x="16586" y="5476"/>
                  <a:pt x="16605" y="5588"/>
                </a:cubicBezTo>
                <a:cubicBezTo>
                  <a:pt x="16637" y="5774"/>
                  <a:pt x="16683" y="5970"/>
                  <a:pt x="16700" y="6160"/>
                </a:cubicBezTo>
                <a:cubicBezTo>
                  <a:pt x="16718" y="6368"/>
                  <a:pt x="16727" y="6586"/>
                  <a:pt x="16732" y="6794"/>
                </a:cubicBezTo>
                <a:cubicBezTo>
                  <a:pt x="16736" y="6969"/>
                  <a:pt x="16713" y="7164"/>
                  <a:pt x="16669" y="7334"/>
                </a:cubicBezTo>
                <a:cubicBezTo>
                  <a:pt x="16648" y="7415"/>
                  <a:pt x="16592" y="7564"/>
                  <a:pt x="16478" y="7556"/>
                </a:cubicBezTo>
                <a:cubicBezTo>
                  <a:pt x="16418" y="7552"/>
                  <a:pt x="16346" y="7431"/>
                  <a:pt x="16320" y="7398"/>
                </a:cubicBezTo>
              </a:path>
              <a:path w="3811" h="2953">
                <a:moveTo>
                  <a:pt x="16923" y="4667"/>
                </a:moveTo>
                <a:cubicBezTo>
                  <a:pt x="16911" y="4761"/>
                  <a:pt x="16870" y="4853"/>
                  <a:pt x="16891" y="4953"/>
                </a:cubicBezTo>
                <a:cubicBezTo>
                  <a:pt x="16911" y="5049"/>
                  <a:pt x="16923" y="5163"/>
                  <a:pt x="16986" y="5239"/>
                </a:cubicBezTo>
                <a:cubicBezTo>
                  <a:pt x="17028" y="5290"/>
                  <a:pt x="17070" y="5277"/>
                  <a:pt x="17113" y="5239"/>
                </a:cubicBezTo>
                <a:cubicBezTo>
                  <a:pt x="17173" y="5186"/>
                  <a:pt x="17173" y="5092"/>
                  <a:pt x="17177" y="5016"/>
                </a:cubicBezTo>
                <a:cubicBezTo>
                  <a:pt x="17180" y="4955"/>
                  <a:pt x="17144" y="4766"/>
                  <a:pt x="17082" y="4731"/>
                </a:cubicBezTo>
                <a:cubicBezTo>
                  <a:pt x="17040" y="4707"/>
                  <a:pt x="16889" y="4732"/>
                  <a:pt x="16859" y="4762"/>
                </a:cubicBezTo>
                <a:cubicBezTo>
                  <a:pt x="16849" y="4783"/>
                  <a:pt x="16838" y="4805"/>
                  <a:pt x="16828" y="4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nk 8"/>
          <p:cNvSpPr/>
          <p:nvPr/>
        </p:nvSpPr>
        <p:spPr>
          <a:xfrm>
            <a:off x="4046400" y="1211400"/>
            <a:ext cx="182880" cy="23760"/>
          </a:xfrm>
          <a:custGeom>
            <a:avLst/>
            <a:gdLst/>
            <a:ahLst/>
            <a:rect l="l" t="t" r="r" b="b"/>
            <a:pathLst>
              <a:path w="509" h="64">
                <a:moveTo>
                  <a:pt x="11240" y="3429"/>
                </a:moveTo>
                <a:cubicBezTo>
                  <a:pt x="11312" y="3429"/>
                  <a:pt x="11339" y="3417"/>
                  <a:pt x="11398" y="3397"/>
                </a:cubicBezTo>
                <a:cubicBezTo>
                  <a:pt x="11457" y="3377"/>
                  <a:pt x="11557" y="3381"/>
                  <a:pt x="11620" y="3366"/>
                </a:cubicBezTo>
                <a:cubicBezTo>
                  <a:pt x="11657" y="3357"/>
                  <a:pt x="11709" y="3366"/>
                  <a:pt x="11748" y="3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Ink 9"/>
          <p:cNvSpPr/>
          <p:nvPr/>
        </p:nvSpPr>
        <p:spPr>
          <a:xfrm>
            <a:off x="4915080" y="2525760"/>
            <a:ext cx="23760" cy="515880"/>
          </a:xfrm>
          <a:custGeom>
            <a:avLst/>
            <a:gdLst/>
            <a:ahLst/>
            <a:rect l="l" t="t" r="r" b="b"/>
            <a:pathLst>
              <a:path w="65" h="1430">
                <a:moveTo>
                  <a:pt x="13716" y="7017"/>
                </a:moveTo>
                <a:cubicBezTo>
                  <a:pt x="13716" y="7103"/>
                  <a:pt x="13697" y="7161"/>
                  <a:pt x="13684" y="7239"/>
                </a:cubicBezTo>
                <a:cubicBezTo>
                  <a:pt x="13669" y="7330"/>
                  <a:pt x="13716" y="7455"/>
                  <a:pt x="13716" y="7556"/>
                </a:cubicBezTo>
                <a:cubicBezTo>
                  <a:pt x="13716" y="7803"/>
                  <a:pt x="13722" y="8051"/>
                  <a:pt x="13684" y="8287"/>
                </a:cubicBezTo>
                <a:cubicBezTo>
                  <a:pt x="13673" y="8357"/>
                  <a:pt x="13715" y="8425"/>
                  <a:pt x="13652" y="8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Ink 10"/>
          <p:cNvSpPr/>
          <p:nvPr/>
        </p:nvSpPr>
        <p:spPr>
          <a:xfrm>
            <a:off x="5097600" y="28116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160" y="7810"/>
                </a:moveTo>
                <a:lnTo>
                  <a:pt x="14160" y="781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nk 11"/>
          <p:cNvSpPr/>
          <p:nvPr/>
        </p:nvSpPr>
        <p:spPr>
          <a:xfrm>
            <a:off x="5326200" y="2514600"/>
            <a:ext cx="23760" cy="560520"/>
          </a:xfrm>
          <a:custGeom>
            <a:avLst/>
            <a:gdLst/>
            <a:ahLst/>
            <a:rect l="l" t="t" r="r" b="b"/>
            <a:pathLst>
              <a:path w="64" h="1557">
                <a:moveTo>
                  <a:pt x="14859" y="6985"/>
                </a:moveTo>
                <a:cubicBezTo>
                  <a:pt x="14859" y="7100"/>
                  <a:pt x="14831" y="7190"/>
                  <a:pt x="14827" y="7302"/>
                </a:cubicBezTo>
                <a:cubicBezTo>
                  <a:pt x="14819" y="7519"/>
                  <a:pt x="14836" y="7728"/>
                  <a:pt x="14859" y="7938"/>
                </a:cubicBezTo>
                <a:cubicBezTo>
                  <a:pt x="14878" y="8110"/>
                  <a:pt x="14854" y="8285"/>
                  <a:pt x="14827" y="8446"/>
                </a:cubicBezTo>
                <a:cubicBezTo>
                  <a:pt x="14815" y="8519"/>
                  <a:pt x="14853" y="8521"/>
                  <a:pt x="14796" y="8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k 12"/>
          <p:cNvSpPr/>
          <p:nvPr/>
        </p:nvSpPr>
        <p:spPr>
          <a:xfrm>
            <a:off x="5510160" y="2835360"/>
            <a:ext cx="11160" cy="1440"/>
          </a:xfrm>
          <a:custGeom>
            <a:avLst/>
            <a:gdLst/>
            <a:ahLst/>
            <a:rect l="l" t="t" r="r" b="b"/>
            <a:pathLst>
              <a:path w="32" h="1">
                <a:moveTo>
                  <a:pt x="15335" y="7874"/>
                </a:moveTo>
                <a:cubicBezTo>
                  <a:pt x="15304" y="7874"/>
                  <a:pt x="15294" y="7874"/>
                  <a:pt x="15335" y="7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Ink 13"/>
          <p:cNvSpPr/>
          <p:nvPr/>
        </p:nvSpPr>
        <p:spPr>
          <a:xfrm>
            <a:off x="5726160" y="2583000"/>
            <a:ext cx="12600" cy="469800"/>
          </a:xfrm>
          <a:custGeom>
            <a:avLst/>
            <a:gdLst/>
            <a:ahLst/>
            <a:rect l="l" t="t" r="r" b="b"/>
            <a:pathLst>
              <a:path w="32" h="1302">
                <a:moveTo>
                  <a:pt x="15907" y="7176"/>
                </a:moveTo>
                <a:cubicBezTo>
                  <a:pt x="15907" y="7402"/>
                  <a:pt x="15918" y="7622"/>
                  <a:pt x="15938" y="7842"/>
                </a:cubicBezTo>
                <a:cubicBezTo>
                  <a:pt x="15956" y="8050"/>
                  <a:pt x="15938" y="8267"/>
                  <a:pt x="15938" y="8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Ink 14"/>
          <p:cNvSpPr/>
          <p:nvPr/>
        </p:nvSpPr>
        <p:spPr>
          <a:xfrm>
            <a:off x="5967360" y="2708280"/>
            <a:ext cx="193680" cy="160200"/>
          </a:xfrm>
          <a:custGeom>
            <a:avLst/>
            <a:gdLst/>
            <a:ahLst/>
            <a:rect l="l" t="t" r="r" b="b"/>
            <a:pathLst>
              <a:path w="540" h="445">
                <a:moveTo>
                  <a:pt x="16574" y="7620"/>
                </a:moveTo>
                <a:cubicBezTo>
                  <a:pt x="16624" y="7607"/>
                  <a:pt x="16678" y="7604"/>
                  <a:pt x="16732" y="7588"/>
                </a:cubicBezTo>
                <a:cubicBezTo>
                  <a:pt x="16804" y="7567"/>
                  <a:pt x="16878" y="7530"/>
                  <a:pt x="16954" y="7525"/>
                </a:cubicBezTo>
                <a:cubicBezTo>
                  <a:pt x="17006" y="7522"/>
                  <a:pt x="17061" y="7525"/>
                  <a:pt x="17113" y="7525"/>
                </a:cubicBezTo>
              </a:path>
              <a:path w="540" h="445">
                <a:moveTo>
                  <a:pt x="16669" y="7969"/>
                </a:moveTo>
                <a:cubicBezTo>
                  <a:pt x="16714" y="7935"/>
                  <a:pt x="16767" y="7910"/>
                  <a:pt x="16828" y="7906"/>
                </a:cubicBezTo>
                <a:cubicBezTo>
                  <a:pt x="16910" y="7900"/>
                  <a:pt x="16958" y="7874"/>
                  <a:pt x="17050" y="7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Ink 15"/>
          <p:cNvSpPr/>
          <p:nvPr/>
        </p:nvSpPr>
        <p:spPr>
          <a:xfrm>
            <a:off x="6411960" y="2389320"/>
            <a:ext cx="34920" cy="606240"/>
          </a:xfrm>
          <a:custGeom>
            <a:avLst/>
            <a:gdLst/>
            <a:ahLst/>
            <a:rect l="l" t="t" r="r" b="b"/>
            <a:pathLst>
              <a:path w="96" h="1683">
                <a:moveTo>
                  <a:pt x="17812" y="6636"/>
                </a:moveTo>
                <a:lnTo>
                  <a:pt x="17812" y="6636"/>
                </a:lnTo>
              </a:path>
              <a:path w="96" h="1683">
                <a:moveTo>
                  <a:pt x="17812" y="6636"/>
                </a:moveTo>
                <a:cubicBezTo>
                  <a:pt x="17812" y="6678"/>
                  <a:pt x="17812" y="6721"/>
                  <a:pt x="17812" y="6763"/>
                </a:cubicBezTo>
              </a:path>
              <a:path w="96" h="1683">
                <a:moveTo>
                  <a:pt x="17812" y="6763"/>
                </a:moveTo>
                <a:cubicBezTo>
                  <a:pt x="17859" y="6901"/>
                  <a:pt x="17824" y="7031"/>
                  <a:pt x="17844" y="7176"/>
                </a:cubicBezTo>
                <a:cubicBezTo>
                  <a:pt x="17870" y="7364"/>
                  <a:pt x="17894" y="7557"/>
                  <a:pt x="17907" y="7747"/>
                </a:cubicBezTo>
                <a:cubicBezTo>
                  <a:pt x="17920" y="7935"/>
                  <a:pt x="17907" y="8129"/>
                  <a:pt x="17907" y="83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01:28:56Z</dcterms:created>
  <dc:creator>Sharon Fieldman</dc:creator>
  <dc:description/>
  <dc:language>en-US</dc:language>
  <cp:lastModifiedBy>njamison</cp:lastModifiedBy>
  <dcterms:modified xsi:type="dcterms:W3CDTF">2011-05-02T16:04:56Z</dcterms:modified>
  <cp:revision>4</cp:revision>
  <dc:subject/>
  <dc:title>Goal 1 Prerequisites</dc:title>
</cp:coreProperties>
</file>